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51F-2FA2-499B-B875-91851E07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DA1-0D7B-49C9-8C88-74584AE8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5B0-4C6A-4A24-9868-DBF783F5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E99-7DE9-4516-BF77-B2414F4C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F6E4-63FB-4366-A082-57F3C6A0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F81-EA73-444A-B4C2-7C11AFDC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CA69-FB2B-433F-9C69-57AE325B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ACC2-4E00-475A-8F0F-DAD88924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D667-A06C-4863-AC54-2645204D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3754-D2D3-4876-BEAB-67377B71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9CB1-A5BA-40B6-A1CF-1B6D7C7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4A3-B56D-45C3-A66A-8F711C0D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6BBC-7C39-48E0-9E48-7368FF8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606E-08E6-4D5F-8E17-BA3CAE1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9A0-4ED0-47F5-AFBE-808B97D0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5B76-0303-4A26-9793-D80A6461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6FFA-2BD3-4A39-9F0D-40FBE80D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B4D-6BE5-4F70-BAAA-F6C0072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741-0402-4BA7-9771-4A06550A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4B5-E834-41CB-8677-520AA2A6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615-2FF7-465F-BA6F-39D95FF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985-F31F-47C3-9224-6268BC07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75D-61DA-4E0D-A75A-853677D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B9F-6A26-4C05-A9D6-58AC1A2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D94-3ECC-4612-961D-453D04EA3F0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0272-CDFB-49FC-A342-D50E018B922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Chybové hlásenia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9:31:53Z</dcterms:created>
  <dc:creator>Girman</dc:creator>
  <dc:description/>
  <dc:language>en-US</dc:language>
  <cp:lastModifiedBy>Girman</cp:lastModifiedBy>
  <dcterms:modified xsi:type="dcterms:W3CDTF">2002-01-29T09:51:58Z</dcterms:modified>
  <cp:revision>2</cp:revision>
  <dc:subject/>
  <dc:title>Chybové hlásenia</dc:title>
</cp:coreProperties>
</file>