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</p:sldIdLst>
  <p:sldSz cx="9144000" cy="6858000"/>
  <p:notesSz cx="97520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CDBC-8ABC-4DF8-895C-A78548668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03D8-9CDC-45A3-A7E4-C92856298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A9A9-0CB5-47B0-9153-0FD8B6315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96A6-66F4-44DA-B0E8-D9401FE6C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7B4D8-8031-421D-B447-7C81A0642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9DBFF-4A82-4A09-A2B3-8A31E5373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2E10F-0B1A-4673-84E7-D14CD3777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6FCFC-C1F0-482A-A767-010ECE446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0169A-23B9-4F86-A4B0-A85B9FDC9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17E3F-EECB-41B0-81FF-BD8611963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000CF-D286-4FC5-A118-FCDDD601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37CE-B915-40D9-A951-688966B82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883E8-EAE0-4182-9E34-ED2837E9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8EC72-ABEF-4ED6-8B69-94446A5C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840BF-F114-4C73-91BB-A31FEFA5E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44792-35AB-419F-BBF6-92D726335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C5E79-81A9-4671-B601-1FE0989B0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F07D-9897-434E-9C92-72CB35E5F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2059-B004-44B0-9199-060A7839A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FAE4-F5B5-4249-B23C-14DB843EB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04A9-33BB-4A2F-ADD8-8B49E7CD0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D936-1DA2-4DCF-82C0-AA9F66B8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A19C-D615-440A-BCA7-E27147EFC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6515-5B3D-41FA-8FEC-5A351BEF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8C238-A693-4B3D-9E0F-FE0EE6F1C59B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B779A-03E0-4077-BE5D-989D73DD57CA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ATP-osnova.ppt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Zadani</a:t>
            </a:r>
            <a:r>
              <a:rPr b="1" lang="sk-SK" sz="4400" spc="-1" strike="noStrike">
                <a:solidFill>
                  <a:srgbClr val="221304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0" name="">
            <a:hlinkClick r:id="" action="ppaction://hlinkshowjump?jump=previousslide"/>
          </p:cNvPr>
          <p:cNvSpPr/>
          <p:nvPr/>
        </p:nvSpPr>
        <p:spPr>
          <a:xfrm>
            <a:off x="6781680" y="5943600"/>
            <a:ext cx="565200" cy="585720"/>
          </a:xfrm>
          <a:custGeom>
            <a:avLst/>
            <a:gdLst>
              <a:gd name="textAreaLeft" fmla="*/ 36360 w 565200"/>
              <a:gd name="textAreaRight" fmla="*/ 528840 w 565200"/>
              <a:gd name="textAreaTop" fmla="*/ 36360 h 585720"/>
              <a:gd name="textAreaBottom" fmla="*/ 549360 h 585720"/>
            </a:gdLst>
            <a:ahLst/>
            <a:rect l="textAreaLeft" t="textAreaTop" r="textAreaRight" b="textAreaBottom"/>
            <a:pathLst>
              <a:path w="21600" h="22384">
                <a:moveTo>
                  <a:pt x="0" y="0"/>
                </a:moveTo>
                <a:lnTo>
                  <a:pt x="21600" y="0"/>
                </a:lnTo>
                <a:lnTo>
                  <a:pt x="21600" y="22384"/>
                </a:lnTo>
                <a:lnTo>
                  <a:pt x="0" y="22384"/>
                </a:lnTo>
                <a:close/>
              </a:path>
              <a:path fill="lightenLess" w="21600" h="2238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84">
                <a:moveTo>
                  <a:pt x="21600" y="0"/>
                </a:moveTo>
                <a:lnTo>
                  <a:pt x="21600" y="22384"/>
                </a:lnTo>
                <a:lnTo>
                  <a:pt x="20200" y="20984"/>
                </a:lnTo>
                <a:lnTo>
                  <a:pt x="20200" y="1400"/>
                </a:lnTo>
                <a:close/>
              </a:path>
              <a:path fill="darkenLess" w="21600" h="22384">
                <a:moveTo>
                  <a:pt x="21600" y="22384"/>
                </a:moveTo>
                <a:lnTo>
                  <a:pt x="0" y="22384"/>
                </a:lnTo>
                <a:lnTo>
                  <a:pt x="1400" y="20984"/>
                </a:lnTo>
                <a:lnTo>
                  <a:pt x="20200" y="20984"/>
                </a:lnTo>
                <a:close/>
              </a:path>
              <a:path fill="lighten" w="21600" h="22384">
                <a:moveTo>
                  <a:pt x="0" y="2238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84"/>
                </a:lnTo>
                <a:close/>
              </a:path>
              <a:path fill="darken" w="21600" h="22384">
                <a:moveTo>
                  <a:pt x="3794" y="11192"/>
                </a:moveTo>
                <a:lnTo>
                  <a:pt x="17806" y="4185"/>
                </a:lnTo>
                <a:lnTo>
                  <a:pt x="17806" y="18198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7400880" y="5943600"/>
            <a:ext cx="566640" cy="585720"/>
          </a:xfrm>
          <a:custGeom>
            <a:avLst/>
            <a:gdLst>
              <a:gd name="textAreaLeft" fmla="*/ 36720 w 566640"/>
              <a:gd name="textAreaRight" fmla="*/ 529920 w 566640"/>
              <a:gd name="textAreaTop" fmla="*/ 36720 h 585720"/>
              <a:gd name="textAreaBottom" fmla="*/ 549000 h 585720"/>
            </a:gdLst>
            <a:ahLst/>
            <a:rect l="textAreaLeft" t="textAreaTop" r="textAreaRight" b="textAreaBottom"/>
            <a:pathLst>
              <a:path w="21600" h="22327">
                <a:moveTo>
                  <a:pt x="0" y="0"/>
                </a:moveTo>
                <a:lnTo>
                  <a:pt x="21600" y="0"/>
                </a:lnTo>
                <a:lnTo>
                  <a:pt x="21600" y="22327"/>
                </a:lnTo>
                <a:lnTo>
                  <a:pt x="0" y="22327"/>
                </a:lnTo>
                <a:close/>
              </a:path>
              <a:path fill="lightenLess" w="21600" h="223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27">
                <a:moveTo>
                  <a:pt x="21600" y="0"/>
                </a:moveTo>
                <a:lnTo>
                  <a:pt x="21600" y="22327"/>
                </a:lnTo>
                <a:lnTo>
                  <a:pt x="20200" y="20927"/>
                </a:lnTo>
                <a:lnTo>
                  <a:pt x="20200" y="1400"/>
                </a:lnTo>
                <a:close/>
              </a:path>
              <a:path fill="darkenLess" w="21600" h="22327">
                <a:moveTo>
                  <a:pt x="21600" y="22327"/>
                </a:moveTo>
                <a:lnTo>
                  <a:pt x="0" y="22327"/>
                </a:lnTo>
                <a:lnTo>
                  <a:pt x="1400" y="20927"/>
                </a:lnTo>
                <a:lnTo>
                  <a:pt x="20200" y="20927"/>
                </a:lnTo>
                <a:close/>
              </a:path>
              <a:path fill="lighten" w="21600" h="22327">
                <a:moveTo>
                  <a:pt x="0" y="223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27"/>
                </a:lnTo>
                <a:close/>
              </a:path>
              <a:path fill="darken" w="21600" h="22327">
                <a:moveTo>
                  <a:pt x="3794" y="4157"/>
                </a:moveTo>
                <a:lnTo>
                  <a:pt x="17806" y="11163"/>
                </a:lnTo>
                <a:lnTo>
                  <a:pt x="3794" y="1817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firstslide"/>
          </p:cNvPr>
          <p:cNvSpPr/>
          <p:nvPr/>
        </p:nvSpPr>
        <p:spPr>
          <a:xfrm>
            <a:off x="8021520" y="5943600"/>
            <a:ext cx="565200" cy="585720"/>
          </a:xfrm>
          <a:custGeom>
            <a:avLst/>
            <a:gdLst>
              <a:gd name="textAreaLeft" fmla="*/ 36360 w 565200"/>
              <a:gd name="textAreaRight" fmla="*/ 528840 w 565200"/>
              <a:gd name="textAreaTop" fmla="*/ 36360 h 585720"/>
              <a:gd name="textAreaBottom" fmla="*/ 549360 h 585720"/>
            </a:gdLst>
            <a:ahLst/>
            <a:rect l="textAreaLeft" t="textAreaTop" r="textAreaRight" b="textAreaBottom"/>
            <a:pathLst>
              <a:path w="21600" h="22384">
                <a:moveTo>
                  <a:pt x="0" y="0"/>
                </a:moveTo>
                <a:lnTo>
                  <a:pt x="21600" y="0"/>
                </a:lnTo>
                <a:lnTo>
                  <a:pt x="21600" y="22384"/>
                </a:lnTo>
                <a:lnTo>
                  <a:pt x="0" y="22384"/>
                </a:lnTo>
                <a:close/>
              </a:path>
              <a:path fill="lightenLess" w="21600" h="2238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84">
                <a:moveTo>
                  <a:pt x="21600" y="0"/>
                </a:moveTo>
                <a:lnTo>
                  <a:pt x="21600" y="22384"/>
                </a:lnTo>
                <a:lnTo>
                  <a:pt x="20200" y="20984"/>
                </a:lnTo>
                <a:lnTo>
                  <a:pt x="20200" y="1400"/>
                </a:lnTo>
                <a:close/>
              </a:path>
              <a:path fill="darkenLess" w="21600" h="22384">
                <a:moveTo>
                  <a:pt x="21600" y="22384"/>
                </a:moveTo>
                <a:lnTo>
                  <a:pt x="0" y="22384"/>
                </a:lnTo>
                <a:lnTo>
                  <a:pt x="1400" y="20984"/>
                </a:lnTo>
                <a:lnTo>
                  <a:pt x="20200" y="20984"/>
                </a:lnTo>
                <a:close/>
              </a:path>
              <a:path fill="lighten" w="21600" h="22384">
                <a:moveTo>
                  <a:pt x="0" y="2238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84"/>
                </a:lnTo>
                <a:close/>
              </a:path>
              <a:path fill="darken" w="21600" h="22384">
                <a:moveTo>
                  <a:pt x="7301" y="11192"/>
                </a:moveTo>
                <a:lnTo>
                  <a:pt x="17806" y="4185"/>
                </a:lnTo>
                <a:lnTo>
                  <a:pt x="17806" y="18198"/>
                </a:lnTo>
                <a:close/>
              </a:path>
              <a:path fill="darken" w="21600" h="22384">
                <a:moveTo>
                  <a:pt x="3794" y="4185"/>
                </a:moveTo>
                <a:lnTo>
                  <a:pt x="5456" y="4185"/>
                </a:lnTo>
                <a:lnTo>
                  <a:pt x="5456" y="18198"/>
                </a:lnTo>
                <a:lnTo>
                  <a:pt x="3794" y="18198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1"/>
          </p:cNvPr>
          <p:cNvSpPr/>
          <p:nvPr/>
        </p:nvSpPr>
        <p:spPr>
          <a:xfrm>
            <a:off x="8001000" y="5257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7493"/>
                </a:moveTo>
                <a:lnTo>
                  <a:pt x="10895" y="7493"/>
                </a:lnTo>
                <a:lnTo>
                  <a:pt x="10895" y="12828"/>
                </a:lnTo>
                <a:cubicBezTo>
                  <a:pt x="10895" y="13751"/>
                  <a:pt x="11696" y="14482"/>
                  <a:pt x="12732" y="14482"/>
                </a:cubicBezTo>
                <a:lnTo>
                  <a:pt x="14394" y="14482"/>
                </a:lnTo>
                <a:cubicBezTo>
                  <a:pt x="15430" y="14482"/>
                  <a:pt x="16231" y="13751"/>
                  <a:pt x="16231" y="12828"/>
                </a:cubicBezTo>
                <a:lnTo>
                  <a:pt x="16231" y="7493"/>
                </a:lnTo>
                <a:lnTo>
                  <a:pt x="14394" y="7493"/>
                </a:lnTo>
                <a:lnTo>
                  <a:pt x="17902" y="3985"/>
                </a:lnTo>
                <a:lnTo>
                  <a:pt x="21575" y="7493"/>
                </a:lnTo>
                <a:lnTo>
                  <a:pt x="19738" y="7493"/>
                </a:lnTo>
                <a:lnTo>
                  <a:pt x="19738" y="12828"/>
                </a:lnTo>
                <a:cubicBezTo>
                  <a:pt x="19738" y="15596"/>
                  <a:pt x="17162" y="18155"/>
                  <a:pt x="14394" y="18155"/>
                </a:cubicBezTo>
                <a:lnTo>
                  <a:pt x="12732" y="18155"/>
                </a:lnTo>
                <a:cubicBezTo>
                  <a:pt x="9964" y="18155"/>
                  <a:pt x="7388" y="15596"/>
                  <a:pt x="7388" y="12828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184400" y="1646280"/>
            <a:ext cx="312408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1120680" y="1770120"/>
            <a:ext cx="4602240" cy="28162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343160" y="2004840"/>
            <a:ext cx="3112920" cy="149076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600" spc="-1" strike="noStrike">
                <a:solidFill>
                  <a:srgbClr val="221304"/>
                </a:solidFill>
                <a:latin typeface="Times New Roman"/>
              </a:rPr>
              <a:t>p</a:t>
            </a:r>
            <a:r>
              <a:rPr b="1" i="1" lang="en-US" sz="1600" spc="-1" strike="noStrike">
                <a:solidFill>
                  <a:srgbClr val="221304"/>
                </a:solidFill>
                <a:latin typeface="Times New Roman"/>
              </a:rPr>
              <a:t>okra</a:t>
            </a:r>
            <a:r>
              <a:rPr b="1" i="1" lang="sk-SK" sz="1600" spc="-1" strike="noStrike">
                <a:solidFill>
                  <a:srgbClr val="221304"/>
                </a:solidFill>
                <a:latin typeface="Times New Roman"/>
              </a:rPr>
              <a:t>čovanie zadania</a:t>
            </a:r>
            <a:endParaRPr b="0" lang="en-US" sz="1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622520" y="3216240"/>
            <a:ext cx="265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4264200" y="2876400"/>
            <a:ext cx="0" cy="35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1608120" y="2890800"/>
            <a:ext cx="2656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1639800" y="2477880"/>
            <a:ext cx="0" cy="35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666800" y="2494080"/>
            <a:ext cx="265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4338720" y="2166840"/>
            <a:ext cx="0" cy="35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1608120" y="2212920"/>
            <a:ext cx="2656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652760" y="3687840"/>
            <a:ext cx="261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632480" y="2905200"/>
            <a:ext cx="0" cy="33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689360" y="290340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Krok_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974600" y="389088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Krok_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549440" y="3156120"/>
            <a:ext cx="206280" cy="191880"/>
          </a:xfrm>
          <a:prstGeom prst="ellipse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894280" y="1844640"/>
            <a:ext cx="2557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Metalizácia pravouhlej plochy je podmienená zapnutím technológie v nasledujúcom poradí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Zapnúť </a:t>
            </a:r>
            <a:r>
              <a:rPr b="1" i="1" lang="sk-SK" sz="1800" spc="-1" strike="noStrike">
                <a:solidFill>
                  <a:srgbClr val="000000"/>
                </a:solidFill>
                <a:latin typeface="Times New Roman"/>
              </a:rPr>
              <a:t>Vzdu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Zapnúť </a:t>
            </a:r>
            <a:r>
              <a:rPr b="1" i="1" lang="sk-SK" sz="1800" spc="-1" strike="noStrike">
                <a:solidFill>
                  <a:srgbClr val="000000"/>
                </a:solidFill>
                <a:latin typeface="Times New Roman"/>
              </a:rPr>
              <a:t>Oblú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Zapnúť </a:t>
            </a:r>
            <a:r>
              <a:rPr b="1" i="1" lang="sk-SK" sz="1800" spc="-1" strike="noStrike">
                <a:solidFill>
                  <a:srgbClr val="000000"/>
                </a:solidFill>
                <a:latin typeface="Times New Roman"/>
              </a:rPr>
              <a:t>Posuv_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190520" y="4697280"/>
            <a:ext cx="7562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Po vzniku signálu </a:t>
            </a:r>
            <a:r>
              <a:rPr b="1" i="1" lang="sk-SK" sz="1600" spc="-1" strike="noStrike">
                <a:solidFill>
                  <a:srgbClr val="000000"/>
                </a:solidFill>
                <a:latin typeface="Times New Roman"/>
              </a:rPr>
              <a:t>Podmienky_tech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je možné zapnúť pohyb mechanizmu pre metalizáciu tak,že za východzí bod sa považuje ľavý dolný roh,kde sa vozík musí dopraviť ručným ovládaním.Hodnoty Krok_y a Krok_x sú zadávané z pultu .Skutočná poloha sa meria inkrementálnym snímačom na obidvoch pohonoch tak,že 1 cm polohy predstavuje jeden impulz.Zadávanie polohy sa udáva 1-10 m s presnosťou na cm pre súradnicu y a 1-5 m s presnosťou 1 cm  pre súradnicu x. Navrhnite riadiací program a  ovládací pult pre túto technológi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936720" y="1620720"/>
            <a:ext cx="5181480" cy="50292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221304"/>
                </a:solidFill>
                <a:latin typeface="Times New Roman"/>
              </a:rPr>
              <a:t>Zadanie</a:t>
            </a:r>
            <a:r>
              <a:rPr b="1" i="1" lang="sk-SK" sz="4400" spc="-1" strike="noStrike">
                <a:solidFill>
                  <a:srgbClr val="221304"/>
                </a:solidFill>
                <a:latin typeface="Times New Roman"/>
              </a:rPr>
              <a:t> 4:  Ukladač vriec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67280" y="5657760"/>
            <a:ext cx="109440" cy="582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921040" y="5657760"/>
            <a:ext cx="108000" cy="582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611360" y="1919160"/>
            <a:ext cx="1144440" cy="825480"/>
          </a:xfrm>
          <a:prstGeom prst="rect">
            <a:avLst/>
          </a:prstGeom>
          <a:solidFill>
            <a:srgbClr val="59afcd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828800" y="1676520"/>
            <a:ext cx="711360" cy="242640"/>
          </a:xfrm>
          <a:prstGeom prst="rect">
            <a:avLst/>
          </a:prstGeom>
          <a:solidFill>
            <a:srgbClr val="59afcd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1501920" y="2744640"/>
            <a:ext cx="1365120" cy="193680"/>
          </a:xfrm>
          <a:custGeom>
            <a:avLst/>
            <a:gdLst>
              <a:gd name="textAreaLeft" fmla="*/ 171000 w 1365120"/>
              <a:gd name="textAreaRight" fmla="*/ 1194120 w 1365120"/>
              <a:gd name="textAreaTop" fmla="*/ 24120 h 193680"/>
              <a:gd name="textAreaBottom" fmla="*/ 169560 h 193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72" y="21600"/>
                </a:lnTo>
                <a:lnTo>
                  <a:pt x="1728" y="21600"/>
                </a:lnTo>
                <a:close/>
              </a:path>
            </a:pathLst>
          </a:custGeom>
          <a:solidFill>
            <a:srgbClr val="59afcd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867040" y="2695680"/>
            <a:ext cx="217440" cy="195120"/>
          </a:xfrm>
          <a:prstGeom prst="ellipse">
            <a:avLst/>
          </a:prstGeom>
          <a:solidFill>
            <a:srgbClr val="cbbd83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011480" y="2695680"/>
            <a:ext cx="219240" cy="195120"/>
          </a:xfrm>
          <a:prstGeom prst="ellipse">
            <a:avLst/>
          </a:prstGeom>
          <a:solidFill>
            <a:srgbClr val="cbbd83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975040" y="2695680"/>
            <a:ext cx="1146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975040" y="2890800"/>
            <a:ext cx="1146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2987640"/>
            <a:ext cx="2946240" cy="146160"/>
          </a:xfrm>
          <a:prstGeom prst="rect">
            <a:avLst/>
          </a:prstGeom>
          <a:solidFill>
            <a:srgbClr val="ffff99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049720" y="2987640"/>
            <a:ext cx="708120" cy="146160"/>
          </a:xfrm>
          <a:prstGeom prst="rect">
            <a:avLst/>
          </a:prstGeom>
          <a:solidFill>
            <a:srgbClr val="ffff99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3084480" y="3133800"/>
            <a:ext cx="1309680" cy="1019160"/>
          </a:xfrm>
          <a:prstGeom prst="line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3684600" y="3522600"/>
            <a:ext cx="1038240" cy="82404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049720" y="3133800"/>
            <a:ext cx="763560" cy="484200"/>
          </a:xfrm>
          <a:prstGeom prst="line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722840" y="3522600"/>
            <a:ext cx="817560" cy="53352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4722840" y="3133800"/>
            <a:ext cx="271440" cy="3888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394160" y="3133800"/>
            <a:ext cx="328680" cy="388800"/>
          </a:xfrm>
          <a:prstGeom prst="line">
            <a:avLst/>
          </a:prstGeom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664160" y="3481560"/>
            <a:ext cx="104760" cy="96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557600" y="4006800"/>
            <a:ext cx="449280" cy="3808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732200" y="3583080"/>
            <a:ext cx="44640" cy="666720"/>
          </a:xfrm>
          <a:prstGeom prst="line">
            <a:avLst/>
          </a:prstGeom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174760" y="3389400"/>
            <a:ext cx="449280" cy="380880"/>
          </a:xfrm>
          <a:prstGeom prst="ellipse">
            <a:avLst/>
          </a:prstGeom>
          <a:solidFill>
            <a:srgbClr val="cbbd83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2392200" y="2790720"/>
            <a:ext cx="579600" cy="792360"/>
          </a:xfrm>
          <a:prstGeom prst="line">
            <a:avLst/>
          </a:prstGeom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550880" y="3370320"/>
            <a:ext cx="449280" cy="380880"/>
          </a:xfrm>
          <a:prstGeom prst="ellipse">
            <a:avLst/>
          </a:prstGeom>
          <a:solidFill>
            <a:srgbClr val="59afcd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1747800" y="2744640"/>
            <a:ext cx="433440" cy="851040"/>
          </a:xfrm>
          <a:prstGeom prst="line">
            <a:avLst/>
          </a:prstGeom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1611360" y="3763440"/>
            <a:ext cx="0" cy="77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1884240" y="3763440"/>
            <a:ext cx="0" cy="77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2266920" y="3763440"/>
            <a:ext cx="0" cy="77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2540160" y="3763440"/>
            <a:ext cx="0" cy="77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2540160" y="3763440"/>
            <a:ext cx="0" cy="77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4667400" y="4395960"/>
            <a:ext cx="0" cy="77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4884840" y="4395960"/>
            <a:ext cx="0" cy="77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394160" y="3230640"/>
            <a:ext cx="0" cy="174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103720" y="3230640"/>
            <a:ext cx="0" cy="174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975040" y="2841480"/>
            <a:ext cx="0" cy="174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247920" y="2647800"/>
            <a:ext cx="0" cy="1941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284720" y="2841480"/>
            <a:ext cx="0" cy="2136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666880" y="2616120"/>
            <a:ext cx="68400" cy="619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203640" y="2610000"/>
            <a:ext cx="68040" cy="619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246560" y="2797200"/>
            <a:ext cx="68400" cy="60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354560" y="3209760"/>
            <a:ext cx="69840" cy="60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064120" y="3209760"/>
            <a:ext cx="69840" cy="60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719440" y="2647800"/>
            <a:ext cx="0" cy="1941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609560" y="5400720"/>
            <a:ext cx="1209960" cy="1076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050920" y="5033880"/>
            <a:ext cx="370080" cy="444600"/>
          </a:xfrm>
          <a:prstGeom prst="rect">
            <a:avLst/>
          </a:prstGeom>
          <a:solidFill>
            <a:srgbClr val="ffff99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884320" y="5697360"/>
            <a:ext cx="1346400" cy="501840"/>
          </a:xfrm>
          <a:prstGeom prst="rect">
            <a:avLst/>
          </a:prstGeom>
          <a:solidFill>
            <a:srgbClr val="ffff99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155680" y="5173560"/>
            <a:ext cx="165240" cy="14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357720" y="5900760"/>
            <a:ext cx="217440" cy="146160"/>
          </a:xfrm>
          <a:prstGeom prst="rightArrow">
            <a:avLst>
              <a:gd name="adj1" fmla="val 50000"/>
              <a:gd name="adj2" fmla="val 37192"/>
            </a:avLst>
          </a:prstGeom>
          <a:solidFill>
            <a:srgbClr val="ffff99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338720" y="5707080"/>
            <a:ext cx="600120" cy="48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085840" y="5478480"/>
            <a:ext cx="271440" cy="243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070000" y="6154560"/>
            <a:ext cx="273240" cy="243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490840" y="5819760"/>
            <a:ext cx="272880" cy="243000"/>
          </a:xfrm>
          <a:prstGeom prst="ellipse">
            <a:avLst/>
          </a:prstGeom>
          <a:solidFill>
            <a:srgbClr val="3694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679400" y="5832360"/>
            <a:ext cx="273240" cy="243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803240" y="5587920"/>
            <a:ext cx="271800" cy="243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360520" y="5594400"/>
            <a:ext cx="273240" cy="243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89320" y="6070680"/>
            <a:ext cx="272880" cy="242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803240" y="6070680"/>
            <a:ext cx="271800" cy="242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87640" y="5807160"/>
            <a:ext cx="282600" cy="250920"/>
          </a:xfrm>
          <a:custGeom>
            <a:avLst/>
            <a:gdLst>
              <a:gd name="textAreaLeft" fmla="*/ 0 w 282600"/>
              <a:gd name="textAreaRight" fmla="*/ 282960 w 28260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305080" y="5425920"/>
            <a:ext cx="68400" cy="619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384280" y="5459400"/>
            <a:ext cx="47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>
            <a:hlinkClick r:id="" action="ppaction://hlinkshowjump?jump=previousslide"/>
          </p:cNvPr>
          <p:cNvSpPr/>
          <p:nvPr/>
        </p:nvSpPr>
        <p:spPr>
          <a:xfrm>
            <a:off x="6781680" y="5943600"/>
            <a:ext cx="565200" cy="585720"/>
          </a:xfrm>
          <a:custGeom>
            <a:avLst/>
            <a:gdLst>
              <a:gd name="textAreaLeft" fmla="*/ 36360 w 565200"/>
              <a:gd name="textAreaRight" fmla="*/ 528840 w 565200"/>
              <a:gd name="textAreaTop" fmla="*/ 36360 h 585720"/>
              <a:gd name="textAreaBottom" fmla="*/ 549360 h 585720"/>
            </a:gdLst>
            <a:ahLst/>
            <a:rect l="textAreaLeft" t="textAreaTop" r="textAreaRight" b="textAreaBottom"/>
            <a:pathLst>
              <a:path w="21600" h="22384">
                <a:moveTo>
                  <a:pt x="0" y="0"/>
                </a:moveTo>
                <a:lnTo>
                  <a:pt x="21600" y="0"/>
                </a:lnTo>
                <a:lnTo>
                  <a:pt x="21600" y="22384"/>
                </a:lnTo>
                <a:lnTo>
                  <a:pt x="0" y="22384"/>
                </a:lnTo>
                <a:close/>
              </a:path>
              <a:path fill="lightenLess" w="21600" h="2238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84">
                <a:moveTo>
                  <a:pt x="21600" y="0"/>
                </a:moveTo>
                <a:lnTo>
                  <a:pt x="21600" y="22384"/>
                </a:lnTo>
                <a:lnTo>
                  <a:pt x="20200" y="20984"/>
                </a:lnTo>
                <a:lnTo>
                  <a:pt x="20200" y="1400"/>
                </a:lnTo>
                <a:close/>
              </a:path>
              <a:path fill="darkenLess" w="21600" h="22384">
                <a:moveTo>
                  <a:pt x="21600" y="22384"/>
                </a:moveTo>
                <a:lnTo>
                  <a:pt x="0" y="22384"/>
                </a:lnTo>
                <a:lnTo>
                  <a:pt x="1400" y="20984"/>
                </a:lnTo>
                <a:lnTo>
                  <a:pt x="20200" y="20984"/>
                </a:lnTo>
                <a:close/>
              </a:path>
              <a:path fill="lighten" w="21600" h="22384">
                <a:moveTo>
                  <a:pt x="0" y="2238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84"/>
                </a:lnTo>
                <a:close/>
              </a:path>
              <a:path fill="darken" w="21600" h="22384">
                <a:moveTo>
                  <a:pt x="3794" y="11192"/>
                </a:moveTo>
                <a:lnTo>
                  <a:pt x="17806" y="4185"/>
                </a:lnTo>
                <a:lnTo>
                  <a:pt x="17806" y="18198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>
            <a:hlinkClick r:id="" action="ppaction://hlinkshowjump?jump=nextslide"/>
          </p:cNvPr>
          <p:cNvSpPr/>
          <p:nvPr/>
        </p:nvSpPr>
        <p:spPr>
          <a:xfrm>
            <a:off x="7400880" y="5943600"/>
            <a:ext cx="566640" cy="585720"/>
          </a:xfrm>
          <a:custGeom>
            <a:avLst/>
            <a:gdLst>
              <a:gd name="textAreaLeft" fmla="*/ 36720 w 566640"/>
              <a:gd name="textAreaRight" fmla="*/ 529920 w 566640"/>
              <a:gd name="textAreaTop" fmla="*/ 36720 h 585720"/>
              <a:gd name="textAreaBottom" fmla="*/ 549000 h 585720"/>
            </a:gdLst>
            <a:ahLst/>
            <a:rect l="textAreaLeft" t="textAreaTop" r="textAreaRight" b="textAreaBottom"/>
            <a:pathLst>
              <a:path w="21600" h="22327">
                <a:moveTo>
                  <a:pt x="0" y="0"/>
                </a:moveTo>
                <a:lnTo>
                  <a:pt x="21600" y="0"/>
                </a:lnTo>
                <a:lnTo>
                  <a:pt x="21600" y="22327"/>
                </a:lnTo>
                <a:lnTo>
                  <a:pt x="0" y="22327"/>
                </a:lnTo>
                <a:close/>
              </a:path>
              <a:path fill="lightenLess" w="21600" h="223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27">
                <a:moveTo>
                  <a:pt x="21600" y="0"/>
                </a:moveTo>
                <a:lnTo>
                  <a:pt x="21600" y="22327"/>
                </a:lnTo>
                <a:lnTo>
                  <a:pt x="20200" y="20927"/>
                </a:lnTo>
                <a:lnTo>
                  <a:pt x="20200" y="1400"/>
                </a:lnTo>
                <a:close/>
              </a:path>
              <a:path fill="darkenLess" w="21600" h="22327">
                <a:moveTo>
                  <a:pt x="21600" y="22327"/>
                </a:moveTo>
                <a:lnTo>
                  <a:pt x="0" y="22327"/>
                </a:lnTo>
                <a:lnTo>
                  <a:pt x="1400" y="20927"/>
                </a:lnTo>
                <a:lnTo>
                  <a:pt x="20200" y="20927"/>
                </a:lnTo>
                <a:close/>
              </a:path>
              <a:path fill="lighten" w="21600" h="22327">
                <a:moveTo>
                  <a:pt x="0" y="223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27"/>
                </a:lnTo>
                <a:close/>
              </a:path>
              <a:path fill="darken" w="21600" h="22327">
                <a:moveTo>
                  <a:pt x="3794" y="4157"/>
                </a:moveTo>
                <a:lnTo>
                  <a:pt x="17806" y="11163"/>
                </a:lnTo>
                <a:lnTo>
                  <a:pt x="3794" y="1817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>
            <a:hlinkClick r:id="" action="ppaction://hlinkshowjump?jump=firstslide"/>
          </p:cNvPr>
          <p:cNvSpPr/>
          <p:nvPr/>
        </p:nvSpPr>
        <p:spPr>
          <a:xfrm>
            <a:off x="8021520" y="5943600"/>
            <a:ext cx="565200" cy="585720"/>
          </a:xfrm>
          <a:custGeom>
            <a:avLst/>
            <a:gdLst>
              <a:gd name="textAreaLeft" fmla="*/ 36360 w 565200"/>
              <a:gd name="textAreaRight" fmla="*/ 528840 w 565200"/>
              <a:gd name="textAreaTop" fmla="*/ 36360 h 585720"/>
              <a:gd name="textAreaBottom" fmla="*/ 549360 h 585720"/>
            </a:gdLst>
            <a:ahLst/>
            <a:rect l="textAreaLeft" t="textAreaTop" r="textAreaRight" b="textAreaBottom"/>
            <a:pathLst>
              <a:path w="21600" h="22384">
                <a:moveTo>
                  <a:pt x="0" y="0"/>
                </a:moveTo>
                <a:lnTo>
                  <a:pt x="21600" y="0"/>
                </a:lnTo>
                <a:lnTo>
                  <a:pt x="21600" y="22384"/>
                </a:lnTo>
                <a:lnTo>
                  <a:pt x="0" y="22384"/>
                </a:lnTo>
                <a:close/>
              </a:path>
              <a:path fill="lightenLess" w="21600" h="2238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84">
                <a:moveTo>
                  <a:pt x="21600" y="0"/>
                </a:moveTo>
                <a:lnTo>
                  <a:pt x="21600" y="22384"/>
                </a:lnTo>
                <a:lnTo>
                  <a:pt x="20200" y="20984"/>
                </a:lnTo>
                <a:lnTo>
                  <a:pt x="20200" y="1400"/>
                </a:lnTo>
                <a:close/>
              </a:path>
              <a:path fill="darkenLess" w="21600" h="22384">
                <a:moveTo>
                  <a:pt x="21600" y="22384"/>
                </a:moveTo>
                <a:lnTo>
                  <a:pt x="0" y="22384"/>
                </a:lnTo>
                <a:lnTo>
                  <a:pt x="1400" y="20984"/>
                </a:lnTo>
                <a:lnTo>
                  <a:pt x="20200" y="20984"/>
                </a:lnTo>
                <a:close/>
              </a:path>
              <a:path fill="lighten" w="21600" h="22384">
                <a:moveTo>
                  <a:pt x="0" y="2238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84"/>
                </a:lnTo>
                <a:close/>
              </a:path>
              <a:path fill="darken" w="21600" h="22384">
                <a:moveTo>
                  <a:pt x="7301" y="11192"/>
                </a:moveTo>
                <a:lnTo>
                  <a:pt x="17806" y="4185"/>
                </a:lnTo>
                <a:lnTo>
                  <a:pt x="17806" y="18198"/>
                </a:lnTo>
                <a:close/>
              </a:path>
              <a:path fill="darken" w="21600" h="22384">
                <a:moveTo>
                  <a:pt x="3794" y="4185"/>
                </a:moveTo>
                <a:lnTo>
                  <a:pt x="5456" y="4185"/>
                </a:lnTo>
                <a:lnTo>
                  <a:pt x="5456" y="18198"/>
                </a:lnTo>
                <a:lnTo>
                  <a:pt x="3794" y="18198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rot="16200000">
            <a:off x="783720" y="4321800"/>
            <a:ext cx="129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KARUSEL_Z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rot="16200000">
            <a:off x="1085040" y="4316040"/>
            <a:ext cx="13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KARUSEL_VY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rot="16200000">
            <a:off x="1670040" y="4341600"/>
            <a:ext cx="150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DOPRAVNIK_VY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rot="16200000">
            <a:off x="2054880" y="4268880"/>
            <a:ext cx="165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DOPRAVNIK_C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rot="16200000">
            <a:off x="2155320" y="4682160"/>
            <a:ext cx="84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POLO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rot="16200000">
            <a:off x="2867040" y="4882320"/>
            <a:ext cx="79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VREC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rot="16200000">
            <a:off x="3706920" y="4828320"/>
            <a:ext cx="79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VRECE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rot="16200000">
            <a:off x="3822120" y="4712400"/>
            <a:ext cx="13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KLAPA1_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rot="16200000">
            <a:off x="4506840" y="486504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KLAPA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rot="16200000">
            <a:off x="4584240" y="4712400"/>
            <a:ext cx="13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KLAPA2_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rot="16200000">
            <a:off x="4294080" y="488088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KLAPA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 rot="10800000">
            <a:off x="2777400" y="5339520"/>
            <a:ext cx="79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VRECE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600" spc="-1" strike="noStrike">
                <a:solidFill>
                  <a:srgbClr val="221304"/>
                </a:solidFill>
                <a:latin typeface="Times New Roman"/>
              </a:rPr>
              <a:t>p</a:t>
            </a:r>
            <a:r>
              <a:rPr b="1" i="1" lang="en-US" sz="1600" spc="-1" strike="noStrike">
                <a:solidFill>
                  <a:srgbClr val="221304"/>
                </a:solidFill>
                <a:latin typeface="Times New Roman"/>
              </a:rPr>
              <a:t>okra</a:t>
            </a:r>
            <a:r>
              <a:rPr b="1" i="1" lang="sk-SK" sz="1600" spc="-1" strike="noStrike">
                <a:solidFill>
                  <a:srgbClr val="221304"/>
                </a:solidFill>
                <a:latin typeface="Times New Roman"/>
              </a:rPr>
              <a:t>čovanie zadania</a:t>
            </a:r>
            <a:endParaRPr b="0" lang="en-US" sz="16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1219320" y="1828800"/>
            <a:ext cx="7010280" cy="45720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221304"/>
                </a:solidFill>
                <a:latin typeface="Times New Roman"/>
              </a:rPr>
              <a:t>Zadanie 5:  </a:t>
            </a:r>
            <a:r>
              <a:rPr b="1" i="1" lang="sk-SK" sz="4400" spc="-1" strike="noStrike">
                <a:solidFill>
                  <a:srgbClr val="221304"/>
                </a:solidFill>
                <a:latin typeface="Times New Roman"/>
              </a:rPr>
              <a:t>Ohýbačka plechov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654440" y="3652920"/>
            <a:ext cx="1005120" cy="214200"/>
          </a:xfrm>
          <a:prstGeom prst="rect">
            <a:avLst/>
          </a:prstGeom>
          <a:solidFill>
            <a:srgbClr val="3694b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286000" y="4006800"/>
            <a:ext cx="287280" cy="2858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219480" y="5010120"/>
            <a:ext cx="430200" cy="432000"/>
          </a:xfrm>
          <a:prstGeom prst="ellipse">
            <a:avLst/>
          </a:prstGeom>
          <a:solidFill>
            <a:srgbClr val="6600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430360" y="4006800"/>
            <a:ext cx="1865520" cy="0"/>
          </a:xfrm>
          <a:prstGeom prst="line">
            <a:avLst/>
          </a:prstGeom>
          <a:ln w="2844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430360" y="4292640"/>
            <a:ext cx="1865520" cy="0"/>
          </a:xfrm>
          <a:prstGeom prst="line">
            <a:avLst/>
          </a:prstGeom>
          <a:ln w="2844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654440" y="4006800"/>
            <a:ext cx="1005120" cy="430200"/>
          </a:xfrm>
          <a:prstGeom prst="rect">
            <a:avLst/>
          </a:prstGeom>
          <a:solidFill>
            <a:srgbClr val="cbbd83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673600" y="4016520"/>
            <a:ext cx="214560" cy="573120"/>
          </a:xfrm>
          <a:prstGeom prst="rect">
            <a:avLst/>
          </a:prstGeom>
          <a:solidFill>
            <a:srgbClr val="ff3399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586480" y="3933720"/>
            <a:ext cx="144360" cy="144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722840" y="3317760"/>
            <a:ext cx="142920" cy="71784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860560" y="3962520"/>
            <a:ext cx="121932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294160" y="3308400"/>
            <a:ext cx="142920" cy="71748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5656320" y="2705040"/>
            <a:ext cx="1266840" cy="1285920"/>
          </a:xfrm>
          <a:prstGeom prst="line">
            <a:avLst/>
          </a:prstGeom>
          <a:ln w="19080">
            <a:solidFill>
              <a:srgbClr val="80808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751800" y="2514600"/>
            <a:ext cx="371160" cy="371520"/>
          </a:xfrm>
          <a:prstGeom prst="ellipse">
            <a:avLst/>
          </a:prstGeom>
          <a:solidFill>
            <a:srgbClr val="ff3399"/>
          </a:solidFill>
          <a:ln w="2844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941720" y="2209680"/>
            <a:ext cx="352440" cy="924120"/>
          </a:xfrm>
          <a:prstGeom prst="rect">
            <a:avLst/>
          </a:prstGeom>
          <a:solidFill>
            <a:srgbClr val="3694b6"/>
          </a:solidFill>
          <a:ln w="936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084640" y="2643120"/>
            <a:ext cx="71640" cy="100512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941720" y="2571840"/>
            <a:ext cx="358920" cy="7128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367160" y="2355840"/>
            <a:ext cx="216000" cy="646200"/>
          </a:xfrm>
          <a:prstGeom prst="rect">
            <a:avLst/>
          </a:prstGeom>
          <a:solidFill>
            <a:srgbClr val="3694b6"/>
          </a:solidFill>
          <a:ln w="936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583160" y="2427120"/>
            <a:ext cx="35856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583160" y="2930400"/>
            <a:ext cx="35856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3433680" y="4149720"/>
            <a:ext cx="862200" cy="1076400"/>
          </a:xfrm>
          <a:prstGeom prst="line">
            <a:avLst/>
          </a:prstGeom>
          <a:ln w="19080">
            <a:solidFill>
              <a:srgbClr val="80808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151160" y="4006800"/>
            <a:ext cx="287640" cy="2858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5300640" y="4006440"/>
            <a:ext cx="358920" cy="1219320"/>
          </a:xfrm>
          <a:prstGeom prst="line">
            <a:avLst/>
          </a:prstGeom>
          <a:ln w="28440">
            <a:solidFill>
              <a:srgbClr val="80808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156280" y="5083200"/>
            <a:ext cx="358560" cy="644400"/>
          </a:xfrm>
          <a:prstGeom prst="rect">
            <a:avLst/>
          </a:prstGeom>
          <a:solidFill>
            <a:srgbClr val="ff33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156280" y="5369040"/>
            <a:ext cx="358560" cy="0"/>
          </a:xfrm>
          <a:prstGeom prst="line">
            <a:avLst/>
          </a:prstGeom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5227560" y="4579200"/>
            <a:ext cx="358920" cy="358920"/>
          </a:xfrm>
          <a:custGeom>
            <a:avLst/>
            <a:gdLst>
              <a:gd name="textAreaLeft" fmla="*/ 0 w 358920"/>
              <a:gd name="textAreaRight" fmla="*/ 359280 w 358920"/>
              <a:gd name="textAreaTop" fmla="*/ -360 h 358920"/>
              <a:gd name="textAreaBottom" fmla="*/ 358920 h 358920"/>
            </a:gdLst>
            <a:ahLst/>
            <a:rect l="textAreaLeft" t="textAreaTop" r="textAreaRight" b="textAreaBottom"/>
            <a:pathLst>
              <a:path w="21600" h="21600">
                <a:moveTo>
                  <a:pt x="3098" y="10207"/>
                </a:moveTo>
                <a:arcTo wR="-7725" hR="-7725" stAng="-10535873" swAng="-11064127"/>
                <a:lnTo>
                  <a:pt x="0" y="10800"/>
                </a:lnTo>
                <a:arcTo wR="10800" hR="10800" stAng="10800000" swAng="11064127"/>
                <a:lnTo>
                  <a:pt x="24260" y="11836"/>
                </a:lnTo>
                <a:lnTo>
                  <a:pt x="19710" y="15736"/>
                </a:lnTo>
                <a:lnTo>
                  <a:pt x="15810" y="11186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300640" y="5010120"/>
            <a:ext cx="71640" cy="358920"/>
          </a:xfrm>
          <a:prstGeom prst="rect">
            <a:avLst/>
          </a:prstGeom>
          <a:solidFill>
            <a:srgbClr val="ffff99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730840" y="5154480"/>
            <a:ext cx="214200" cy="501840"/>
          </a:xfrm>
          <a:prstGeom prst="rect">
            <a:avLst/>
          </a:prstGeom>
          <a:solidFill>
            <a:srgbClr val="ffff99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514840" y="5226120"/>
            <a:ext cx="216000" cy="0"/>
          </a:xfrm>
          <a:prstGeom prst="line">
            <a:avLst/>
          </a:prstGeom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514840" y="5584680"/>
            <a:ext cx="216000" cy="0"/>
          </a:xfrm>
          <a:prstGeom prst="line">
            <a:avLst/>
          </a:prstGeom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433680" y="2498760"/>
            <a:ext cx="933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433680" y="2857680"/>
            <a:ext cx="933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6161040" y="2212920"/>
            <a:ext cx="7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6950160" y="221256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745240" y="4683240"/>
            <a:ext cx="71280" cy="73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3865680" y="35031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5514840" y="3073320"/>
            <a:ext cx="0" cy="86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3003120" y="3503520"/>
            <a:ext cx="862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5945040" y="5226120"/>
            <a:ext cx="71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5945040" y="5584680"/>
            <a:ext cx="71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730840" y="4724280"/>
            <a:ext cx="1363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730840" y="3503520"/>
            <a:ext cx="1363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3074760" y="3216240"/>
            <a:ext cx="1508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583160" y="321624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583160" y="4006800"/>
            <a:ext cx="0" cy="93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688000" y="3463920"/>
            <a:ext cx="71280" cy="73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535640" y="3540240"/>
            <a:ext cx="71280" cy="73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849840" y="3825720"/>
            <a:ext cx="71280" cy="73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468760" y="3902040"/>
            <a:ext cx="71640" cy="73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535640" y="3978360"/>
            <a:ext cx="71280" cy="73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3218040" y="5438880"/>
            <a:ext cx="0" cy="58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3578400" y="5441760"/>
            <a:ext cx="0" cy="58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>
            <a:hlinkClick r:id="" action="ppaction://hlinkshowjump?jump=previousslide"/>
          </p:cNvPr>
          <p:cNvSpPr/>
          <p:nvPr/>
        </p:nvSpPr>
        <p:spPr>
          <a:xfrm>
            <a:off x="6781680" y="5943600"/>
            <a:ext cx="565200" cy="585720"/>
          </a:xfrm>
          <a:custGeom>
            <a:avLst/>
            <a:gdLst>
              <a:gd name="textAreaLeft" fmla="*/ 36360 w 565200"/>
              <a:gd name="textAreaRight" fmla="*/ 528840 w 565200"/>
              <a:gd name="textAreaTop" fmla="*/ 36360 h 585720"/>
              <a:gd name="textAreaBottom" fmla="*/ 549360 h 585720"/>
            </a:gdLst>
            <a:ahLst/>
            <a:rect l="textAreaLeft" t="textAreaTop" r="textAreaRight" b="textAreaBottom"/>
            <a:pathLst>
              <a:path w="21600" h="22384">
                <a:moveTo>
                  <a:pt x="0" y="0"/>
                </a:moveTo>
                <a:lnTo>
                  <a:pt x="21600" y="0"/>
                </a:lnTo>
                <a:lnTo>
                  <a:pt x="21600" y="22384"/>
                </a:lnTo>
                <a:lnTo>
                  <a:pt x="0" y="22384"/>
                </a:lnTo>
                <a:close/>
              </a:path>
              <a:path fill="lightenLess" w="21600" h="2238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84">
                <a:moveTo>
                  <a:pt x="21600" y="0"/>
                </a:moveTo>
                <a:lnTo>
                  <a:pt x="21600" y="22384"/>
                </a:lnTo>
                <a:lnTo>
                  <a:pt x="20200" y="20984"/>
                </a:lnTo>
                <a:lnTo>
                  <a:pt x="20200" y="1400"/>
                </a:lnTo>
                <a:close/>
              </a:path>
              <a:path fill="darkenLess" w="21600" h="22384">
                <a:moveTo>
                  <a:pt x="21600" y="22384"/>
                </a:moveTo>
                <a:lnTo>
                  <a:pt x="0" y="22384"/>
                </a:lnTo>
                <a:lnTo>
                  <a:pt x="1400" y="20984"/>
                </a:lnTo>
                <a:lnTo>
                  <a:pt x="20200" y="20984"/>
                </a:lnTo>
                <a:close/>
              </a:path>
              <a:path fill="lighten" w="21600" h="22384">
                <a:moveTo>
                  <a:pt x="0" y="2238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84"/>
                </a:lnTo>
                <a:close/>
              </a:path>
              <a:path fill="darken" w="21600" h="22384">
                <a:moveTo>
                  <a:pt x="3794" y="11192"/>
                </a:moveTo>
                <a:lnTo>
                  <a:pt x="17806" y="4185"/>
                </a:lnTo>
                <a:lnTo>
                  <a:pt x="17806" y="18198"/>
                </a:lnTo>
                <a:close/>
              </a:path>
            </a:pathLst>
          </a:cu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>
            <a:hlinkClick r:id="" action="ppaction://hlinkshowjump?jump=nextslide"/>
          </p:cNvPr>
          <p:cNvSpPr/>
          <p:nvPr/>
        </p:nvSpPr>
        <p:spPr>
          <a:xfrm>
            <a:off x="7400880" y="5943600"/>
            <a:ext cx="566640" cy="585720"/>
          </a:xfrm>
          <a:custGeom>
            <a:avLst/>
            <a:gdLst>
              <a:gd name="textAreaLeft" fmla="*/ 36720 w 566640"/>
              <a:gd name="textAreaRight" fmla="*/ 529920 w 566640"/>
              <a:gd name="textAreaTop" fmla="*/ 36720 h 585720"/>
              <a:gd name="textAreaBottom" fmla="*/ 549000 h 585720"/>
            </a:gdLst>
            <a:ahLst/>
            <a:rect l="textAreaLeft" t="textAreaTop" r="textAreaRight" b="textAreaBottom"/>
            <a:pathLst>
              <a:path w="21600" h="22327">
                <a:moveTo>
                  <a:pt x="0" y="0"/>
                </a:moveTo>
                <a:lnTo>
                  <a:pt x="21600" y="0"/>
                </a:lnTo>
                <a:lnTo>
                  <a:pt x="21600" y="22327"/>
                </a:lnTo>
                <a:lnTo>
                  <a:pt x="0" y="22327"/>
                </a:lnTo>
                <a:close/>
              </a:path>
              <a:path fill="lightenLess" w="21600" h="223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27">
                <a:moveTo>
                  <a:pt x="21600" y="0"/>
                </a:moveTo>
                <a:lnTo>
                  <a:pt x="21600" y="22327"/>
                </a:lnTo>
                <a:lnTo>
                  <a:pt x="20200" y="20927"/>
                </a:lnTo>
                <a:lnTo>
                  <a:pt x="20200" y="1400"/>
                </a:lnTo>
                <a:close/>
              </a:path>
              <a:path fill="darkenLess" w="21600" h="22327">
                <a:moveTo>
                  <a:pt x="21600" y="22327"/>
                </a:moveTo>
                <a:lnTo>
                  <a:pt x="0" y="22327"/>
                </a:lnTo>
                <a:lnTo>
                  <a:pt x="1400" y="20927"/>
                </a:lnTo>
                <a:lnTo>
                  <a:pt x="20200" y="20927"/>
                </a:lnTo>
                <a:close/>
              </a:path>
              <a:path fill="lighten" w="21600" h="22327">
                <a:moveTo>
                  <a:pt x="0" y="223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27"/>
                </a:lnTo>
                <a:close/>
              </a:path>
              <a:path fill="darken" w="21600" h="22327">
                <a:moveTo>
                  <a:pt x="3794" y="4157"/>
                </a:moveTo>
                <a:lnTo>
                  <a:pt x="17806" y="11163"/>
                </a:lnTo>
                <a:lnTo>
                  <a:pt x="3794" y="18170"/>
                </a:lnTo>
                <a:close/>
              </a:path>
            </a:pathLst>
          </a:cu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>
            <a:hlinkClick r:id="" action="ppaction://hlinkshowjump?jump=firstslide"/>
          </p:cNvPr>
          <p:cNvSpPr/>
          <p:nvPr/>
        </p:nvSpPr>
        <p:spPr>
          <a:xfrm>
            <a:off x="8021520" y="5943600"/>
            <a:ext cx="565200" cy="585720"/>
          </a:xfrm>
          <a:custGeom>
            <a:avLst/>
            <a:gdLst>
              <a:gd name="textAreaLeft" fmla="*/ 36360 w 565200"/>
              <a:gd name="textAreaRight" fmla="*/ 528840 w 565200"/>
              <a:gd name="textAreaTop" fmla="*/ 36360 h 585720"/>
              <a:gd name="textAreaBottom" fmla="*/ 549360 h 585720"/>
            </a:gdLst>
            <a:ahLst/>
            <a:rect l="textAreaLeft" t="textAreaTop" r="textAreaRight" b="textAreaBottom"/>
            <a:pathLst>
              <a:path w="21600" h="22384">
                <a:moveTo>
                  <a:pt x="0" y="0"/>
                </a:moveTo>
                <a:lnTo>
                  <a:pt x="21600" y="0"/>
                </a:lnTo>
                <a:lnTo>
                  <a:pt x="21600" y="22384"/>
                </a:lnTo>
                <a:lnTo>
                  <a:pt x="0" y="22384"/>
                </a:lnTo>
                <a:close/>
              </a:path>
              <a:path fill="lightenLess" w="21600" h="2238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84">
                <a:moveTo>
                  <a:pt x="21600" y="0"/>
                </a:moveTo>
                <a:lnTo>
                  <a:pt x="21600" y="22384"/>
                </a:lnTo>
                <a:lnTo>
                  <a:pt x="20200" y="20984"/>
                </a:lnTo>
                <a:lnTo>
                  <a:pt x="20200" y="1400"/>
                </a:lnTo>
                <a:close/>
              </a:path>
              <a:path fill="darkenLess" w="21600" h="22384">
                <a:moveTo>
                  <a:pt x="21600" y="22384"/>
                </a:moveTo>
                <a:lnTo>
                  <a:pt x="0" y="22384"/>
                </a:lnTo>
                <a:lnTo>
                  <a:pt x="1400" y="20984"/>
                </a:lnTo>
                <a:lnTo>
                  <a:pt x="20200" y="20984"/>
                </a:lnTo>
                <a:close/>
              </a:path>
              <a:path fill="lighten" w="21600" h="22384">
                <a:moveTo>
                  <a:pt x="0" y="2238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84"/>
                </a:lnTo>
                <a:close/>
              </a:path>
              <a:path fill="darken" w="21600" h="22384">
                <a:moveTo>
                  <a:pt x="7301" y="11192"/>
                </a:moveTo>
                <a:lnTo>
                  <a:pt x="17806" y="4185"/>
                </a:lnTo>
                <a:lnTo>
                  <a:pt x="17806" y="18198"/>
                </a:lnTo>
                <a:close/>
              </a:path>
              <a:path fill="darken" w="21600" h="22384">
                <a:moveTo>
                  <a:pt x="3794" y="4185"/>
                </a:moveTo>
                <a:lnTo>
                  <a:pt x="5456" y="4185"/>
                </a:lnTo>
                <a:lnTo>
                  <a:pt x="5456" y="18198"/>
                </a:lnTo>
                <a:lnTo>
                  <a:pt x="3794" y="18198"/>
                </a:lnTo>
                <a:close/>
              </a:path>
            </a:pathLst>
          </a:cu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318840" y="2205000"/>
            <a:ext cx="75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000000"/>
                </a:solidFill>
                <a:latin typeface="Times New Roman"/>
              </a:rPr>
              <a:t>PRITLA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319200" y="2587680"/>
            <a:ext cx="77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000000"/>
                </a:solidFill>
                <a:latin typeface="Times New Roman"/>
              </a:rPr>
              <a:t>UVOL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063160" y="3090960"/>
            <a:ext cx="106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000000"/>
                </a:solidFill>
                <a:latin typeface="Times New Roman"/>
              </a:rPr>
              <a:t>DOSKA_H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936960" y="4948200"/>
            <a:ext cx="105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000000"/>
                </a:solidFill>
                <a:latin typeface="Times New Roman"/>
              </a:rPr>
              <a:t>DOSKA_DO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271240" y="3371760"/>
            <a:ext cx="70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000000"/>
                </a:solidFill>
                <a:latin typeface="Times New Roman"/>
              </a:rPr>
              <a:t>TABU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003000" y="1954080"/>
            <a:ext cx="111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000000"/>
                </a:solidFill>
                <a:latin typeface="Times New Roman"/>
              </a:rPr>
              <a:t>UHOL_STUP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563880" y="3222720"/>
            <a:ext cx="119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000000"/>
                </a:solidFill>
                <a:latin typeface="Times New Roman"/>
              </a:rPr>
              <a:t>RAMENO_H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388200" y="4402080"/>
            <a:ext cx="117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000000"/>
                </a:solidFill>
                <a:latin typeface="Times New Roman"/>
              </a:rPr>
              <a:t>RAMENO_DO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399640" y="2897280"/>
            <a:ext cx="123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000000"/>
                </a:solidFill>
                <a:latin typeface="Times New Roman"/>
              </a:rPr>
              <a:t>TABULA_HRA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002280" y="5345280"/>
            <a:ext cx="97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000000"/>
                </a:solidFill>
                <a:latin typeface="Times New Roman"/>
              </a:rPr>
              <a:t>OHYB_DO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046200" y="4962600"/>
            <a:ext cx="99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000000"/>
                </a:solidFill>
                <a:latin typeface="Times New Roman"/>
              </a:rPr>
              <a:t>OHYB_H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614400" y="5773680"/>
            <a:ext cx="104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000000"/>
                </a:solidFill>
                <a:latin typeface="Times New Roman"/>
              </a:rPr>
              <a:t>DOPRAV_VY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123640" y="5773680"/>
            <a:ext cx="104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000000"/>
                </a:solidFill>
                <a:latin typeface="Times New Roman"/>
              </a:rPr>
              <a:t>DOPRAV_Z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600" spc="-1" strike="noStrike">
                <a:solidFill>
                  <a:srgbClr val="221304"/>
                </a:solidFill>
                <a:latin typeface="Times New Roman"/>
              </a:rPr>
              <a:t>p</a:t>
            </a:r>
            <a:r>
              <a:rPr b="1" i="1" lang="en-US" sz="1600" spc="-1" strike="noStrike">
                <a:solidFill>
                  <a:srgbClr val="221304"/>
                </a:solidFill>
                <a:latin typeface="Times New Roman"/>
              </a:rPr>
              <a:t>okra</a:t>
            </a:r>
            <a:r>
              <a:rPr b="1" i="1" lang="sk-SK" sz="1600" spc="-1" strike="noStrike">
                <a:solidFill>
                  <a:srgbClr val="221304"/>
                </a:solidFill>
                <a:latin typeface="Times New Roman"/>
              </a:rPr>
              <a:t>čovanie zadania</a:t>
            </a:r>
            <a:endParaRPr b="0" lang="en-US" sz="16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1044720" y="1600200"/>
            <a:ext cx="5618160" cy="50292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221304"/>
                </a:solidFill>
                <a:latin typeface="Times New Roman"/>
              </a:rPr>
              <a:t>Zadanie 6:  </a:t>
            </a:r>
            <a:r>
              <a:rPr b="1" i="1" lang="sk-SK" sz="4400" spc="-1" strike="noStrike">
                <a:solidFill>
                  <a:srgbClr val="221304"/>
                </a:solidFill>
                <a:latin typeface="Times New Roman"/>
              </a:rPr>
              <a:t> Pračk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2347920" y="2468520"/>
            <a:ext cx="2395440" cy="2738160"/>
            <a:chOff x="2347920" y="2468520"/>
            <a:chExt cx="2395440" cy="2738160"/>
          </a:xfrm>
        </p:grpSpPr>
        <p:sp>
          <p:nvSpPr>
            <p:cNvPr id="613" name=""/>
            <p:cNvSpPr/>
            <p:nvPr/>
          </p:nvSpPr>
          <p:spPr>
            <a:xfrm>
              <a:off x="2347920" y="2989800"/>
              <a:ext cx="2395440" cy="221688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347920" y="2468520"/>
              <a:ext cx="2395440" cy="1630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2963880" y="3446640"/>
            <a:ext cx="1231920" cy="11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127400" y="2143080"/>
            <a:ext cx="273240" cy="325440"/>
          </a:xfrm>
          <a:prstGeom prst="rect">
            <a:avLst/>
          </a:prstGeom>
          <a:solidFill>
            <a:srgbClr val="ffff99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470480" y="2143080"/>
            <a:ext cx="272880" cy="325440"/>
          </a:xfrm>
          <a:prstGeom prst="rect">
            <a:avLst/>
          </a:prstGeom>
          <a:solidFill>
            <a:srgbClr val="ffff99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786120" y="2143080"/>
            <a:ext cx="271440" cy="325440"/>
          </a:xfrm>
          <a:prstGeom prst="rect">
            <a:avLst/>
          </a:prstGeom>
          <a:solidFill>
            <a:srgbClr val="ffff99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606920" y="2013120"/>
            <a:ext cx="0" cy="12996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606920" y="2013120"/>
            <a:ext cx="409680" cy="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264200" y="1882800"/>
            <a:ext cx="0" cy="26028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22560" y="1752480"/>
            <a:ext cx="0" cy="39060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264200" y="1882800"/>
            <a:ext cx="958680" cy="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22560" y="1752480"/>
            <a:ext cx="1505160" cy="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5327640" y="3316320"/>
            <a:ext cx="204840" cy="390240"/>
            <a:chOff x="5327640" y="3316320"/>
            <a:chExt cx="204840" cy="390240"/>
          </a:xfrm>
        </p:grpSpPr>
        <p:sp>
          <p:nvSpPr>
            <p:cNvPr id="626" name=""/>
            <p:cNvSpPr/>
            <p:nvPr/>
          </p:nvSpPr>
          <p:spPr>
            <a:xfrm>
              <a:off x="5327640" y="3511440"/>
              <a:ext cx="204840" cy="195120"/>
            </a:xfrm>
            <a:prstGeom prst="triangle">
              <a:avLst>
                <a:gd name="adj" fmla="val 50000"/>
              </a:avLst>
            </a:prstGeom>
            <a:solidFill>
              <a:srgbClr val="cbbd83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>
              <a:off x="5327640" y="3316320"/>
              <a:ext cx="204840" cy="195120"/>
            </a:xfrm>
            <a:prstGeom prst="triangle">
              <a:avLst>
                <a:gd name="adj" fmla="val 50000"/>
              </a:avLst>
            </a:prstGeom>
            <a:solidFill>
              <a:srgbClr val="cbbd83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4898880" y="2274840"/>
            <a:ext cx="204840" cy="390240"/>
            <a:chOff x="4898880" y="2274840"/>
            <a:chExt cx="204840" cy="390240"/>
          </a:xfrm>
        </p:grpSpPr>
        <p:sp>
          <p:nvSpPr>
            <p:cNvPr id="629" name=""/>
            <p:cNvSpPr/>
            <p:nvPr/>
          </p:nvSpPr>
          <p:spPr>
            <a:xfrm>
              <a:off x="4898880" y="2469960"/>
              <a:ext cx="204840" cy="195120"/>
            </a:xfrm>
            <a:prstGeom prst="triangle">
              <a:avLst>
                <a:gd name="adj" fmla="val 50000"/>
              </a:avLst>
            </a:prstGeom>
            <a:solidFill>
              <a:srgbClr val="ff3399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4898880" y="2274840"/>
              <a:ext cx="204840" cy="195120"/>
            </a:xfrm>
            <a:prstGeom prst="triangle">
              <a:avLst>
                <a:gd name="adj" fmla="val 50000"/>
              </a:avLst>
            </a:prstGeom>
            <a:solidFill>
              <a:srgbClr val="ff3399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5118120" y="2795760"/>
            <a:ext cx="204840" cy="390240"/>
            <a:chOff x="5118120" y="2795760"/>
            <a:chExt cx="204840" cy="390240"/>
          </a:xfrm>
        </p:grpSpPr>
        <p:sp>
          <p:nvSpPr>
            <p:cNvPr id="632" name=""/>
            <p:cNvSpPr/>
            <p:nvPr/>
          </p:nvSpPr>
          <p:spPr>
            <a:xfrm>
              <a:off x="5118120" y="2990880"/>
              <a:ext cx="204840" cy="195120"/>
            </a:xfrm>
            <a:prstGeom prst="triangle">
              <a:avLst>
                <a:gd name="adj" fmla="val 50000"/>
              </a:avLst>
            </a:prstGeom>
            <a:solidFill>
              <a:srgbClr val="666699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5118120" y="2795760"/>
              <a:ext cx="204840" cy="195120"/>
            </a:xfrm>
            <a:prstGeom prst="triangle">
              <a:avLst>
                <a:gd name="adj" fmla="val 50000"/>
              </a:avLst>
            </a:prstGeom>
            <a:solidFill>
              <a:srgbClr val="666699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4" name=""/>
          <p:cNvSpPr/>
          <p:nvPr/>
        </p:nvSpPr>
        <p:spPr>
          <a:xfrm>
            <a:off x="5008680" y="2021040"/>
            <a:ext cx="0" cy="26028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008680" y="2670120"/>
            <a:ext cx="0" cy="26028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222880" y="1882800"/>
            <a:ext cx="0" cy="91296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427720" y="1752480"/>
            <a:ext cx="0" cy="156528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222880" y="3186000"/>
            <a:ext cx="0" cy="26064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427720" y="3708360"/>
            <a:ext cx="0" cy="26028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016600" y="2468520"/>
            <a:ext cx="95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975280" y="2468520"/>
            <a:ext cx="0" cy="267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222880" y="29908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427720" y="3511440"/>
            <a:ext cx="13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769000" y="2990880"/>
            <a:ext cx="0" cy="21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565600" y="3511440"/>
            <a:ext cx="0" cy="163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552760" y="4815000"/>
            <a:ext cx="549360" cy="261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868400" y="4621320"/>
            <a:ext cx="479520" cy="455400"/>
          </a:xfrm>
          <a:prstGeom prst="ellipse">
            <a:avLst/>
          </a:prstGeom>
          <a:solidFill>
            <a:srgbClr val="660066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143080" y="4946760"/>
            <a:ext cx="477720" cy="129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828800" y="5632560"/>
            <a:ext cx="477720" cy="455400"/>
          </a:xfrm>
          <a:prstGeom prst="ellipse">
            <a:avLst/>
          </a:prstGeom>
          <a:solidFill>
            <a:srgbClr val="660066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731960" y="4621320"/>
            <a:ext cx="343080" cy="129960"/>
          </a:xfrm>
          <a:prstGeom prst="rect">
            <a:avLst/>
          </a:prstGeom>
          <a:solidFill>
            <a:srgbClr val="660066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075040" y="4881600"/>
            <a:ext cx="0" cy="977760"/>
          </a:xfrm>
          <a:prstGeom prst="line">
            <a:avLst/>
          </a:prstGeom>
          <a:ln w="9360">
            <a:solidFill>
              <a:srgbClr val="96969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006800" y="5354640"/>
            <a:ext cx="781200" cy="752400"/>
          </a:xfrm>
          <a:prstGeom prst="ellipse">
            <a:avLst/>
          </a:prstGeom>
          <a:solidFill>
            <a:srgbClr val="3694b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579840" y="4022640"/>
            <a:ext cx="844560" cy="1730520"/>
          </a:xfrm>
          <a:prstGeom prst="line">
            <a:avLst/>
          </a:prstGeom>
          <a:ln w="9360">
            <a:solidFill>
              <a:srgbClr val="96969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581200" y="4549680"/>
            <a:ext cx="85680" cy="82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581200" y="3503520"/>
            <a:ext cx="85680" cy="82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589120" y="3130560"/>
            <a:ext cx="87480" cy="824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H="1">
            <a:off x="1517760" y="3174840"/>
            <a:ext cx="1071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H="1">
            <a:off x="1517760" y="3538440"/>
            <a:ext cx="1071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2625840" y="4238280"/>
            <a:ext cx="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1527120" y="4246560"/>
            <a:ext cx="109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1927080" y="6055920"/>
            <a:ext cx="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2162160" y="6063840"/>
            <a:ext cx="0" cy="39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4133880" y="6089400"/>
            <a:ext cx="0" cy="39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4387680" y="6106680"/>
            <a:ext cx="0" cy="39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4651200" y="6089400"/>
            <a:ext cx="0" cy="39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102120" y="4686480"/>
            <a:ext cx="271440" cy="29340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373560" y="4686480"/>
            <a:ext cx="272880" cy="29340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648240" y="4686480"/>
            <a:ext cx="272880" cy="29340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V="1">
            <a:off x="3065400" y="4946760"/>
            <a:ext cx="271440" cy="6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3402000" y="4963320"/>
            <a:ext cx="271440" cy="65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V="1">
            <a:off x="3336840" y="4963320"/>
            <a:ext cx="273240" cy="65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3683160" y="4953960"/>
            <a:ext cx="272880" cy="65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916440" y="4930920"/>
            <a:ext cx="109836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5024520" y="5025960"/>
            <a:ext cx="0" cy="14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>
            <a:hlinkClick r:id="" action="ppaction://hlinkshowjump?jump=previousslide"/>
          </p:cNvPr>
          <p:cNvSpPr/>
          <p:nvPr/>
        </p:nvSpPr>
        <p:spPr>
          <a:xfrm>
            <a:off x="6781680" y="5943600"/>
            <a:ext cx="565200" cy="585720"/>
          </a:xfrm>
          <a:custGeom>
            <a:avLst/>
            <a:gdLst>
              <a:gd name="textAreaLeft" fmla="*/ 36360 w 565200"/>
              <a:gd name="textAreaRight" fmla="*/ 528840 w 565200"/>
              <a:gd name="textAreaTop" fmla="*/ 36360 h 585720"/>
              <a:gd name="textAreaBottom" fmla="*/ 549360 h 585720"/>
            </a:gdLst>
            <a:ahLst/>
            <a:rect l="textAreaLeft" t="textAreaTop" r="textAreaRight" b="textAreaBottom"/>
            <a:pathLst>
              <a:path w="21600" h="22384">
                <a:moveTo>
                  <a:pt x="0" y="0"/>
                </a:moveTo>
                <a:lnTo>
                  <a:pt x="21600" y="0"/>
                </a:lnTo>
                <a:lnTo>
                  <a:pt x="21600" y="22384"/>
                </a:lnTo>
                <a:lnTo>
                  <a:pt x="0" y="22384"/>
                </a:lnTo>
                <a:close/>
              </a:path>
              <a:path fill="lightenLess" w="21600" h="2238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84">
                <a:moveTo>
                  <a:pt x="21600" y="0"/>
                </a:moveTo>
                <a:lnTo>
                  <a:pt x="21600" y="22384"/>
                </a:lnTo>
                <a:lnTo>
                  <a:pt x="20200" y="20984"/>
                </a:lnTo>
                <a:lnTo>
                  <a:pt x="20200" y="1400"/>
                </a:lnTo>
                <a:close/>
              </a:path>
              <a:path fill="darkenLess" w="21600" h="22384">
                <a:moveTo>
                  <a:pt x="21600" y="22384"/>
                </a:moveTo>
                <a:lnTo>
                  <a:pt x="0" y="22384"/>
                </a:lnTo>
                <a:lnTo>
                  <a:pt x="1400" y="20984"/>
                </a:lnTo>
                <a:lnTo>
                  <a:pt x="20200" y="20984"/>
                </a:lnTo>
                <a:close/>
              </a:path>
              <a:path fill="lighten" w="21600" h="22384">
                <a:moveTo>
                  <a:pt x="0" y="2238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84"/>
                </a:lnTo>
                <a:close/>
              </a:path>
              <a:path fill="darken" w="21600" h="22384">
                <a:moveTo>
                  <a:pt x="3794" y="11192"/>
                </a:moveTo>
                <a:lnTo>
                  <a:pt x="17806" y="4185"/>
                </a:lnTo>
                <a:lnTo>
                  <a:pt x="17806" y="18198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>
            <a:hlinkClick r:id="" action="ppaction://hlinkshowjump?jump=nextslide"/>
          </p:cNvPr>
          <p:cNvSpPr/>
          <p:nvPr/>
        </p:nvSpPr>
        <p:spPr>
          <a:xfrm>
            <a:off x="7400880" y="5943600"/>
            <a:ext cx="566640" cy="585720"/>
          </a:xfrm>
          <a:custGeom>
            <a:avLst/>
            <a:gdLst>
              <a:gd name="textAreaLeft" fmla="*/ 36720 w 566640"/>
              <a:gd name="textAreaRight" fmla="*/ 529920 w 566640"/>
              <a:gd name="textAreaTop" fmla="*/ 36720 h 585720"/>
              <a:gd name="textAreaBottom" fmla="*/ 549000 h 585720"/>
            </a:gdLst>
            <a:ahLst/>
            <a:rect l="textAreaLeft" t="textAreaTop" r="textAreaRight" b="textAreaBottom"/>
            <a:pathLst>
              <a:path w="21600" h="22327">
                <a:moveTo>
                  <a:pt x="0" y="0"/>
                </a:moveTo>
                <a:lnTo>
                  <a:pt x="21600" y="0"/>
                </a:lnTo>
                <a:lnTo>
                  <a:pt x="21600" y="22327"/>
                </a:lnTo>
                <a:lnTo>
                  <a:pt x="0" y="22327"/>
                </a:lnTo>
                <a:close/>
              </a:path>
              <a:path fill="lightenLess" w="21600" h="223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27">
                <a:moveTo>
                  <a:pt x="21600" y="0"/>
                </a:moveTo>
                <a:lnTo>
                  <a:pt x="21600" y="22327"/>
                </a:lnTo>
                <a:lnTo>
                  <a:pt x="20200" y="20927"/>
                </a:lnTo>
                <a:lnTo>
                  <a:pt x="20200" y="1400"/>
                </a:lnTo>
                <a:close/>
              </a:path>
              <a:path fill="darkenLess" w="21600" h="22327">
                <a:moveTo>
                  <a:pt x="21600" y="22327"/>
                </a:moveTo>
                <a:lnTo>
                  <a:pt x="0" y="22327"/>
                </a:lnTo>
                <a:lnTo>
                  <a:pt x="1400" y="20927"/>
                </a:lnTo>
                <a:lnTo>
                  <a:pt x="20200" y="20927"/>
                </a:lnTo>
                <a:close/>
              </a:path>
              <a:path fill="lighten" w="21600" h="22327">
                <a:moveTo>
                  <a:pt x="0" y="223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27"/>
                </a:lnTo>
                <a:close/>
              </a:path>
              <a:path fill="darken" w="21600" h="22327">
                <a:moveTo>
                  <a:pt x="3794" y="4157"/>
                </a:moveTo>
                <a:lnTo>
                  <a:pt x="17806" y="11163"/>
                </a:lnTo>
                <a:lnTo>
                  <a:pt x="3794" y="1817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>
            <a:hlinkClick r:id="" action="ppaction://hlinkshowjump?jump=firstslide"/>
          </p:cNvPr>
          <p:cNvSpPr/>
          <p:nvPr/>
        </p:nvSpPr>
        <p:spPr>
          <a:xfrm>
            <a:off x="8021520" y="5943600"/>
            <a:ext cx="565200" cy="585720"/>
          </a:xfrm>
          <a:custGeom>
            <a:avLst/>
            <a:gdLst>
              <a:gd name="textAreaLeft" fmla="*/ 36360 w 565200"/>
              <a:gd name="textAreaRight" fmla="*/ 528840 w 565200"/>
              <a:gd name="textAreaTop" fmla="*/ 36360 h 585720"/>
              <a:gd name="textAreaBottom" fmla="*/ 549360 h 585720"/>
            </a:gdLst>
            <a:ahLst/>
            <a:rect l="textAreaLeft" t="textAreaTop" r="textAreaRight" b="textAreaBottom"/>
            <a:pathLst>
              <a:path w="21600" h="22384">
                <a:moveTo>
                  <a:pt x="0" y="0"/>
                </a:moveTo>
                <a:lnTo>
                  <a:pt x="21600" y="0"/>
                </a:lnTo>
                <a:lnTo>
                  <a:pt x="21600" y="22384"/>
                </a:lnTo>
                <a:lnTo>
                  <a:pt x="0" y="22384"/>
                </a:lnTo>
                <a:close/>
              </a:path>
              <a:path fill="lightenLess" w="21600" h="2238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84">
                <a:moveTo>
                  <a:pt x="21600" y="0"/>
                </a:moveTo>
                <a:lnTo>
                  <a:pt x="21600" y="22384"/>
                </a:lnTo>
                <a:lnTo>
                  <a:pt x="20200" y="20984"/>
                </a:lnTo>
                <a:lnTo>
                  <a:pt x="20200" y="1400"/>
                </a:lnTo>
                <a:close/>
              </a:path>
              <a:path fill="darkenLess" w="21600" h="22384">
                <a:moveTo>
                  <a:pt x="21600" y="22384"/>
                </a:moveTo>
                <a:lnTo>
                  <a:pt x="0" y="22384"/>
                </a:lnTo>
                <a:lnTo>
                  <a:pt x="1400" y="20984"/>
                </a:lnTo>
                <a:lnTo>
                  <a:pt x="20200" y="20984"/>
                </a:lnTo>
                <a:close/>
              </a:path>
              <a:path fill="lighten" w="21600" h="22384">
                <a:moveTo>
                  <a:pt x="0" y="2238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84"/>
                </a:lnTo>
                <a:close/>
              </a:path>
              <a:path fill="darken" w="21600" h="22384">
                <a:moveTo>
                  <a:pt x="7301" y="11192"/>
                </a:moveTo>
                <a:lnTo>
                  <a:pt x="17806" y="4185"/>
                </a:lnTo>
                <a:lnTo>
                  <a:pt x="17806" y="18198"/>
                </a:lnTo>
                <a:close/>
              </a:path>
              <a:path fill="darken" w="21600" h="22384">
                <a:moveTo>
                  <a:pt x="3794" y="4185"/>
                </a:moveTo>
                <a:lnTo>
                  <a:pt x="5456" y="4185"/>
                </a:lnTo>
                <a:lnTo>
                  <a:pt x="5456" y="18198"/>
                </a:lnTo>
                <a:lnTo>
                  <a:pt x="3794" y="18198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237680" y="2779560"/>
            <a:ext cx="98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Hladin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253520" y="3192480"/>
            <a:ext cx="98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Hladin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281600" y="3870360"/>
            <a:ext cx="84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Teplo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132160" y="5950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HRE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337360" y="528624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Ventil_P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rot="16200000">
            <a:off x="5752440" y="4324320"/>
            <a:ext cx="9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Ventil_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rot="16200000">
            <a:off x="4865400" y="4385520"/>
            <a:ext cx="107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Ventil_P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267280" y="6138720"/>
            <a:ext cx="92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Cerp_z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027080" y="61689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Cerp_st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rot="16200000">
            <a:off x="3742560" y="628884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OT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rot="16200000">
            <a:off x="4037760" y="629028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OT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rot="16200000">
            <a:off x="4303080" y="628704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OT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600" spc="-1" strike="noStrike">
                <a:solidFill>
                  <a:srgbClr val="221304"/>
                </a:solidFill>
                <a:latin typeface="Times New Roman"/>
              </a:rPr>
              <a:t>p</a:t>
            </a:r>
            <a:r>
              <a:rPr b="1" i="1" lang="en-US" sz="1600" spc="-1" strike="noStrike">
                <a:solidFill>
                  <a:srgbClr val="221304"/>
                </a:solidFill>
                <a:latin typeface="Times New Roman"/>
              </a:rPr>
              <a:t>okra</a:t>
            </a:r>
            <a:r>
              <a:rPr b="1" i="1" lang="sk-SK" sz="1600" spc="-1" strike="noStrike">
                <a:solidFill>
                  <a:srgbClr val="221304"/>
                </a:solidFill>
                <a:latin typeface="Times New Roman"/>
              </a:rPr>
              <a:t>čovanie zadania</a:t>
            </a:r>
            <a:endParaRPr b="0" lang="en-US" sz="16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1050840" y="1909800"/>
            <a:ext cx="6600960" cy="430524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221304"/>
                </a:solidFill>
                <a:latin typeface="Times New Roman"/>
              </a:rPr>
              <a:t>Zadanie 7:  </a:t>
            </a:r>
            <a:r>
              <a:rPr b="1" i="1" lang="sk-SK" sz="4400" spc="-1" strike="noStrike">
                <a:solidFill>
                  <a:srgbClr val="221304"/>
                </a:solidFill>
                <a:latin typeface="Times New Roman"/>
              </a:rPr>
              <a:t>Stolový podávač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646520" y="3776760"/>
            <a:ext cx="1495440" cy="1233360"/>
          </a:xfrm>
          <a:prstGeom prst="rect">
            <a:avLst/>
          </a:prstGeom>
          <a:solidFill>
            <a:srgbClr val="cbbd83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822840" y="4888080"/>
            <a:ext cx="718920" cy="114120"/>
          </a:xfrm>
          <a:prstGeom prst="rect">
            <a:avLst/>
          </a:prstGeom>
          <a:solidFill>
            <a:srgbClr val="ffff99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929040" y="4830840"/>
            <a:ext cx="514440" cy="90360"/>
          </a:xfrm>
          <a:prstGeom prst="rect">
            <a:avLst/>
          </a:prstGeom>
          <a:solidFill>
            <a:srgbClr val="ff3399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016520" y="4575240"/>
            <a:ext cx="344520" cy="311040"/>
          </a:xfrm>
          <a:prstGeom prst="rect">
            <a:avLst/>
          </a:prstGeom>
          <a:solidFill>
            <a:srgbClr val="ff3399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782880" y="4156200"/>
            <a:ext cx="804960" cy="115920"/>
          </a:xfrm>
          <a:prstGeom prst="rect">
            <a:avLst/>
          </a:prstGeom>
          <a:solidFill>
            <a:srgbClr val="ff3399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141800" y="4227480"/>
            <a:ext cx="115920" cy="345960"/>
          </a:xfrm>
          <a:prstGeom prst="rect">
            <a:avLst/>
          </a:prstGeom>
          <a:solidFill>
            <a:srgbClr val="ff3399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786120" y="4000680"/>
            <a:ext cx="114480" cy="11556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475160" y="4000680"/>
            <a:ext cx="115920" cy="11556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900600" y="400068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900600" y="411624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008760" y="3583080"/>
            <a:ext cx="142920" cy="1429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716360" y="3583080"/>
            <a:ext cx="136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716360" y="3726000"/>
            <a:ext cx="136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645080" y="3583080"/>
            <a:ext cx="142920" cy="1429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H="1">
            <a:off x="2275920" y="3868560"/>
            <a:ext cx="1292040" cy="1149480"/>
          </a:xfrm>
          <a:prstGeom prst="flowChartManualInput">
            <a:avLst/>
          </a:prstGeom>
          <a:solidFill>
            <a:srgbClr val="3694b6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424320" y="3941640"/>
            <a:ext cx="115920" cy="114480"/>
          </a:xfrm>
          <a:prstGeom prst="ellipse">
            <a:avLst/>
          </a:prstGeom>
          <a:solidFill>
            <a:srgbClr val="3694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306520" y="3736800"/>
            <a:ext cx="114480" cy="114480"/>
          </a:xfrm>
          <a:prstGeom prst="ellipse">
            <a:avLst/>
          </a:prstGeom>
          <a:solidFill>
            <a:srgbClr val="3694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878200" y="3835440"/>
            <a:ext cx="114120" cy="114120"/>
          </a:xfrm>
          <a:prstGeom prst="ellipse">
            <a:avLst/>
          </a:prstGeom>
          <a:solidFill>
            <a:srgbClr val="3694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073320" y="3875040"/>
            <a:ext cx="115920" cy="115920"/>
          </a:xfrm>
          <a:prstGeom prst="ellipse">
            <a:avLst/>
          </a:prstGeom>
          <a:solidFill>
            <a:srgbClr val="3694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244680" y="3916440"/>
            <a:ext cx="115920" cy="114120"/>
          </a:xfrm>
          <a:prstGeom prst="ellipse">
            <a:avLst/>
          </a:prstGeom>
          <a:solidFill>
            <a:srgbClr val="3694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706840" y="3811680"/>
            <a:ext cx="114120" cy="114120"/>
          </a:xfrm>
          <a:prstGeom prst="ellipse">
            <a:avLst/>
          </a:prstGeom>
          <a:solidFill>
            <a:srgbClr val="3694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519280" y="3760920"/>
            <a:ext cx="114480" cy="115920"/>
          </a:xfrm>
          <a:prstGeom prst="ellipse">
            <a:avLst/>
          </a:prstGeom>
          <a:solidFill>
            <a:srgbClr val="3694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87440" y="4911840"/>
            <a:ext cx="128916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662360" y="4137120"/>
            <a:ext cx="92160" cy="90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662360" y="3776760"/>
            <a:ext cx="92160" cy="91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969160" y="3768840"/>
            <a:ext cx="90360" cy="90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862440" y="4168800"/>
            <a:ext cx="92160" cy="90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010040" y="3132000"/>
            <a:ext cx="351000" cy="343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3838680" y="3319560"/>
            <a:ext cx="342720" cy="7426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287960" y="2633760"/>
            <a:ext cx="0" cy="50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100400" y="2658960"/>
            <a:ext cx="0" cy="48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913200" y="4275000"/>
            <a:ext cx="0" cy="99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4713120" y="4226040"/>
            <a:ext cx="0" cy="995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008760" y="3868560"/>
            <a:ext cx="0" cy="136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788000" y="3868560"/>
            <a:ext cx="50328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291280" y="4156200"/>
            <a:ext cx="0" cy="107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851200" y="2936880"/>
            <a:ext cx="350640" cy="342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922480" y="2362320"/>
            <a:ext cx="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138480" y="2362320"/>
            <a:ext cx="0" cy="50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H="1">
            <a:off x="2347560" y="3151080"/>
            <a:ext cx="630360" cy="646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133720" y="3583080"/>
            <a:ext cx="90360" cy="90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2205000" y="3654360"/>
            <a:ext cx="0" cy="157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rot="829200">
            <a:off x="2779200" y="3509640"/>
            <a:ext cx="5018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>
            <a:hlinkClick r:id="" action="ppaction://hlinkshowjump?jump=previousslide"/>
          </p:cNvPr>
          <p:cNvSpPr/>
          <p:nvPr/>
        </p:nvSpPr>
        <p:spPr>
          <a:xfrm>
            <a:off x="6073920" y="5943600"/>
            <a:ext cx="564840" cy="585720"/>
          </a:xfrm>
          <a:custGeom>
            <a:avLst/>
            <a:gdLst>
              <a:gd name="textAreaLeft" fmla="*/ 36360 w 564840"/>
              <a:gd name="textAreaRight" fmla="*/ 528480 w 564840"/>
              <a:gd name="textAreaTop" fmla="*/ 36360 h 585720"/>
              <a:gd name="textAreaBottom" fmla="*/ 549360 h 585720"/>
            </a:gdLst>
            <a:ahLst/>
            <a:rect l="textAreaLeft" t="textAreaTop" r="textAreaRight" b="textAreaBottom"/>
            <a:pathLst>
              <a:path w="21600" h="22398">
                <a:moveTo>
                  <a:pt x="0" y="0"/>
                </a:moveTo>
                <a:lnTo>
                  <a:pt x="21600" y="0"/>
                </a:lnTo>
                <a:lnTo>
                  <a:pt x="21600" y="22398"/>
                </a:lnTo>
                <a:lnTo>
                  <a:pt x="0" y="22398"/>
                </a:lnTo>
                <a:close/>
              </a:path>
              <a:path fill="lightenLess" w="21600" h="223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98">
                <a:moveTo>
                  <a:pt x="21600" y="0"/>
                </a:moveTo>
                <a:lnTo>
                  <a:pt x="21600" y="22398"/>
                </a:lnTo>
                <a:lnTo>
                  <a:pt x="20200" y="20998"/>
                </a:lnTo>
                <a:lnTo>
                  <a:pt x="20200" y="1400"/>
                </a:lnTo>
                <a:close/>
              </a:path>
              <a:path fill="darkenLess" w="21600" h="22398">
                <a:moveTo>
                  <a:pt x="21600" y="22398"/>
                </a:moveTo>
                <a:lnTo>
                  <a:pt x="0" y="22398"/>
                </a:lnTo>
                <a:lnTo>
                  <a:pt x="1400" y="20998"/>
                </a:lnTo>
                <a:lnTo>
                  <a:pt x="20200" y="20998"/>
                </a:lnTo>
                <a:close/>
              </a:path>
              <a:path fill="lighten" w="21600" h="22398">
                <a:moveTo>
                  <a:pt x="0" y="223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98"/>
                </a:lnTo>
                <a:close/>
              </a:path>
              <a:path fill="darken" w="21600" h="22398">
                <a:moveTo>
                  <a:pt x="3794" y="11199"/>
                </a:moveTo>
                <a:lnTo>
                  <a:pt x="17806" y="4192"/>
                </a:lnTo>
                <a:lnTo>
                  <a:pt x="17806" y="18205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>
            <a:hlinkClick r:id="" action="ppaction://hlinkshowjump?jump=nextslide"/>
          </p:cNvPr>
          <p:cNvSpPr/>
          <p:nvPr/>
        </p:nvSpPr>
        <p:spPr>
          <a:xfrm>
            <a:off x="6692760" y="5943600"/>
            <a:ext cx="567000" cy="585720"/>
          </a:xfrm>
          <a:custGeom>
            <a:avLst/>
            <a:gdLst>
              <a:gd name="textAreaLeft" fmla="*/ 36720 w 567000"/>
              <a:gd name="textAreaRight" fmla="*/ 530280 w 567000"/>
              <a:gd name="textAreaTop" fmla="*/ 36720 h 585720"/>
              <a:gd name="textAreaBottom" fmla="*/ 549000 h 585720"/>
            </a:gdLst>
            <a:ahLst/>
            <a:rect l="textAreaLeft" t="textAreaTop" r="textAreaRight" b="textAreaBottom"/>
            <a:pathLst>
              <a:path w="21600" h="22313">
                <a:moveTo>
                  <a:pt x="0" y="0"/>
                </a:moveTo>
                <a:lnTo>
                  <a:pt x="21600" y="0"/>
                </a:lnTo>
                <a:lnTo>
                  <a:pt x="21600" y="22313"/>
                </a:lnTo>
                <a:lnTo>
                  <a:pt x="0" y="22313"/>
                </a:lnTo>
                <a:close/>
              </a:path>
              <a:path fill="lightenLess" w="21600" h="223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13">
                <a:moveTo>
                  <a:pt x="21600" y="0"/>
                </a:moveTo>
                <a:lnTo>
                  <a:pt x="21600" y="22313"/>
                </a:lnTo>
                <a:lnTo>
                  <a:pt x="20200" y="20913"/>
                </a:lnTo>
                <a:lnTo>
                  <a:pt x="20200" y="1400"/>
                </a:lnTo>
                <a:close/>
              </a:path>
              <a:path fill="darkenLess" w="21600" h="22313">
                <a:moveTo>
                  <a:pt x="21600" y="22313"/>
                </a:moveTo>
                <a:lnTo>
                  <a:pt x="0" y="22313"/>
                </a:lnTo>
                <a:lnTo>
                  <a:pt x="1400" y="20913"/>
                </a:lnTo>
                <a:lnTo>
                  <a:pt x="20200" y="20913"/>
                </a:lnTo>
                <a:close/>
              </a:path>
              <a:path fill="lighten" w="21600" h="22313">
                <a:moveTo>
                  <a:pt x="0" y="223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13"/>
                </a:lnTo>
                <a:close/>
              </a:path>
              <a:path fill="darken" w="21600" h="22313">
                <a:moveTo>
                  <a:pt x="3794" y="4150"/>
                </a:moveTo>
                <a:lnTo>
                  <a:pt x="17806" y="11156"/>
                </a:lnTo>
                <a:lnTo>
                  <a:pt x="3794" y="18163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>
            <a:hlinkClick r:id="" action="ppaction://hlinkshowjump?jump=firstslide"/>
          </p:cNvPr>
          <p:cNvSpPr/>
          <p:nvPr/>
        </p:nvSpPr>
        <p:spPr>
          <a:xfrm>
            <a:off x="7313760" y="5943600"/>
            <a:ext cx="564840" cy="585720"/>
          </a:xfrm>
          <a:custGeom>
            <a:avLst/>
            <a:gdLst>
              <a:gd name="textAreaLeft" fmla="*/ 36360 w 564840"/>
              <a:gd name="textAreaRight" fmla="*/ 528480 w 564840"/>
              <a:gd name="textAreaTop" fmla="*/ 36360 h 585720"/>
              <a:gd name="textAreaBottom" fmla="*/ 549360 h 585720"/>
            </a:gdLst>
            <a:ahLst/>
            <a:rect l="textAreaLeft" t="textAreaTop" r="textAreaRight" b="textAreaBottom"/>
            <a:pathLst>
              <a:path w="21600" h="22398">
                <a:moveTo>
                  <a:pt x="0" y="0"/>
                </a:moveTo>
                <a:lnTo>
                  <a:pt x="21600" y="0"/>
                </a:lnTo>
                <a:lnTo>
                  <a:pt x="21600" y="22398"/>
                </a:lnTo>
                <a:lnTo>
                  <a:pt x="0" y="22398"/>
                </a:lnTo>
                <a:close/>
              </a:path>
              <a:path fill="lightenLess" w="21600" h="223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98">
                <a:moveTo>
                  <a:pt x="21600" y="0"/>
                </a:moveTo>
                <a:lnTo>
                  <a:pt x="21600" y="22398"/>
                </a:lnTo>
                <a:lnTo>
                  <a:pt x="20200" y="20998"/>
                </a:lnTo>
                <a:lnTo>
                  <a:pt x="20200" y="1400"/>
                </a:lnTo>
                <a:close/>
              </a:path>
              <a:path fill="darkenLess" w="21600" h="22398">
                <a:moveTo>
                  <a:pt x="21600" y="22398"/>
                </a:moveTo>
                <a:lnTo>
                  <a:pt x="0" y="22398"/>
                </a:lnTo>
                <a:lnTo>
                  <a:pt x="1400" y="20998"/>
                </a:lnTo>
                <a:lnTo>
                  <a:pt x="20200" y="20998"/>
                </a:lnTo>
                <a:close/>
              </a:path>
              <a:path fill="lighten" w="21600" h="22398">
                <a:moveTo>
                  <a:pt x="0" y="223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98"/>
                </a:lnTo>
                <a:close/>
              </a:path>
              <a:path fill="darken" w="21600" h="22398">
                <a:moveTo>
                  <a:pt x="7301" y="11199"/>
                </a:moveTo>
                <a:lnTo>
                  <a:pt x="17806" y="4192"/>
                </a:lnTo>
                <a:lnTo>
                  <a:pt x="17806" y="18205"/>
                </a:lnTo>
                <a:close/>
              </a:path>
              <a:path fill="darken" w="21600" h="22398">
                <a:moveTo>
                  <a:pt x="3794" y="4192"/>
                </a:moveTo>
                <a:lnTo>
                  <a:pt x="5456" y="4192"/>
                </a:lnTo>
                <a:lnTo>
                  <a:pt x="5456" y="18205"/>
                </a:lnTo>
                <a:lnTo>
                  <a:pt x="3794" y="18205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812240" y="530208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aleta_vst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972440" y="2293920"/>
            <a:ext cx="105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Dop1_z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137040" y="2308320"/>
            <a:ext cx="106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Dop1_vy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317120" y="2706840"/>
            <a:ext cx="9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_vy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241440" y="2722680"/>
            <a:ext cx="9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_z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118920" y="53611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aleta_vyst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448440" y="5361120"/>
            <a:ext cx="115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aleta_p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rot="16200000">
            <a:off x="4238280" y="5518800"/>
            <a:ext cx="98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_d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rot="16200000">
            <a:off x="4810320" y="551412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_h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600" spc="-1" strike="noStrike">
                <a:solidFill>
                  <a:srgbClr val="221304"/>
                </a:solidFill>
                <a:latin typeface="Times New Roman"/>
              </a:rPr>
              <a:t>p</a:t>
            </a:r>
            <a:r>
              <a:rPr b="1" i="1" lang="en-US" sz="1600" spc="-1" strike="noStrike">
                <a:solidFill>
                  <a:srgbClr val="221304"/>
                </a:solidFill>
                <a:latin typeface="Times New Roman"/>
              </a:rPr>
              <a:t>okra</a:t>
            </a:r>
            <a:r>
              <a:rPr b="1" i="1" lang="sk-SK" sz="1600" spc="-1" strike="noStrike">
                <a:solidFill>
                  <a:srgbClr val="221304"/>
                </a:solidFill>
                <a:latin typeface="Times New Roman"/>
              </a:rPr>
              <a:t>čovanie zadania</a:t>
            </a:r>
            <a:endParaRPr b="0" lang="en-US" sz="16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1052640" y="1606680"/>
            <a:ext cx="6705360" cy="499104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221304"/>
                </a:solidFill>
                <a:latin typeface="Times New Roman"/>
              </a:rPr>
              <a:t>Zadanie</a:t>
            </a:r>
            <a:r>
              <a:rPr b="1" i="1" lang="sk-SK" sz="4400" spc="-1" strike="noStrike">
                <a:solidFill>
                  <a:srgbClr val="221304"/>
                </a:solidFill>
                <a:latin typeface="Times New Roman"/>
              </a:rPr>
              <a:t> 8: Triedičk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506600" y="4233960"/>
            <a:ext cx="358560" cy="301680"/>
          </a:xfrm>
          <a:prstGeom prst="ellipse">
            <a:avLst/>
          </a:prstGeom>
          <a:solidFill>
            <a:srgbClr val="cc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506600" y="4654440"/>
            <a:ext cx="358560" cy="301680"/>
          </a:xfrm>
          <a:prstGeom prst="ellipse">
            <a:avLst/>
          </a:prstGeom>
          <a:solidFill>
            <a:srgbClr val="cc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649520" y="4595760"/>
            <a:ext cx="71280" cy="58680"/>
          </a:xfrm>
          <a:prstGeom prst="triangle">
            <a:avLst>
              <a:gd name="adj" fmla="val 50000"/>
            </a:avLst>
          </a:prstGeom>
          <a:solidFill>
            <a:srgbClr val="3694b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1649520" y="4534920"/>
            <a:ext cx="71280" cy="60120"/>
          </a:xfrm>
          <a:prstGeom prst="triangle">
            <a:avLst>
              <a:gd name="adj" fmla="val 50000"/>
            </a:avLst>
          </a:prstGeom>
          <a:solidFill>
            <a:srgbClr val="3694b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640" bIns="-26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865160" y="4595760"/>
            <a:ext cx="932040" cy="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219320" y="4595760"/>
            <a:ext cx="358560" cy="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1936800" y="4595760"/>
            <a:ext cx="216000" cy="179280"/>
          </a:xfrm>
          <a:prstGeom prst="ellipse">
            <a:avLst/>
          </a:prstGeom>
          <a:solidFill>
            <a:srgbClr val="3694b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224080" y="4595760"/>
            <a:ext cx="214200" cy="179280"/>
          </a:xfrm>
          <a:prstGeom prst="ellipse">
            <a:avLst/>
          </a:prstGeom>
          <a:solidFill>
            <a:srgbClr val="3694b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511360" y="4595760"/>
            <a:ext cx="214200" cy="179280"/>
          </a:xfrm>
          <a:prstGeom prst="ellipse">
            <a:avLst/>
          </a:prstGeom>
          <a:solidFill>
            <a:srgbClr val="3694b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797200" y="4595760"/>
            <a:ext cx="216000" cy="179280"/>
          </a:xfrm>
          <a:prstGeom prst="ellipse">
            <a:avLst/>
          </a:prstGeom>
          <a:solidFill>
            <a:srgbClr val="3694b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084480" y="4595760"/>
            <a:ext cx="216000" cy="179280"/>
          </a:xfrm>
          <a:prstGeom prst="ellipse">
            <a:avLst/>
          </a:prstGeom>
          <a:solidFill>
            <a:srgbClr val="3694b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371760" y="4595760"/>
            <a:ext cx="216000" cy="179280"/>
          </a:xfrm>
          <a:prstGeom prst="ellipse">
            <a:avLst/>
          </a:prstGeom>
          <a:solidFill>
            <a:srgbClr val="3694b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659040" y="4595760"/>
            <a:ext cx="214560" cy="179280"/>
          </a:xfrm>
          <a:prstGeom prst="ellipse">
            <a:avLst/>
          </a:prstGeom>
          <a:solidFill>
            <a:srgbClr val="3694b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017960" y="4595760"/>
            <a:ext cx="214200" cy="179280"/>
          </a:xfrm>
          <a:prstGeom prst="ellipse">
            <a:avLst/>
          </a:prstGeom>
          <a:solidFill>
            <a:srgbClr val="ff3399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738760" y="4595760"/>
            <a:ext cx="216000" cy="179280"/>
          </a:xfrm>
          <a:prstGeom prst="ellipse">
            <a:avLst/>
          </a:prstGeom>
          <a:solidFill>
            <a:srgbClr val="ff3399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089240" y="4595760"/>
            <a:ext cx="1793880" cy="0"/>
          </a:xfrm>
          <a:prstGeom prst="line">
            <a:avLst/>
          </a:prstGeom>
          <a:ln w="2844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089240" y="4775040"/>
            <a:ext cx="1793880" cy="0"/>
          </a:xfrm>
          <a:prstGeom prst="line">
            <a:avLst/>
          </a:prstGeom>
          <a:ln w="2844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027840" y="3452760"/>
            <a:ext cx="1076400" cy="360360"/>
          </a:xfrm>
          <a:prstGeom prst="rect">
            <a:avLst/>
          </a:prstGeom>
          <a:solidFill>
            <a:srgbClr val="ffff99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027840" y="2909880"/>
            <a:ext cx="1076400" cy="361800"/>
          </a:xfrm>
          <a:prstGeom prst="rect">
            <a:avLst/>
          </a:prstGeom>
          <a:solidFill>
            <a:srgbClr val="ffff99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027840" y="2368440"/>
            <a:ext cx="1076400" cy="362160"/>
          </a:xfrm>
          <a:prstGeom prst="rect">
            <a:avLst/>
          </a:prstGeom>
          <a:solidFill>
            <a:srgbClr val="ffff99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027840" y="1828800"/>
            <a:ext cx="1076400" cy="360360"/>
          </a:xfrm>
          <a:prstGeom prst="rect">
            <a:avLst/>
          </a:prstGeom>
          <a:solidFill>
            <a:srgbClr val="ffff99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027840" y="3994200"/>
            <a:ext cx="1076400" cy="360360"/>
          </a:xfrm>
          <a:prstGeom prst="rect">
            <a:avLst/>
          </a:prstGeom>
          <a:solidFill>
            <a:srgbClr val="ffff99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017960" y="4835520"/>
            <a:ext cx="1936800" cy="120600"/>
          </a:xfrm>
          <a:prstGeom prst="rect">
            <a:avLst/>
          </a:prstGeom>
          <a:solidFill>
            <a:srgbClr val="666699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735440" y="5137200"/>
            <a:ext cx="646200" cy="901800"/>
          </a:xfrm>
          <a:prstGeom prst="rect">
            <a:avLst/>
          </a:prstGeom>
          <a:solidFill>
            <a:srgbClr val="666699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592520" y="6039000"/>
            <a:ext cx="932040" cy="118800"/>
          </a:xfrm>
          <a:prstGeom prst="rect">
            <a:avLst/>
          </a:prstGeom>
          <a:solidFill>
            <a:srgbClr val="666699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878360" y="4956120"/>
            <a:ext cx="358920" cy="181080"/>
          </a:xfrm>
          <a:prstGeom prst="rect">
            <a:avLst/>
          </a:prstGeom>
          <a:solidFill>
            <a:srgbClr val="666699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081160" y="5375160"/>
            <a:ext cx="501840" cy="422280"/>
          </a:xfrm>
          <a:prstGeom prst="ellipse">
            <a:avLst/>
          </a:prstGeom>
          <a:solidFill>
            <a:srgbClr val="3694b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008080" y="5014800"/>
            <a:ext cx="1722600" cy="0"/>
          </a:xfrm>
          <a:prstGeom prst="line">
            <a:avLst/>
          </a:prstGeom>
          <a:ln w="19080">
            <a:solidFill>
              <a:srgbClr val="96969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027160" y="4695840"/>
            <a:ext cx="0" cy="312840"/>
          </a:xfrm>
          <a:prstGeom prst="line">
            <a:avLst/>
          </a:prstGeom>
          <a:ln w="19080">
            <a:solidFill>
              <a:srgbClr val="96969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333520" y="4695840"/>
            <a:ext cx="0" cy="312840"/>
          </a:xfrm>
          <a:prstGeom prst="line">
            <a:avLst/>
          </a:prstGeom>
          <a:ln w="19080">
            <a:solidFill>
              <a:srgbClr val="96969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624040" y="4695840"/>
            <a:ext cx="0" cy="312840"/>
          </a:xfrm>
          <a:prstGeom prst="line">
            <a:avLst/>
          </a:prstGeom>
          <a:ln w="19080">
            <a:solidFill>
              <a:srgbClr val="96969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913120" y="4695840"/>
            <a:ext cx="0" cy="312840"/>
          </a:xfrm>
          <a:prstGeom prst="line">
            <a:avLst/>
          </a:prstGeom>
          <a:ln w="19080">
            <a:solidFill>
              <a:srgbClr val="96969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201840" y="4695840"/>
            <a:ext cx="0" cy="312840"/>
          </a:xfrm>
          <a:prstGeom prst="line">
            <a:avLst/>
          </a:prstGeom>
          <a:ln w="19080">
            <a:solidFill>
              <a:srgbClr val="96969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473280" y="4687920"/>
            <a:ext cx="0" cy="312840"/>
          </a:xfrm>
          <a:prstGeom prst="line">
            <a:avLst/>
          </a:prstGeom>
          <a:ln w="19080">
            <a:solidFill>
              <a:srgbClr val="96969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753000" y="4664160"/>
            <a:ext cx="0" cy="312480"/>
          </a:xfrm>
          <a:prstGeom prst="line">
            <a:avLst/>
          </a:prstGeom>
          <a:ln w="19080">
            <a:solidFill>
              <a:srgbClr val="96969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333520" y="5064120"/>
            <a:ext cx="0" cy="531720"/>
          </a:xfrm>
          <a:prstGeom prst="line">
            <a:avLst/>
          </a:prstGeom>
          <a:ln w="19080">
            <a:solidFill>
              <a:srgbClr val="96969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852720" y="5375160"/>
            <a:ext cx="503280" cy="422280"/>
          </a:xfrm>
          <a:prstGeom prst="ellipse">
            <a:avLst/>
          </a:prstGeom>
          <a:solidFill>
            <a:srgbClr val="ff3399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116240" y="4711680"/>
            <a:ext cx="0" cy="876240"/>
          </a:xfrm>
          <a:prstGeom prst="line">
            <a:avLst/>
          </a:prstGeom>
          <a:ln w="19080">
            <a:solidFill>
              <a:srgbClr val="96969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022720" y="5137200"/>
            <a:ext cx="111240" cy="858960"/>
          </a:xfrm>
          <a:prstGeom prst="rect">
            <a:avLst/>
          </a:prstGeom>
          <a:solidFill>
            <a:srgbClr val="ffff99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094360" y="5195880"/>
            <a:ext cx="71280" cy="60480"/>
          </a:xfrm>
          <a:prstGeom prst="rect">
            <a:avLst/>
          </a:prstGeom>
          <a:solidFill>
            <a:srgbClr val="ffff99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V="1">
            <a:off x="5094360" y="5195880"/>
            <a:ext cx="71280" cy="60480"/>
          </a:xfrm>
          <a:prstGeom prst="rect">
            <a:avLst/>
          </a:prstGeom>
          <a:solidFill>
            <a:srgbClr val="ffff99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5094360" y="5315760"/>
            <a:ext cx="71280" cy="58680"/>
          </a:xfrm>
          <a:prstGeom prst="rect">
            <a:avLst/>
          </a:prstGeom>
          <a:solidFill>
            <a:srgbClr val="ffff99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V="1">
            <a:off x="5094360" y="5437080"/>
            <a:ext cx="71280" cy="60480"/>
          </a:xfrm>
          <a:prstGeom prst="rect">
            <a:avLst/>
          </a:prstGeom>
          <a:solidFill>
            <a:srgbClr val="ffff99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V="1">
            <a:off x="5094360" y="5556240"/>
            <a:ext cx="71280" cy="60480"/>
          </a:xfrm>
          <a:prstGeom prst="rect">
            <a:avLst/>
          </a:prstGeom>
          <a:solidFill>
            <a:srgbClr val="ffff99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5094360" y="5676840"/>
            <a:ext cx="71280" cy="60480"/>
          </a:xfrm>
          <a:prstGeom prst="rect">
            <a:avLst/>
          </a:prstGeom>
          <a:solidFill>
            <a:srgbClr val="ffff99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5094360" y="5797440"/>
            <a:ext cx="71280" cy="60480"/>
          </a:xfrm>
          <a:prstGeom prst="rect">
            <a:avLst/>
          </a:prstGeom>
          <a:solidFill>
            <a:srgbClr val="ffff99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V="1">
            <a:off x="5094360" y="5918040"/>
            <a:ext cx="71280" cy="59040"/>
          </a:xfrm>
          <a:prstGeom prst="rect">
            <a:avLst/>
          </a:prstGeom>
          <a:solidFill>
            <a:srgbClr val="ffff99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V="1">
            <a:off x="2081160" y="2970360"/>
            <a:ext cx="0" cy="144288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283360" y="5232240"/>
            <a:ext cx="71280" cy="619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043000" y="4430880"/>
            <a:ext cx="71640" cy="58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778360" y="4443480"/>
            <a:ext cx="71640" cy="60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4125960" y="4443480"/>
            <a:ext cx="73080" cy="60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H="1" flipV="1">
            <a:off x="5811480" y="2970000"/>
            <a:ext cx="3240" cy="146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 flipV="1">
            <a:off x="4160520" y="2970000"/>
            <a:ext cx="3240" cy="146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2224080" y="5857920"/>
            <a:ext cx="0" cy="5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2440080" y="5857920"/>
            <a:ext cx="0" cy="5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3946680" y="5857920"/>
            <a:ext cx="0" cy="5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4233960" y="5857920"/>
            <a:ext cx="0" cy="5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091200" y="4273560"/>
            <a:ext cx="73080" cy="58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H="1">
            <a:off x="5068800" y="2122560"/>
            <a:ext cx="98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H="1">
            <a:off x="5105160" y="2678040"/>
            <a:ext cx="98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5124240" y="3218040"/>
            <a:ext cx="98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5114520" y="3755880"/>
            <a:ext cx="98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5124240" y="4305240"/>
            <a:ext cx="98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083280" y="3733920"/>
            <a:ext cx="71280" cy="60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073920" y="3171960"/>
            <a:ext cx="71280" cy="58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064200" y="2646360"/>
            <a:ext cx="71640" cy="60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6064200" y="2100240"/>
            <a:ext cx="71640" cy="60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5348160" y="5259240"/>
            <a:ext cx="635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7283520" y="6031080"/>
            <a:ext cx="1553760" cy="498240"/>
            <a:chOff x="7283520" y="6031080"/>
            <a:chExt cx="1553760" cy="498240"/>
          </a:xfrm>
        </p:grpSpPr>
        <p:sp>
          <p:nvSpPr>
            <p:cNvPr id="821" name="">
              <a:hlinkClick r:id="" action="ppaction://hlinkshowjump?jump=previousslide"/>
            </p:cNvPr>
            <p:cNvSpPr/>
            <p:nvPr/>
          </p:nvSpPr>
          <p:spPr>
            <a:xfrm>
              <a:off x="7283520" y="6031080"/>
              <a:ext cx="486360" cy="498240"/>
            </a:xfrm>
            <a:custGeom>
              <a:avLst/>
              <a:gdLst>
                <a:gd name="textAreaLeft" fmla="*/ 31320 w 486360"/>
                <a:gd name="textAreaRight" fmla="*/ 455040 w 486360"/>
                <a:gd name="textAreaTop" fmla="*/ 31320 h 498240"/>
                <a:gd name="textAreaBottom" fmla="*/ 466920 h 498240"/>
              </a:gdLst>
              <a:ahLst/>
              <a:rect l="textAreaLeft" t="textAreaTop" r="textAreaRight" b="textAreaBottom"/>
              <a:pathLst>
                <a:path w="21600" h="22127">
                  <a:moveTo>
                    <a:pt x="0" y="0"/>
                  </a:moveTo>
                  <a:lnTo>
                    <a:pt x="21600" y="0"/>
                  </a:lnTo>
                  <a:lnTo>
                    <a:pt x="21600" y="22127"/>
                  </a:lnTo>
                  <a:lnTo>
                    <a:pt x="0" y="22127"/>
                  </a:lnTo>
                  <a:close/>
                </a:path>
                <a:path fill="lightenLess" w="21600" h="22127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2127">
                  <a:moveTo>
                    <a:pt x="21600" y="0"/>
                  </a:moveTo>
                  <a:lnTo>
                    <a:pt x="21600" y="22127"/>
                  </a:lnTo>
                  <a:lnTo>
                    <a:pt x="20200" y="20727"/>
                  </a:lnTo>
                  <a:lnTo>
                    <a:pt x="20200" y="1400"/>
                  </a:lnTo>
                  <a:close/>
                </a:path>
                <a:path fill="darkenLess" w="21600" h="22127">
                  <a:moveTo>
                    <a:pt x="21600" y="22127"/>
                  </a:moveTo>
                  <a:lnTo>
                    <a:pt x="0" y="22127"/>
                  </a:lnTo>
                  <a:lnTo>
                    <a:pt x="1400" y="20727"/>
                  </a:lnTo>
                  <a:lnTo>
                    <a:pt x="20200" y="20727"/>
                  </a:lnTo>
                  <a:close/>
                </a:path>
                <a:path fill="lighten" w="21600" h="22127">
                  <a:moveTo>
                    <a:pt x="0" y="22127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727"/>
                  </a:lnTo>
                  <a:close/>
                </a:path>
                <a:path fill="darken" w="21600" h="22127">
                  <a:moveTo>
                    <a:pt x="3794" y="11064"/>
                  </a:moveTo>
                  <a:lnTo>
                    <a:pt x="17806" y="4057"/>
                  </a:lnTo>
                  <a:lnTo>
                    <a:pt x="17806" y="18070"/>
                  </a:lnTo>
                  <a:close/>
                </a:path>
              </a:pathLst>
            </a:custGeom>
            <a:solidFill>
              <a:srgbClr val="fefd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>
              <a:hlinkClick r:id="" action="ppaction://hlinkshowjump?jump=nextslide"/>
            </p:cNvPr>
            <p:cNvSpPr/>
            <p:nvPr/>
          </p:nvSpPr>
          <p:spPr>
            <a:xfrm>
              <a:off x="7816320" y="6031080"/>
              <a:ext cx="487800" cy="498240"/>
            </a:xfrm>
            <a:custGeom>
              <a:avLst/>
              <a:gdLst>
                <a:gd name="textAreaLeft" fmla="*/ 31320 w 487800"/>
                <a:gd name="textAreaRight" fmla="*/ 456480 w 487800"/>
                <a:gd name="textAreaTop" fmla="*/ 31320 h 498240"/>
                <a:gd name="textAreaBottom" fmla="*/ 466920 h 498240"/>
              </a:gdLst>
              <a:ahLst/>
              <a:rect l="textAreaLeft" t="textAreaTop" r="textAreaRight" b="textAreaBottom"/>
              <a:pathLst>
                <a:path w="21600" h="22062">
                  <a:moveTo>
                    <a:pt x="0" y="0"/>
                  </a:moveTo>
                  <a:lnTo>
                    <a:pt x="21600" y="0"/>
                  </a:lnTo>
                  <a:lnTo>
                    <a:pt x="21600" y="22062"/>
                  </a:lnTo>
                  <a:lnTo>
                    <a:pt x="0" y="22062"/>
                  </a:lnTo>
                  <a:close/>
                </a:path>
                <a:path fill="lightenLess" w="21600" h="22062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2062">
                  <a:moveTo>
                    <a:pt x="21600" y="0"/>
                  </a:moveTo>
                  <a:lnTo>
                    <a:pt x="21600" y="22062"/>
                  </a:lnTo>
                  <a:lnTo>
                    <a:pt x="20200" y="20662"/>
                  </a:lnTo>
                  <a:lnTo>
                    <a:pt x="20200" y="1400"/>
                  </a:lnTo>
                  <a:close/>
                </a:path>
                <a:path fill="darkenLess" w="21600" h="22062">
                  <a:moveTo>
                    <a:pt x="21600" y="22062"/>
                  </a:moveTo>
                  <a:lnTo>
                    <a:pt x="0" y="22062"/>
                  </a:lnTo>
                  <a:lnTo>
                    <a:pt x="1400" y="20662"/>
                  </a:lnTo>
                  <a:lnTo>
                    <a:pt x="20200" y="20662"/>
                  </a:lnTo>
                  <a:close/>
                </a:path>
                <a:path fill="lighten" w="21600" h="22062">
                  <a:moveTo>
                    <a:pt x="0" y="22062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662"/>
                  </a:lnTo>
                  <a:close/>
                </a:path>
                <a:path fill="darken" w="21600" h="22062">
                  <a:moveTo>
                    <a:pt x="3794" y="4024"/>
                  </a:moveTo>
                  <a:lnTo>
                    <a:pt x="17806" y="11031"/>
                  </a:lnTo>
                  <a:lnTo>
                    <a:pt x="3794" y="18037"/>
                  </a:lnTo>
                  <a:close/>
                </a:path>
              </a:pathLst>
            </a:custGeom>
            <a:solidFill>
              <a:srgbClr val="fefd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>
              <a:hlinkClick r:id="" action="ppaction://hlinkshowjump?jump=firstslide"/>
            </p:cNvPr>
            <p:cNvSpPr/>
            <p:nvPr/>
          </p:nvSpPr>
          <p:spPr>
            <a:xfrm>
              <a:off x="8350920" y="6031080"/>
              <a:ext cx="486360" cy="498240"/>
            </a:xfrm>
            <a:custGeom>
              <a:avLst/>
              <a:gdLst>
                <a:gd name="textAreaLeft" fmla="*/ 31320 w 486360"/>
                <a:gd name="textAreaRight" fmla="*/ 455040 w 486360"/>
                <a:gd name="textAreaTop" fmla="*/ 31320 h 498240"/>
                <a:gd name="textAreaBottom" fmla="*/ 466920 h 498240"/>
              </a:gdLst>
              <a:ahLst/>
              <a:rect l="textAreaLeft" t="textAreaTop" r="textAreaRight" b="textAreaBottom"/>
              <a:pathLst>
                <a:path w="21600" h="22127">
                  <a:moveTo>
                    <a:pt x="0" y="0"/>
                  </a:moveTo>
                  <a:lnTo>
                    <a:pt x="21600" y="0"/>
                  </a:lnTo>
                  <a:lnTo>
                    <a:pt x="21600" y="22127"/>
                  </a:lnTo>
                  <a:lnTo>
                    <a:pt x="0" y="22127"/>
                  </a:lnTo>
                  <a:close/>
                </a:path>
                <a:path fill="lightenLess" w="21600" h="22127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2127">
                  <a:moveTo>
                    <a:pt x="21600" y="0"/>
                  </a:moveTo>
                  <a:lnTo>
                    <a:pt x="21600" y="22127"/>
                  </a:lnTo>
                  <a:lnTo>
                    <a:pt x="20200" y="20727"/>
                  </a:lnTo>
                  <a:lnTo>
                    <a:pt x="20200" y="1400"/>
                  </a:lnTo>
                  <a:close/>
                </a:path>
                <a:path fill="darkenLess" w="21600" h="22127">
                  <a:moveTo>
                    <a:pt x="21600" y="22127"/>
                  </a:moveTo>
                  <a:lnTo>
                    <a:pt x="0" y="22127"/>
                  </a:lnTo>
                  <a:lnTo>
                    <a:pt x="1400" y="20727"/>
                  </a:lnTo>
                  <a:lnTo>
                    <a:pt x="20200" y="20727"/>
                  </a:lnTo>
                  <a:close/>
                </a:path>
                <a:path fill="lighten" w="21600" h="22127">
                  <a:moveTo>
                    <a:pt x="0" y="22127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727"/>
                  </a:lnTo>
                  <a:close/>
                </a:path>
                <a:path fill="darken" w="21600" h="22127">
                  <a:moveTo>
                    <a:pt x="7301" y="11064"/>
                  </a:moveTo>
                  <a:lnTo>
                    <a:pt x="17806" y="4057"/>
                  </a:lnTo>
                  <a:lnTo>
                    <a:pt x="17806" y="18070"/>
                  </a:lnTo>
                  <a:close/>
                </a:path>
                <a:path fill="darken" w="21600" h="22127">
                  <a:moveTo>
                    <a:pt x="3794" y="4057"/>
                  </a:moveTo>
                  <a:lnTo>
                    <a:pt x="5456" y="4057"/>
                  </a:lnTo>
                  <a:lnTo>
                    <a:pt x="5456" y="18070"/>
                  </a:lnTo>
                  <a:lnTo>
                    <a:pt x="3794" y="18070"/>
                  </a:lnTo>
                  <a:close/>
                </a:path>
              </a:pathLst>
            </a:custGeom>
            <a:solidFill>
              <a:srgbClr val="fefd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4" name=""/>
          <p:cNvSpPr/>
          <p:nvPr/>
        </p:nvSpPr>
        <p:spPr>
          <a:xfrm>
            <a:off x="1663200" y="264960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Tabu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714480" y="2635200"/>
            <a:ext cx="120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Tabula_st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132920" y="5908680"/>
            <a:ext cx="110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Rolky_z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473920" y="5923080"/>
            <a:ext cx="111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Rolky_vy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199760" y="6173640"/>
            <a:ext cx="105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Dopr_vy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946240" y="6232680"/>
            <a:ext cx="10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Dopr_z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835160" y="388764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loh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762080" y="337032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loh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733640" y="288288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loh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763520" y="227808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loha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747680" y="176040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loha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501520" y="495000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Kr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H="1">
            <a:off x="5397480" y="5559480"/>
            <a:ext cx="123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H="1">
            <a:off x="5369040" y="5927760"/>
            <a:ext cx="123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676120" y="525924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Stol_h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690160" y="5643720"/>
            <a:ext cx="10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Stol_dol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5332320" y="6086520"/>
            <a:ext cx="635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5297400" y="6058080"/>
            <a:ext cx="71640" cy="615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470200" y="6129360"/>
            <a:ext cx="137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Stol_spuste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21304"/>
                </a:solidFill>
                <a:latin typeface="Times New Roman"/>
              </a:rPr>
              <a:t>Pokyny pre vypracovanie</a:t>
            </a:r>
            <a:r>
              <a:rPr b="1" i="1" lang="en-US" sz="4400" spc="-1" strike="noStrike">
                <a:solidFill>
                  <a:srgbClr val="221304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33480" y="1765440"/>
            <a:ext cx="3058920" cy="4599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071960" y="1917720"/>
            <a:ext cx="482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Zadanie má obsahovať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Popis technológ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Požiadavky na riadenie,havárijné stavy,signalizá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Popis merania veličín,výstupy snímačo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Algoritmus riade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Grafické vyjadrenie algoritm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Slovný po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Dokumentácia k program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Tabuľku symbolo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Komentovaný výpis program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600" spc="-1" strike="noStrike">
                <a:solidFill>
                  <a:srgbClr val="221304"/>
                </a:solidFill>
                <a:latin typeface="Times New Roman"/>
              </a:rPr>
              <a:t>p</a:t>
            </a:r>
            <a:r>
              <a:rPr b="1" i="1" lang="en-US" sz="1600" spc="-1" strike="noStrike">
                <a:solidFill>
                  <a:srgbClr val="221304"/>
                </a:solidFill>
                <a:latin typeface="Times New Roman"/>
              </a:rPr>
              <a:t>okra</a:t>
            </a:r>
            <a:r>
              <a:rPr b="1" i="1" lang="sk-SK" sz="1600" spc="-1" strike="noStrike">
                <a:solidFill>
                  <a:srgbClr val="221304"/>
                </a:solidFill>
                <a:latin typeface="Times New Roman"/>
              </a:rPr>
              <a:t>čovanie zadania</a:t>
            </a:r>
            <a:endParaRPr b="0" lang="en-US" sz="16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"/>
          <p:cNvSpPr/>
          <p:nvPr/>
        </p:nvSpPr>
        <p:spPr>
          <a:xfrm>
            <a:off x="1143000" y="1600200"/>
            <a:ext cx="7620120" cy="49528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Z</a:t>
            </a:r>
            <a:r>
              <a:rPr b="1" lang="sk-SK" sz="4400" spc="-1" strike="noStrike">
                <a:solidFill>
                  <a:srgbClr val="221304"/>
                </a:solidFill>
                <a:latin typeface="Times New Roman"/>
              </a:rPr>
              <a:t>adanie</a:t>
            </a:r>
            <a:r>
              <a:rPr b="1" i="1" lang="sk-SK" sz="4400" spc="-1" strike="noStrike">
                <a:solidFill>
                  <a:srgbClr val="221304"/>
                </a:solidFill>
                <a:latin typeface="Times New Roman"/>
              </a:rPr>
              <a:t> 9: Viazačk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 rot="5400000">
            <a:off x="5503680" y="6046920"/>
            <a:ext cx="417240" cy="439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rot="5400000">
            <a:off x="3607920" y="2714400"/>
            <a:ext cx="684000" cy="141480"/>
          </a:xfrm>
          <a:prstGeom prst="rect">
            <a:avLst/>
          </a:prstGeom>
          <a:solidFill>
            <a:srgbClr val="0000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952800" y="2374920"/>
            <a:ext cx="0" cy="82080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rot="5400000">
            <a:off x="7904880" y="2716920"/>
            <a:ext cx="688680" cy="141120"/>
          </a:xfrm>
          <a:prstGeom prst="rect">
            <a:avLst/>
          </a:prstGeom>
          <a:solidFill>
            <a:srgbClr val="0000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8250120" y="2374920"/>
            <a:ext cx="0" cy="82080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879720" y="2511360"/>
            <a:ext cx="4440240" cy="0"/>
          </a:xfrm>
          <a:prstGeom prst="line">
            <a:avLst/>
          </a:prstGeom>
          <a:ln w="28440">
            <a:solidFill>
              <a:srgbClr val="00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879720" y="2647800"/>
            <a:ext cx="4440240" cy="0"/>
          </a:xfrm>
          <a:prstGeom prst="line">
            <a:avLst/>
          </a:prstGeom>
          <a:ln w="28440">
            <a:solidFill>
              <a:srgbClr val="00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879720" y="2784600"/>
            <a:ext cx="4440240" cy="0"/>
          </a:xfrm>
          <a:prstGeom prst="line">
            <a:avLst/>
          </a:prstGeom>
          <a:ln w="28440">
            <a:solidFill>
              <a:srgbClr val="00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879720" y="2921040"/>
            <a:ext cx="4440240" cy="0"/>
          </a:xfrm>
          <a:prstGeom prst="line">
            <a:avLst/>
          </a:prstGeom>
          <a:ln w="28440">
            <a:solidFill>
              <a:srgbClr val="00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879720" y="3057480"/>
            <a:ext cx="4440240" cy="0"/>
          </a:xfrm>
          <a:prstGeom prst="line">
            <a:avLst/>
          </a:prstGeom>
          <a:ln w="28440">
            <a:solidFill>
              <a:srgbClr val="00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rot="5400000">
            <a:off x="7269120" y="2560680"/>
            <a:ext cx="752400" cy="635040"/>
          </a:xfrm>
          <a:prstGeom prst="rect">
            <a:avLst/>
          </a:prstGeom>
          <a:solidFill>
            <a:srgbClr val="6600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rot="5400000">
            <a:off x="6359040" y="2502000"/>
            <a:ext cx="752400" cy="634680"/>
          </a:xfrm>
          <a:prstGeom prst="rect">
            <a:avLst/>
          </a:prstGeom>
          <a:solidFill>
            <a:srgbClr val="ffff99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rot="5400000">
            <a:off x="5231880" y="2502000"/>
            <a:ext cx="752400" cy="634680"/>
          </a:xfrm>
          <a:prstGeom prst="rect">
            <a:avLst/>
          </a:prstGeom>
          <a:solidFill>
            <a:srgbClr val="ffff99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rot="10800000">
            <a:off x="5221440" y="1827000"/>
            <a:ext cx="774720" cy="547560"/>
          </a:xfrm>
          <a:custGeom>
            <a:avLst/>
            <a:gdLst>
              <a:gd name="textAreaLeft" fmla="*/ 170280 w 774720"/>
              <a:gd name="textAreaRight" fmla="*/ 604440 w 774720"/>
              <a:gd name="textAreaTop" fmla="*/ 120240 h 547560"/>
              <a:gd name="textAreaBottom" fmla="*/ 427320 h 5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rot="10800000">
            <a:off x="6348240" y="1827000"/>
            <a:ext cx="774720" cy="547560"/>
          </a:xfrm>
          <a:custGeom>
            <a:avLst/>
            <a:gdLst>
              <a:gd name="textAreaLeft" fmla="*/ 170280 w 774720"/>
              <a:gd name="textAreaRight" fmla="*/ 604440 w 774720"/>
              <a:gd name="textAreaTop" fmla="*/ 120240 h 547560"/>
              <a:gd name="textAreaBottom" fmla="*/ 427320 h 5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bbd83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rot="5400000">
            <a:off x="5164200" y="2431800"/>
            <a:ext cx="888840" cy="7747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rot="5400000">
            <a:off x="6256800" y="2466000"/>
            <a:ext cx="957240" cy="774720"/>
          </a:xfrm>
          <a:prstGeom prst="rect">
            <a:avLst/>
          </a:prstGeom>
          <a:solidFill>
            <a:srgbClr val="cbbd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rot="5400000">
            <a:off x="8115480" y="3736080"/>
            <a:ext cx="411120" cy="42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8248680" y="3195720"/>
            <a:ext cx="71280" cy="752400"/>
          </a:xfrm>
          <a:prstGeom prst="line">
            <a:avLst/>
          </a:prstGeom>
          <a:ln w="19080">
            <a:solidFill>
              <a:srgbClr val="96969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rot="5400000">
            <a:off x="4607640" y="2097720"/>
            <a:ext cx="68040" cy="704880"/>
          </a:xfrm>
          <a:prstGeom prst="rect">
            <a:avLst/>
          </a:prstGeom>
          <a:solidFill>
            <a:srgbClr val="ff33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rot="5400000">
            <a:off x="4615560" y="2240640"/>
            <a:ext cx="68400" cy="704880"/>
          </a:xfrm>
          <a:prstGeom prst="rect">
            <a:avLst/>
          </a:prstGeom>
          <a:solidFill>
            <a:srgbClr val="ff33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rot="5400000">
            <a:off x="4606560" y="2373120"/>
            <a:ext cx="70200" cy="704880"/>
          </a:xfrm>
          <a:prstGeom prst="rect">
            <a:avLst/>
          </a:prstGeom>
          <a:solidFill>
            <a:srgbClr val="ff33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rot="5400000">
            <a:off x="4607640" y="2505960"/>
            <a:ext cx="68400" cy="704880"/>
          </a:xfrm>
          <a:prstGeom prst="rect">
            <a:avLst/>
          </a:prstGeom>
          <a:solidFill>
            <a:srgbClr val="ff33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rot="5400000">
            <a:off x="4607640" y="2640600"/>
            <a:ext cx="68040" cy="704880"/>
          </a:xfrm>
          <a:prstGeom prst="rect">
            <a:avLst/>
          </a:prstGeom>
          <a:solidFill>
            <a:srgbClr val="ff33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rot="5400000">
            <a:off x="4624560" y="2782080"/>
            <a:ext cx="68400" cy="704520"/>
          </a:xfrm>
          <a:prstGeom prst="rect">
            <a:avLst/>
          </a:prstGeom>
          <a:solidFill>
            <a:srgbClr val="ff33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rot="5400000">
            <a:off x="4614840" y="2916000"/>
            <a:ext cx="68040" cy="703440"/>
          </a:xfrm>
          <a:prstGeom prst="rect">
            <a:avLst/>
          </a:prstGeom>
          <a:solidFill>
            <a:srgbClr val="ff33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rot="5400000">
            <a:off x="4614840" y="3049560"/>
            <a:ext cx="68400" cy="703440"/>
          </a:xfrm>
          <a:prstGeom prst="rect">
            <a:avLst/>
          </a:prstGeom>
          <a:solidFill>
            <a:srgbClr val="ff33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rot="5400000">
            <a:off x="4614840" y="3192480"/>
            <a:ext cx="68400" cy="703440"/>
          </a:xfrm>
          <a:prstGeom prst="rect">
            <a:avLst/>
          </a:prstGeom>
          <a:solidFill>
            <a:srgbClr val="ff33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rot="5400000">
            <a:off x="4614840" y="3325680"/>
            <a:ext cx="68400" cy="703440"/>
          </a:xfrm>
          <a:prstGeom prst="rect">
            <a:avLst/>
          </a:prstGeom>
          <a:solidFill>
            <a:srgbClr val="ff33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rot="5400000">
            <a:off x="4624920" y="3458520"/>
            <a:ext cx="68040" cy="704520"/>
          </a:xfrm>
          <a:prstGeom prst="rect">
            <a:avLst/>
          </a:prstGeom>
          <a:solidFill>
            <a:srgbClr val="ff33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rot="5400000">
            <a:off x="4624560" y="3591720"/>
            <a:ext cx="68400" cy="704520"/>
          </a:xfrm>
          <a:prstGeom prst="rect">
            <a:avLst/>
          </a:prstGeom>
          <a:solidFill>
            <a:srgbClr val="ff33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 rot="5400000">
            <a:off x="4624560" y="3734640"/>
            <a:ext cx="68400" cy="704520"/>
          </a:xfrm>
          <a:prstGeom prst="rect">
            <a:avLst/>
          </a:prstGeom>
          <a:solidFill>
            <a:srgbClr val="ff33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rot="5400000">
            <a:off x="4624560" y="3867840"/>
            <a:ext cx="68400" cy="704520"/>
          </a:xfrm>
          <a:prstGeom prst="rect">
            <a:avLst/>
          </a:prstGeom>
          <a:solidFill>
            <a:srgbClr val="ff33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 rot="5400000">
            <a:off x="4624920" y="4001400"/>
            <a:ext cx="68040" cy="704520"/>
          </a:xfrm>
          <a:prstGeom prst="rect">
            <a:avLst/>
          </a:prstGeom>
          <a:solidFill>
            <a:srgbClr val="ff33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rot="5400000">
            <a:off x="4624560" y="4134600"/>
            <a:ext cx="68400" cy="704520"/>
          </a:xfrm>
          <a:prstGeom prst="rect">
            <a:avLst/>
          </a:prstGeom>
          <a:solidFill>
            <a:srgbClr val="ff33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 rot="5400000">
            <a:off x="4615560" y="4285440"/>
            <a:ext cx="68400" cy="704880"/>
          </a:xfrm>
          <a:prstGeom prst="rect">
            <a:avLst/>
          </a:prstGeom>
          <a:solidFill>
            <a:srgbClr val="ff33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 rot="5400000">
            <a:off x="4615560" y="4428360"/>
            <a:ext cx="68400" cy="704880"/>
          </a:xfrm>
          <a:prstGeom prst="rect">
            <a:avLst/>
          </a:prstGeom>
          <a:solidFill>
            <a:srgbClr val="ff33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 rot="5400000">
            <a:off x="4615560" y="4561560"/>
            <a:ext cx="68400" cy="704880"/>
          </a:xfrm>
          <a:prstGeom prst="rect">
            <a:avLst/>
          </a:prstGeom>
          <a:solidFill>
            <a:srgbClr val="ff33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rot="5400000">
            <a:off x="4615560" y="4695120"/>
            <a:ext cx="68400" cy="704880"/>
          </a:xfrm>
          <a:prstGeom prst="rect">
            <a:avLst/>
          </a:prstGeom>
          <a:solidFill>
            <a:srgbClr val="ff33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 rot="5400000">
            <a:off x="4615560" y="4828320"/>
            <a:ext cx="68400" cy="704880"/>
          </a:xfrm>
          <a:prstGeom prst="rect">
            <a:avLst/>
          </a:prstGeom>
          <a:solidFill>
            <a:srgbClr val="ff33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 rot="5400000">
            <a:off x="4615560" y="4961520"/>
            <a:ext cx="68040" cy="704880"/>
          </a:xfrm>
          <a:prstGeom prst="rect">
            <a:avLst/>
          </a:prstGeom>
          <a:solidFill>
            <a:srgbClr val="ff33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 rot="5400000">
            <a:off x="4615560" y="5095080"/>
            <a:ext cx="68400" cy="704880"/>
          </a:xfrm>
          <a:prstGeom prst="rect">
            <a:avLst/>
          </a:prstGeom>
          <a:solidFill>
            <a:srgbClr val="ff33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 rot="5400000">
            <a:off x="4615560" y="5228280"/>
            <a:ext cx="68040" cy="704880"/>
          </a:xfrm>
          <a:prstGeom prst="rect">
            <a:avLst/>
          </a:prstGeom>
          <a:solidFill>
            <a:srgbClr val="ff33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 rot="5400000">
            <a:off x="4615560" y="5371200"/>
            <a:ext cx="68400" cy="704880"/>
          </a:xfrm>
          <a:prstGeom prst="rect">
            <a:avLst/>
          </a:prstGeom>
          <a:solidFill>
            <a:srgbClr val="ff33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rot="5400000">
            <a:off x="4615560" y="5522040"/>
            <a:ext cx="68400" cy="704880"/>
          </a:xfrm>
          <a:prstGeom prst="rect">
            <a:avLst/>
          </a:prstGeom>
          <a:solidFill>
            <a:srgbClr val="ff33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rot="5400000">
            <a:off x="4606200" y="5647320"/>
            <a:ext cx="68040" cy="704880"/>
          </a:xfrm>
          <a:prstGeom prst="rect">
            <a:avLst/>
          </a:prstGeom>
          <a:solidFill>
            <a:srgbClr val="ff33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rot="5400000">
            <a:off x="4624560" y="5788800"/>
            <a:ext cx="68400" cy="704520"/>
          </a:xfrm>
          <a:prstGeom prst="rect">
            <a:avLst/>
          </a:prstGeom>
          <a:solidFill>
            <a:srgbClr val="ff33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rot="5400000">
            <a:off x="4607640" y="5922000"/>
            <a:ext cx="68040" cy="704880"/>
          </a:xfrm>
          <a:prstGeom prst="rect">
            <a:avLst/>
          </a:prstGeom>
          <a:solidFill>
            <a:srgbClr val="ff33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 flipH="1">
            <a:off x="5071680" y="2455920"/>
            <a:ext cx="9720" cy="383364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062680" y="628956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rot="5400000">
            <a:off x="6774840" y="3332160"/>
            <a:ext cx="203400" cy="88920"/>
          </a:xfrm>
          <a:prstGeom prst="rect">
            <a:avLst/>
          </a:prstGeom>
          <a:solidFill>
            <a:srgbClr val="ffff99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rot="5400000">
            <a:off x="6696720" y="3547080"/>
            <a:ext cx="330120" cy="210960"/>
          </a:xfrm>
          <a:prstGeom prst="rect">
            <a:avLst/>
          </a:prstGeom>
          <a:solidFill>
            <a:srgbClr val="ffff99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 flipH="1">
            <a:off x="6768720" y="3263760"/>
            <a:ext cx="211320" cy="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rot="5400000">
            <a:off x="6774840" y="3801240"/>
            <a:ext cx="204480" cy="635040"/>
          </a:xfrm>
          <a:prstGeom prst="rect">
            <a:avLst/>
          </a:prstGeom>
          <a:solidFill>
            <a:srgbClr val="ffff99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6768720" y="4016520"/>
            <a:ext cx="211320" cy="2044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769080" y="4016520"/>
            <a:ext cx="211320" cy="2044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980400" y="37418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7053120" y="374184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700680" y="3537000"/>
            <a:ext cx="0" cy="47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H="1">
            <a:off x="6700680" y="3537000"/>
            <a:ext cx="6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 rot="5400000">
            <a:off x="7071480" y="3775680"/>
            <a:ext cx="68040" cy="69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V="1">
            <a:off x="7053120" y="4220640"/>
            <a:ext cx="0" cy="6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V="1">
            <a:off x="6700680" y="4220640"/>
            <a:ext cx="0" cy="6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 flipV="1">
            <a:off x="8462880" y="4220640"/>
            <a:ext cx="0" cy="6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 flipV="1">
            <a:off x="8250120" y="4220640"/>
            <a:ext cx="0" cy="6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 flipH="1">
            <a:off x="5994360" y="6135840"/>
            <a:ext cx="563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 flipH="1">
            <a:off x="5994360" y="6408720"/>
            <a:ext cx="563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6489720" y="2579760"/>
            <a:ext cx="0" cy="23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5361120" y="2511360"/>
            <a:ext cx="0" cy="23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7547040" y="2511360"/>
            <a:ext cx="0" cy="23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 rot="5400000">
            <a:off x="7520760" y="2504160"/>
            <a:ext cx="68040" cy="69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 rot="5400000">
            <a:off x="6466680" y="2494800"/>
            <a:ext cx="68400" cy="69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rot="5400000">
            <a:off x="5338440" y="2503440"/>
            <a:ext cx="68040" cy="71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 rot="5400000">
            <a:off x="7080840" y="3232800"/>
            <a:ext cx="68040" cy="69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7405560" y="3263760"/>
            <a:ext cx="3240" cy="195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7262640" y="3808440"/>
            <a:ext cx="0" cy="141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H="1">
            <a:off x="7121520" y="3809880"/>
            <a:ext cx="14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H="1">
            <a:off x="7122600" y="3263760"/>
            <a:ext cx="282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rot="5400000">
            <a:off x="4416840" y="3358440"/>
            <a:ext cx="546120" cy="493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rot="5400000">
            <a:off x="4416840" y="4042800"/>
            <a:ext cx="546120" cy="493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 rot="5400000">
            <a:off x="4416120" y="4726080"/>
            <a:ext cx="547560" cy="493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 rot="5400000">
            <a:off x="4415760" y="5410080"/>
            <a:ext cx="547920" cy="493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rot="5400000">
            <a:off x="1671480" y="4420440"/>
            <a:ext cx="3008520" cy="422280"/>
          </a:xfrm>
          <a:prstGeom prst="rect">
            <a:avLst/>
          </a:prstGeom>
          <a:solidFill>
            <a:srgbClr val="ff3399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176640" y="3127320"/>
            <a:ext cx="0" cy="3008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rot="5400000">
            <a:off x="2901240" y="2023920"/>
            <a:ext cx="547920" cy="563400"/>
          </a:xfrm>
          <a:prstGeom prst="ellipse">
            <a:avLst/>
          </a:prstGeom>
          <a:solidFill>
            <a:srgbClr val="ff3399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176640" y="2306520"/>
            <a:ext cx="0" cy="820800"/>
          </a:xfrm>
          <a:prstGeom prst="line">
            <a:avLst/>
          </a:prstGeom>
          <a:ln w="19080">
            <a:solidFill>
              <a:srgbClr val="c0c0c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rot="5400000">
            <a:off x="472320" y="4419720"/>
            <a:ext cx="3008520" cy="423720"/>
          </a:xfrm>
          <a:prstGeom prst="rect">
            <a:avLst/>
          </a:prstGeom>
          <a:solidFill>
            <a:srgbClr val="3694b6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rot="5400000">
            <a:off x="1702800" y="2023920"/>
            <a:ext cx="547920" cy="563400"/>
          </a:xfrm>
          <a:prstGeom prst="ellipse">
            <a:avLst/>
          </a:prstGeom>
          <a:solidFill>
            <a:srgbClr val="3694b6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1979640" y="2374920"/>
            <a:ext cx="0" cy="820800"/>
          </a:xfrm>
          <a:prstGeom prst="line">
            <a:avLst/>
          </a:prstGeom>
          <a:ln w="19080">
            <a:solidFill>
              <a:srgbClr val="c0c0c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H="1">
            <a:off x="1695240" y="3332160"/>
            <a:ext cx="563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H="1">
            <a:off x="1695240" y="3973680"/>
            <a:ext cx="563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flipH="1">
            <a:off x="1695240" y="4660920"/>
            <a:ext cx="563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H="1">
            <a:off x="1695240" y="5284800"/>
            <a:ext cx="563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flipH="1">
            <a:off x="1695240" y="5952960"/>
            <a:ext cx="563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H="1">
            <a:off x="2260440" y="3332160"/>
            <a:ext cx="70488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H="1">
            <a:off x="2260440" y="3973680"/>
            <a:ext cx="70488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H="1">
            <a:off x="2260440" y="4651200"/>
            <a:ext cx="70488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 flipH="1">
            <a:off x="2260440" y="5284800"/>
            <a:ext cx="70488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H="1">
            <a:off x="2260440" y="5935680"/>
            <a:ext cx="70488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rot="5400000">
            <a:off x="3433320" y="3290760"/>
            <a:ext cx="614160" cy="633240"/>
          </a:xfrm>
          <a:prstGeom prst="rect">
            <a:avLst/>
          </a:prstGeom>
          <a:solidFill>
            <a:srgbClr val="ffff99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 rot="5400000">
            <a:off x="3460680" y="4000320"/>
            <a:ext cx="581040" cy="635040"/>
          </a:xfrm>
          <a:prstGeom prst="rect">
            <a:avLst/>
          </a:prstGeom>
          <a:solidFill>
            <a:srgbClr val="ffff99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5400000">
            <a:off x="3472560" y="4678920"/>
            <a:ext cx="571320" cy="633600"/>
          </a:xfrm>
          <a:prstGeom prst="rect">
            <a:avLst/>
          </a:prstGeom>
          <a:solidFill>
            <a:srgbClr val="ffff99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5400000">
            <a:off x="3456000" y="5327640"/>
            <a:ext cx="571680" cy="635040"/>
          </a:xfrm>
          <a:prstGeom prst="rect">
            <a:avLst/>
          </a:prstGeom>
          <a:solidFill>
            <a:srgbClr val="ffff99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1843200" y="1652760"/>
            <a:ext cx="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2019240" y="1652760"/>
            <a:ext cx="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067200" y="1668600"/>
            <a:ext cx="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214800" y="1652760"/>
            <a:ext cx="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rot="16200000">
            <a:off x="978120" y="1990080"/>
            <a:ext cx="106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Dnoz_z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rot="16200000">
            <a:off x="1847880" y="1976040"/>
            <a:ext cx="106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Dnoz_vy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rot="16200000">
            <a:off x="3041640" y="1990080"/>
            <a:ext cx="106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Pnoz_vy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rot="16200000">
            <a:off x="2246400" y="1990080"/>
            <a:ext cx="106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Pnoz_z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rot="16200000">
            <a:off x="5018400" y="4098240"/>
            <a:ext cx="106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Poloha_p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rot="16200000">
            <a:off x="5583600" y="3969720"/>
            <a:ext cx="131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Poloha_va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 rot="16200000">
            <a:off x="7013160" y="3938760"/>
            <a:ext cx="128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Poloha_vozi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rot="16200000">
            <a:off x="6137640" y="5187240"/>
            <a:ext cx="106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Stol_h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rot="16200000">
            <a:off x="6521760" y="5187240"/>
            <a:ext cx="106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Stol_dol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rot="16200000">
            <a:off x="6728400" y="5230080"/>
            <a:ext cx="106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Dol_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rot="16200000">
            <a:off x="6934680" y="5276160"/>
            <a:ext cx="106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Hor_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 rot="16200000">
            <a:off x="7583760" y="5216040"/>
            <a:ext cx="106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Dopr_z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rot="16200000">
            <a:off x="7923600" y="5230080"/>
            <a:ext cx="106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Dopr_vy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6505560" y="5985000"/>
            <a:ext cx="106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Dopr1_z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6535800" y="6249960"/>
            <a:ext cx="106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Dopr1_vy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600" spc="-1" strike="noStrike">
                <a:solidFill>
                  <a:srgbClr val="221304"/>
                </a:solidFill>
                <a:latin typeface="Times New Roman"/>
              </a:rPr>
              <a:t>p</a:t>
            </a:r>
            <a:r>
              <a:rPr b="1" i="1" lang="en-US" sz="1600" spc="-1" strike="noStrike">
                <a:solidFill>
                  <a:srgbClr val="221304"/>
                </a:solidFill>
                <a:latin typeface="Times New Roman"/>
              </a:rPr>
              <a:t>okra</a:t>
            </a:r>
            <a:r>
              <a:rPr b="1" i="1" lang="sk-SK" sz="1600" spc="-1" strike="noStrike">
                <a:solidFill>
                  <a:srgbClr val="221304"/>
                </a:solidFill>
                <a:latin typeface="Times New Roman"/>
              </a:rPr>
              <a:t>čovanie zadania</a:t>
            </a:r>
            <a:endParaRPr b="0" lang="en-US" sz="16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"/>
          <p:cNvSpPr/>
          <p:nvPr/>
        </p:nvSpPr>
        <p:spPr>
          <a:xfrm>
            <a:off x="979560" y="1436760"/>
            <a:ext cx="7451640" cy="513216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Z</a:t>
            </a:r>
            <a:r>
              <a:rPr b="1" lang="sk-SK" sz="4400" spc="-1" strike="noStrike">
                <a:solidFill>
                  <a:srgbClr val="221304"/>
                </a:solidFill>
                <a:latin typeface="Times New Roman"/>
              </a:rPr>
              <a:t>adanie</a:t>
            </a:r>
            <a:r>
              <a:rPr b="1" i="1" lang="sk-SK" sz="4400" spc="-1" strike="noStrike">
                <a:solidFill>
                  <a:srgbClr val="221304"/>
                </a:solidFill>
                <a:latin typeface="Times New Roman"/>
              </a:rPr>
              <a:t> 10 </a:t>
            </a:r>
            <a:r>
              <a:rPr b="1" i="1" lang="en-US" sz="4400" spc="-1" strike="noStrike">
                <a:solidFill>
                  <a:srgbClr val="221304"/>
                </a:solidFill>
                <a:latin typeface="Times New Roman"/>
              </a:rPr>
              <a:t>: Mont</a:t>
            </a:r>
            <a:r>
              <a:rPr b="1" i="1" lang="sk-SK" sz="4400" spc="-1" strike="noStrike">
                <a:solidFill>
                  <a:srgbClr val="221304"/>
                </a:solidFill>
                <a:latin typeface="Times New Roman"/>
              </a:rPr>
              <a:t>ážn</a:t>
            </a:r>
            <a:r>
              <a:rPr b="1" i="1" lang="en-US" sz="4400" spc="-1" strike="noStrike">
                <a:solidFill>
                  <a:srgbClr val="221304"/>
                </a:solidFill>
                <a:latin typeface="Times New Roman"/>
              </a:rPr>
              <a:t>a link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2565360" y="5411880"/>
            <a:ext cx="717480" cy="101268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rot="16200000">
            <a:off x="7127640" y="3360240"/>
            <a:ext cx="717480" cy="94608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5865840" y="5411880"/>
            <a:ext cx="717480" cy="106020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646520" y="2022480"/>
            <a:ext cx="717480" cy="87804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2349360" y="3457440"/>
            <a:ext cx="717840" cy="87804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2565360" y="2031840"/>
            <a:ext cx="717480" cy="86868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2492280" y="5483160"/>
            <a:ext cx="5167440" cy="7164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2492280" y="5770440"/>
            <a:ext cx="5167440" cy="7164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492280" y="2470320"/>
            <a:ext cx="5167440" cy="7128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2492280" y="2757600"/>
            <a:ext cx="5167440" cy="7128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2278080" y="3905280"/>
            <a:ext cx="1290600" cy="7128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2278080" y="4192560"/>
            <a:ext cx="1290600" cy="7164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3641760" y="2900520"/>
            <a:ext cx="71280" cy="251136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3929040" y="2900520"/>
            <a:ext cx="71640" cy="251136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445520" y="2900520"/>
            <a:ext cx="71280" cy="251136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7157880" y="2900520"/>
            <a:ext cx="71640" cy="251136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7" name=""/>
          <p:cNvGrpSpPr/>
          <p:nvPr/>
        </p:nvGrpSpPr>
        <p:grpSpPr>
          <a:xfrm>
            <a:off x="3713040" y="5913360"/>
            <a:ext cx="216000" cy="574560"/>
            <a:chOff x="3713040" y="5913360"/>
            <a:chExt cx="216000" cy="574560"/>
          </a:xfrm>
        </p:grpSpPr>
        <p:sp>
          <p:nvSpPr>
            <p:cNvPr id="988" name=""/>
            <p:cNvSpPr/>
            <p:nvPr/>
          </p:nvSpPr>
          <p:spPr>
            <a:xfrm>
              <a:off x="3713040" y="6057000"/>
              <a:ext cx="216000" cy="430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785040" y="5913360"/>
              <a:ext cx="72000" cy="143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713040" y="5913360"/>
              <a:ext cx="2160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1" name=""/>
          <p:cNvGrpSpPr/>
          <p:nvPr/>
        </p:nvGrpSpPr>
        <p:grpSpPr>
          <a:xfrm>
            <a:off x="7229520" y="5913360"/>
            <a:ext cx="216000" cy="574560"/>
            <a:chOff x="7229520" y="5913360"/>
            <a:chExt cx="216000" cy="574560"/>
          </a:xfrm>
        </p:grpSpPr>
        <p:sp>
          <p:nvSpPr>
            <p:cNvPr id="992" name=""/>
            <p:cNvSpPr/>
            <p:nvPr/>
          </p:nvSpPr>
          <p:spPr>
            <a:xfrm>
              <a:off x="7229520" y="6057000"/>
              <a:ext cx="216000" cy="430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301520" y="5913360"/>
              <a:ext cx="72000" cy="143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229520" y="5913360"/>
              <a:ext cx="2160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"/>
          <p:cNvGrpSpPr/>
          <p:nvPr/>
        </p:nvGrpSpPr>
        <p:grpSpPr>
          <a:xfrm>
            <a:off x="4071960" y="3976560"/>
            <a:ext cx="574560" cy="216000"/>
            <a:chOff x="4071960" y="3976560"/>
            <a:chExt cx="574560" cy="216000"/>
          </a:xfrm>
        </p:grpSpPr>
        <p:sp>
          <p:nvSpPr>
            <p:cNvPr id="996" name=""/>
            <p:cNvSpPr/>
            <p:nvPr/>
          </p:nvSpPr>
          <p:spPr>
            <a:xfrm flipH="1" rot="16200000">
              <a:off x="4322520" y="3868920"/>
              <a:ext cx="216000" cy="430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H="1" rot="16200000">
              <a:off x="4107240" y="4012560"/>
              <a:ext cx="72000" cy="143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071960" y="3976560"/>
              <a:ext cx="0" cy="2160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9" name=""/>
          <p:cNvSpPr/>
          <p:nvPr/>
        </p:nvSpPr>
        <p:spPr>
          <a:xfrm rot="5400000">
            <a:off x="6906240" y="2002320"/>
            <a:ext cx="214200" cy="43200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rot="5400000">
            <a:off x="7264800" y="2147040"/>
            <a:ext cx="71640" cy="14292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7300800" y="2039760"/>
            <a:ext cx="287280" cy="6462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7229520" y="1968480"/>
            <a:ext cx="142920" cy="1429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 flipH="1" rot="16200000">
            <a:off x="4250160" y="2003400"/>
            <a:ext cx="214200" cy="43020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 flipH="1" rot="16200000">
            <a:off x="4034160" y="2146320"/>
            <a:ext cx="71640" cy="14436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998160" y="2111400"/>
            <a:ext cx="1800" cy="50148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6" name=""/>
          <p:cNvGrpSpPr/>
          <p:nvPr/>
        </p:nvGrpSpPr>
        <p:grpSpPr>
          <a:xfrm>
            <a:off x="3713040" y="1752480"/>
            <a:ext cx="216000" cy="574560"/>
            <a:chOff x="3713040" y="1752480"/>
            <a:chExt cx="216000" cy="574560"/>
          </a:xfrm>
        </p:grpSpPr>
        <p:sp>
          <p:nvSpPr>
            <p:cNvPr id="1007" name=""/>
            <p:cNvSpPr/>
            <p:nvPr/>
          </p:nvSpPr>
          <p:spPr>
            <a:xfrm flipH="1" rot="10800000">
              <a:off x="3713040" y="1752480"/>
              <a:ext cx="216000" cy="430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 rot="10800000">
              <a:off x="3785040" y="2183400"/>
              <a:ext cx="72000" cy="143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713040" y="2327040"/>
              <a:ext cx="2160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0" name=""/>
          <p:cNvSpPr/>
          <p:nvPr/>
        </p:nvSpPr>
        <p:spPr>
          <a:xfrm>
            <a:off x="6296040" y="2560680"/>
            <a:ext cx="287280" cy="144360"/>
          </a:xfrm>
          <a:prstGeom prst="leftArrow">
            <a:avLst>
              <a:gd name="adj1" fmla="val 50000"/>
              <a:gd name="adj2" fmla="val 49751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 rot="5400000">
            <a:off x="7191720" y="4723560"/>
            <a:ext cx="287640" cy="142920"/>
          </a:xfrm>
          <a:prstGeom prst="leftArrow">
            <a:avLst>
              <a:gd name="adj1" fmla="val 50000"/>
              <a:gd name="adj2" fmla="val 5031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rot="5400000">
            <a:off x="3669840" y="3362400"/>
            <a:ext cx="287640" cy="144360"/>
          </a:xfrm>
          <a:prstGeom prst="leftArrow">
            <a:avLst>
              <a:gd name="adj1" fmla="val 50000"/>
              <a:gd name="adj2" fmla="val 4981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124160" y="2579760"/>
            <a:ext cx="287640" cy="144360"/>
          </a:xfrm>
          <a:prstGeom prst="leftArrow">
            <a:avLst>
              <a:gd name="adj1" fmla="val 50000"/>
              <a:gd name="adj2" fmla="val 49813"/>
            </a:avLst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rot="10800000">
            <a:off x="4781520" y="5265360"/>
            <a:ext cx="287280" cy="142920"/>
          </a:xfrm>
          <a:prstGeom prst="leftArrow">
            <a:avLst>
              <a:gd name="adj1" fmla="val 50000"/>
              <a:gd name="adj2" fmla="val 50252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rot="10800000">
            <a:off x="2133720" y="5560560"/>
            <a:ext cx="287280" cy="142920"/>
          </a:xfrm>
          <a:prstGeom prst="leftArrow">
            <a:avLst>
              <a:gd name="adj1" fmla="val 50000"/>
              <a:gd name="adj2" fmla="val 50252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3135240" y="5527800"/>
            <a:ext cx="333360" cy="295200"/>
          </a:xfrm>
          <a:prstGeom prst="rect">
            <a:avLst/>
          </a:prstGeom>
          <a:solidFill>
            <a:srgbClr val="3694b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4451400" y="5505480"/>
            <a:ext cx="333360" cy="314280"/>
          </a:xfrm>
          <a:prstGeom prst="rect">
            <a:avLst/>
          </a:prstGeom>
          <a:solidFill>
            <a:srgbClr val="3694b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916520" y="5505480"/>
            <a:ext cx="333360" cy="314280"/>
          </a:xfrm>
          <a:prstGeom prst="rect">
            <a:avLst/>
          </a:prstGeom>
          <a:solidFill>
            <a:srgbClr val="3694b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381640" y="5484960"/>
            <a:ext cx="333360" cy="314280"/>
          </a:xfrm>
          <a:prstGeom prst="rect">
            <a:avLst/>
          </a:prstGeom>
          <a:solidFill>
            <a:srgbClr val="3694b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6045120" y="5479920"/>
            <a:ext cx="333360" cy="314280"/>
          </a:xfrm>
          <a:prstGeom prst="rect">
            <a:avLst/>
          </a:prstGeom>
          <a:solidFill>
            <a:srgbClr val="3694b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3657600" y="4465800"/>
            <a:ext cx="314280" cy="314280"/>
          </a:xfrm>
          <a:prstGeom prst="rect">
            <a:avLst/>
          </a:prstGeom>
          <a:solidFill>
            <a:srgbClr val="3694b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5576760" y="2500200"/>
            <a:ext cx="314280" cy="314280"/>
          </a:xfrm>
          <a:prstGeom prst="rect">
            <a:avLst/>
          </a:prstGeom>
          <a:solidFill>
            <a:srgbClr val="3694b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7182000" y="4286160"/>
            <a:ext cx="314280" cy="314280"/>
          </a:xfrm>
          <a:prstGeom prst="rect">
            <a:avLst/>
          </a:prstGeom>
          <a:solidFill>
            <a:srgbClr val="3694b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H="1" rot="10800000">
            <a:off x="5379120" y="1847520"/>
            <a:ext cx="214200" cy="43020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H="1" rot="10800000">
            <a:off x="5451480" y="2277720"/>
            <a:ext cx="71280" cy="14292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rot="5400000">
            <a:off x="6541920" y="4154400"/>
            <a:ext cx="214200" cy="43020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rot="5400000">
            <a:off x="6899760" y="4298040"/>
            <a:ext cx="71280" cy="14292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5477040" y="2394000"/>
            <a:ext cx="0" cy="2095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972480" y="4375080"/>
            <a:ext cx="2854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flipH="1" rot="10800000">
            <a:off x="3321000" y="1800000"/>
            <a:ext cx="216000" cy="43020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H="1" rot="10800000">
            <a:off x="3394080" y="2230200"/>
            <a:ext cx="71280" cy="14292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419640" y="2346480"/>
            <a:ext cx="0" cy="2095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 flipH="1" rot="10800000">
            <a:off x="3101040" y="3276360"/>
            <a:ext cx="215640" cy="43020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 flipH="1" rot="10800000">
            <a:off x="3173760" y="3706560"/>
            <a:ext cx="71640" cy="14292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3200400" y="3822840"/>
            <a:ext cx="0" cy="2095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5627520" y="5689080"/>
            <a:ext cx="216000" cy="780120"/>
            <a:chOff x="5627520" y="5689080"/>
            <a:chExt cx="216000" cy="780120"/>
          </a:xfrm>
        </p:grpSpPr>
        <p:sp>
          <p:nvSpPr>
            <p:cNvPr id="1037" name=""/>
            <p:cNvSpPr/>
            <p:nvPr/>
          </p:nvSpPr>
          <p:spPr>
            <a:xfrm>
              <a:off x="5627520" y="6039000"/>
              <a:ext cx="216000" cy="430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718240" y="5904000"/>
              <a:ext cx="71280" cy="144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 flipV="1">
              <a:off x="5762520" y="5689080"/>
              <a:ext cx="0" cy="21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0" name=""/>
          <p:cNvSpPr/>
          <p:nvPr/>
        </p:nvSpPr>
        <p:spPr>
          <a:xfrm>
            <a:off x="7629480" y="3718080"/>
            <a:ext cx="276120" cy="285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4876920" y="2117880"/>
            <a:ext cx="276120" cy="285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2781360" y="2108160"/>
            <a:ext cx="276120" cy="285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2571840" y="3556080"/>
            <a:ext cx="276120" cy="285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2762280" y="5937120"/>
            <a:ext cx="276120" cy="285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105600" y="6022800"/>
            <a:ext cx="276120" cy="285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7948440" y="5634000"/>
            <a:ext cx="250920" cy="176400"/>
          </a:xfrm>
          <a:prstGeom prst="rightArrow">
            <a:avLst>
              <a:gd name="adj1" fmla="val 50000"/>
              <a:gd name="adj2" fmla="val 35561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465360" y="2374920"/>
            <a:ext cx="679680" cy="677880"/>
          </a:xfrm>
          <a:prstGeom prst="ellipse">
            <a:avLst/>
          </a:prstGeom>
          <a:noFill/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465360" y="5324400"/>
            <a:ext cx="679680" cy="677880"/>
          </a:xfrm>
          <a:prstGeom prst="ellipse">
            <a:avLst/>
          </a:prstGeom>
          <a:noFill/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7004160" y="5294160"/>
            <a:ext cx="679320" cy="677880"/>
          </a:xfrm>
          <a:prstGeom prst="ellipse">
            <a:avLst/>
          </a:prstGeom>
          <a:noFill/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989760" y="2359080"/>
            <a:ext cx="679320" cy="677880"/>
          </a:xfrm>
          <a:prstGeom prst="ellipse">
            <a:avLst/>
          </a:prstGeom>
          <a:noFill/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062080" y="5213520"/>
            <a:ext cx="3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3300"/>
                </a:solidFill>
                <a:latin typeface="Times New Roman"/>
              </a:rPr>
              <a:t>S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4790880" y="4932360"/>
            <a:ext cx="3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3300"/>
                </a:solidFill>
                <a:latin typeface="Times New Roman"/>
              </a:rPr>
              <a:t>S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7947000" y="5243400"/>
            <a:ext cx="3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3300"/>
                </a:solidFill>
                <a:latin typeface="Times New Roman"/>
              </a:rPr>
              <a:t>S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7503840" y="4653000"/>
            <a:ext cx="3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3300"/>
                </a:solidFill>
                <a:latin typeface="Times New Roman"/>
              </a:rPr>
              <a:t>S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6279840" y="2116080"/>
            <a:ext cx="3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3300"/>
                </a:solidFill>
                <a:latin typeface="Times New Roman"/>
              </a:rPr>
              <a:t>S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3979800" y="3502080"/>
            <a:ext cx="3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3300"/>
                </a:solidFill>
                <a:latin typeface="Times New Roman"/>
              </a:rPr>
              <a:t>S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047680" y="2160720"/>
            <a:ext cx="3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3300"/>
                </a:solidFill>
                <a:latin typeface="Times New Roman"/>
              </a:rPr>
              <a:t>S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035080" y="2532240"/>
            <a:ext cx="287280" cy="144360"/>
          </a:xfrm>
          <a:prstGeom prst="leftArrow">
            <a:avLst>
              <a:gd name="adj1" fmla="val 50000"/>
              <a:gd name="adj2" fmla="val 49751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9" name=""/>
          <p:cNvGrpSpPr/>
          <p:nvPr/>
        </p:nvGrpSpPr>
        <p:grpSpPr>
          <a:xfrm>
            <a:off x="3976560" y="5661000"/>
            <a:ext cx="216000" cy="779040"/>
            <a:chOff x="3976560" y="5661000"/>
            <a:chExt cx="216000" cy="779040"/>
          </a:xfrm>
        </p:grpSpPr>
        <p:sp>
          <p:nvSpPr>
            <p:cNvPr id="1060" name=""/>
            <p:cNvSpPr/>
            <p:nvPr/>
          </p:nvSpPr>
          <p:spPr>
            <a:xfrm>
              <a:off x="3976560" y="6010200"/>
              <a:ext cx="216000" cy="42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067280" y="5875200"/>
              <a:ext cx="71280" cy="144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V="1">
              <a:off x="4111560" y="5661000"/>
              <a:ext cx="0" cy="21888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3" name=""/>
          <p:cNvGrpSpPr/>
          <p:nvPr/>
        </p:nvGrpSpPr>
        <p:grpSpPr>
          <a:xfrm>
            <a:off x="3855960" y="3730680"/>
            <a:ext cx="779040" cy="216000"/>
            <a:chOff x="3855960" y="3730680"/>
            <a:chExt cx="779040" cy="216000"/>
          </a:xfrm>
        </p:grpSpPr>
        <p:sp>
          <p:nvSpPr>
            <p:cNvPr id="1064" name=""/>
            <p:cNvSpPr/>
            <p:nvPr/>
          </p:nvSpPr>
          <p:spPr>
            <a:xfrm rot="16200000">
              <a:off x="4312080" y="3623760"/>
              <a:ext cx="216000" cy="42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 rot="16200000">
              <a:off x="4106520" y="3748320"/>
              <a:ext cx="71280" cy="144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H="1">
              <a:off x="3855960" y="3811680"/>
              <a:ext cx="21888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7" name=""/>
          <p:cNvSpPr/>
          <p:nvPr/>
        </p:nvSpPr>
        <p:spPr>
          <a:xfrm>
            <a:off x="1884240" y="3649680"/>
            <a:ext cx="3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3300"/>
                </a:solidFill>
                <a:latin typeface="Times New Roman"/>
              </a:rPr>
              <a:t>S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857240" y="4035600"/>
            <a:ext cx="287640" cy="144360"/>
          </a:xfrm>
          <a:prstGeom prst="leftArrow">
            <a:avLst>
              <a:gd name="adj1" fmla="val 50000"/>
              <a:gd name="adj2" fmla="val 4981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9" name=""/>
          <p:cNvGrpSpPr/>
          <p:nvPr/>
        </p:nvGrpSpPr>
        <p:grpSpPr>
          <a:xfrm>
            <a:off x="7516800" y="5661000"/>
            <a:ext cx="216000" cy="779040"/>
            <a:chOff x="7516800" y="5661000"/>
            <a:chExt cx="216000" cy="779040"/>
          </a:xfrm>
        </p:grpSpPr>
        <p:sp>
          <p:nvSpPr>
            <p:cNvPr id="1070" name=""/>
            <p:cNvSpPr/>
            <p:nvPr/>
          </p:nvSpPr>
          <p:spPr>
            <a:xfrm>
              <a:off x="7516800" y="6010200"/>
              <a:ext cx="216000" cy="42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7607520" y="5875200"/>
              <a:ext cx="71280" cy="144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V="1">
              <a:off x="7651800" y="5661000"/>
              <a:ext cx="0" cy="21888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3" name=""/>
          <p:cNvSpPr/>
          <p:nvPr/>
        </p:nvSpPr>
        <p:spPr>
          <a:xfrm flipV="1">
            <a:off x="2787480" y="1622520"/>
            <a:ext cx="0" cy="41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 flipV="1">
            <a:off x="4998960" y="1606680"/>
            <a:ext cx="0" cy="41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V="1">
            <a:off x="2417760" y="3067200"/>
            <a:ext cx="0" cy="41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flipV="1">
            <a:off x="2698920" y="4982760"/>
            <a:ext cx="0" cy="41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V="1">
            <a:off x="6046920" y="4998600"/>
            <a:ext cx="0" cy="41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V="1">
            <a:off x="7845480" y="3036960"/>
            <a:ext cx="0" cy="41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2960640" y="606744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6278400" y="61261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7605720" y="36925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5099040" y="208584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019320" y="208584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2798640" y="35607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3610440" y="54910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K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7120440" y="55054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K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7092000" y="24670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K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626280" y="24969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K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3582000" y="392760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K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3467160" y="3789360"/>
            <a:ext cx="679320" cy="677880"/>
          </a:xfrm>
          <a:prstGeom prst="ellipse">
            <a:avLst/>
          </a:prstGeom>
          <a:noFill/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600" spc="-1" strike="noStrike">
                <a:solidFill>
                  <a:srgbClr val="221304"/>
                </a:solidFill>
                <a:latin typeface="Times New Roman"/>
              </a:rPr>
              <a:t>p</a:t>
            </a:r>
            <a:r>
              <a:rPr b="1" i="1" lang="en-US" sz="1600" spc="-1" strike="noStrike">
                <a:solidFill>
                  <a:srgbClr val="221304"/>
                </a:solidFill>
                <a:latin typeface="Times New Roman"/>
              </a:rPr>
              <a:t>okra</a:t>
            </a:r>
            <a:r>
              <a:rPr b="1" i="1" lang="sk-SK" sz="1600" spc="-1" strike="noStrike">
                <a:solidFill>
                  <a:srgbClr val="221304"/>
                </a:solidFill>
                <a:latin typeface="Times New Roman"/>
              </a:rPr>
              <a:t>čovanie zadania</a:t>
            </a:r>
            <a:endParaRPr b="0" lang="en-US" sz="16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"/>
          <p:cNvSpPr/>
          <p:nvPr/>
        </p:nvSpPr>
        <p:spPr>
          <a:xfrm>
            <a:off x="1371600" y="1676520"/>
            <a:ext cx="7010280" cy="490356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Z</a:t>
            </a:r>
            <a:r>
              <a:rPr b="1" lang="sk-SK" sz="4400" spc="-1" strike="noStrike">
                <a:solidFill>
                  <a:srgbClr val="221304"/>
                </a:solidFill>
                <a:latin typeface="Times New Roman"/>
              </a:rPr>
              <a:t>adanie</a:t>
            </a:r>
            <a:r>
              <a:rPr b="1" i="1" lang="sk-SK" sz="4400" spc="-1" strike="noStrike">
                <a:solidFill>
                  <a:srgbClr val="221304"/>
                </a:solidFill>
                <a:latin typeface="Times New Roman"/>
              </a:rPr>
              <a:t> 11: Navíjačk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5222880" y="4556160"/>
            <a:ext cx="430200" cy="501480"/>
          </a:xfrm>
          <a:prstGeom prst="rect">
            <a:avLst/>
          </a:prstGeom>
          <a:solidFill>
            <a:srgbClr val="cbbd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4792680" y="2833560"/>
            <a:ext cx="1219320" cy="11480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5724360" y="2762280"/>
            <a:ext cx="216000" cy="214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5869080" y="2833560"/>
            <a:ext cx="573120" cy="708120"/>
          </a:xfrm>
          <a:prstGeom prst="line">
            <a:avLst/>
          </a:prstGeom>
          <a:ln w="7632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6442200" y="3551400"/>
            <a:ext cx="0" cy="287280"/>
          </a:xfrm>
          <a:prstGeom prst="line">
            <a:avLst/>
          </a:prstGeom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6586560" y="3049560"/>
            <a:ext cx="501480" cy="2142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6149880" y="3165480"/>
            <a:ext cx="552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6702480" y="3098880"/>
            <a:ext cx="0" cy="123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6370560" y="3479760"/>
            <a:ext cx="90720" cy="90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2568600" y="3479760"/>
            <a:ext cx="561960" cy="214200"/>
          </a:xfrm>
          <a:prstGeom prst="rect">
            <a:avLst/>
          </a:prstGeom>
          <a:solidFill>
            <a:srgbClr val="3694b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3141720" y="3335400"/>
            <a:ext cx="73080" cy="358560"/>
          </a:xfrm>
          <a:prstGeom prst="rect">
            <a:avLst/>
          </a:prstGeom>
          <a:solidFill>
            <a:srgbClr val="3694b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214800" y="3335400"/>
            <a:ext cx="931680" cy="73080"/>
          </a:xfrm>
          <a:prstGeom prst="rect">
            <a:avLst/>
          </a:prstGeom>
          <a:solidFill>
            <a:srgbClr val="3694b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2209680" y="3263760"/>
            <a:ext cx="3084480" cy="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 flipV="1">
            <a:off x="2209680" y="2833200"/>
            <a:ext cx="3084480" cy="4302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8" name=""/>
          <p:cNvGrpSpPr/>
          <p:nvPr/>
        </p:nvGrpSpPr>
        <p:grpSpPr>
          <a:xfrm>
            <a:off x="2518920" y="3431880"/>
            <a:ext cx="1533960" cy="759600"/>
            <a:chOff x="2518920" y="3431880"/>
            <a:chExt cx="1533960" cy="759600"/>
          </a:xfrm>
        </p:grpSpPr>
        <p:sp>
          <p:nvSpPr>
            <p:cNvPr id="1109" name=""/>
            <p:cNvSpPr/>
            <p:nvPr/>
          </p:nvSpPr>
          <p:spPr>
            <a:xfrm rot="1881000">
              <a:off x="2533680" y="3562200"/>
              <a:ext cx="561600" cy="215280"/>
            </a:xfrm>
            <a:prstGeom prst="rect">
              <a:avLst/>
            </a:prstGeom>
            <a:solidFill>
              <a:srgbClr val="cbbd8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rot="1881000">
              <a:off x="3096720" y="3600360"/>
              <a:ext cx="71640" cy="358920"/>
            </a:xfrm>
            <a:prstGeom prst="rect">
              <a:avLst/>
            </a:prstGeom>
            <a:solidFill>
              <a:srgbClr val="cbbd8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rot="1881000">
              <a:off x="3169800" y="3882600"/>
              <a:ext cx="932400" cy="71640"/>
            </a:xfrm>
            <a:prstGeom prst="rect">
              <a:avLst/>
            </a:prstGeom>
            <a:solidFill>
              <a:srgbClr val="cbbd8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2" name=""/>
          <p:cNvSpPr/>
          <p:nvPr/>
        </p:nvSpPr>
        <p:spPr>
          <a:xfrm>
            <a:off x="2639880" y="3551400"/>
            <a:ext cx="90720" cy="90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2784600" y="4556160"/>
            <a:ext cx="214200" cy="646200"/>
          </a:xfrm>
          <a:prstGeom prst="rect">
            <a:avLst/>
          </a:prstGeom>
          <a:solidFill>
            <a:srgbClr val="3694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2855880" y="3767040"/>
            <a:ext cx="71640" cy="1148040"/>
          </a:xfrm>
          <a:prstGeom prst="rect">
            <a:avLst/>
          </a:prstGeom>
          <a:solidFill>
            <a:srgbClr val="3694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2784600" y="4915080"/>
            <a:ext cx="214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V="1">
            <a:off x="4721400" y="3621960"/>
            <a:ext cx="1361880" cy="430200"/>
          </a:xfrm>
          <a:prstGeom prst="blockArc">
            <a:avLst>
              <a:gd name="adj1" fmla="val 10421552"/>
              <a:gd name="adj2" fmla="val 378448"/>
              <a:gd name="adj3" fmla="val 15111"/>
            </a:avLst>
          </a:prstGeom>
          <a:solidFill>
            <a:srgbClr val="cbbd8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 flipV="1">
            <a:off x="5079960" y="3192480"/>
            <a:ext cx="717480" cy="1076400"/>
          </a:xfrm>
          <a:custGeom>
            <a:avLst/>
            <a:gdLst>
              <a:gd name="textAreaLeft" fmla="*/ 104400 w 717480"/>
              <a:gd name="textAreaRight" fmla="*/ 613080 w 717480"/>
              <a:gd name="textAreaTop" fmla="*/ 156960 h 1076400"/>
              <a:gd name="textAreaBottom" fmla="*/ 919440 h 1076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077" y="21600"/>
                </a:lnTo>
                <a:lnTo>
                  <a:pt x="2523" y="21600"/>
                </a:lnTo>
                <a:close/>
              </a:path>
            </a:pathLst>
          </a:custGeom>
          <a:solidFill>
            <a:srgbClr val="cbbd83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5294160" y="3335400"/>
            <a:ext cx="216000" cy="216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5365800" y="4268880"/>
            <a:ext cx="144360" cy="646200"/>
          </a:xfrm>
          <a:prstGeom prst="rect">
            <a:avLst/>
          </a:prstGeom>
          <a:solidFill>
            <a:srgbClr val="cbbd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222880" y="4915080"/>
            <a:ext cx="43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4863960" y="3767040"/>
            <a:ext cx="90720" cy="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5869080" y="3767040"/>
            <a:ext cx="90360" cy="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3286080" y="4627440"/>
            <a:ext cx="214200" cy="501840"/>
          </a:xfrm>
          <a:prstGeom prst="rect">
            <a:avLst/>
          </a:prstGeom>
          <a:solidFill>
            <a:srgbClr val="3694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721400" y="4556160"/>
            <a:ext cx="214200" cy="501480"/>
          </a:xfrm>
          <a:prstGeom prst="rect">
            <a:avLst/>
          </a:prstGeom>
          <a:solidFill>
            <a:srgbClr val="cbbd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 rot="5400000">
            <a:off x="6729840" y="3336120"/>
            <a:ext cx="214200" cy="5014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998800" y="469908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2998800" y="505764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935600" y="462744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4935600" y="498636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657840" y="3263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7016760" y="3263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 flipV="1">
            <a:off x="3286080" y="4770360"/>
            <a:ext cx="2142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3286080" y="4770360"/>
            <a:ext cx="2142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 flipV="1">
            <a:off x="4721400" y="4699080"/>
            <a:ext cx="2142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4721400" y="4699080"/>
            <a:ext cx="2142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6729480" y="3479760"/>
            <a:ext cx="21600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 flipV="1">
            <a:off x="6729480" y="3479400"/>
            <a:ext cx="21600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5222880" y="3263760"/>
            <a:ext cx="358920" cy="35892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721400" y="1900080"/>
            <a:ext cx="214200" cy="503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 flipV="1">
            <a:off x="4721400" y="4699080"/>
            <a:ext cx="2142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4721400" y="4699080"/>
            <a:ext cx="2142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4721400" y="2044440"/>
            <a:ext cx="21420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721400" y="2044800"/>
            <a:ext cx="21420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5222880" y="1828800"/>
            <a:ext cx="216000" cy="646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5337000" y="2170080"/>
            <a:ext cx="28800" cy="1093680"/>
          </a:xfrm>
          <a:prstGeom prst="line">
            <a:avLst/>
          </a:prstGeom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4952880" y="198432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943520" y="231768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5248440" y="2155680"/>
            <a:ext cx="161640" cy="0"/>
          </a:xfrm>
          <a:prstGeom prst="line">
            <a:avLst/>
          </a:prstGeom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3371760" y="1974960"/>
            <a:ext cx="13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3352680" y="2346480"/>
            <a:ext cx="133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3716280" y="5057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 flipV="1">
            <a:off x="6657840" y="3693600"/>
            <a:ext cx="0" cy="229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 flipV="1">
            <a:off x="7016760" y="3693600"/>
            <a:ext cx="0" cy="229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4290840" y="4699080"/>
            <a:ext cx="43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505400" y="4986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 flipH="1">
            <a:off x="3500280" y="469908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 flipH="1">
            <a:off x="3500280" y="5057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3716280" y="5057640"/>
            <a:ext cx="0" cy="114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932280" y="4699080"/>
            <a:ext cx="0" cy="150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290840" y="4699080"/>
            <a:ext cx="0" cy="150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505400" y="4986360"/>
            <a:ext cx="0" cy="122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6513480" y="3909960"/>
            <a:ext cx="0" cy="236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6299280" y="3909960"/>
            <a:ext cx="0" cy="236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6156360" y="3479760"/>
            <a:ext cx="0" cy="279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5869080" y="4052880"/>
            <a:ext cx="0" cy="222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2639880" y="3838680"/>
            <a:ext cx="0" cy="236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2367000" y="3394080"/>
            <a:ext cx="0" cy="279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314440" y="3382920"/>
            <a:ext cx="71640" cy="71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2610000" y="3801960"/>
            <a:ext cx="71280" cy="71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5838840" y="4021200"/>
            <a:ext cx="71280" cy="71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124680" y="3449520"/>
            <a:ext cx="71280" cy="71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6284880" y="3849840"/>
            <a:ext cx="73080" cy="71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6456240" y="3849840"/>
            <a:ext cx="73080" cy="71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2859480" y="204156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Trn_zatv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874960" y="1674720"/>
            <a:ext cx="108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Trn_otv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 rot="16200000">
            <a:off x="1505520" y="525636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avitko_d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 rot="16200000">
            <a:off x="1796400" y="5223600"/>
            <a:ext cx="14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avitko_h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 rot="16200000">
            <a:off x="2804760" y="562536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avitko_zdvi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 rot="16200000">
            <a:off x="3065400" y="5638320"/>
            <a:ext cx="14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avitko_spu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 rot="16200000">
            <a:off x="4053600" y="569664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l_spu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rot="16200000">
            <a:off x="5144760" y="5679360"/>
            <a:ext cx="98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l_d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 rot="16200000">
            <a:off x="5494680" y="561672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l_h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rot="16200000">
            <a:off x="5995080" y="501192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ameno_pritl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 rot="16200000">
            <a:off x="6444360" y="4976280"/>
            <a:ext cx="161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ameno_uvoln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 rot="16200000">
            <a:off x="3570480" y="5713560"/>
            <a:ext cx="109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l_zdvi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6134400" y="62452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6456240" y="61563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"/>
          <p:cNvSpPr/>
          <p:nvPr/>
        </p:nvSpPr>
        <p:spPr>
          <a:xfrm>
            <a:off x="1066680" y="1676520"/>
            <a:ext cx="7543800" cy="487656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>
                <a:solidFill>
                  <a:srgbClr val="221304"/>
                </a:solidFill>
                <a:latin typeface="Times New Roman"/>
              </a:rPr>
              <a:t>pokračovanie   zadania navíjačka</a:t>
            </a:r>
            <a:endParaRPr b="0" lang="en-US" sz="1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779560" y="3452760"/>
            <a:ext cx="5023080" cy="0"/>
          </a:xfrm>
          <a:prstGeom prst="line">
            <a:avLst/>
          </a:prstGeom>
          <a:ln w="5724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2779560" y="2914560"/>
            <a:ext cx="5023080" cy="0"/>
          </a:xfrm>
          <a:prstGeom prst="line">
            <a:avLst/>
          </a:prstGeom>
          <a:ln w="5724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3352680" y="5132520"/>
            <a:ext cx="144720" cy="133200"/>
          </a:xfrm>
          <a:prstGeom prst="rect">
            <a:avLst/>
          </a:prstGeom>
          <a:solidFill>
            <a:srgbClr val="ffff99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3927600" y="5132520"/>
            <a:ext cx="142920" cy="133200"/>
          </a:xfrm>
          <a:prstGeom prst="rect">
            <a:avLst/>
          </a:prstGeom>
          <a:solidFill>
            <a:srgbClr val="ffff99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3281400" y="2781360"/>
            <a:ext cx="789120" cy="804960"/>
          </a:xfrm>
          <a:prstGeom prst="rect">
            <a:avLst/>
          </a:prstGeom>
          <a:solidFill>
            <a:srgbClr val="cc9900"/>
          </a:solidFill>
          <a:ln w="324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3568680" y="2781360"/>
            <a:ext cx="216000" cy="804960"/>
          </a:xfrm>
          <a:prstGeom prst="rect">
            <a:avLst/>
          </a:prstGeom>
          <a:solidFill>
            <a:srgbClr val="ffcc00"/>
          </a:solidFill>
          <a:ln w="2844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6438960" y="2781360"/>
            <a:ext cx="788760" cy="804960"/>
          </a:xfrm>
          <a:prstGeom prst="rect">
            <a:avLst/>
          </a:prstGeom>
          <a:solidFill>
            <a:srgbClr val="6600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6726240" y="2781360"/>
            <a:ext cx="216000" cy="804960"/>
          </a:xfrm>
          <a:prstGeom prst="rect">
            <a:avLst/>
          </a:prstGeom>
          <a:solidFill>
            <a:srgbClr val="ffcc0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2779560" y="2847960"/>
            <a:ext cx="430200" cy="0"/>
          </a:xfrm>
          <a:prstGeom prst="line">
            <a:avLst/>
          </a:prstGeom>
          <a:ln w="19080">
            <a:solidFill>
              <a:srgbClr val="96969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779560" y="3519360"/>
            <a:ext cx="430200" cy="0"/>
          </a:xfrm>
          <a:prstGeom prst="line">
            <a:avLst/>
          </a:prstGeom>
          <a:ln w="19080">
            <a:solidFill>
              <a:srgbClr val="96969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7372440" y="3519360"/>
            <a:ext cx="430200" cy="0"/>
          </a:xfrm>
          <a:prstGeom prst="line">
            <a:avLst/>
          </a:prstGeom>
          <a:ln w="19080">
            <a:solidFill>
              <a:srgbClr val="96969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7372440" y="2847960"/>
            <a:ext cx="430200" cy="0"/>
          </a:xfrm>
          <a:prstGeom prst="line">
            <a:avLst/>
          </a:prstGeom>
          <a:ln w="19080">
            <a:solidFill>
              <a:srgbClr val="96969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2994120" y="2712960"/>
            <a:ext cx="0" cy="873360"/>
          </a:xfrm>
          <a:prstGeom prst="line">
            <a:avLst/>
          </a:prstGeom>
          <a:ln w="28440">
            <a:solidFill>
              <a:srgbClr val="96969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7586640" y="2712960"/>
            <a:ext cx="0" cy="873360"/>
          </a:xfrm>
          <a:prstGeom prst="line">
            <a:avLst/>
          </a:prstGeom>
          <a:ln w="28440">
            <a:solidFill>
              <a:srgbClr val="96969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7443720" y="2579760"/>
            <a:ext cx="287280" cy="133200"/>
          </a:xfrm>
          <a:prstGeom prst="rect">
            <a:avLst/>
          </a:prstGeom>
          <a:solidFill>
            <a:srgbClr val="ffff99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7227720" y="1974960"/>
            <a:ext cx="432000" cy="403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7443720" y="2176560"/>
            <a:ext cx="142920" cy="26820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7586640" y="2444760"/>
            <a:ext cx="0" cy="135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5148360" y="3049560"/>
            <a:ext cx="358560" cy="268200"/>
          </a:xfrm>
          <a:prstGeom prst="rightArrow">
            <a:avLst>
              <a:gd name="adj1" fmla="val 50000"/>
              <a:gd name="adj2" fmla="val 3342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3516480" y="3586320"/>
            <a:ext cx="287280" cy="269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3281400" y="4257720"/>
            <a:ext cx="789120" cy="806400"/>
          </a:xfrm>
          <a:prstGeom prst="rect">
            <a:avLst/>
          </a:prstGeom>
          <a:solidFill>
            <a:srgbClr val="3694b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3568680" y="4257720"/>
            <a:ext cx="216000" cy="806400"/>
          </a:xfrm>
          <a:prstGeom prst="rect">
            <a:avLst/>
          </a:prstGeom>
          <a:solidFill>
            <a:srgbClr val="ffcc0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3568680" y="4057560"/>
            <a:ext cx="216000" cy="200160"/>
          </a:xfrm>
          <a:prstGeom prst="rect">
            <a:avLst/>
          </a:prstGeom>
          <a:solidFill>
            <a:srgbClr val="ffff99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138480" y="5064120"/>
            <a:ext cx="1290600" cy="68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209760" y="5265720"/>
            <a:ext cx="933480" cy="201600"/>
          </a:xfrm>
          <a:prstGeom prst="rect">
            <a:avLst/>
          </a:prstGeom>
          <a:solidFill>
            <a:srgbClr val="ffff99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3352680" y="5467320"/>
            <a:ext cx="144720" cy="5382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3927600" y="5467320"/>
            <a:ext cx="142920" cy="5382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3425760" y="5467320"/>
            <a:ext cx="0" cy="336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998880" y="5467320"/>
            <a:ext cx="0" cy="336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3352680" y="580392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3927600" y="5803920"/>
            <a:ext cx="142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3035160" y="4562640"/>
            <a:ext cx="358920" cy="268200"/>
          </a:xfrm>
          <a:prstGeom prst="rightArrow">
            <a:avLst>
              <a:gd name="adj1" fmla="val 50000"/>
              <a:gd name="adj2" fmla="val 3345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2133720" y="4257720"/>
            <a:ext cx="114768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2133720" y="5064120"/>
            <a:ext cx="114768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994120" y="3989520"/>
            <a:ext cx="645840" cy="13464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3057480" y="4030560"/>
            <a:ext cx="71640" cy="66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3098880" y="3781440"/>
            <a:ext cx="266760" cy="196920"/>
          </a:xfrm>
          <a:prstGeom prst="triangle">
            <a:avLst>
              <a:gd name="adj" fmla="val 50000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2289240" y="3798720"/>
            <a:ext cx="609480" cy="18756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2603520" y="3852720"/>
            <a:ext cx="676080" cy="5904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3171960" y="3851280"/>
            <a:ext cx="71280" cy="68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2584440" y="3798720"/>
            <a:ext cx="0" cy="1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7156440" y="3720960"/>
            <a:ext cx="1440" cy="193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7130880" y="3635280"/>
            <a:ext cx="71640" cy="68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4156200" y="3665520"/>
            <a:ext cx="85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4083120" y="3627360"/>
            <a:ext cx="71280" cy="66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5718240" y="1828800"/>
            <a:ext cx="136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5727600" y="2533680"/>
            <a:ext cx="136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7089840" y="1828800"/>
            <a:ext cx="19980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V="1">
            <a:off x="7089840" y="2309400"/>
            <a:ext cx="190440" cy="21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3711600" y="3922560"/>
            <a:ext cx="73080" cy="66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3102120" y="3618000"/>
            <a:ext cx="71280" cy="66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3784680" y="3989520"/>
            <a:ext cx="71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 flipH="1">
            <a:off x="2927520" y="3665520"/>
            <a:ext cx="171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2927520" y="3683160"/>
            <a:ext cx="0" cy="27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502160" y="3989520"/>
            <a:ext cx="0" cy="24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5003640" y="3654360"/>
            <a:ext cx="0" cy="282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 flipV="1">
            <a:off x="2779560" y="3989160"/>
            <a:ext cx="0" cy="24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V="1">
            <a:off x="2349360" y="3989160"/>
            <a:ext cx="0" cy="24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4314960" y="4289400"/>
            <a:ext cx="71280" cy="68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4357800" y="4325760"/>
            <a:ext cx="136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5721480" y="4325760"/>
            <a:ext cx="0" cy="2149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4286160" y="4997520"/>
            <a:ext cx="114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5433840" y="4997520"/>
            <a:ext cx="0" cy="147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4376880" y="4325760"/>
            <a:ext cx="134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4264200" y="4964040"/>
            <a:ext cx="71280" cy="68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3497400" y="5602320"/>
            <a:ext cx="43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3497400" y="5937120"/>
            <a:ext cx="43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 flipV="1">
            <a:off x="3639960" y="5601960"/>
            <a:ext cx="0" cy="87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 flipV="1">
            <a:off x="3784680" y="5936760"/>
            <a:ext cx="0" cy="53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>
            <a:hlinkClick r:id="" action="ppaction://hlinkshowjump?jump=previousslide"/>
          </p:cNvPr>
          <p:cNvSpPr/>
          <p:nvPr/>
        </p:nvSpPr>
        <p:spPr>
          <a:xfrm>
            <a:off x="6781680" y="5943600"/>
            <a:ext cx="565200" cy="585720"/>
          </a:xfrm>
          <a:custGeom>
            <a:avLst/>
            <a:gdLst>
              <a:gd name="textAreaLeft" fmla="*/ 36360 w 565200"/>
              <a:gd name="textAreaRight" fmla="*/ 528840 w 565200"/>
              <a:gd name="textAreaTop" fmla="*/ 36360 h 585720"/>
              <a:gd name="textAreaBottom" fmla="*/ 549360 h 585720"/>
            </a:gdLst>
            <a:ahLst/>
            <a:rect l="textAreaLeft" t="textAreaTop" r="textAreaRight" b="textAreaBottom"/>
            <a:pathLst>
              <a:path w="21600" h="22384">
                <a:moveTo>
                  <a:pt x="0" y="0"/>
                </a:moveTo>
                <a:lnTo>
                  <a:pt x="21600" y="0"/>
                </a:lnTo>
                <a:lnTo>
                  <a:pt x="21600" y="22384"/>
                </a:lnTo>
                <a:lnTo>
                  <a:pt x="0" y="22384"/>
                </a:lnTo>
                <a:close/>
              </a:path>
              <a:path fill="lightenLess" w="21600" h="2238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84">
                <a:moveTo>
                  <a:pt x="21600" y="0"/>
                </a:moveTo>
                <a:lnTo>
                  <a:pt x="21600" y="22384"/>
                </a:lnTo>
                <a:lnTo>
                  <a:pt x="20200" y="20984"/>
                </a:lnTo>
                <a:lnTo>
                  <a:pt x="20200" y="1400"/>
                </a:lnTo>
                <a:close/>
              </a:path>
              <a:path fill="darkenLess" w="21600" h="22384">
                <a:moveTo>
                  <a:pt x="21600" y="22384"/>
                </a:moveTo>
                <a:lnTo>
                  <a:pt x="0" y="22384"/>
                </a:lnTo>
                <a:lnTo>
                  <a:pt x="1400" y="20984"/>
                </a:lnTo>
                <a:lnTo>
                  <a:pt x="20200" y="20984"/>
                </a:lnTo>
                <a:close/>
              </a:path>
              <a:path fill="lighten" w="21600" h="22384">
                <a:moveTo>
                  <a:pt x="0" y="2238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84"/>
                </a:lnTo>
                <a:close/>
              </a:path>
              <a:path fill="darken" w="21600" h="22384">
                <a:moveTo>
                  <a:pt x="3794" y="11192"/>
                </a:moveTo>
                <a:lnTo>
                  <a:pt x="17806" y="4185"/>
                </a:lnTo>
                <a:lnTo>
                  <a:pt x="17806" y="18198"/>
                </a:lnTo>
                <a:close/>
              </a:path>
            </a:pathLst>
          </a:cu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>
            <a:hlinkClick r:id="" action="ppaction://hlinkshowjump?jump=nextslide"/>
          </p:cNvPr>
          <p:cNvSpPr/>
          <p:nvPr/>
        </p:nvSpPr>
        <p:spPr>
          <a:xfrm>
            <a:off x="7400880" y="5943600"/>
            <a:ext cx="566640" cy="585720"/>
          </a:xfrm>
          <a:custGeom>
            <a:avLst/>
            <a:gdLst>
              <a:gd name="textAreaLeft" fmla="*/ 36720 w 566640"/>
              <a:gd name="textAreaRight" fmla="*/ 529920 w 566640"/>
              <a:gd name="textAreaTop" fmla="*/ 36720 h 585720"/>
              <a:gd name="textAreaBottom" fmla="*/ 549000 h 585720"/>
            </a:gdLst>
            <a:ahLst/>
            <a:rect l="textAreaLeft" t="textAreaTop" r="textAreaRight" b="textAreaBottom"/>
            <a:pathLst>
              <a:path w="21600" h="22327">
                <a:moveTo>
                  <a:pt x="0" y="0"/>
                </a:moveTo>
                <a:lnTo>
                  <a:pt x="21600" y="0"/>
                </a:lnTo>
                <a:lnTo>
                  <a:pt x="21600" y="22327"/>
                </a:lnTo>
                <a:lnTo>
                  <a:pt x="0" y="22327"/>
                </a:lnTo>
                <a:close/>
              </a:path>
              <a:path fill="lightenLess" w="21600" h="223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27">
                <a:moveTo>
                  <a:pt x="21600" y="0"/>
                </a:moveTo>
                <a:lnTo>
                  <a:pt x="21600" y="22327"/>
                </a:lnTo>
                <a:lnTo>
                  <a:pt x="20200" y="20927"/>
                </a:lnTo>
                <a:lnTo>
                  <a:pt x="20200" y="1400"/>
                </a:lnTo>
                <a:close/>
              </a:path>
              <a:path fill="darkenLess" w="21600" h="22327">
                <a:moveTo>
                  <a:pt x="21600" y="22327"/>
                </a:moveTo>
                <a:lnTo>
                  <a:pt x="0" y="22327"/>
                </a:lnTo>
                <a:lnTo>
                  <a:pt x="1400" y="20927"/>
                </a:lnTo>
                <a:lnTo>
                  <a:pt x="20200" y="20927"/>
                </a:lnTo>
                <a:close/>
              </a:path>
              <a:path fill="lighten" w="21600" h="22327">
                <a:moveTo>
                  <a:pt x="0" y="223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27"/>
                </a:lnTo>
                <a:close/>
              </a:path>
              <a:path fill="darken" w="21600" h="22327">
                <a:moveTo>
                  <a:pt x="3794" y="4157"/>
                </a:moveTo>
                <a:lnTo>
                  <a:pt x="17806" y="11163"/>
                </a:lnTo>
                <a:lnTo>
                  <a:pt x="3794" y="18170"/>
                </a:lnTo>
                <a:close/>
              </a:path>
            </a:pathLst>
          </a:cu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>
            <a:hlinkClick r:id="" action="ppaction://hlinkshowjump?jump=firstslide"/>
          </p:cNvPr>
          <p:cNvSpPr/>
          <p:nvPr/>
        </p:nvSpPr>
        <p:spPr>
          <a:xfrm>
            <a:off x="8021520" y="5943600"/>
            <a:ext cx="565200" cy="585720"/>
          </a:xfrm>
          <a:custGeom>
            <a:avLst/>
            <a:gdLst>
              <a:gd name="textAreaLeft" fmla="*/ 36360 w 565200"/>
              <a:gd name="textAreaRight" fmla="*/ 528840 w 565200"/>
              <a:gd name="textAreaTop" fmla="*/ 36360 h 585720"/>
              <a:gd name="textAreaBottom" fmla="*/ 549360 h 585720"/>
            </a:gdLst>
            <a:ahLst/>
            <a:rect l="textAreaLeft" t="textAreaTop" r="textAreaRight" b="textAreaBottom"/>
            <a:pathLst>
              <a:path w="21600" h="22384">
                <a:moveTo>
                  <a:pt x="0" y="0"/>
                </a:moveTo>
                <a:lnTo>
                  <a:pt x="21600" y="0"/>
                </a:lnTo>
                <a:lnTo>
                  <a:pt x="21600" y="22384"/>
                </a:lnTo>
                <a:lnTo>
                  <a:pt x="0" y="22384"/>
                </a:lnTo>
                <a:close/>
              </a:path>
              <a:path fill="lightenLess" w="21600" h="2238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84">
                <a:moveTo>
                  <a:pt x="21600" y="0"/>
                </a:moveTo>
                <a:lnTo>
                  <a:pt x="21600" y="22384"/>
                </a:lnTo>
                <a:lnTo>
                  <a:pt x="20200" y="20984"/>
                </a:lnTo>
                <a:lnTo>
                  <a:pt x="20200" y="1400"/>
                </a:lnTo>
                <a:close/>
              </a:path>
              <a:path fill="darkenLess" w="21600" h="22384">
                <a:moveTo>
                  <a:pt x="21600" y="22384"/>
                </a:moveTo>
                <a:lnTo>
                  <a:pt x="0" y="22384"/>
                </a:lnTo>
                <a:lnTo>
                  <a:pt x="1400" y="20984"/>
                </a:lnTo>
                <a:lnTo>
                  <a:pt x="20200" y="20984"/>
                </a:lnTo>
                <a:close/>
              </a:path>
              <a:path fill="lighten" w="21600" h="22384">
                <a:moveTo>
                  <a:pt x="0" y="2238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84"/>
                </a:lnTo>
                <a:close/>
              </a:path>
              <a:path fill="darken" w="21600" h="22384">
                <a:moveTo>
                  <a:pt x="7301" y="11192"/>
                </a:moveTo>
                <a:lnTo>
                  <a:pt x="17806" y="4185"/>
                </a:lnTo>
                <a:lnTo>
                  <a:pt x="17806" y="18198"/>
                </a:lnTo>
                <a:close/>
              </a:path>
              <a:path fill="darken" w="21600" h="22384">
                <a:moveTo>
                  <a:pt x="3794" y="4185"/>
                </a:moveTo>
                <a:lnTo>
                  <a:pt x="5456" y="4185"/>
                </a:lnTo>
                <a:lnTo>
                  <a:pt x="5456" y="18198"/>
                </a:lnTo>
                <a:lnTo>
                  <a:pt x="3794" y="18198"/>
                </a:lnTo>
                <a:close/>
              </a:path>
            </a:pathLst>
          </a:cu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5702760" y="2232000"/>
            <a:ext cx="111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prav_z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5688000" y="181944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prav_vy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7162560" y="5003640"/>
            <a:ext cx="114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Zvitok_kon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 rot="16200000">
            <a:off x="4287600" y="5561640"/>
            <a:ext cx="114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Zvitok_do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rot="16200000">
            <a:off x="4658400" y="5505840"/>
            <a:ext cx="122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Kulisa_vza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 rot="16200000">
            <a:off x="4921920" y="5490720"/>
            <a:ext cx="13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Kulisa_vpr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 rot="16200000">
            <a:off x="3802680" y="5740560"/>
            <a:ext cx="110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ojan_zav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 rot="16200000">
            <a:off x="2527920" y="5646240"/>
            <a:ext cx="117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ojan_otv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 rot="16200000">
            <a:off x="2014920" y="56642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tvor_stoj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 rot="16200000">
            <a:off x="1520640" y="5627520"/>
            <a:ext cx="126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Zatvor_stoj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051000" y="6257880"/>
            <a:ext cx="65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Kul_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757680" y="6272280"/>
            <a:ext cx="63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Kul_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"/>
          <p:cNvSpPr/>
          <p:nvPr/>
        </p:nvSpPr>
        <p:spPr>
          <a:xfrm>
            <a:off x="1143000" y="1587600"/>
            <a:ext cx="4419720" cy="49654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Z</a:t>
            </a:r>
            <a:r>
              <a:rPr b="1" lang="sk-SK" sz="4400" spc="-1" strike="noStrike">
                <a:solidFill>
                  <a:srgbClr val="221304"/>
                </a:solidFill>
                <a:latin typeface="Times New Roman"/>
              </a:rPr>
              <a:t>adanie</a:t>
            </a:r>
            <a:r>
              <a:rPr b="0" i="1" lang="sk-SK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1" lang="sk-SK" sz="4400" spc="-1" strike="noStrike">
                <a:solidFill>
                  <a:srgbClr val="221304"/>
                </a:solidFill>
                <a:latin typeface="Times New Roman"/>
              </a:rPr>
              <a:t>12</a:t>
            </a:r>
            <a:r>
              <a:rPr b="0" i="1" lang="sk-SK" sz="4400" spc="-1" strike="noStrike">
                <a:solidFill>
                  <a:srgbClr val="221304"/>
                </a:solidFill>
                <a:latin typeface="Times New Roman"/>
              </a:rPr>
              <a:t>: </a:t>
            </a:r>
            <a:r>
              <a:rPr b="1" i="1" lang="sk-SK" sz="4400" spc="-1" strike="noStrike">
                <a:solidFill>
                  <a:srgbClr val="221304"/>
                </a:solidFill>
                <a:latin typeface="Times New Roman"/>
              </a:rPr>
              <a:t>Letmé nožnic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3174840" y="2284560"/>
            <a:ext cx="1719360" cy="14436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174840" y="3243240"/>
            <a:ext cx="1719360" cy="14292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225960" y="2878200"/>
            <a:ext cx="156960" cy="35244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686480" y="2884320"/>
            <a:ext cx="155520" cy="34632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3251160" y="2419200"/>
            <a:ext cx="103320" cy="44640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4711680" y="2425680"/>
            <a:ext cx="103320" cy="44604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3435480" y="2448000"/>
            <a:ext cx="573120" cy="75960"/>
          </a:xfrm>
          <a:prstGeom prst="rect">
            <a:avLst/>
          </a:prstGeom>
          <a:solidFill>
            <a:srgbClr val="3694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3435480" y="3146400"/>
            <a:ext cx="573120" cy="71640"/>
          </a:xfrm>
          <a:prstGeom prst="rect">
            <a:avLst/>
          </a:prstGeom>
          <a:solidFill>
            <a:srgbClr val="3694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3487680" y="2523960"/>
            <a:ext cx="52560" cy="287640"/>
          </a:xfrm>
          <a:prstGeom prst="rect">
            <a:avLst/>
          </a:prstGeom>
          <a:solidFill>
            <a:srgbClr val="3694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3905280" y="2523960"/>
            <a:ext cx="50760" cy="287640"/>
          </a:xfrm>
          <a:prstGeom prst="rect">
            <a:avLst/>
          </a:prstGeom>
          <a:solidFill>
            <a:srgbClr val="fefde3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3465360" y="2827440"/>
            <a:ext cx="96840" cy="304560"/>
          </a:xfrm>
          <a:prstGeom prst="rect">
            <a:avLst/>
          </a:prstGeom>
          <a:solidFill>
            <a:srgbClr val="3694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3887640" y="2827440"/>
            <a:ext cx="96840" cy="311040"/>
          </a:xfrm>
          <a:prstGeom prst="rect">
            <a:avLst/>
          </a:prstGeom>
          <a:solidFill>
            <a:srgbClr val="3694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3743280" y="2535120"/>
            <a:ext cx="68400" cy="1904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3665520" y="2941560"/>
            <a:ext cx="69840" cy="1904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 rot="5400000">
            <a:off x="3745080" y="2729520"/>
            <a:ext cx="60480" cy="65160"/>
          </a:xfrm>
          <a:prstGeom prst="rtTriangl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 rot="16200000">
            <a:off x="3668400" y="2868480"/>
            <a:ext cx="60480" cy="66600"/>
          </a:xfrm>
          <a:prstGeom prst="rtTriangle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3936960" y="2305080"/>
            <a:ext cx="117360" cy="108000"/>
          </a:xfrm>
          <a:prstGeom prst="ellipse">
            <a:avLst/>
          </a:prstGeom>
          <a:solidFill>
            <a:srgbClr val="fefde3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1209600" y="2814480"/>
            <a:ext cx="389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1720800" y="3017880"/>
            <a:ext cx="768240" cy="323640"/>
          </a:xfrm>
          <a:prstGeom prst="rect">
            <a:avLst/>
          </a:prstGeom>
          <a:solidFill>
            <a:srgbClr val="fefde3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762200" y="3062160"/>
            <a:ext cx="679320" cy="241560"/>
          </a:xfrm>
          <a:prstGeom prst="rect">
            <a:avLst/>
          </a:prstGeom>
          <a:solidFill>
            <a:srgbClr val="59afcd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1879560" y="3075120"/>
            <a:ext cx="60480" cy="209520"/>
          </a:xfrm>
          <a:prstGeom prst="rect">
            <a:avLst/>
          </a:prstGeom>
          <a:solidFill>
            <a:srgbClr val="fefde3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963800" y="3182760"/>
            <a:ext cx="147312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1376280" y="2827440"/>
            <a:ext cx="144720" cy="133200"/>
          </a:xfrm>
          <a:prstGeom prst="ellipse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2629080" y="3208320"/>
            <a:ext cx="144360" cy="133200"/>
          </a:xfrm>
          <a:prstGeom prst="ellipse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 flipV="1">
            <a:off x="1452600" y="1905120"/>
            <a:ext cx="0" cy="91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 flipV="1">
            <a:off x="2697120" y="1904760"/>
            <a:ext cx="0" cy="1290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3368520" y="2324160"/>
            <a:ext cx="65160" cy="61920"/>
          </a:xfrm>
          <a:prstGeom prst="ellipse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1819440" y="3532320"/>
            <a:ext cx="566640" cy="191880"/>
          </a:xfrm>
          <a:prstGeom prst="rect">
            <a:avLst/>
          </a:prstGeom>
          <a:solidFill>
            <a:srgbClr val="59afcd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336760" y="3328920"/>
            <a:ext cx="0" cy="12060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1874880" y="3335400"/>
            <a:ext cx="0" cy="10152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1866960" y="3430440"/>
            <a:ext cx="111240" cy="10188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 flipH="1">
            <a:off x="2233080" y="3436920"/>
            <a:ext cx="103320" cy="9540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2219400" y="3730680"/>
            <a:ext cx="145800" cy="412560"/>
          </a:xfrm>
          <a:prstGeom prst="upArrow">
            <a:avLst>
              <a:gd name="adj1" fmla="val 50000"/>
              <a:gd name="adj2" fmla="val 70741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852560" y="3730680"/>
            <a:ext cx="146160" cy="412560"/>
          </a:xfrm>
          <a:prstGeom prst="upArrow">
            <a:avLst>
              <a:gd name="adj1" fmla="val 50000"/>
              <a:gd name="adj2" fmla="val 70567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4586400" y="2324160"/>
            <a:ext cx="64800" cy="61920"/>
          </a:xfrm>
          <a:prstGeom prst="ellipse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 flipV="1">
            <a:off x="3409920" y="1936440"/>
            <a:ext cx="0" cy="37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 flipV="1">
            <a:off x="4621320" y="1943280"/>
            <a:ext cx="0" cy="37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3500280" y="3597120"/>
            <a:ext cx="885960" cy="7621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873600" y="3666960"/>
            <a:ext cx="110880" cy="101880"/>
          </a:xfrm>
          <a:prstGeom prst="ellipse">
            <a:avLst/>
          </a:prstGeom>
          <a:solidFill>
            <a:srgbClr val="fefde3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838680" y="3648240"/>
            <a:ext cx="172800" cy="145800"/>
          </a:xfrm>
          <a:prstGeom prst="ellipse">
            <a:avLst/>
          </a:prstGeom>
          <a:solidFill>
            <a:srgbClr val="fefde3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H="1">
            <a:off x="3887280" y="2432160"/>
            <a:ext cx="41400" cy="119052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 flipH="1">
            <a:off x="3984120" y="2444760"/>
            <a:ext cx="41400" cy="119052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 flipV="1">
            <a:off x="3160800" y="3971520"/>
            <a:ext cx="809640" cy="622440"/>
          </a:xfrm>
          <a:prstGeom prst="line">
            <a:avLst/>
          </a:prstGeom>
          <a:ln w="19080">
            <a:solidFill>
              <a:srgbClr val="80808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2938320" y="5370480"/>
            <a:ext cx="430200" cy="368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3168720" y="4600440"/>
            <a:ext cx="0" cy="941400"/>
          </a:xfrm>
          <a:prstGeom prst="line">
            <a:avLst/>
          </a:prstGeom>
          <a:ln w="28440">
            <a:solidFill>
              <a:srgbClr val="80808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 rot="5400000">
            <a:off x="3732120" y="5532120"/>
            <a:ext cx="253800" cy="60480"/>
          </a:xfrm>
          <a:prstGeom prst="rect">
            <a:avLst/>
          </a:prstGeom>
          <a:solidFill>
            <a:srgbClr val="fefde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 rot="5400000">
            <a:off x="3622320" y="5449680"/>
            <a:ext cx="552240" cy="235080"/>
          </a:xfrm>
          <a:prstGeom prst="rect">
            <a:avLst/>
          </a:prstGeom>
          <a:solidFill>
            <a:srgbClr val="fefde3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 rot="5400000">
            <a:off x="3822480" y="5532480"/>
            <a:ext cx="253800" cy="60120"/>
          </a:xfrm>
          <a:prstGeom prst="rect">
            <a:avLst/>
          </a:prstGeom>
          <a:solidFill>
            <a:srgbClr val="fefde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213080" y="5256360"/>
            <a:ext cx="698760" cy="6174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3168720" y="5560920"/>
            <a:ext cx="1396800" cy="0"/>
          </a:xfrm>
          <a:prstGeom prst="line">
            <a:avLst/>
          </a:prstGeom>
          <a:ln w="28440">
            <a:solidFill>
              <a:srgbClr val="80808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 rot="16200000">
            <a:off x="2813760" y="5315400"/>
            <a:ext cx="507960" cy="484200"/>
          </a:xfrm>
          <a:prstGeom prst="blockArc">
            <a:avLst>
              <a:gd name="adj1" fmla="val 11960911"/>
              <a:gd name="adj2" fmla="val 20439089"/>
              <a:gd name="adj3" fmla="val 10611"/>
            </a:avLst>
          </a:prstGeom>
          <a:solidFill>
            <a:srgbClr val="fefde3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 flipH="1" rot="5400000">
            <a:off x="2978280" y="5315400"/>
            <a:ext cx="507960" cy="484200"/>
          </a:xfrm>
          <a:prstGeom prst="blockArc">
            <a:avLst>
              <a:gd name="adj1" fmla="val 12011885"/>
              <a:gd name="adj2" fmla="val 20388115"/>
              <a:gd name="adj3" fmla="val 8889"/>
            </a:avLst>
          </a:prstGeom>
          <a:solidFill>
            <a:srgbClr val="fefde3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1978200" y="5541840"/>
            <a:ext cx="0" cy="83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1978200" y="554184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4032360" y="3513240"/>
            <a:ext cx="66600" cy="61920"/>
          </a:xfrm>
          <a:prstGeom prst="ellipse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3444840" y="3749760"/>
            <a:ext cx="65160" cy="60120"/>
          </a:xfrm>
          <a:prstGeom prst="ellipse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3611520" y="4282920"/>
            <a:ext cx="65160" cy="60480"/>
          </a:xfrm>
          <a:prstGeom prst="ellipse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3838680" y="3882960"/>
            <a:ext cx="230040" cy="235080"/>
          </a:xfrm>
          <a:custGeom>
            <a:avLst/>
            <a:gdLst>
              <a:gd name="textAreaLeft" fmla="*/ 0 w 230040"/>
              <a:gd name="textAreaRight" fmla="*/ 230400 w 23004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21600" h="21600">
                <a:moveTo>
                  <a:pt x="3447" y="10781"/>
                </a:moveTo>
                <a:arcTo wR="-7353" hR="-7353" stAng="-10791118" swAng="-10808882"/>
                <a:lnTo>
                  <a:pt x="0" y="10800"/>
                </a:lnTo>
                <a:arcTo wR="10800" hR="10800" stAng="10800000" swAng="10808882"/>
                <a:lnTo>
                  <a:pt x="24300" y="10835"/>
                </a:lnTo>
                <a:lnTo>
                  <a:pt x="19865" y="15247"/>
                </a:lnTo>
                <a:lnTo>
                  <a:pt x="15453" y="10812"/>
                </a:lnTo>
                <a:close/>
              </a:path>
            </a:pathLst>
          </a:cu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4114800" y="3538440"/>
            <a:ext cx="88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5008680" y="3532320"/>
            <a:ext cx="0" cy="2868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3652920" y="4352760"/>
            <a:ext cx="0" cy="2048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2629080" y="378144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2635200" y="3787920"/>
            <a:ext cx="0" cy="260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1879560" y="2624040"/>
            <a:ext cx="249120" cy="133560"/>
          </a:xfrm>
          <a:prstGeom prst="rightArrow">
            <a:avLst>
              <a:gd name="adj1" fmla="val 50000"/>
              <a:gd name="adj2" fmla="val 46631"/>
            </a:avLst>
          </a:prstGeom>
          <a:solidFill>
            <a:srgbClr val="fefde3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3002040" y="5776920"/>
            <a:ext cx="131760" cy="29376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 flipH="1">
            <a:off x="3187800" y="5764320"/>
            <a:ext cx="125280" cy="31248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3036960" y="6070680"/>
            <a:ext cx="234720" cy="60120"/>
          </a:xfrm>
          <a:prstGeom prst="rect">
            <a:avLst/>
          </a:prstGeom>
          <a:solidFill>
            <a:srgbClr val="fefde3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 flipV="1">
            <a:off x="3063960" y="5815080"/>
            <a:ext cx="41040" cy="7776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3105000" y="5821200"/>
            <a:ext cx="41400" cy="7812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 flipV="1">
            <a:off x="3154320" y="5820840"/>
            <a:ext cx="41400" cy="7812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3195720" y="5827680"/>
            <a:ext cx="41040" cy="7776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3624120" y="2451240"/>
            <a:ext cx="201600" cy="61920"/>
          </a:xfrm>
          <a:prstGeom prst="leftRightArrow">
            <a:avLst>
              <a:gd name="adj1" fmla="val 50000"/>
              <a:gd name="adj2" fmla="val 64815"/>
            </a:avLst>
          </a:prstGeom>
          <a:solidFill>
            <a:srgbClr val="3694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840" bIns="-15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4081320" y="2955960"/>
            <a:ext cx="65160" cy="146160"/>
          </a:xfrm>
          <a:prstGeom prst="upDownArrow">
            <a:avLst>
              <a:gd name="adj1" fmla="val 50000"/>
              <a:gd name="adj2" fmla="val 44654"/>
            </a:avLst>
          </a:prstGeom>
          <a:solidFill>
            <a:srgbClr val="3694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1992240" y="3354480"/>
            <a:ext cx="200160" cy="60120"/>
          </a:xfrm>
          <a:prstGeom prst="leftRightArrow">
            <a:avLst>
              <a:gd name="adj1" fmla="val 50000"/>
              <a:gd name="adj2" fmla="val 66279"/>
            </a:avLst>
          </a:prstGeom>
          <a:solidFill>
            <a:srgbClr val="fefde3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4246560" y="4989600"/>
            <a:ext cx="636480" cy="272880"/>
          </a:xfrm>
          <a:prstGeom prst="rect">
            <a:avLst/>
          </a:pr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808080"/>
                </a:solidFill>
                <a:latin typeface="Times New Roman"/>
              </a:rPr>
              <a:t>Zotrvační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808080"/>
                </a:solidFill>
                <a:latin typeface="Times New Roman"/>
              </a:rPr>
              <a:t>Mo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3340080" y="5154480"/>
            <a:ext cx="63648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808080"/>
                </a:solidFill>
                <a:latin typeface="Times New Roman"/>
              </a:rPr>
              <a:t>Brz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4191120" y="5065560"/>
            <a:ext cx="63648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808080"/>
                </a:solidFill>
                <a:latin typeface="Times New Roman"/>
              </a:rPr>
              <a:t>Spojk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3762360" y="4359240"/>
            <a:ext cx="63648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808080"/>
                </a:solidFill>
                <a:latin typeface="Times New Roman"/>
              </a:rPr>
              <a:t>Kulis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 flipV="1">
            <a:off x="3936960" y="5880240"/>
            <a:ext cx="0" cy="48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679400" y="2832120"/>
            <a:ext cx="1005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808080"/>
                </a:solidFill>
                <a:latin typeface="Times New Roman"/>
              </a:rPr>
              <a:t>Hydromo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2770200" y="3392640"/>
            <a:ext cx="105264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808080"/>
                </a:solidFill>
                <a:latin typeface="Times New Roman"/>
              </a:rPr>
              <a:t>Lôžko nožní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2116080" y="2604960"/>
            <a:ext cx="44928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808080"/>
                </a:solidFill>
                <a:latin typeface="Times New Roman"/>
              </a:rPr>
              <a:t>Pá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3984480" y="2541600"/>
            <a:ext cx="63684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808080"/>
                </a:solidFill>
                <a:latin typeface="Times New Roman"/>
              </a:rPr>
              <a:t>Su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3978360" y="3333600"/>
            <a:ext cx="131580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808080"/>
                </a:solidFill>
                <a:latin typeface="Times New Roman"/>
              </a:rPr>
              <a:t>Ojnica  nožní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3448080" y="18064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Z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4629600" y="18064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237320" y="418140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p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930320" y="41958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z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3919680" y="60548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pojk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1236600" y="6054840"/>
            <a:ext cx="7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rz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4968720" y="6040440"/>
            <a:ext cx="66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l_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1958760" y="6040440"/>
            <a:ext cx="66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l_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2930400" y="6157800"/>
            <a:ext cx="66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l_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1118880" y="1614600"/>
            <a:ext cx="9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mp_p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2240280" y="1614600"/>
            <a:ext cx="94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mp_s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600" spc="-1" strike="noStrike">
                <a:solidFill>
                  <a:srgbClr val="221304"/>
                </a:solidFill>
                <a:latin typeface="Times New Roman"/>
              </a:rPr>
              <a:t>p</a:t>
            </a:r>
            <a:r>
              <a:rPr b="1" i="1" lang="en-US" sz="1600" spc="-1" strike="noStrike">
                <a:solidFill>
                  <a:srgbClr val="221304"/>
                </a:solidFill>
                <a:latin typeface="Times New Roman"/>
              </a:rPr>
              <a:t>okra</a:t>
            </a:r>
            <a:r>
              <a:rPr b="1" i="1" lang="sk-SK" sz="1600" spc="-1" strike="noStrike">
                <a:solidFill>
                  <a:srgbClr val="221304"/>
                </a:solidFill>
                <a:latin typeface="Times New Roman"/>
              </a:rPr>
              <a:t>čovanie zadania</a:t>
            </a:r>
            <a:endParaRPr b="0" lang="en-US" sz="16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"/>
          <p:cNvSpPr/>
          <p:nvPr/>
        </p:nvSpPr>
        <p:spPr>
          <a:xfrm>
            <a:off x="990720" y="1447920"/>
            <a:ext cx="7848360" cy="54100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Z</a:t>
            </a:r>
            <a:r>
              <a:rPr b="1" lang="sk-SK" sz="4400" spc="-1" strike="noStrike">
                <a:solidFill>
                  <a:srgbClr val="221304"/>
                </a:solidFill>
                <a:latin typeface="Times New Roman"/>
              </a:rPr>
              <a:t>adanie 13:</a:t>
            </a:r>
            <a:r>
              <a:rPr b="1" i="1" lang="sk-SK" sz="4400" spc="-1" strike="noStrike">
                <a:solidFill>
                  <a:srgbClr val="221304"/>
                </a:solidFill>
                <a:latin typeface="Times New Roman"/>
              </a:rPr>
              <a:t>Perlitová linka</a:t>
            </a:r>
            <a:r>
              <a:rPr b="0" i="1" lang="sk-SK" sz="4400" spc="-1" strike="noStrike">
                <a:solidFill>
                  <a:srgbClr val="221304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 rot="16200000">
            <a:off x="4181400" y="-63720"/>
            <a:ext cx="452520" cy="5709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 rot="16200000">
            <a:off x="598320" y="2063160"/>
            <a:ext cx="1420920" cy="487440"/>
          </a:xfrm>
          <a:custGeom>
            <a:avLst/>
            <a:gdLst/>
            <a:ahLst/>
            <a:rect l="l" t="t" r="r" b="b"/>
            <a:pathLst>
              <a:path w="2712" h="791">
                <a:moveTo>
                  <a:pt x="0" y="791"/>
                </a:moveTo>
                <a:lnTo>
                  <a:pt x="0" y="339"/>
                </a:lnTo>
                <a:lnTo>
                  <a:pt x="339" y="0"/>
                </a:lnTo>
                <a:lnTo>
                  <a:pt x="2373" y="0"/>
                </a:lnTo>
                <a:lnTo>
                  <a:pt x="2712" y="339"/>
                </a:lnTo>
                <a:lnTo>
                  <a:pt x="2712" y="791"/>
                </a:lnTo>
                <a:lnTo>
                  <a:pt x="0" y="791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 flipV="1" rot="16200000">
            <a:off x="6084720" y="3743280"/>
            <a:ext cx="2843280" cy="487440"/>
          </a:xfrm>
          <a:custGeom>
            <a:avLst/>
            <a:gdLst/>
            <a:ahLst/>
            <a:rect l="l" t="t" r="r" b="b"/>
            <a:pathLst>
              <a:path w="2712" h="791">
                <a:moveTo>
                  <a:pt x="0" y="791"/>
                </a:moveTo>
                <a:lnTo>
                  <a:pt x="0" y="339"/>
                </a:lnTo>
                <a:lnTo>
                  <a:pt x="339" y="0"/>
                </a:lnTo>
                <a:lnTo>
                  <a:pt x="2373" y="0"/>
                </a:lnTo>
                <a:lnTo>
                  <a:pt x="2712" y="339"/>
                </a:lnTo>
                <a:lnTo>
                  <a:pt x="2712" y="791"/>
                </a:lnTo>
                <a:lnTo>
                  <a:pt x="0" y="791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 rot="16200000">
            <a:off x="1389960" y="1802160"/>
            <a:ext cx="517320" cy="366840"/>
          </a:xfrm>
          <a:custGeom>
            <a:avLst/>
            <a:gdLst>
              <a:gd name="textAreaLeft" fmla="*/ 113760 w 517320"/>
              <a:gd name="textAreaRight" fmla="*/ 403560 w 517320"/>
              <a:gd name="textAreaTop" fmla="*/ 80640 h 366840"/>
              <a:gd name="textAreaBottom" fmla="*/ 286200 h 366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 rot="16200000">
            <a:off x="1771560" y="1846080"/>
            <a:ext cx="258840" cy="2775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 rot="16200000">
            <a:off x="2387520" y="1966320"/>
            <a:ext cx="452520" cy="487440"/>
          </a:xfrm>
          <a:prstGeom prst="ellipse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1900080" y="1984320"/>
            <a:ext cx="766800" cy="258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2857680" y="2244600"/>
            <a:ext cx="834840" cy="0"/>
          </a:xfrm>
          <a:prstGeom prst="line">
            <a:avLst/>
          </a:prstGeom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 flipV="1">
            <a:off x="3065400" y="1790280"/>
            <a:ext cx="0" cy="45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 flipV="1">
            <a:off x="3274920" y="1790280"/>
            <a:ext cx="0" cy="45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3484440" y="1790640"/>
            <a:ext cx="0" cy="45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3692520" y="1790640"/>
            <a:ext cx="0" cy="45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 rot="18024600">
            <a:off x="1850760" y="1712520"/>
            <a:ext cx="257400" cy="1587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 rot="16200000">
            <a:off x="3375000" y="4493880"/>
            <a:ext cx="258840" cy="2775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 rot="14733000">
            <a:off x="1128600" y="3295080"/>
            <a:ext cx="2795400" cy="138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 flipH="1" rot="16200000">
            <a:off x="3161520" y="4493160"/>
            <a:ext cx="128520" cy="279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 rot="16200000">
            <a:off x="5025960" y="4278240"/>
            <a:ext cx="645840" cy="1741320"/>
          </a:xfrm>
          <a:prstGeom prst="rect">
            <a:avLst/>
          </a:prstGeom>
          <a:solidFill>
            <a:srgbClr val="3694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 rot="16200000">
            <a:off x="5024160" y="3244320"/>
            <a:ext cx="646200" cy="174168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 rot="16200000">
            <a:off x="6368760" y="5527080"/>
            <a:ext cx="258840" cy="277920"/>
          </a:xfrm>
          <a:prstGeom prst="ellipse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 rot="16200000">
            <a:off x="6438960" y="5010120"/>
            <a:ext cx="258480" cy="277920"/>
          </a:xfrm>
          <a:prstGeom prst="ellipse">
            <a:avLst/>
          </a:prstGeom>
          <a:solidFill>
            <a:srgbClr val="3694b6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 rot="16200000">
            <a:off x="6437160" y="3976200"/>
            <a:ext cx="258840" cy="277920"/>
          </a:xfrm>
          <a:prstGeom prst="ellipse">
            <a:avLst/>
          </a:prstGeom>
          <a:solidFill>
            <a:srgbClr val="996600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 flipV="1" rot="16200000">
            <a:off x="6035760" y="5010120"/>
            <a:ext cx="645840" cy="277920"/>
          </a:xfrm>
          <a:prstGeom prst="triangle">
            <a:avLst>
              <a:gd name="adj" fmla="val 50000"/>
            </a:avLst>
          </a:prstGeom>
          <a:solidFill>
            <a:srgbClr val="3694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 flipV="1" rot="16200000">
            <a:off x="6033960" y="3975840"/>
            <a:ext cx="646200" cy="277920"/>
          </a:xfrm>
          <a:prstGeom prst="triangle">
            <a:avLst>
              <a:gd name="adj" fmla="val 50000"/>
            </a:avLst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 rot="16200000">
            <a:off x="6780960" y="4942080"/>
            <a:ext cx="129960" cy="417600"/>
          </a:xfrm>
          <a:prstGeom prst="rect">
            <a:avLst/>
          </a:prstGeom>
          <a:solidFill>
            <a:srgbClr val="3694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 rot="16200000">
            <a:off x="6779160" y="3909240"/>
            <a:ext cx="130320" cy="41724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 rot="16200000">
            <a:off x="4016520" y="5010120"/>
            <a:ext cx="645840" cy="277920"/>
          </a:xfrm>
          <a:prstGeom prst="triangle">
            <a:avLst>
              <a:gd name="adj" fmla="val 50000"/>
            </a:avLst>
          </a:prstGeom>
          <a:solidFill>
            <a:srgbClr val="3694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 rot="16200000">
            <a:off x="4014720" y="3976560"/>
            <a:ext cx="646200" cy="277560"/>
          </a:xfrm>
          <a:prstGeom prst="triangle">
            <a:avLst>
              <a:gd name="adj" fmla="val 50000"/>
            </a:avLst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 rot="13464600">
            <a:off x="3483000" y="4873320"/>
            <a:ext cx="696960" cy="129960"/>
          </a:xfrm>
          <a:prstGeom prst="rect">
            <a:avLst/>
          </a:prstGeom>
          <a:solidFill>
            <a:srgbClr val="3694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 rot="18866400">
            <a:off x="3527280" y="4239720"/>
            <a:ext cx="646200" cy="13824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 rot="16200000">
            <a:off x="4204440" y="4942080"/>
            <a:ext cx="129960" cy="417600"/>
          </a:xfrm>
          <a:prstGeom prst="rect">
            <a:avLst/>
          </a:prstGeom>
          <a:solidFill>
            <a:srgbClr val="3694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 rot="16200000">
            <a:off x="4202640" y="3909240"/>
            <a:ext cx="130320" cy="41724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 rot="16200000">
            <a:off x="3235320" y="5010120"/>
            <a:ext cx="258480" cy="277560"/>
          </a:xfrm>
          <a:prstGeom prst="ellipse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 rot="16200000">
            <a:off x="6367680" y="3460680"/>
            <a:ext cx="258480" cy="277920"/>
          </a:xfrm>
          <a:prstGeom prst="ellipse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 flipV="1">
            <a:off x="3365640" y="4633920"/>
            <a:ext cx="137880" cy="517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 flipV="1">
            <a:off x="6497640" y="5149440"/>
            <a:ext cx="69840" cy="515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 flipH="1" flipV="1">
            <a:off x="6496200" y="3600360"/>
            <a:ext cx="69840" cy="517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2389320" y="5151600"/>
            <a:ext cx="836640" cy="0"/>
          </a:xfrm>
          <a:prstGeom prst="line">
            <a:avLst/>
          </a:prstGeom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5522760" y="5667480"/>
            <a:ext cx="836640" cy="0"/>
          </a:xfrm>
          <a:prstGeom prst="line">
            <a:avLst/>
          </a:prstGeom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5521320" y="3600360"/>
            <a:ext cx="836640" cy="0"/>
          </a:xfrm>
          <a:prstGeom prst="line">
            <a:avLst/>
          </a:prstGeom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 flipV="1">
            <a:off x="2459160" y="5216040"/>
            <a:ext cx="0" cy="45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 flipV="1">
            <a:off x="2668680" y="5216040"/>
            <a:ext cx="0" cy="45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2876400" y="5216400"/>
            <a:ext cx="0" cy="45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3086280" y="5216400"/>
            <a:ext cx="0" cy="45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 flipV="1">
            <a:off x="5592600" y="5665320"/>
            <a:ext cx="0" cy="45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 flipV="1">
            <a:off x="5802480" y="5665320"/>
            <a:ext cx="0" cy="45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6010200" y="5730840"/>
            <a:ext cx="0" cy="45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6219720" y="5730840"/>
            <a:ext cx="0" cy="45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 flipV="1">
            <a:off x="5591160" y="3149640"/>
            <a:ext cx="0" cy="45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 flipV="1">
            <a:off x="5800680" y="3149640"/>
            <a:ext cx="0" cy="45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6008760" y="3149640"/>
            <a:ext cx="0" cy="45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6218280" y="3149640"/>
            <a:ext cx="0" cy="45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 rot="16200000">
            <a:off x="7538040" y="2100960"/>
            <a:ext cx="387360" cy="417240"/>
          </a:xfrm>
          <a:prstGeom prst="ellipse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 flipH="1">
            <a:off x="7383240" y="2309040"/>
            <a:ext cx="347400" cy="451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6686640" y="2309760"/>
            <a:ext cx="836640" cy="0"/>
          </a:xfrm>
          <a:prstGeom prst="line">
            <a:avLst/>
          </a:prstGeom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6756480" y="1855800"/>
            <a:ext cx="0" cy="45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6966000" y="1855800"/>
            <a:ext cx="0" cy="45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 flipV="1">
            <a:off x="7174080" y="1855440"/>
            <a:ext cx="0" cy="45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 flipV="1">
            <a:off x="5942160" y="4697280"/>
            <a:ext cx="0" cy="32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 flipV="1">
            <a:off x="4687920" y="4697280"/>
            <a:ext cx="0" cy="32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4686480" y="4246560"/>
            <a:ext cx="0" cy="3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5940360" y="4246560"/>
            <a:ext cx="0" cy="3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 rot="16200000">
            <a:off x="7060320" y="5337360"/>
            <a:ext cx="128520" cy="139680"/>
          </a:xfrm>
          <a:prstGeom prst="ellipse">
            <a:avLst/>
          </a:prstGeom>
          <a:solidFill>
            <a:srgbClr val="fefde3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 rot="16200000">
            <a:off x="7338960" y="5855760"/>
            <a:ext cx="129960" cy="139680"/>
          </a:xfrm>
          <a:prstGeom prst="ellipse">
            <a:avLst/>
          </a:prstGeom>
          <a:solidFill>
            <a:srgbClr val="fefde3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 flipH="1" flipV="1">
            <a:off x="7054920" y="5408280"/>
            <a:ext cx="279360" cy="5158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 flipH="1" flipV="1">
            <a:off x="7194600" y="5408280"/>
            <a:ext cx="279360" cy="5158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 rot="16200000">
            <a:off x="7761240" y="5333760"/>
            <a:ext cx="258840" cy="277560"/>
          </a:xfrm>
          <a:prstGeom prst="ellipse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 flipV="1">
            <a:off x="7404120" y="5471640"/>
            <a:ext cx="487440" cy="45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8029440" y="6249960"/>
            <a:ext cx="696960" cy="0"/>
          </a:xfrm>
          <a:prstGeom prst="line">
            <a:avLst/>
          </a:prstGeom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 flipV="1">
            <a:off x="8302680" y="5768640"/>
            <a:ext cx="0" cy="45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8518680" y="5796000"/>
            <a:ext cx="0" cy="45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8726400" y="5796000"/>
            <a:ext cx="0" cy="45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 flipV="1" rot="16200000">
            <a:off x="6726960" y="5910120"/>
            <a:ext cx="517320" cy="417600"/>
          </a:xfrm>
          <a:prstGeom prst="flowChartManualInpu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 flipV="1">
            <a:off x="7054920" y="5859000"/>
            <a:ext cx="0" cy="452520"/>
          </a:xfrm>
          <a:prstGeom prst="line">
            <a:avLst/>
          </a:prstGeom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 rot="16200000">
            <a:off x="7761240" y="6108480"/>
            <a:ext cx="258840" cy="277560"/>
          </a:xfrm>
          <a:prstGeom prst="ellipse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7054920" y="5989680"/>
            <a:ext cx="836640" cy="25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8029440" y="5473800"/>
            <a:ext cx="696960" cy="0"/>
          </a:xfrm>
          <a:prstGeom prst="line">
            <a:avLst/>
          </a:prstGeom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V="1">
            <a:off x="8302680" y="5005440"/>
            <a:ext cx="0" cy="45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8518680" y="5019840"/>
            <a:ext cx="0" cy="45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8726400" y="5019840"/>
            <a:ext cx="0" cy="45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 flipH="1" flipV="1">
            <a:off x="5244840" y="4826160"/>
            <a:ext cx="207720" cy="64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 flipH="1" flipV="1">
            <a:off x="5243400" y="3792240"/>
            <a:ext cx="208080" cy="64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 rot="16200000">
            <a:off x="7411320" y="5079240"/>
            <a:ext cx="193680" cy="208080"/>
          </a:xfrm>
          <a:prstGeom prst="ellipse">
            <a:avLst/>
          </a:prstGeom>
          <a:solidFill>
            <a:srgbClr val="fefde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 rot="16200000">
            <a:off x="7408800" y="2946240"/>
            <a:ext cx="195120" cy="207720"/>
          </a:xfrm>
          <a:prstGeom prst="ellipse">
            <a:avLst/>
          </a:prstGeom>
          <a:solidFill>
            <a:srgbClr val="fefde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 rot="16200000">
            <a:off x="7270560" y="2688840"/>
            <a:ext cx="193680" cy="209880"/>
          </a:xfrm>
          <a:prstGeom prst="ellipse">
            <a:avLst/>
          </a:prstGeom>
          <a:solidFill>
            <a:srgbClr val="fefde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 rot="16200000">
            <a:off x="1212120" y="2689920"/>
            <a:ext cx="193680" cy="208080"/>
          </a:xfrm>
          <a:prstGeom prst="ellipse">
            <a:avLst/>
          </a:prstGeom>
          <a:solidFill>
            <a:srgbClr val="fefde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 flipV="1">
            <a:off x="7402680" y="3083040"/>
            <a:ext cx="0" cy="2131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 flipV="1">
            <a:off x="7610400" y="3083040"/>
            <a:ext cx="0" cy="2131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1343160" y="2890800"/>
            <a:ext cx="59896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1343160" y="2697120"/>
            <a:ext cx="59896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 flipV="1">
            <a:off x="7540560" y="2307960"/>
            <a:ext cx="209520" cy="709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 flipV="1">
            <a:off x="1343160" y="2242800"/>
            <a:ext cx="209520" cy="4525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 rot="16200000">
            <a:off x="3479040" y="4595040"/>
            <a:ext cx="64800" cy="69840"/>
          </a:xfrm>
          <a:prstGeom prst="ellipse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 rot="16200000">
            <a:off x="1869120" y="1953000"/>
            <a:ext cx="65160" cy="69840"/>
          </a:xfrm>
          <a:prstGeom prst="ellipse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 rot="16200000">
            <a:off x="6536160" y="4080240"/>
            <a:ext cx="65160" cy="69840"/>
          </a:xfrm>
          <a:prstGeom prst="ellipse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 rot="16200000">
            <a:off x="6547320" y="5116680"/>
            <a:ext cx="65160" cy="69840"/>
          </a:xfrm>
          <a:prstGeom prst="ellipse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 rot="16200000">
            <a:off x="4650480" y="4165920"/>
            <a:ext cx="65160" cy="69840"/>
          </a:xfrm>
          <a:prstGeom prst="ellipse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 rot="16200000">
            <a:off x="4642920" y="5006160"/>
            <a:ext cx="64800" cy="69840"/>
          </a:xfrm>
          <a:prstGeom prst="ellipse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 rot="16200000">
            <a:off x="5918760" y="5023080"/>
            <a:ext cx="65160" cy="69840"/>
          </a:xfrm>
          <a:prstGeom prst="ellipse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 rot="16200000">
            <a:off x="5917320" y="4165920"/>
            <a:ext cx="65160" cy="69840"/>
          </a:xfrm>
          <a:prstGeom prst="ellipse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 flipV="1">
            <a:off x="6581880" y="5046840"/>
            <a:ext cx="0" cy="20448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 flipV="1">
            <a:off x="6570720" y="4009680"/>
            <a:ext cx="0" cy="20628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 flipH="1" flipV="1">
            <a:off x="1809360" y="1898640"/>
            <a:ext cx="166680" cy="1634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3401280" y="4575240"/>
            <a:ext cx="212760" cy="93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 rot="16200000">
            <a:off x="2199600" y="5358600"/>
            <a:ext cx="3254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808080"/>
                </a:solidFill>
                <a:latin typeface="Times New Roman"/>
              </a:rPr>
              <a:t>Z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 rot="16200000">
            <a:off x="2420280" y="5344200"/>
            <a:ext cx="3268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808080"/>
                </a:solidFill>
                <a:latin typeface="Times New Roman"/>
              </a:rPr>
              <a:t>Z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 rot="16200000">
            <a:off x="2548800" y="5229720"/>
            <a:ext cx="53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808080"/>
                </a:solidFill>
                <a:latin typeface="Times New Roman"/>
              </a:rPr>
              <a:t>POL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 rot="16200000">
            <a:off x="2743200" y="5222520"/>
            <a:ext cx="5317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808080"/>
                </a:solidFill>
                <a:latin typeface="Times New Roman"/>
              </a:rPr>
              <a:t>POL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 rot="16200000">
            <a:off x="2741760" y="1887120"/>
            <a:ext cx="5317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808080"/>
                </a:solidFill>
                <a:latin typeface="Times New Roman"/>
              </a:rPr>
              <a:t>POL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 rot="16200000">
            <a:off x="2935440" y="1887120"/>
            <a:ext cx="5317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808080"/>
                </a:solidFill>
                <a:latin typeface="Times New Roman"/>
              </a:rPr>
              <a:t>POL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 rot="16200000">
            <a:off x="3189960" y="1843920"/>
            <a:ext cx="41112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808080"/>
                </a:solidFill>
                <a:latin typeface="Times New Roman"/>
              </a:rPr>
              <a:t>Z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 rot="16200000">
            <a:off x="3394080" y="1827000"/>
            <a:ext cx="446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808080"/>
                </a:solidFill>
                <a:latin typeface="Times New Roman"/>
              </a:rPr>
              <a:t>VY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 rot="16200000">
            <a:off x="4288320" y="4102200"/>
            <a:ext cx="50652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MAX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 rot="16200000">
            <a:off x="4253760" y="4928040"/>
            <a:ext cx="5238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MAX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 rot="16200000">
            <a:off x="5520240" y="4942080"/>
            <a:ext cx="52236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MIN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 rot="16200000">
            <a:off x="5518800" y="4042080"/>
            <a:ext cx="52236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MIN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 rot="16200000">
            <a:off x="5206320" y="5877720"/>
            <a:ext cx="52200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808080"/>
                </a:solidFill>
                <a:latin typeface="Times New Roman"/>
              </a:rPr>
              <a:t>OTV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 rot="16200000">
            <a:off x="5657040" y="3178800"/>
            <a:ext cx="5238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808080"/>
                </a:solidFill>
                <a:latin typeface="Times New Roman"/>
              </a:rPr>
              <a:t>OTV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 rot="16200000">
            <a:off x="5390280" y="5821560"/>
            <a:ext cx="61740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808080"/>
                </a:solidFill>
                <a:latin typeface="Times New Roman"/>
              </a:rPr>
              <a:t>ZATV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 rot="16200000">
            <a:off x="5804640" y="3147120"/>
            <a:ext cx="61776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808080"/>
                </a:solidFill>
                <a:latin typeface="Times New Roman"/>
              </a:rPr>
              <a:t>ZATV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 rot="16200000">
            <a:off x="5668920" y="5810040"/>
            <a:ext cx="52236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808080"/>
                </a:solidFill>
                <a:latin typeface="Times New Roman"/>
              </a:rPr>
              <a:t>OT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 rot="16200000">
            <a:off x="5231520" y="3178440"/>
            <a:ext cx="52380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808080"/>
                </a:solidFill>
                <a:latin typeface="Times New Roman"/>
              </a:rPr>
              <a:t>OT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 rot="16200000">
            <a:off x="5797440" y="5814360"/>
            <a:ext cx="61596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808080"/>
                </a:solidFill>
                <a:latin typeface="Times New Roman"/>
              </a:rPr>
              <a:t>ZAT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 rot="16200000">
            <a:off x="5388480" y="3147120"/>
            <a:ext cx="6177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808080"/>
                </a:solidFill>
                <a:latin typeface="Times New Roman"/>
              </a:rPr>
              <a:t>ZAT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 rot="16200000">
            <a:off x="7866720" y="5033160"/>
            <a:ext cx="61776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808080"/>
                </a:solidFill>
                <a:latin typeface="Times New Roman"/>
              </a:rPr>
              <a:t>CHOD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 rot="16200000">
            <a:off x="7848360" y="5805360"/>
            <a:ext cx="61776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808080"/>
                </a:solidFill>
                <a:latin typeface="Times New Roman"/>
              </a:rPr>
              <a:t>CHOD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 rot="16200000">
            <a:off x="8117640" y="5026680"/>
            <a:ext cx="61596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808080"/>
                </a:solidFill>
                <a:latin typeface="Times New Roman"/>
              </a:rPr>
              <a:t>VYP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 rot="16200000">
            <a:off x="8116920" y="5736960"/>
            <a:ext cx="6174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808080"/>
                </a:solidFill>
                <a:latin typeface="Times New Roman"/>
              </a:rPr>
              <a:t>VYP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 rot="16200000">
            <a:off x="8338320" y="5753880"/>
            <a:ext cx="61776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808080"/>
                </a:solidFill>
                <a:latin typeface="Times New Roman"/>
              </a:rPr>
              <a:t>ZAP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 rot="16200000">
            <a:off x="8338320" y="5015160"/>
            <a:ext cx="61740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808080"/>
                </a:solidFill>
                <a:latin typeface="Times New Roman"/>
              </a:rPr>
              <a:t>ZAP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 rot="16200000">
            <a:off x="6774480" y="1929600"/>
            <a:ext cx="61776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808080"/>
                </a:solidFill>
                <a:latin typeface="Times New Roman"/>
              </a:rPr>
              <a:t>CHOD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 rot="16200000">
            <a:off x="6543360" y="1887480"/>
            <a:ext cx="61776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808080"/>
                </a:solidFill>
                <a:latin typeface="Times New Roman"/>
              </a:rPr>
              <a:t>VYP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 rot="16200000">
            <a:off x="6330600" y="1852560"/>
            <a:ext cx="61776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808080"/>
                </a:solidFill>
                <a:latin typeface="Times New Roman"/>
              </a:rPr>
              <a:t>ZAP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 rot="16200000">
            <a:off x="6236280" y="5725080"/>
            <a:ext cx="4032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808080"/>
                </a:solidFill>
                <a:latin typeface="Times New Roman"/>
              </a:rPr>
              <a:t>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 rot="16200000">
            <a:off x="7650720" y="5828400"/>
            <a:ext cx="4032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808080"/>
                </a:solidFill>
                <a:latin typeface="Times New Roman"/>
              </a:rPr>
              <a:t>M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 rot="16200000">
            <a:off x="7696800" y="5056920"/>
            <a:ext cx="4032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808080"/>
                </a:solidFill>
                <a:latin typeface="Times New Roman"/>
              </a:rPr>
              <a:t>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 rot="16200000">
            <a:off x="7844760" y="2199240"/>
            <a:ext cx="40140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808080"/>
                </a:solidFill>
                <a:latin typeface="Times New Roman"/>
              </a:rPr>
              <a:t>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 rot="16200000">
            <a:off x="6309360" y="3142440"/>
            <a:ext cx="40176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808080"/>
                </a:solidFill>
                <a:latin typeface="Times New Roman"/>
              </a:rPr>
              <a:t>S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 rot="16200000">
            <a:off x="3195720" y="5321160"/>
            <a:ext cx="40320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808080"/>
                </a:solidFill>
                <a:latin typeface="Times New Roman"/>
              </a:rPr>
              <a:t>S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 rot="16200000">
            <a:off x="2185920" y="1771560"/>
            <a:ext cx="40320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808080"/>
                </a:solidFill>
                <a:latin typeface="Times New Roman"/>
              </a:rPr>
              <a:t>S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8510760" y="1698480"/>
            <a:ext cx="0" cy="87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 flipV="1">
            <a:off x="8717040" y="1669680"/>
            <a:ext cx="0" cy="888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 rot="16200000">
            <a:off x="7983360" y="1947960"/>
            <a:ext cx="80640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808080"/>
                </a:solidFill>
                <a:latin typeface="Times New Roman"/>
              </a:rPr>
              <a:t>CHOD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 rot="16200000">
            <a:off x="8196120" y="1947960"/>
            <a:ext cx="80640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808080"/>
                </a:solidFill>
                <a:latin typeface="Times New Roman"/>
              </a:rPr>
              <a:t>STOP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 rot="19264200">
            <a:off x="3533400" y="4073040"/>
            <a:ext cx="258840" cy="179640"/>
          </a:xfrm>
          <a:prstGeom prst="rightArrow">
            <a:avLst>
              <a:gd name="adj1" fmla="val 50000"/>
              <a:gd name="adj2" fmla="val 36022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 rot="2935200">
            <a:off x="3526560" y="4974120"/>
            <a:ext cx="239760" cy="193680"/>
          </a:xfrm>
          <a:prstGeom prst="rightArrow">
            <a:avLst>
              <a:gd name="adj1" fmla="val 50000"/>
              <a:gd name="adj2" fmla="val 30948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 rot="16200000">
            <a:off x="4859280" y="4915080"/>
            <a:ext cx="4032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 rot="16200000">
            <a:off x="4867920" y="3875400"/>
            <a:ext cx="401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 rot="16200000">
            <a:off x="4443120" y="5007960"/>
            <a:ext cx="75420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Zásobní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 rot="16200000">
            <a:off x="4450320" y="3997440"/>
            <a:ext cx="75564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Zásobní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 rot="16200000">
            <a:off x="4769640" y="1978560"/>
            <a:ext cx="7538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999999"/>
                </a:solidFill>
                <a:latin typeface="Times New Roman"/>
              </a:rPr>
              <a:t>Zvislý dopravní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 rot="16200000">
            <a:off x="6605280" y="5428800"/>
            <a:ext cx="7556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999999"/>
                </a:solidFill>
                <a:latin typeface="Times New Roman"/>
              </a:rPr>
              <a:t>Dopravní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 rot="16200000">
            <a:off x="6301440" y="5907240"/>
            <a:ext cx="75420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999999"/>
                </a:solidFill>
                <a:latin typeface="Times New Roman"/>
              </a:rPr>
              <a:t>Násypk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>
            <a:hlinkClick r:id="" action="ppaction://hlinkshowjump?jump=previousslide"/>
          </p:cNvPr>
          <p:cNvSpPr/>
          <p:nvPr/>
        </p:nvSpPr>
        <p:spPr>
          <a:xfrm>
            <a:off x="1666800" y="6019920"/>
            <a:ext cx="565200" cy="585720"/>
          </a:xfrm>
          <a:custGeom>
            <a:avLst/>
            <a:gdLst>
              <a:gd name="textAreaLeft" fmla="*/ 36360 w 565200"/>
              <a:gd name="textAreaRight" fmla="*/ 528840 w 565200"/>
              <a:gd name="textAreaTop" fmla="*/ 36360 h 585720"/>
              <a:gd name="textAreaBottom" fmla="*/ 549360 h 585720"/>
            </a:gdLst>
            <a:ahLst/>
            <a:rect l="textAreaLeft" t="textAreaTop" r="textAreaRight" b="textAreaBottom"/>
            <a:pathLst>
              <a:path w="21600" h="22384">
                <a:moveTo>
                  <a:pt x="0" y="0"/>
                </a:moveTo>
                <a:lnTo>
                  <a:pt x="21600" y="0"/>
                </a:lnTo>
                <a:lnTo>
                  <a:pt x="21600" y="22384"/>
                </a:lnTo>
                <a:lnTo>
                  <a:pt x="0" y="22384"/>
                </a:lnTo>
                <a:close/>
              </a:path>
              <a:path fill="lightenLess" w="21600" h="2238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84">
                <a:moveTo>
                  <a:pt x="21600" y="0"/>
                </a:moveTo>
                <a:lnTo>
                  <a:pt x="21600" y="22384"/>
                </a:lnTo>
                <a:lnTo>
                  <a:pt x="20200" y="20984"/>
                </a:lnTo>
                <a:lnTo>
                  <a:pt x="20200" y="1400"/>
                </a:lnTo>
                <a:close/>
              </a:path>
              <a:path fill="darkenLess" w="21600" h="22384">
                <a:moveTo>
                  <a:pt x="21600" y="22384"/>
                </a:moveTo>
                <a:lnTo>
                  <a:pt x="0" y="22384"/>
                </a:lnTo>
                <a:lnTo>
                  <a:pt x="1400" y="20984"/>
                </a:lnTo>
                <a:lnTo>
                  <a:pt x="20200" y="20984"/>
                </a:lnTo>
                <a:close/>
              </a:path>
              <a:path fill="lighten" w="21600" h="22384">
                <a:moveTo>
                  <a:pt x="0" y="2238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84"/>
                </a:lnTo>
                <a:close/>
              </a:path>
              <a:path fill="darken" w="21600" h="22384">
                <a:moveTo>
                  <a:pt x="3794" y="11192"/>
                </a:moveTo>
                <a:lnTo>
                  <a:pt x="17806" y="4185"/>
                </a:lnTo>
                <a:lnTo>
                  <a:pt x="17806" y="18198"/>
                </a:lnTo>
                <a:close/>
              </a:path>
            </a:pathLst>
          </a:cu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>
            <a:hlinkClick r:id="" action="ppaction://hlinkshowjump?jump=nextslide"/>
          </p:cNvPr>
          <p:cNvSpPr/>
          <p:nvPr/>
        </p:nvSpPr>
        <p:spPr>
          <a:xfrm>
            <a:off x="2286000" y="6019920"/>
            <a:ext cx="566640" cy="585720"/>
          </a:xfrm>
          <a:custGeom>
            <a:avLst/>
            <a:gdLst>
              <a:gd name="textAreaLeft" fmla="*/ 36720 w 566640"/>
              <a:gd name="textAreaRight" fmla="*/ 529920 w 566640"/>
              <a:gd name="textAreaTop" fmla="*/ 36720 h 585720"/>
              <a:gd name="textAreaBottom" fmla="*/ 549000 h 585720"/>
            </a:gdLst>
            <a:ahLst/>
            <a:rect l="textAreaLeft" t="textAreaTop" r="textAreaRight" b="textAreaBottom"/>
            <a:pathLst>
              <a:path w="21600" h="22327">
                <a:moveTo>
                  <a:pt x="0" y="0"/>
                </a:moveTo>
                <a:lnTo>
                  <a:pt x="21600" y="0"/>
                </a:lnTo>
                <a:lnTo>
                  <a:pt x="21600" y="22327"/>
                </a:lnTo>
                <a:lnTo>
                  <a:pt x="0" y="22327"/>
                </a:lnTo>
                <a:close/>
              </a:path>
              <a:path fill="lightenLess" w="21600" h="223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27">
                <a:moveTo>
                  <a:pt x="21600" y="0"/>
                </a:moveTo>
                <a:lnTo>
                  <a:pt x="21600" y="22327"/>
                </a:lnTo>
                <a:lnTo>
                  <a:pt x="20200" y="20927"/>
                </a:lnTo>
                <a:lnTo>
                  <a:pt x="20200" y="1400"/>
                </a:lnTo>
                <a:close/>
              </a:path>
              <a:path fill="darkenLess" w="21600" h="22327">
                <a:moveTo>
                  <a:pt x="21600" y="22327"/>
                </a:moveTo>
                <a:lnTo>
                  <a:pt x="0" y="22327"/>
                </a:lnTo>
                <a:lnTo>
                  <a:pt x="1400" y="20927"/>
                </a:lnTo>
                <a:lnTo>
                  <a:pt x="20200" y="20927"/>
                </a:lnTo>
                <a:close/>
              </a:path>
              <a:path fill="lighten" w="21600" h="22327">
                <a:moveTo>
                  <a:pt x="0" y="223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27"/>
                </a:lnTo>
                <a:close/>
              </a:path>
              <a:path fill="darken" w="21600" h="22327">
                <a:moveTo>
                  <a:pt x="3794" y="4157"/>
                </a:moveTo>
                <a:lnTo>
                  <a:pt x="17806" y="11163"/>
                </a:lnTo>
                <a:lnTo>
                  <a:pt x="3794" y="18170"/>
                </a:lnTo>
                <a:close/>
              </a:path>
            </a:pathLst>
          </a:cu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>
            <a:hlinkClick r:id="" action="ppaction://hlinkshowjump?jump=firstslide"/>
          </p:cNvPr>
          <p:cNvSpPr/>
          <p:nvPr/>
        </p:nvSpPr>
        <p:spPr>
          <a:xfrm>
            <a:off x="2906640" y="6019920"/>
            <a:ext cx="565200" cy="585720"/>
          </a:xfrm>
          <a:custGeom>
            <a:avLst/>
            <a:gdLst>
              <a:gd name="textAreaLeft" fmla="*/ 36360 w 565200"/>
              <a:gd name="textAreaRight" fmla="*/ 528840 w 565200"/>
              <a:gd name="textAreaTop" fmla="*/ 36360 h 585720"/>
              <a:gd name="textAreaBottom" fmla="*/ 549360 h 585720"/>
            </a:gdLst>
            <a:ahLst/>
            <a:rect l="textAreaLeft" t="textAreaTop" r="textAreaRight" b="textAreaBottom"/>
            <a:pathLst>
              <a:path w="21600" h="22384">
                <a:moveTo>
                  <a:pt x="0" y="0"/>
                </a:moveTo>
                <a:lnTo>
                  <a:pt x="21600" y="0"/>
                </a:lnTo>
                <a:lnTo>
                  <a:pt x="21600" y="22384"/>
                </a:lnTo>
                <a:lnTo>
                  <a:pt x="0" y="22384"/>
                </a:lnTo>
                <a:close/>
              </a:path>
              <a:path fill="lightenLess" w="21600" h="2238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84">
                <a:moveTo>
                  <a:pt x="21600" y="0"/>
                </a:moveTo>
                <a:lnTo>
                  <a:pt x="21600" y="22384"/>
                </a:lnTo>
                <a:lnTo>
                  <a:pt x="20200" y="20984"/>
                </a:lnTo>
                <a:lnTo>
                  <a:pt x="20200" y="1400"/>
                </a:lnTo>
                <a:close/>
              </a:path>
              <a:path fill="darkenLess" w="21600" h="22384">
                <a:moveTo>
                  <a:pt x="21600" y="22384"/>
                </a:moveTo>
                <a:lnTo>
                  <a:pt x="0" y="22384"/>
                </a:lnTo>
                <a:lnTo>
                  <a:pt x="1400" y="20984"/>
                </a:lnTo>
                <a:lnTo>
                  <a:pt x="20200" y="20984"/>
                </a:lnTo>
                <a:close/>
              </a:path>
              <a:path fill="lighten" w="21600" h="22384">
                <a:moveTo>
                  <a:pt x="0" y="2238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84"/>
                </a:lnTo>
                <a:close/>
              </a:path>
              <a:path fill="darken" w="21600" h="22384">
                <a:moveTo>
                  <a:pt x="7301" y="11192"/>
                </a:moveTo>
                <a:lnTo>
                  <a:pt x="17806" y="4185"/>
                </a:lnTo>
                <a:lnTo>
                  <a:pt x="17806" y="18198"/>
                </a:lnTo>
                <a:close/>
              </a:path>
              <a:path fill="darken" w="21600" h="22384">
                <a:moveTo>
                  <a:pt x="3794" y="4185"/>
                </a:moveTo>
                <a:lnTo>
                  <a:pt x="5456" y="4185"/>
                </a:lnTo>
                <a:lnTo>
                  <a:pt x="5456" y="18198"/>
                </a:lnTo>
                <a:lnTo>
                  <a:pt x="3794" y="18198"/>
                </a:lnTo>
                <a:close/>
              </a:path>
            </a:pathLst>
          </a:cu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Hodnotenie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79760" y="1889280"/>
            <a:ext cx="68925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do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vzdané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zadanie sa hodnot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í podľa následujúcej stupnice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33cc33"/>
                </a:solidFill>
                <a:latin typeface="Times New Roman"/>
              </a:rPr>
              <a:t>1.Technické riešenie problému</a:t>
            </a:r>
            <a:r>
              <a:rPr b="0" lang="sk-SK" sz="2000" spc="-1" strike="noStrike">
                <a:solidFill>
                  <a:srgbClr val="33cc33"/>
                </a:solidFill>
                <a:latin typeface="Times New Roman"/>
              </a:rPr>
              <a:t>	</a:t>
            </a:r>
            <a:r>
              <a:rPr b="0" lang="sk-SK" sz="2000" spc="-1" strike="noStrike">
                <a:solidFill>
                  <a:srgbClr val="33cc33"/>
                </a:solidFill>
                <a:latin typeface="Times New Roman"/>
              </a:rPr>
              <a:t>0-10 bodo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59afcd"/>
                </a:solidFill>
                <a:latin typeface="Times New Roman"/>
              </a:rPr>
              <a:t>2.Obsah dokumentácie</a:t>
            </a:r>
            <a:r>
              <a:rPr b="0" lang="sk-SK" sz="2000" spc="-1" strike="noStrike">
                <a:solidFill>
                  <a:srgbClr val="59afcd"/>
                </a:solidFill>
                <a:latin typeface="Times New Roman"/>
              </a:rPr>
              <a:t>	</a:t>
            </a:r>
            <a:r>
              <a:rPr b="0" lang="sk-SK" sz="2000" spc="-1" strike="noStrike">
                <a:solidFill>
                  <a:srgbClr val="59afcd"/>
                </a:solidFill>
                <a:latin typeface="Times New Roman"/>
              </a:rPr>
              <a:t>	</a:t>
            </a:r>
            <a:r>
              <a:rPr b="0" lang="sk-SK" sz="2000" spc="-1" strike="noStrike">
                <a:solidFill>
                  <a:srgbClr val="59afcd"/>
                </a:solidFill>
                <a:latin typeface="Times New Roman"/>
              </a:rPr>
              <a:t>0-5 bodo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cbbd83"/>
                </a:solidFill>
                <a:latin typeface="Times New Roman"/>
              </a:rPr>
              <a:t>3.Zrozumiteľnosť dokumentácie</a:t>
            </a:r>
            <a:r>
              <a:rPr b="0" lang="sk-SK" sz="2000" spc="-1" strike="noStrike">
                <a:solidFill>
                  <a:srgbClr val="cbbd83"/>
                </a:solidFill>
                <a:latin typeface="Times New Roman"/>
              </a:rPr>
              <a:t>	</a:t>
            </a:r>
            <a:r>
              <a:rPr b="0" lang="sk-SK" sz="2000" spc="-1" strike="noStrike">
                <a:solidFill>
                  <a:srgbClr val="cbbd83"/>
                </a:solidFill>
                <a:latin typeface="Times New Roman"/>
              </a:rPr>
              <a:t>0-5 bodo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666699"/>
                </a:solidFill>
                <a:latin typeface="Times New Roman"/>
              </a:rPr>
              <a:t>4.Dodržanie termínu odovzdania</a:t>
            </a:r>
            <a:r>
              <a:rPr b="0" lang="sk-SK" sz="2000" spc="-1" strike="noStrike">
                <a:solidFill>
                  <a:srgbClr val="666699"/>
                </a:solidFill>
                <a:latin typeface="Times New Roman"/>
              </a:rPr>
              <a:t>	</a:t>
            </a:r>
            <a:r>
              <a:rPr b="0" lang="sk-SK" sz="2000" spc="-1" strike="noStrike">
                <a:solidFill>
                  <a:srgbClr val="666699"/>
                </a:solidFill>
                <a:latin typeface="Times New Roman"/>
              </a:rPr>
              <a:t>0-5 bodov </a:t>
            </a: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olu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:  25 bodo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Podmienka kladného hodnotenia je  minimálny zisk bodo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Podľa kritéria ad a)  8 bodov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*</a:t>
            </a:r>
            <a:r>
              <a:rPr b="0" lang="sk-SK" sz="2000" spc="-1" strike="noStrike">
                <a:solidFill>
                  <a:srgbClr val="666699"/>
                </a:solidFill>
                <a:latin typeface="Times New Roman"/>
              </a:rPr>
              <a:t>Každý pracovný deň omeškania znižuje hodnotenie o jeden bod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221304"/>
                </a:solidFill>
                <a:latin typeface="Times New Roman"/>
              </a:rPr>
              <a:t>Pokračovanie zadania  perlitová linka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1523880" y="1676520"/>
            <a:ext cx="4276800" cy="491472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  <a:effectLst>
            <a:outerShdw dist="71785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 rot="19662600">
            <a:off x="2125800" y="2366640"/>
            <a:ext cx="637920" cy="655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 rot="19662600">
            <a:off x="2347920" y="2392200"/>
            <a:ext cx="190440" cy="588960"/>
          </a:xfrm>
          <a:prstGeom prst="triangle">
            <a:avLst>
              <a:gd name="adj" fmla="val 50000"/>
            </a:avLst>
          </a:prstGeom>
          <a:solidFill>
            <a:srgbClr val="cbbd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2971800" y="4729320"/>
            <a:ext cx="1211400" cy="1209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2090880" y="5138640"/>
            <a:ext cx="534960" cy="57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4538520" y="5095800"/>
            <a:ext cx="533520" cy="573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 rot="19662600">
            <a:off x="4309560" y="2426760"/>
            <a:ext cx="638280" cy="655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 rot="19662600">
            <a:off x="4532400" y="2452320"/>
            <a:ext cx="190440" cy="590400"/>
          </a:xfrm>
          <a:prstGeom prst="triangle">
            <a:avLst>
              <a:gd name="adj" fmla="val 50000"/>
            </a:avLst>
          </a:prstGeom>
          <a:solidFill>
            <a:srgbClr val="cbbd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 rot="19662600">
            <a:off x="3184560" y="3322440"/>
            <a:ext cx="638280" cy="655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 rot="19662600">
            <a:off x="3404880" y="3349800"/>
            <a:ext cx="191880" cy="588960"/>
          </a:xfrm>
          <a:prstGeom prst="triangle">
            <a:avLst>
              <a:gd name="adj" fmla="val 50000"/>
            </a:avLst>
          </a:prstGeom>
          <a:solidFill>
            <a:srgbClr val="cbbd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 rot="19662600">
            <a:off x="2075040" y="3757320"/>
            <a:ext cx="637920" cy="655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 rot="19662600">
            <a:off x="2297160" y="3784680"/>
            <a:ext cx="190440" cy="588960"/>
          </a:xfrm>
          <a:prstGeom prst="triangle">
            <a:avLst>
              <a:gd name="adj" fmla="val 50000"/>
            </a:avLst>
          </a:prstGeom>
          <a:solidFill>
            <a:srgbClr val="cbbd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 rot="19662600">
            <a:off x="4437000" y="3766680"/>
            <a:ext cx="638280" cy="655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 rot="19662600">
            <a:off x="4659480" y="3792240"/>
            <a:ext cx="190440" cy="590400"/>
          </a:xfrm>
          <a:prstGeom prst="triangle">
            <a:avLst>
              <a:gd name="adj" fmla="val 50000"/>
            </a:avLst>
          </a:prstGeom>
          <a:solidFill>
            <a:srgbClr val="cbbd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2141640" y="2233440"/>
            <a:ext cx="118800" cy="130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2600280" y="2233440"/>
            <a:ext cx="117360" cy="130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4352760" y="2276640"/>
            <a:ext cx="117720" cy="129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3429000" y="3129120"/>
            <a:ext cx="119160" cy="129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2082960" y="3624120"/>
            <a:ext cx="118800" cy="13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4444920" y="3651120"/>
            <a:ext cx="119160" cy="130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4776840" y="2268360"/>
            <a:ext cx="117360" cy="130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3098880" y="3189240"/>
            <a:ext cx="119160" cy="131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2540160" y="3606840"/>
            <a:ext cx="118800" cy="131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4929120" y="3633840"/>
            <a:ext cx="117720" cy="129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4140360" y="2006640"/>
            <a:ext cx="101736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999999"/>
                </a:solidFill>
                <a:latin typeface="Times New Roman"/>
              </a:rPr>
              <a:t>PLNENIE</a:t>
            </a:r>
            <a:r>
              <a:rPr b="1" lang="sk-SK" sz="1600" spc="-1" strike="noStrike">
                <a:solidFill>
                  <a:srgbClr val="999999"/>
                </a:solidFill>
                <a:latin typeface="Times New Roman"/>
              </a:rPr>
              <a:t>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1947960" y="1981080"/>
            <a:ext cx="10159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999999"/>
                </a:solidFill>
                <a:latin typeface="Times New Roman"/>
              </a:rPr>
              <a:t>PLNENIE</a:t>
            </a:r>
            <a:r>
              <a:rPr b="1" lang="sk-SK" sz="1600" spc="-1" strike="noStrike">
                <a:solidFill>
                  <a:srgbClr val="999999"/>
                </a:solidFill>
                <a:latin typeface="Times New Roman"/>
              </a:rPr>
              <a:t>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3022560" y="2798640"/>
            <a:ext cx="101592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999999"/>
                </a:solidFill>
                <a:latin typeface="Times New Roman"/>
              </a:rPr>
              <a:t>VÝROB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3801960" y="3198960"/>
            <a:ext cx="119160" cy="129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1862280" y="3346560"/>
            <a:ext cx="1058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999999"/>
                </a:solidFill>
                <a:latin typeface="Times New Roman"/>
              </a:rPr>
              <a:t>PRESUN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4191120" y="3429000"/>
            <a:ext cx="1058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999999"/>
                </a:solidFill>
                <a:latin typeface="Times New Roman"/>
              </a:rPr>
              <a:t>PRESUN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3243240" y="5173560"/>
            <a:ext cx="1015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999999"/>
                </a:solidFill>
                <a:latin typeface="Times New Roman"/>
              </a:rPr>
              <a:t>ST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2039760" y="4878360"/>
            <a:ext cx="1017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999999"/>
                </a:solidFill>
                <a:latin typeface="Times New Roman"/>
              </a:rPr>
              <a:t>Z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4505400" y="4781520"/>
            <a:ext cx="1015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999999"/>
                </a:solidFill>
                <a:latin typeface="Times New Roman"/>
              </a:rPr>
              <a:t>VY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5030640" y="2276640"/>
            <a:ext cx="4320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P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2709720" y="2224080"/>
            <a:ext cx="43200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2752560" y="3024360"/>
            <a:ext cx="4320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V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3979800" y="3059280"/>
            <a:ext cx="4320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2701800" y="3651120"/>
            <a:ext cx="4320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P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3962520" y="3733920"/>
            <a:ext cx="4316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P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2125800" y="5738760"/>
            <a:ext cx="61740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Z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4589640" y="5721480"/>
            <a:ext cx="59184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VY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3327480" y="5938920"/>
            <a:ext cx="6350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S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6019920" y="3962520"/>
            <a:ext cx="2666880" cy="246384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  <a:effectLst>
            <a:outerShdw dist="71785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6284880" y="6143760"/>
            <a:ext cx="2189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 flipV="1">
            <a:off x="6280200" y="4179600"/>
            <a:ext cx="0" cy="1971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6280200" y="5838840"/>
            <a:ext cx="1895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6275520" y="5170320"/>
            <a:ext cx="2189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6289560" y="5645160"/>
            <a:ext cx="2189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6280200" y="4694400"/>
            <a:ext cx="2189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6424560" y="4437000"/>
            <a:ext cx="46080" cy="257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6424560" y="4919760"/>
            <a:ext cx="1050840" cy="2588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7481880" y="5411880"/>
            <a:ext cx="954000" cy="2412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6275520" y="6135840"/>
            <a:ext cx="149040" cy="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 flipV="1">
            <a:off x="6419880" y="5829120"/>
            <a:ext cx="1055520" cy="31428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7475400" y="5838840"/>
            <a:ext cx="960480" cy="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6019920" y="4437000"/>
            <a:ext cx="3124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Z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6019920" y="5396040"/>
            <a:ext cx="31248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POL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8300880" y="6151680"/>
            <a:ext cx="31284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Times New Roman"/>
              </a:rPr>
              <a:t>Č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6424560" y="6329520"/>
            <a:ext cx="1057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6791400" y="6167520"/>
            <a:ext cx="690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000000"/>
                </a:solidFill>
                <a:latin typeface="Times New Roman"/>
              </a:rPr>
              <a:t>5-10 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5105520" y="3733920"/>
            <a:ext cx="4316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P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1676520" y="3657600"/>
            <a:ext cx="43164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P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>
            <a:hlinkClick r:id="" action="ppaction://hlinkshowjump?jump=previousslide"/>
          </p:cNvPr>
          <p:cNvSpPr/>
          <p:nvPr/>
        </p:nvSpPr>
        <p:spPr>
          <a:xfrm>
            <a:off x="6924600" y="1752480"/>
            <a:ext cx="565200" cy="586080"/>
          </a:xfrm>
          <a:custGeom>
            <a:avLst/>
            <a:gdLst>
              <a:gd name="textAreaLeft" fmla="*/ 36360 w 565200"/>
              <a:gd name="textAreaRight" fmla="*/ 528840 w 565200"/>
              <a:gd name="textAreaTop" fmla="*/ 36360 h 586080"/>
              <a:gd name="textAreaBottom" fmla="*/ 549720 h 586080"/>
            </a:gdLst>
            <a:ahLst/>
            <a:rect l="textAreaLeft" t="textAreaTop" r="textAreaRight" b="textAreaBottom"/>
            <a:pathLst>
              <a:path w="21600" h="22397">
                <a:moveTo>
                  <a:pt x="0" y="0"/>
                </a:moveTo>
                <a:lnTo>
                  <a:pt x="21600" y="0"/>
                </a:lnTo>
                <a:lnTo>
                  <a:pt x="21600" y="22397"/>
                </a:lnTo>
                <a:lnTo>
                  <a:pt x="0" y="22397"/>
                </a:lnTo>
                <a:close/>
              </a:path>
              <a:path fill="lightenLess" w="21600" h="223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97">
                <a:moveTo>
                  <a:pt x="21600" y="0"/>
                </a:moveTo>
                <a:lnTo>
                  <a:pt x="21600" y="22397"/>
                </a:lnTo>
                <a:lnTo>
                  <a:pt x="20200" y="20997"/>
                </a:lnTo>
                <a:lnTo>
                  <a:pt x="20200" y="1400"/>
                </a:lnTo>
                <a:close/>
              </a:path>
              <a:path fill="darkenLess" w="21600" h="22397">
                <a:moveTo>
                  <a:pt x="21600" y="22397"/>
                </a:moveTo>
                <a:lnTo>
                  <a:pt x="0" y="22397"/>
                </a:lnTo>
                <a:lnTo>
                  <a:pt x="1400" y="20997"/>
                </a:lnTo>
                <a:lnTo>
                  <a:pt x="20200" y="20997"/>
                </a:lnTo>
                <a:close/>
              </a:path>
              <a:path fill="lighten" w="21600" h="22397">
                <a:moveTo>
                  <a:pt x="0" y="223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97"/>
                </a:lnTo>
                <a:close/>
              </a:path>
              <a:path fill="darken" w="21600" h="22397">
                <a:moveTo>
                  <a:pt x="3794" y="11199"/>
                </a:moveTo>
                <a:lnTo>
                  <a:pt x="17806" y="4192"/>
                </a:lnTo>
                <a:lnTo>
                  <a:pt x="17806" y="18205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>
            <a:hlinkClick r:id="" action="ppaction://hlinkshowjump?jump=nextslide"/>
          </p:cNvPr>
          <p:cNvSpPr/>
          <p:nvPr/>
        </p:nvSpPr>
        <p:spPr>
          <a:xfrm>
            <a:off x="7543800" y="1752480"/>
            <a:ext cx="566640" cy="586080"/>
          </a:xfrm>
          <a:custGeom>
            <a:avLst/>
            <a:gdLst>
              <a:gd name="textAreaLeft" fmla="*/ 36720 w 566640"/>
              <a:gd name="textAreaRight" fmla="*/ 529920 w 566640"/>
              <a:gd name="textAreaTop" fmla="*/ 36720 h 586080"/>
              <a:gd name="textAreaBottom" fmla="*/ 549360 h 586080"/>
            </a:gdLst>
            <a:ahLst/>
            <a:rect l="textAreaLeft" t="textAreaTop" r="textAreaRight" b="textAreaBottom"/>
            <a:pathLst>
              <a:path w="21600" h="22341">
                <a:moveTo>
                  <a:pt x="0" y="0"/>
                </a:moveTo>
                <a:lnTo>
                  <a:pt x="21600" y="0"/>
                </a:lnTo>
                <a:lnTo>
                  <a:pt x="21600" y="22341"/>
                </a:lnTo>
                <a:lnTo>
                  <a:pt x="0" y="22341"/>
                </a:lnTo>
                <a:close/>
              </a:path>
              <a:path fill="lightenLess" w="21600" h="223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41">
                <a:moveTo>
                  <a:pt x="21600" y="0"/>
                </a:moveTo>
                <a:lnTo>
                  <a:pt x="21600" y="22341"/>
                </a:lnTo>
                <a:lnTo>
                  <a:pt x="20200" y="20941"/>
                </a:lnTo>
                <a:lnTo>
                  <a:pt x="20200" y="1400"/>
                </a:lnTo>
                <a:close/>
              </a:path>
              <a:path fill="darkenLess" w="21600" h="22341">
                <a:moveTo>
                  <a:pt x="21600" y="22341"/>
                </a:moveTo>
                <a:lnTo>
                  <a:pt x="0" y="22341"/>
                </a:lnTo>
                <a:lnTo>
                  <a:pt x="1400" y="20941"/>
                </a:lnTo>
                <a:lnTo>
                  <a:pt x="20200" y="20941"/>
                </a:lnTo>
                <a:close/>
              </a:path>
              <a:path fill="lighten" w="21600" h="22341">
                <a:moveTo>
                  <a:pt x="0" y="223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41"/>
                </a:lnTo>
                <a:close/>
              </a:path>
              <a:path fill="darken" w="21600" h="22341">
                <a:moveTo>
                  <a:pt x="3794" y="4164"/>
                </a:moveTo>
                <a:lnTo>
                  <a:pt x="17806" y="11170"/>
                </a:lnTo>
                <a:lnTo>
                  <a:pt x="3794" y="18177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>
            <a:hlinkClick r:id="" action="ppaction://hlinkshowjump?jump=firstslide"/>
          </p:cNvPr>
          <p:cNvSpPr/>
          <p:nvPr/>
        </p:nvSpPr>
        <p:spPr>
          <a:xfrm>
            <a:off x="8164440" y="1752480"/>
            <a:ext cx="565200" cy="586080"/>
          </a:xfrm>
          <a:custGeom>
            <a:avLst/>
            <a:gdLst>
              <a:gd name="textAreaLeft" fmla="*/ 36360 w 565200"/>
              <a:gd name="textAreaRight" fmla="*/ 528840 w 565200"/>
              <a:gd name="textAreaTop" fmla="*/ 36360 h 586080"/>
              <a:gd name="textAreaBottom" fmla="*/ 549720 h 586080"/>
            </a:gdLst>
            <a:ahLst/>
            <a:rect l="textAreaLeft" t="textAreaTop" r="textAreaRight" b="textAreaBottom"/>
            <a:pathLst>
              <a:path w="21600" h="22397">
                <a:moveTo>
                  <a:pt x="0" y="0"/>
                </a:moveTo>
                <a:lnTo>
                  <a:pt x="21600" y="0"/>
                </a:lnTo>
                <a:lnTo>
                  <a:pt x="21600" y="22397"/>
                </a:lnTo>
                <a:lnTo>
                  <a:pt x="0" y="22397"/>
                </a:lnTo>
                <a:close/>
              </a:path>
              <a:path fill="lightenLess" w="21600" h="223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97">
                <a:moveTo>
                  <a:pt x="21600" y="0"/>
                </a:moveTo>
                <a:lnTo>
                  <a:pt x="21600" y="22397"/>
                </a:lnTo>
                <a:lnTo>
                  <a:pt x="20200" y="20997"/>
                </a:lnTo>
                <a:lnTo>
                  <a:pt x="20200" y="1400"/>
                </a:lnTo>
                <a:close/>
              </a:path>
              <a:path fill="darkenLess" w="21600" h="22397">
                <a:moveTo>
                  <a:pt x="21600" y="22397"/>
                </a:moveTo>
                <a:lnTo>
                  <a:pt x="0" y="22397"/>
                </a:lnTo>
                <a:lnTo>
                  <a:pt x="1400" y="20997"/>
                </a:lnTo>
                <a:lnTo>
                  <a:pt x="20200" y="20997"/>
                </a:lnTo>
                <a:close/>
              </a:path>
              <a:path fill="lighten" w="21600" h="22397">
                <a:moveTo>
                  <a:pt x="0" y="223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97"/>
                </a:lnTo>
                <a:close/>
              </a:path>
              <a:path fill="darken" w="21600" h="22397">
                <a:moveTo>
                  <a:pt x="7301" y="11199"/>
                </a:moveTo>
                <a:lnTo>
                  <a:pt x="17806" y="4192"/>
                </a:lnTo>
                <a:lnTo>
                  <a:pt x="17806" y="18205"/>
                </a:lnTo>
                <a:close/>
              </a:path>
              <a:path fill="darken" w="21600" h="22397">
                <a:moveTo>
                  <a:pt x="3794" y="4192"/>
                </a:moveTo>
                <a:lnTo>
                  <a:pt x="5456" y="4192"/>
                </a:lnTo>
                <a:lnTo>
                  <a:pt x="5456" y="18205"/>
                </a:lnTo>
                <a:lnTo>
                  <a:pt x="3794" y="18205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Z</a:t>
            </a:r>
            <a:r>
              <a:rPr b="1" lang="sk-SK" sz="4400" spc="-1" strike="noStrike">
                <a:solidFill>
                  <a:srgbClr val="221304"/>
                </a:solidFill>
                <a:latin typeface="Times New Roman"/>
              </a:rPr>
              <a:t>adanie 14</a:t>
            </a:r>
            <a:r>
              <a:rPr b="0" i="1" lang="sk-SK" sz="4400" spc="-1" strike="noStrike">
                <a:solidFill>
                  <a:srgbClr val="221304"/>
                </a:solidFill>
                <a:latin typeface="Times New Roman"/>
              </a:rPr>
              <a:t>:</a:t>
            </a:r>
            <a:r>
              <a:rPr b="0" i="1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1" i="1" lang="sk-SK" sz="4400" spc="-1" strike="noStrike">
                <a:solidFill>
                  <a:srgbClr val="221304"/>
                </a:solidFill>
                <a:latin typeface="Times New Roman"/>
              </a:rPr>
              <a:t>Plet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 rot="16200000">
            <a:off x="2857320" y="418680"/>
            <a:ext cx="4114800" cy="769644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 flipV="1" rot="16200000">
            <a:off x="7165080" y="4122000"/>
            <a:ext cx="1206720" cy="598320"/>
          </a:xfrm>
          <a:custGeom>
            <a:avLst/>
            <a:gdLst>
              <a:gd name="textAreaLeft" fmla="*/ 265320 w 1206720"/>
              <a:gd name="textAreaRight" fmla="*/ 941400 w 1206720"/>
              <a:gd name="textAreaTop" fmla="*/ 131400 h 598320"/>
              <a:gd name="textAreaBottom" fmla="*/ 466920 h 598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 rot="16200000">
            <a:off x="1767600" y="3748680"/>
            <a:ext cx="1258920" cy="126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 rot="16200000">
            <a:off x="6179400" y="3748680"/>
            <a:ext cx="1258920" cy="126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 rot="16200000">
            <a:off x="4396680" y="3351600"/>
            <a:ext cx="228600" cy="308772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 rot="16200000">
            <a:off x="4489200" y="2226600"/>
            <a:ext cx="228600" cy="3276720"/>
          </a:xfrm>
          <a:prstGeom prst="rect">
            <a:avLst/>
          </a:prstGeom>
          <a:solidFill>
            <a:srgbClr val="ffcc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2398680" y="5010120"/>
            <a:ext cx="56844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2397240" y="3751200"/>
            <a:ext cx="56808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6053040" y="3751200"/>
            <a:ext cx="6699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6119640" y="5010120"/>
            <a:ext cx="5670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 rot="16200000">
            <a:off x="5773680" y="3619080"/>
            <a:ext cx="57240" cy="63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 rot="16200000">
            <a:off x="6814080" y="5065920"/>
            <a:ext cx="5724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 rot="16200000">
            <a:off x="7534080" y="4239720"/>
            <a:ext cx="571320" cy="371520"/>
          </a:xfrm>
          <a:custGeom>
            <a:avLst/>
            <a:gdLst>
              <a:gd name="textAreaLeft" fmla="*/ 125640 w 571320"/>
              <a:gd name="textAreaRight" fmla="*/ 445680 w 571320"/>
              <a:gd name="textAreaTop" fmla="*/ 81720 h 371520"/>
              <a:gd name="textAreaBottom" fmla="*/ 289800 h 371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 rot="16200000">
            <a:off x="8120880" y="4327920"/>
            <a:ext cx="228600" cy="315720"/>
          </a:xfrm>
          <a:prstGeom prst="upArrow">
            <a:avLst>
              <a:gd name="adj1" fmla="val 50000"/>
              <a:gd name="adj2" fmla="val 3452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 rot="16200000">
            <a:off x="7542720" y="4418280"/>
            <a:ext cx="57240" cy="1252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 rot="16200000">
            <a:off x="7542720" y="4304160"/>
            <a:ext cx="57240" cy="1252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 rot="16200000">
            <a:off x="7542720" y="4189680"/>
            <a:ext cx="57240" cy="1252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 rot="16200000">
            <a:off x="7539480" y="4529520"/>
            <a:ext cx="57240" cy="13176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6838920" y="51386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5807160" y="513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 flipV="1">
            <a:off x="3595680" y="3108240"/>
            <a:ext cx="0" cy="1671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 flipV="1">
            <a:off x="4729320" y="3129120"/>
            <a:ext cx="0" cy="622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 rot="16200000">
            <a:off x="2925000" y="4931280"/>
            <a:ext cx="273240" cy="569880"/>
          </a:xfrm>
          <a:prstGeom prst="flowChartPunchedCard">
            <a:avLst/>
          </a:prstGeom>
          <a:solidFill>
            <a:srgbClr val="fefde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 rot="16200000">
            <a:off x="2340720" y="4316760"/>
            <a:ext cx="114120" cy="12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 rot="16200000">
            <a:off x="6751800" y="4316040"/>
            <a:ext cx="114120" cy="127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 flipV="1">
            <a:off x="3029040" y="4781160"/>
            <a:ext cx="0" cy="2286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 flipV="1">
            <a:off x="3092400" y="4781160"/>
            <a:ext cx="0" cy="2286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 flipV="1">
            <a:off x="3156120" y="4781160"/>
            <a:ext cx="0" cy="2286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 rot="16200000">
            <a:off x="4458600" y="3351600"/>
            <a:ext cx="228600" cy="308772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 rot="16200000">
            <a:off x="4521960" y="3351600"/>
            <a:ext cx="228600" cy="308772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 rot="16200000">
            <a:off x="4585320" y="3351600"/>
            <a:ext cx="228600" cy="3087360"/>
          </a:xfrm>
          <a:prstGeom prst="rect">
            <a:avLst/>
          </a:prstGeom>
          <a:solidFill>
            <a:srgbClr val="ffcc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 rot="16200000">
            <a:off x="4059000" y="4932000"/>
            <a:ext cx="273240" cy="568080"/>
          </a:xfrm>
          <a:prstGeom prst="flowChartPunchedCard">
            <a:avLst/>
          </a:prstGeom>
          <a:solidFill>
            <a:srgbClr val="fefde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 rot="16200000">
            <a:off x="5130720" y="4932000"/>
            <a:ext cx="273240" cy="568440"/>
          </a:xfrm>
          <a:prstGeom prst="flowChartPunchedCard">
            <a:avLst/>
          </a:prstGeom>
          <a:solidFill>
            <a:srgbClr val="fefde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 rot="16200000">
            <a:off x="6202080" y="4932000"/>
            <a:ext cx="273240" cy="568080"/>
          </a:xfrm>
          <a:prstGeom prst="flowChartPunchedCard">
            <a:avLst/>
          </a:prstGeom>
          <a:solidFill>
            <a:srgbClr val="fefde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 rot="5400000">
            <a:off x="5129280" y="3273480"/>
            <a:ext cx="272880" cy="568080"/>
          </a:xfrm>
          <a:prstGeom prst="flowChartPunchedCard">
            <a:avLst/>
          </a:prstGeom>
          <a:solidFill>
            <a:srgbClr val="fefde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 rot="5400000">
            <a:off x="4057200" y="3273120"/>
            <a:ext cx="272880" cy="568440"/>
          </a:xfrm>
          <a:prstGeom prst="flowChartPunchedCard">
            <a:avLst/>
          </a:prstGeom>
          <a:solidFill>
            <a:srgbClr val="fefde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 rot="5400000">
            <a:off x="2922840" y="3272400"/>
            <a:ext cx="272880" cy="569880"/>
          </a:xfrm>
          <a:prstGeom prst="flowChartPunchedCard">
            <a:avLst/>
          </a:prstGeom>
          <a:solidFill>
            <a:srgbClr val="fefde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 rot="3573000">
            <a:off x="1914840" y="3329640"/>
            <a:ext cx="272880" cy="569880"/>
          </a:xfrm>
          <a:prstGeom prst="flowChartPunchedCard">
            <a:avLst/>
          </a:prstGeom>
          <a:solidFill>
            <a:srgbClr val="fefde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 rot="21573000">
            <a:off x="1388880" y="4149360"/>
            <a:ext cx="301320" cy="517680"/>
          </a:xfrm>
          <a:prstGeom prst="flowChartPunchedCard">
            <a:avLst/>
          </a:prstGeom>
          <a:solidFill>
            <a:srgbClr val="fefde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 rot="18029400">
            <a:off x="1916640" y="4873680"/>
            <a:ext cx="273240" cy="570240"/>
          </a:xfrm>
          <a:prstGeom prst="flowChartPunchedCard">
            <a:avLst/>
          </a:prstGeom>
          <a:solidFill>
            <a:srgbClr val="fefde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 rot="13965000">
            <a:off x="7147800" y="4816800"/>
            <a:ext cx="272880" cy="570240"/>
          </a:xfrm>
          <a:prstGeom prst="flowChartPunchedCard">
            <a:avLst/>
          </a:prstGeom>
          <a:solidFill>
            <a:srgbClr val="ff33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 rot="5400000">
            <a:off x="6200280" y="3273120"/>
            <a:ext cx="272880" cy="568440"/>
          </a:xfrm>
          <a:prstGeom prst="flowChartPunchedCard">
            <a:avLst/>
          </a:prstGeom>
          <a:solidFill>
            <a:srgbClr val="fefde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 rot="8065200">
            <a:off x="7221240" y="3463920"/>
            <a:ext cx="273240" cy="568080"/>
          </a:xfrm>
          <a:prstGeom prst="flowChartPunchedCard">
            <a:avLst/>
          </a:prstGeom>
          <a:solidFill>
            <a:srgbClr val="fefde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 rot="14343000">
            <a:off x="7384680" y="4736160"/>
            <a:ext cx="57240" cy="63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7466040" y="4788000"/>
            <a:ext cx="293760" cy="22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 flipV="1">
            <a:off x="7464600" y="3868200"/>
            <a:ext cx="29340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7880400" y="4094280"/>
            <a:ext cx="40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 rot="16200000">
            <a:off x="5775120" y="5069880"/>
            <a:ext cx="57240" cy="63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 flipV="1">
            <a:off x="5803920" y="3139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3591000" y="3119400"/>
            <a:ext cx="113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 flipV="1">
            <a:off x="4102200" y="2547720"/>
            <a:ext cx="0" cy="56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 rot="16200000">
            <a:off x="7899120" y="4376160"/>
            <a:ext cx="57240" cy="63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7943760" y="4265640"/>
            <a:ext cx="333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7751880" y="5016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 flipV="1">
            <a:off x="7761240" y="34052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 rot="16200000">
            <a:off x="7732440" y="4563720"/>
            <a:ext cx="57240" cy="63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 rot="16200000">
            <a:off x="7732440" y="4449240"/>
            <a:ext cx="57240" cy="63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 rot="16200000">
            <a:off x="7724520" y="4336560"/>
            <a:ext cx="57240" cy="63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 rot="16200000">
            <a:off x="7724880" y="4222800"/>
            <a:ext cx="56880" cy="63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 flipV="1">
            <a:off x="7943760" y="4265280"/>
            <a:ext cx="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7893000" y="4713120"/>
            <a:ext cx="40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7880400" y="3976560"/>
            <a:ext cx="40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7900920" y="4842000"/>
            <a:ext cx="40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 flipV="1">
            <a:off x="7758000" y="4038120"/>
            <a:ext cx="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7759800" y="4621320"/>
            <a:ext cx="0" cy="1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 flipV="1">
            <a:off x="7765920" y="3975120"/>
            <a:ext cx="117720" cy="6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7759800" y="4781520"/>
            <a:ext cx="133200" cy="6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 flipV="1">
            <a:off x="7866000" y="4088880"/>
            <a:ext cx="0" cy="26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 flipV="1">
            <a:off x="7891560" y="4484160"/>
            <a:ext cx="0" cy="22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7791480" y="4476600"/>
            <a:ext cx="100080" cy="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7791480" y="4356000"/>
            <a:ext cx="7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 rot="16200000">
            <a:off x="4844160" y="5528520"/>
            <a:ext cx="91296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Hlava  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 rot="16200000">
            <a:off x="6964920" y="5431680"/>
            <a:ext cx="8287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Hlava 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 rot="16200000">
            <a:off x="5924520" y="5510160"/>
            <a:ext cx="88128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Hlava  2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 rot="16200000">
            <a:off x="3694680" y="5514120"/>
            <a:ext cx="9050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Hlava  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 rot="16200000">
            <a:off x="2617560" y="5503680"/>
            <a:ext cx="90504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Hlava  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 rot="16200000">
            <a:off x="1511280" y="5456160"/>
            <a:ext cx="8971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Hlava  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 rot="16200000">
            <a:off x="903240" y="4190400"/>
            <a:ext cx="7729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Hlava  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 rot="16200000">
            <a:off x="1493640" y="2728440"/>
            <a:ext cx="8542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Hlava  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 rot="16200000">
            <a:off x="2604960" y="2712600"/>
            <a:ext cx="8701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Hlava  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 rot="16200000">
            <a:off x="3812040" y="2624760"/>
            <a:ext cx="10224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Hlava  1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 rot="16200000">
            <a:off x="4857840" y="2835360"/>
            <a:ext cx="7207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Hlava  1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 rot="16200000">
            <a:off x="5817960" y="2626920"/>
            <a:ext cx="107640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Hlava  1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 rot="16200000">
            <a:off x="6902640" y="2773080"/>
            <a:ext cx="1052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Hlava  1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 rot="16200000">
            <a:off x="2907360" y="3991320"/>
            <a:ext cx="772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Lôžko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 rot="16200000">
            <a:off x="3442320" y="4318560"/>
            <a:ext cx="77472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Lôžko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 rot="16200000">
            <a:off x="7431120" y="5092560"/>
            <a:ext cx="116676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Programá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 rot="16200000">
            <a:off x="7401600" y="4057920"/>
            <a:ext cx="5724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 rot="16200000">
            <a:off x="3453480" y="2642400"/>
            <a:ext cx="76032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Posuv  lôžk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 rot="16200000">
            <a:off x="3974760" y="2287080"/>
            <a:ext cx="3034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P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 rot="16200000">
            <a:off x="5092560" y="2450520"/>
            <a:ext cx="83484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Poloha  lôžka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 rot="16200000">
            <a:off x="5168880" y="5879520"/>
            <a:ext cx="83484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Poloha  lôžka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 rot="16200000">
            <a:off x="5643360" y="2856960"/>
            <a:ext cx="3632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PL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 rot="16200000">
            <a:off x="5635440" y="5707080"/>
            <a:ext cx="36504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PL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 rot="16200000">
            <a:off x="6296040" y="5456160"/>
            <a:ext cx="83520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Prvá h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 rot="16200000">
            <a:off x="7199280" y="5456160"/>
            <a:ext cx="83520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Hlava vst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 rot="16200000">
            <a:off x="7214400" y="3261600"/>
            <a:ext cx="8352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Hlava výst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 rot="16200000">
            <a:off x="7633440" y="3059280"/>
            <a:ext cx="43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 rot="16200000">
            <a:off x="7559640" y="5619240"/>
            <a:ext cx="43164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 rot="16200000">
            <a:off x="6705720" y="5692680"/>
            <a:ext cx="4334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P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 rot="16200000">
            <a:off x="7750080" y="3406680"/>
            <a:ext cx="83520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Stopa 4   </a:t>
            </a:r>
            <a:r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ST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 rot="16200000">
            <a:off x="8001000" y="3641040"/>
            <a:ext cx="83484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Stopa 3  </a:t>
            </a:r>
            <a:r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ST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 rot="16200000">
            <a:off x="7768440" y="5234760"/>
            <a:ext cx="8352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Stopa 1  </a:t>
            </a:r>
            <a:r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ST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 rot="16200000">
            <a:off x="8019000" y="5053320"/>
            <a:ext cx="8348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Stopa 2  </a:t>
            </a:r>
            <a:r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ST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 rot="16200000">
            <a:off x="8097480" y="3706200"/>
            <a:ext cx="100980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Zadná poloha  </a:t>
            </a:r>
            <a:r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Z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 rot="16200000">
            <a:off x="8026560" y="4814640"/>
            <a:ext cx="123804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Elektromagnety </a:t>
            </a:r>
            <a:r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E1...E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 rot="16200000">
            <a:off x="4661640" y="5078880"/>
            <a:ext cx="128520" cy="276120"/>
          </a:xfrm>
          <a:prstGeom prst="downArrow">
            <a:avLst>
              <a:gd name="adj1" fmla="val 50000"/>
              <a:gd name="adj2" fmla="val 53711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>
            <a:hlinkClick r:id="" action="ppaction://hlinkshowjump?jump=previousslide"/>
          </p:cNvPr>
          <p:cNvSpPr/>
          <p:nvPr/>
        </p:nvSpPr>
        <p:spPr>
          <a:xfrm>
            <a:off x="6781680" y="5943600"/>
            <a:ext cx="565200" cy="585720"/>
          </a:xfrm>
          <a:custGeom>
            <a:avLst/>
            <a:gdLst>
              <a:gd name="textAreaLeft" fmla="*/ 36360 w 565200"/>
              <a:gd name="textAreaRight" fmla="*/ 528840 w 565200"/>
              <a:gd name="textAreaTop" fmla="*/ 36360 h 585720"/>
              <a:gd name="textAreaBottom" fmla="*/ 549360 h 585720"/>
            </a:gdLst>
            <a:ahLst/>
            <a:rect l="textAreaLeft" t="textAreaTop" r="textAreaRight" b="textAreaBottom"/>
            <a:pathLst>
              <a:path w="21600" h="22384">
                <a:moveTo>
                  <a:pt x="0" y="0"/>
                </a:moveTo>
                <a:lnTo>
                  <a:pt x="21600" y="0"/>
                </a:lnTo>
                <a:lnTo>
                  <a:pt x="21600" y="22384"/>
                </a:lnTo>
                <a:lnTo>
                  <a:pt x="0" y="22384"/>
                </a:lnTo>
                <a:close/>
              </a:path>
              <a:path fill="lightenLess" w="21600" h="2238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84">
                <a:moveTo>
                  <a:pt x="21600" y="0"/>
                </a:moveTo>
                <a:lnTo>
                  <a:pt x="21600" y="22384"/>
                </a:lnTo>
                <a:lnTo>
                  <a:pt x="20200" y="20984"/>
                </a:lnTo>
                <a:lnTo>
                  <a:pt x="20200" y="1400"/>
                </a:lnTo>
                <a:close/>
              </a:path>
              <a:path fill="darkenLess" w="21600" h="22384">
                <a:moveTo>
                  <a:pt x="21600" y="22384"/>
                </a:moveTo>
                <a:lnTo>
                  <a:pt x="0" y="22384"/>
                </a:lnTo>
                <a:lnTo>
                  <a:pt x="1400" y="20984"/>
                </a:lnTo>
                <a:lnTo>
                  <a:pt x="20200" y="20984"/>
                </a:lnTo>
                <a:close/>
              </a:path>
              <a:path fill="lighten" w="21600" h="22384">
                <a:moveTo>
                  <a:pt x="0" y="2238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84"/>
                </a:lnTo>
                <a:close/>
              </a:path>
              <a:path fill="darken" w="21600" h="22384">
                <a:moveTo>
                  <a:pt x="3794" y="11192"/>
                </a:moveTo>
                <a:lnTo>
                  <a:pt x="17806" y="4185"/>
                </a:lnTo>
                <a:lnTo>
                  <a:pt x="17806" y="18198"/>
                </a:lnTo>
                <a:close/>
              </a:path>
            </a:pathLst>
          </a:cu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>
            <a:hlinkClick r:id="" action="ppaction://hlinkshowjump?jump=nextslide"/>
          </p:cNvPr>
          <p:cNvSpPr/>
          <p:nvPr/>
        </p:nvSpPr>
        <p:spPr>
          <a:xfrm>
            <a:off x="7400880" y="5943600"/>
            <a:ext cx="566640" cy="585720"/>
          </a:xfrm>
          <a:custGeom>
            <a:avLst/>
            <a:gdLst>
              <a:gd name="textAreaLeft" fmla="*/ 36720 w 566640"/>
              <a:gd name="textAreaRight" fmla="*/ 529920 w 566640"/>
              <a:gd name="textAreaTop" fmla="*/ 36720 h 585720"/>
              <a:gd name="textAreaBottom" fmla="*/ 549000 h 585720"/>
            </a:gdLst>
            <a:ahLst/>
            <a:rect l="textAreaLeft" t="textAreaTop" r="textAreaRight" b="textAreaBottom"/>
            <a:pathLst>
              <a:path w="21600" h="22327">
                <a:moveTo>
                  <a:pt x="0" y="0"/>
                </a:moveTo>
                <a:lnTo>
                  <a:pt x="21600" y="0"/>
                </a:lnTo>
                <a:lnTo>
                  <a:pt x="21600" y="22327"/>
                </a:lnTo>
                <a:lnTo>
                  <a:pt x="0" y="22327"/>
                </a:lnTo>
                <a:close/>
              </a:path>
              <a:path fill="lightenLess" w="21600" h="223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27">
                <a:moveTo>
                  <a:pt x="21600" y="0"/>
                </a:moveTo>
                <a:lnTo>
                  <a:pt x="21600" y="22327"/>
                </a:lnTo>
                <a:lnTo>
                  <a:pt x="20200" y="20927"/>
                </a:lnTo>
                <a:lnTo>
                  <a:pt x="20200" y="1400"/>
                </a:lnTo>
                <a:close/>
              </a:path>
              <a:path fill="darkenLess" w="21600" h="22327">
                <a:moveTo>
                  <a:pt x="21600" y="22327"/>
                </a:moveTo>
                <a:lnTo>
                  <a:pt x="0" y="22327"/>
                </a:lnTo>
                <a:lnTo>
                  <a:pt x="1400" y="20927"/>
                </a:lnTo>
                <a:lnTo>
                  <a:pt x="20200" y="20927"/>
                </a:lnTo>
                <a:close/>
              </a:path>
              <a:path fill="lighten" w="21600" h="22327">
                <a:moveTo>
                  <a:pt x="0" y="223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27"/>
                </a:lnTo>
                <a:close/>
              </a:path>
              <a:path fill="darken" w="21600" h="22327">
                <a:moveTo>
                  <a:pt x="3794" y="4157"/>
                </a:moveTo>
                <a:lnTo>
                  <a:pt x="17806" y="11163"/>
                </a:lnTo>
                <a:lnTo>
                  <a:pt x="3794" y="18170"/>
                </a:lnTo>
                <a:close/>
              </a:path>
            </a:pathLst>
          </a:cu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>
            <a:hlinkClick r:id="" action="ppaction://hlinkshowjump?jump=firstslide"/>
          </p:cNvPr>
          <p:cNvSpPr/>
          <p:nvPr/>
        </p:nvSpPr>
        <p:spPr>
          <a:xfrm>
            <a:off x="8021520" y="5943600"/>
            <a:ext cx="565200" cy="585720"/>
          </a:xfrm>
          <a:custGeom>
            <a:avLst/>
            <a:gdLst>
              <a:gd name="textAreaLeft" fmla="*/ 36360 w 565200"/>
              <a:gd name="textAreaRight" fmla="*/ 528840 w 565200"/>
              <a:gd name="textAreaTop" fmla="*/ 36360 h 585720"/>
              <a:gd name="textAreaBottom" fmla="*/ 549360 h 585720"/>
            </a:gdLst>
            <a:ahLst/>
            <a:rect l="textAreaLeft" t="textAreaTop" r="textAreaRight" b="textAreaBottom"/>
            <a:pathLst>
              <a:path w="21600" h="22384">
                <a:moveTo>
                  <a:pt x="0" y="0"/>
                </a:moveTo>
                <a:lnTo>
                  <a:pt x="21600" y="0"/>
                </a:lnTo>
                <a:lnTo>
                  <a:pt x="21600" y="22384"/>
                </a:lnTo>
                <a:lnTo>
                  <a:pt x="0" y="22384"/>
                </a:lnTo>
                <a:close/>
              </a:path>
              <a:path fill="lightenLess" w="21600" h="2238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84">
                <a:moveTo>
                  <a:pt x="21600" y="0"/>
                </a:moveTo>
                <a:lnTo>
                  <a:pt x="21600" y="22384"/>
                </a:lnTo>
                <a:lnTo>
                  <a:pt x="20200" y="20984"/>
                </a:lnTo>
                <a:lnTo>
                  <a:pt x="20200" y="1400"/>
                </a:lnTo>
                <a:close/>
              </a:path>
              <a:path fill="darkenLess" w="21600" h="22384">
                <a:moveTo>
                  <a:pt x="21600" y="22384"/>
                </a:moveTo>
                <a:lnTo>
                  <a:pt x="0" y="22384"/>
                </a:lnTo>
                <a:lnTo>
                  <a:pt x="1400" y="20984"/>
                </a:lnTo>
                <a:lnTo>
                  <a:pt x="20200" y="20984"/>
                </a:lnTo>
                <a:close/>
              </a:path>
              <a:path fill="lighten" w="21600" h="22384">
                <a:moveTo>
                  <a:pt x="0" y="2238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84"/>
                </a:lnTo>
                <a:close/>
              </a:path>
              <a:path fill="darken" w="21600" h="22384">
                <a:moveTo>
                  <a:pt x="7301" y="11192"/>
                </a:moveTo>
                <a:lnTo>
                  <a:pt x="17806" y="4185"/>
                </a:lnTo>
                <a:lnTo>
                  <a:pt x="17806" y="18198"/>
                </a:lnTo>
                <a:close/>
              </a:path>
              <a:path fill="darken" w="21600" h="22384">
                <a:moveTo>
                  <a:pt x="3794" y="4185"/>
                </a:moveTo>
                <a:lnTo>
                  <a:pt x="5456" y="4185"/>
                </a:lnTo>
                <a:lnTo>
                  <a:pt x="5456" y="18198"/>
                </a:lnTo>
                <a:lnTo>
                  <a:pt x="3794" y="18198"/>
                </a:lnTo>
                <a:close/>
              </a:path>
            </a:pathLst>
          </a:cu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"/>
          <p:cNvSpPr/>
          <p:nvPr/>
        </p:nvSpPr>
        <p:spPr>
          <a:xfrm>
            <a:off x="1171440" y="1487520"/>
            <a:ext cx="7467840" cy="50464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Z</a:t>
            </a:r>
            <a:r>
              <a:rPr b="1" lang="sk-SK" sz="4400" spc="-1" strike="noStrike">
                <a:solidFill>
                  <a:srgbClr val="221304"/>
                </a:solidFill>
                <a:latin typeface="Times New Roman"/>
              </a:rPr>
              <a:t>adanie 15</a:t>
            </a:r>
            <a:r>
              <a:rPr b="0" i="1" lang="sk-SK" sz="4400" spc="-1" strike="noStrike">
                <a:solidFill>
                  <a:srgbClr val="221304"/>
                </a:solidFill>
                <a:latin typeface="Times New Roman"/>
              </a:rPr>
              <a:t>:</a:t>
            </a:r>
            <a:r>
              <a:rPr b="1" i="1" lang="sk-SK" sz="4400" spc="-1" strike="noStrike">
                <a:solidFill>
                  <a:srgbClr val="221304"/>
                </a:solidFill>
                <a:latin typeface="Times New Roman"/>
              </a:rPr>
              <a:t>Odvíjačk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708" name=""/>
          <p:cNvGrpSpPr/>
          <p:nvPr/>
        </p:nvGrpSpPr>
        <p:grpSpPr>
          <a:xfrm>
            <a:off x="2952720" y="2416320"/>
            <a:ext cx="1076400" cy="1076040"/>
            <a:chOff x="2952720" y="2416320"/>
            <a:chExt cx="1076400" cy="1076040"/>
          </a:xfrm>
        </p:grpSpPr>
        <p:sp>
          <p:nvSpPr>
            <p:cNvPr id="1709" name=""/>
            <p:cNvSpPr/>
            <p:nvPr/>
          </p:nvSpPr>
          <p:spPr>
            <a:xfrm>
              <a:off x="2952720" y="2416320"/>
              <a:ext cx="1076400" cy="1076040"/>
            </a:xfrm>
            <a:prstGeom prst="ellipse">
              <a:avLst/>
            </a:prstGeom>
            <a:solidFill>
              <a:srgbClr val="59afcd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3311640" y="2774880"/>
              <a:ext cx="358560" cy="358560"/>
            </a:xfrm>
            <a:prstGeom prst="ellipse">
              <a:avLst/>
            </a:prstGeom>
            <a:solidFill>
              <a:srgbClr val="59afcd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1" name=""/>
          <p:cNvSpPr/>
          <p:nvPr/>
        </p:nvSpPr>
        <p:spPr>
          <a:xfrm>
            <a:off x="2838600" y="2679840"/>
            <a:ext cx="142560" cy="142560"/>
          </a:xfrm>
          <a:prstGeom prst="ellipse">
            <a:avLst/>
          </a:prstGeom>
          <a:solidFill>
            <a:srgbClr val="3694b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2828880" y="3133800"/>
            <a:ext cx="144360" cy="142920"/>
          </a:xfrm>
          <a:prstGeom prst="ellipse">
            <a:avLst/>
          </a:prstGeom>
          <a:solidFill>
            <a:srgbClr val="3694b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3095640" y="3495600"/>
            <a:ext cx="78120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 flipV="1">
            <a:off x="3095640" y="3490200"/>
            <a:ext cx="809640" cy="44280"/>
          </a:xfrm>
          <a:prstGeom prst="triangle">
            <a:avLst>
              <a:gd name="adj" fmla="val 50000"/>
            </a:avLst>
          </a:prstGeom>
          <a:solidFill>
            <a:srgbClr val="fefd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3162240" y="3648240"/>
            <a:ext cx="90720" cy="118800"/>
          </a:xfrm>
          <a:prstGeom prst="rect">
            <a:avLst/>
          </a:prstGeom>
          <a:solidFill>
            <a:srgbClr val="fefde3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3705120" y="3638520"/>
            <a:ext cx="100080" cy="119160"/>
          </a:xfrm>
          <a:prstGeom prst="rect">
            <a:avLst/>
          </a:prstGeom>
          <a:solidFill>
            <a:srgbClr val="fefde3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3095640" y="3705120"/>
            <a:ext cx="1440" cy="505080"/>
          </a:xfrm>
          <a:prstGeom prst="line">
            <a:avLst/>
          </a:prstGeom>
          <a:ln w="28440">
            <a:solidFill>
              <a:srgbClr val="fefd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3311640" y="3706920"/>
            <a:ext cx="1440" cy="504720"/>
          </a:xfrm>
          <a:prstGeom prst="line">
            <a:avLst/>
          </a:prstGeom>
          <a:ln w="28440">
            <a:solidFill>
              <a:srgbClr val="fefd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3670200" y="3706920"/>
            <a:ext cx="0" cy="50328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3886200" y="3706920"/>
            <a:ext cx="1440" cy="504720"/>
          </a:xfrm>
          <a:prstGeom prst="line">
            <a:avLst/>
          </a:prstGeom>
          <a:ln w="28440">
            <a:solidFill>
              <a:srgbClr val="fefd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3311640" y="3733920"/>
            <a:ext cx="358560" cy="358560"/>
          </a:xfrm>
          <a:prstGeom prst="rect">
            <a:avLst/>
          </a:prstGeom>
          <a:solidFill>
            <a:srgbClr val="fefde3"/>
          </a:solidFill>
          <a:ln w="9360">
            <a:solidFill>
              <a:srgbClr val="fefd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3097080" y="3778200"/>
            <a:ext cx="21456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3097080" y="4137120"/>
            <a:ext cx="214560" cy="0"/>
          </a:xfrm>
          <a:prstGeom prst="line">
            <a:avLst/>
          </a:prstGeom>
          <a:ln w="9360">
            <a:solidFill>
              <a:srgbClr val="fefd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3670200" y="4137120"/>
            <a:ext cx="216000" cy="0"/>
          </a:xfrm>
          <a:prstGeom prst="line">
            <a:avLst/>
          </a:prstGeom>
          <a:ln w="9360">
            <a:solidFill>
              <a:srgbClr val="fefd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3670200" y="3778200"/>
            <a:ext cx="21600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 flipH="1">
            <a:off x="2657160" y="2800440"/>
            <a:ext cx="228600" cy="18072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 flipH="1" flipV="1">
            <a:off x="2657160" y="2990880"/>
            <a:ext cx="181080" cy="17136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2457360" y="2990880"/>
            <a:ext cx="200160" cy="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1905120" y="2905200"/>
            <a:ext cx="552240" cy="181080"/>
          </a:xfrm>
          <a:prstGeom prst="rect">
            <a:avLst/>
          </a:prstGeom>
          <a:solidFill>
            <a:srgbClr val="3694b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1962000" y="3276720"/>
            <a:ext cx="419400" cy="142920"/>
          </a:xfrm>
          <a:prstGeom prst="rect">
            <a:avLst/>
          </a:prstGeom>
          <a:solidFill>
            <a:srgbClr val="3694b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2343240" y="3114720"/>
            <a:ext cx="0" cy="15228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2009880" y="3114720"/>
            <a:ext cx="0" cy="15228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2124000" y="3286080"/>
            <a:ext cx="104760" cy="142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 flipH="1">
            <a:off x="2085840" y="3276720"/>
            <a:ext cx="152640" cy="142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 flipV="1">
            <a:off x="2293920" y="3428640"/>
            <a:ext cx="11160" cy="152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 flipV="1">
            <a:off x="2021040" y="3419640"/>
            <a:ext cx="0" cy="103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2962440" y="3362400"/>
            <a:ext cx="90360" cy="9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 flipH="1">
            <a:off x="2733480" y="3438360"/>
            <a:ext cx="228600" cy="1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 flipH="1">
            <a:off x="2722320" y="3571920"/>
            <a:ext cx="11160" cy="17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2952720" y="4495680"/>
            <a:ext cx="438120" cy="4287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 flipH="1">
            <a:off x="2876040" y="3962520"/>
            <a:ext cx="10861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2876400" y="3962520"/>
            <a:ext cx="0" cy="5619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2876400" y="4524480"/>
            <a:ext cx="295560" cy="190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 flipH="1">
            <a:off x="3311280" y="4943520"/>
            <a:ext cx="3240" cy="105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 flipV="1">
            <a:off x="3025800" y="4924080"/>
            <a:ext cx="3240" cy="1222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6" name=""/>
          <p:cNvGrpSpPr/>
          <p:nvPr/>
        </p:nvGrpSpPr>
        <p:grpSpPr>
          <a:xfrm>
            <a:off x="4314960" y="2778120"/>
            <a:ext cx="1076040" cy="1076400"/>
            <a:chOff x="4314960" y="2778120"/>
            <a:chExt cx="1076040" cy="1076400"/>
          </a:xfrm>
        </p:grpSpPr>
        <p:sp>
          <p:nvSpPr>
            <p:cNvPr id="1747" name=""/>
            <p:cNvSpPr/>
            <p:nvPr/>
          </p:nvSpPr>
          <p:spPr>
            <a:xfrm>
              <a:off x="4314960" y="2778120"/>
              <a:ext cx="1076040" cy="1076400"/>
            </a:xfrm>
            <a:prstGeom prst="ellipse">
              <a:avLst/>
            </a:prstGeom>
            <a:solidFill>
              <a:srgbClr val="99003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4673520" y="3137040"/>
              <a:ext cx="358560" cy="358560"/>
            </a:xfrm>
            <a:prstGeom prst="ellipse">
              <a:avLst/>
            </a:prstGeom>
            <a:solidFill>
              <a:srgbClr val="99003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9" name=""/>
          <p:cNvGrpSpPr/>
          <p:nvPr/>
        </p:nvGrpSpPr>
        <p:grpSpPr>
          <a:xfrm>
            <a:off x="5610240" y="3263760"/>
            <a:ext cx="1076400" cy="1076400"/>
            <a:chOff x="5610240" y="3263760"/>
            <a:chExt cx="1076400" cy="1076400"/>
          </a:xfrm>
        </p:grpSpPr>
        <p:sp>
          <p:nvSpPr>
            <p:cNvPr id="1750" name=""/>
            <p:cNvSpPr/>
            <p:nvPr/>
          </p:nvSpPr>
          <p:spPr>
            <a:xfrm>
              <a:off x="5610240" y="3263760"/>
              <a:ext cx="1076400" cy="1076400"/>
            </a:xfrm>
            <a:prstGeom prst="ellipse">
              <a:avLst/>
            </a:prstGeom>
            <a:solidFill>
              <a:srgbClr val="cbbd8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5969160" y="3622680"/>
              <a:ext cx="358560" cy="358560"/>
            </a:xfrm>
            <a:prstGeom prst="ellipse">
              <a:avLst/>
            </a:prstGeom>
            <a:solidFill>
              <a:srgbClr val="cbbd8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2" name=""/>
          <p:cNvGrpSpPr/>
          <p:nvPr/>
        </p:nvGrpSpPr>
        <p:grpSpPr>
          <a:xfrm>
            <a:off x="5600880" y="2349360"/>
            <a:ext cx="1076040" cy="1076400"/>
            <a:chOff x="5600880" y="2349360"/>
            <a:chExt cx="1076040" cy="1076400"/>
          </a:xfrm>
        </p:grpSpPr>
        <p:sp>
          <p:nvSpPr>
            <p:cNvPr id="1753" name=""/>
            <p:cNvSpPr/>
            <p:nvPr/>
          </p:nvSpPr>
          <p:spPr>
            <a:xfrm>
              <a:off x="5600880" y="2349360"/>
              <a:ext cx="1076040" cy="10764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5959440" y="2708280"/>
              <a:ext cx="358560" cy="358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5" name=""/>
          <p:cNvSpPr/>
          <p:nvPr/>
        </p:nvSpPr>
        <p:spPr>
          <a:xfrm>
            <a:off x="4029120" y="3505320"/>
            <a:ext cx="799920" cy="419040"/>
          </a:xfrm>
          <a:prstGeom prst="rtTriangle">
            <a:avLst/>
          </a:prstGeom>
          <a:solidFill>
            <a:srgbClr val="990033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4038480" y="3924360"/>
            <a:ext cx="800280" cy="561960"/>
          </a:xfrm>
          <a:prstGeom prst="rect">
            <a:avLst/>
          </a:prstGeom>
          <a:solidFill>
            <a:srgbClr val="990033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5210280" y="3695760"/>
            <a:ext cx="123840" cy="133200"/>
          </a:xfrm>
          <a:prstGeom prst="ellipse">
            <a:avLst/>
          </a:prstGeom>
          <a:solidFill>
            <a:srgbClr val="fefde3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 rot="20500800">
            <a:off x="4584600" y="3944520"/>
            <a:ext cx="793800" cy="96840"/>
          </a:xfrm>
          <a:prstGeom prst="rect">
            <a:avLst/>
          </a:prstGeom>
          <a:solidFill>
            <a:srgbClr val="fefde3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4657680" y="4048200"/>
            <a:ext cx="90360" cy="903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5105520" y="3981600"/>
            <a:ext cx="0" cy="361800"/>
          </a:xfrm>
          <a:prstGeom prst="line">
            <a:avLst/>
          </a:prstGeom>
          <a:ln w="38160">
            <a:solidFill>
              <a:srgbClr val="fefd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5038560" y="4352760"/>
            <a:ext cx="142920" cy="419400"/>
          </a:xfrm>
          <a:prstGeom prst="rect">
            <a:avLst/>
          </a:prstGeom>
          <a:solidFill>
            <a:srgbClr val="fefde3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4886280" y="4429080"/>
            <a:ext cx="16200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4962600" y="4714920"/>
            <a:ext cx="7596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4890960" y="4424400"/>
            <a:ext cx="0" cy="50328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4962600" y="4711680"/>
            <a:ext cx="0" cy="2160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4962600" y="4927680"/>
            <a:ext cx="71280" cy="7128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 flipH="1">
            <a:off x="4819680" y="4927680"/>
            <a:ext cx="71280" cy="7128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5033880" y="4998960"/>
            <a:ext cx="0" cy="716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4819680" y="4998960"/>
            <a:ext cx="0" cy="716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4699080" y="5079960"/>
            <a:ext cx="431640" cy="142920"/>
          </a:xfrm>
          <a:prstGeom prst="rect">
            <a:avLst/>
          </a:prstGeom>
          <a:solidFill>
            <a:srgbClr val="fefde3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 flipV="1">
            <a:off x="5048280" y="5222520"/>
            <a:ext cx="0" cy="93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 flipV="1">
            <a:off x="4772160" y="5222520"/>
            <a:ext cx="0" cy="93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4316400" y="3635280"/>
            <a:ext cx="144360" cy="142920"/>
          </a:xfrm>
          <a:prstGeom prst="ellipse">
            <a:avLst/>
          </a:prstGeom>
          <a:solidFill>
            <a:srgbClr val="fefde3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 flipH="1">
            <a:off x="4173120" y="3778200"/>
            <a:ext cx="142920" cy="2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4173480" y="3994200"/>
            <a:ext cx="0" cy="8604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4029120" y="4711680"/>
            <a:ext cx="358560" cy="358920"/>
          </a:xfrm>
          <a:prstGeom prst="ellipse">
            <a:avLst/>
          </a:prstGeom>
          <a:solidFill>
            <a:srgbClr val="9900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 flipV="1">
            <a:off x="4316400" y="5159520"/>
            <a:ext cx="0" cy="58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 flipV="1">
            <a:off x="4102200" y="5070600"/>
            <a:ext cx="0" cy="41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6540480" y="45687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5249880" y="428148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5392800" y="392256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5321160" y="4352760"/>
            <a:ext cx="7164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5392800" y="4424400"/>
            <a:ext cx="0" cy="1722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5464080" y="3994200"/>
            <a:ext cx="14472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5608800" y="4352760"/>
            <a:ext cx="0" cy="179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5680080" y="4352760"/>
            <a:ext cx="933480" cy="142920"/>
          </a:xfrm>
          <a:prstGeom prst="rect">
            <a:avLst/>
          </a:prstGeom>
          <a:solidFill>
            <a:srgbClr val="cbbd83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 rot="19465800">
            <a:off x="6397200" y="4209840"/>
            <a:ext cx="430200" cy="142560"/>
          </a:xfrm>
          <a:prstGeom prst="rect">
            <a:avLst/>
          </a:prstGeom>
          <a:solidFill>
            <a:srgbClr val="cbbd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6039000" y="4495680"/>
            <a:ext cx="215640" cy="287280"/>
          </a:xfrm>
          <a:prstGeom prst="rect">
            <a:avLst/>
          </a:prstGeom>
          <a:solidFill>
            <a:srgbClr val="cbbd83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5967360" y="4782960"/>
            <a:ext cx="358920" cy="430560"/>
          </a:xfrm>
          <a:prstGeom prst="rect">
            <a:avLst/>
          </a:prstGeom>
          <a:solidFill>
            <a:srgbClr val="cbbd83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5823000" y="5213520"/>
            <a:ext cx="646200" cy="72720"/>
          </a:xfrm>
          <a:prstGeom prst="rect">
            <a:avLst/>
          </a:prstGeom>
          <a:solidFill>
            <a:srgbClr val="cbbd83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 flipH="1">
            <a:off x="5751360" y="4927680"/>
            <a:ext cx="21600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5751360" y="4927680"/>
            <a:ext cx="0" cy="50148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6326280" y="5141880"/>
            <a:ext cx="21420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6540480" y="5141880"/>
            <a:ext cx="0" cy="28728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5751360" y="5429160"/>
            <a:ext cx="21600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 flipH="1">
            <a:off x="6254640" y="5429160"/>
            <a:ext cx="28584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5967360" y="54291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6254640" y="5429160"/>
            <a:ext cx="0" cy="14292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5896080" y="5572080"/>
            <a:ext cx="501480" cy="144360"/>
          </a:xfrm>
          <a:prstGeom prst="rect">
            <a:avLst/>
          </a:prstGeom>
          <a:solidFill>
            <a:srgbClr val="cbbd83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 flipV="1">
            <a:off x="6326280" y="5716080"/>
            <a:ext cx="0" cy="43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 flipH="1" flipV="1">
            <a:off x="5967000" y="5716440"/>
            <a:ext cx="1800" cy="5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6099120" y="2849400"/>
            <a:ext cx="716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6613560" y="4640400"/>
            <a:ext cx="14292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6756480" y="4782960"/>
            <a:ext cx="0" cy="6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6180120" y="28828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6972480" y="2873520"/>
            <a:ext cx="0" cy="197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 flipH="1">
            <a:off x="4876920" y="5067360"/>
            <a:ext cx="171360" cy="14292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3057480" y="2066760"/>
            <a:ext cx="8002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999999"/>
                </a:solidFill>
                <a:latin typeface="Times New Roman"/>
              </a:rPr>
              <a:t>Poloha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4476600" y="2057400"/>
            <a:ext cx="8002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999999"/>
                </a:solidFill>
                <a:latin typeface="Times New Roman"/>
              </a:rPr>
              <a:t>Poloha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6667560" y="3657600"/>
            <a:ext cx="7999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999999"/>
                </a:solidFill>
                <a:latin typeface="Times New Roman"/>
              </a:rPr>
              <a:t>Poloha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5762520" y="2066760"/>
            <a:ext cx="8002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999999"/>
                </a:solidFill>
                <a:latin typeface="Times New Roman"/>
              </a:rPr>
              <a:t>Poloha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4124160" y="2676600"/>
            <a:ext cx="285840" cy="190440"/>
          </a:xfrm>
          <a:prstGeom prst="rightArrow">
            <a:avLst>
              <a:gd name="adj1" fmla="val 50000"/>
              <a:gd name="adj2" fmla="val 37524"/>
            </a:avLst>
          </a:pr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5457960" y="3247920"/>
            <a:ext cx="285480" cy="190440"/>
          </a:xfrm>
          <a:prstGeom prst="rightArrow">
            <a:avLst>
              <a:gd name="adj1" fmla="val 50000"/>
              <a:gd name="adj2" fmla="val 37476"/>
            </a:avLst>
          </a:pr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 flipH="1" rot="5400000">
            <a:off x="6600240" y="3009600"/>
            <a:ext cx="285480" cy="190440"/>
          </a:xfrm>
          <a:prstGeom prst="rightArrow">
            <a:avLst>
              <a:gd name="adj1" fmla="val 50000"/>
              <a:gd name="adj2" fmla="val 37476"/>
            </a:avLst>
          </a:pr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1924200" y="2562120"/>
            <a:ext cx="7999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999999"/>
                </a:solidFill>
                <a:latin typeface="Times New Roman"/>
              </a:rPr>
              <a:t>Zosúvač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4162320" y="4476600"/>
            <a:ext cx="8002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999999"/>
                </a:solidFill>
                <a:latin typeface="Times New Roman"/>
              </a:rPr>
              <a:t>Kolísk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5648400" y="4524480"/>
            <a:ext cx="7999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999999"/>
                </a:solidFill>
                <a:latin typeface="Times New Roman"/>
              </a:rPr>
              <a:t>Stô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>
            <a:hlinkClick r:id="" action="ppaction://hlinkshowjump?jump=previousslide"/>
          </p:cNvPr>
          <p:cNvSpPr/>
          <p:nvPr/>
        </p:nvSpPr>
        <p:spPr>
          <a:xfrm>
            <a:off x="7086600" y="5943600"/>
            <a:ext cx="492120" cy="585720"/>
          </a:xfrm>
          <a:custGeom>
            <a:avLst/>
            <a:gdLst>
              <a:gd name="textAreaLeft" fmla="*/ 31680 w 492120"/>
              <a:gd name="textAreaRight" fmla="*/ 460440 w 492120"/>
              <a:gd name="textAreaTop" fmla="*/ 31680 h 585720"/>
              <a:gd name="textAreaBottom" fmla="*/ 554040 h 585720"/>
            </a:gdLst>
            <a:ahLst/>
            <a:rect l="textAreaLeft" t="textAreaTop" r="textAreaRight" b="textAreaBottom"/>
            <a:pathLst>
              <a:path w="21600" h="25705">
                <a:moveTo>
                  <a:pt x="0" y="0"/>
                </a:moveTo>
                <a:lnTo>
                  <a:pt x="21600" y="0"/>
                </a:lnTo>
                <a:lnTo>
                  <a:pt x="21600" y="25705"/>
                </a:lnTo>
                <a:lnTo>
                  <a:pt x="0" y="25705"/>
                </a:lnTo>
                <a:close/>
              </a:path>
              <a:path fill="lightenLess" w="21600" h="257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705">
                <a:moveTo>
                  <a:pt x="21600" y="0"/>
                </a:moveTo>
                <a:lnTo>
                  <a:pt x="21600" y="25705"/>
                </a:lnTo>
                <a:lnTo>
                  <a:pt x="20200" y="24305"/>
                </a:lnTo>
                <a:lnTo>
                  <a:pt x="20200" y="1400"/>
                </a:lnTo>
                <a:close/>
              </a:path>
              <a:path fill="darkenLess" w="21600" h="25705">
                <a:moveTo>
                  <a:pt x="21600" y="25705"/>
                </a:moveTo>
                <a:lnTo>
                  <a:pt x="0" y="25705"/>
                </a:lnTo>
                <a:lnTo>
                  <a:pt x="1400" y="24305"/>
                </a:lnTo>
                <a:lnTo>
                  <a:pt x="20200" y="24305"/>
                </a:lnTo>
                <a:close/>
              </a:path>
              <a:path fill="lighten" w="21600" h="25705">
                <a:moveTo>
                  <a:pt x="0" y="257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4305"/>
                </a:lnTo>
                <a:close/>
              </a:path>
              <a:path fill="darken" w="21600" h="25705">
                <a:moveTo>
                  <a:pt x="3794" y="12853"/>
                </a:moveTo>
                <a:lnTo>
                  <a:pt x="17806" y="5846"/>
                </a:lnTo>
                <a:lnTo>
                  <a:pt x="17806" y="19859"/>
                </a:lnTo>
                <a:close/>
              </a:path>
            </a:pathLst>
          </a:cu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>
            <a:hlinkClick r:id="" action="ppaction://hlinkshowjump?jump=nextslide"/>
          </p:cNvPr>
          <p:cNvSpPr/>
          <p:nvPr/>
        </p:nvSpPr>
        <p:spPr>
          <a:xfrm>
            <a:off x="7705800" y="5943600"/>
            <a:ext cx="552240" cy="585720"/>
          </a:xfrm>
          <a:custGeom>
            <a:avLst/>
            <a:gdLst>
              <a:gd name="textAreaLeft" fmla="*/ 35640 w 552240"/>
              <a:gd name="textAreaRight" fmla="*/ 516600 w 552240"/>
              <a:gd name="textAreaTop" fmla="*/ 35640 h 585720"/>
              <a:gd name="textAreaBottom" fmla="*/ 550080 h 585720"/>
            </a:gdLst>
            <a:ahLst/>
            <a:rect l="textAreaLeft" t="textAreaTop" r="textAreaRight" b="textAreaBottom"/>
            <a:pathLst>
              <a:path w="21600" h="22909">
                <a:moveTo>
                  <a:pt x="0" y="0"/>
                </a:moveTo>
                <a:lnTo>
                  <a:pt x="21600" y="0"/>
                </a:lnTo>
                <a:lnTo>
                  <a:pt x="21600" y="22909"/>
                </a:lnTo>
                <a:lnTo>
                  <a:pt x="0" y="22909"/>
                </a:lnTo>
                <a:close/>
              </a:path>
              <a:path fill="lightenLess" w="21600" h="229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09">
                <a:moveTo>
                  <a:pt x="21600" y="0"/>
                </a:moveTo>
                <a:lnTo>
                  <a:pt x="21600" y="22909"/>
                </a:lnTo>
                <a:lnTo>
                  <a:pt x="20200" y="21509"/>
                </a:lnTo>
                <a:lnTo>
                  <a:pt x="20200" y="1400"/>
                </a:lnTo>
                <a:close/>
              </a:path>
              <a:path fill="darkenLess" w="21600" h="22909">
                <a:moveTo>
                  <a:pt x="21600" y="22909"/>
                </a:moveTo>
                <a:lnTo>
                  <a:pt x="0" y="22909"/>
                </a:lnTo>
                <a:lnTo>
                  <a:pt x="1400" y="21509"/>
                </a:lnTo>
                <a:lnTo>
                  <a:pt x="20200" y="21509"/>
                </a:lnTo>
                <a:close/>
              </a:path>
              <a:path fill="lighten" w="21600" h="22909">
                <a:moveTo>
                  <a:pt x="0" y="229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09"/>
                </a:lnTo>
                <a:close/>
              </a:path>
              <a:path fill="darken" w="21600" h="22909">
                <a:moveTo>
                  <a:pt x="3794" y="4448"/>
                </a:moveTo>
                <a:lnTo>
                  <a:pt x="17806" y="11454"/>
                </a:lnTo>
                <a:lnTo>
                  <a:pt x="3794" y="18461"/>
                </a:lnTo>
                <a:close/>
              </a:path>
            </a:pathLst>
          </a:cu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>
            <a:hlinkClick r:id="" action="ppaction://hlinkshowjump?jump=firstslide"/>
          </p:cNvPr>
          <p:cNvSpPr/>
          <p:nvPr/>
        </p:nvSpPr>
        <p:spPr>
          <a:xfrm>
            <a:off x="8326440" y="5943600"/>
            <a:ext cx="476280" cy="585720"/>
          </a:xfrm>
          <a:custGeom>
            <a:avLst/>
            <a:gdLst>
              <a:gd name="textAreaLeft" fmla="*/ 30600 w 476280"/>
              <a:gd name="textAreaRight" fmla="*/ 445680 w 476280"/>
              <a:gd name="textAreaTop" fmla="*/ 30600 h 585720"/>
              <a:gd name="textAreaBottom" fmla="*/ 555120 h 585720"/>
            </a:gdLst>
            <a:ahLst/>
            <a:rect l="textAreaLeft" t="textAreaTop" r="textAreaRight" b="textAreaBottom"/>
            <a:pathLst>
              <a:path w="21600" h="26560">
                <a:moveTo>
                  <a:pt x="0" y="0"/>
                </a:moveTo>
                <a:lnTo>
                  <a:pt x="21600" y="0"/>
                </a:lnTo>
                <a:lnTo>
                  <a:pt x="21600" y="26560"/>
                </a:lnTo>
                <a:lnTo>
                  <a:pt x="0" y="26560"/>
                </a:lnTo>
                <a:close/>
              </a:path>
              <a:path fill="lightenLess" w="21600" h="2656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560">
                <a:moveTo>
                  <a:pt x="21600" y="0"/>
                </a:moveTo>
                <a:lnTo>
                  <a:pt x="21600" y="26560"/>
                </a:lnTo>
                <a:lnTo>
                  <a:pt x="20200" y="25160"/>
                </a:lnTo>
                <a:lnTo>
                  <a:pt x="20200" y="1400"/>
                </a:lnTo>
                <a:close/>
              </a:path>
              <a:path fill="darkenLess" w="21600" h="26560">
                <a:moveTo>
                  <a:pt x="21600" y="26560"/>
                </a:moveTo>
                <a:lnTo>
                  <a:pt x="0" y="26560"/>
                </a:lnTo>
                <a:lnTo>
                  <a:pt x="1400" y="25160"/>
                </a:lnTo>
                <a:lnTo>
                  <a:pt x="20200" y="25160"/>
                </a:lnTo>
                <a:close/>
              </a:path>
              <a:path fill="lighten" w="21600" h="26560">
                <a:moveTo>
                  <a:pt x="0" y="2656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160"/>
                </a:lnTo>
                <a:close/>
              </a:path>
              <a:path fill="darken" w="21600" h="26560">
                <a:moveTo>
                  <a:pt x="7301" y="13280"/>
                </a:moveTo>
                <a:lnTo>
                  <a:pt x="17806" y="6273"/>
                </a:lnTo>
                <a:lnTo>
                  <a:pt x="17806" y="20286"/>
                </a:lnTo>
                <a:close/>
              </a:path>
              <a:path fill="darken" w="21600" h="26560">
                <a:moveTo>
                  <a:pt x="3794" y="6273"/>
                </a:moveTo>
                <a:lnTo>
                  <a:pt x="5456" y="6273"/>
                </a:lnTo>
                <a:lnTo>
                  <a:pt x="5456" y="20286"/>
                </a:lnTo>
                <a:lnTo>
                  <a:pt x="3794" y="20286"/>
                </a:lnTo>
                <a:close/>
              </a:path>
            </a:pathLst>
          </a:cu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1130760" y="4226040"/>
            <a:ext cx="91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Zos_v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1426320" y="4770360"/>
            <a:ext cx="9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Zos_dn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2121120" y="5330880"/>
            <a:ext cx="75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Zvit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2003040" y="5905440"/>
            <a:ext cx="10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opr_z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3168360" y="5935680"/>
            <a:ext cx="10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opr_z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3300120" y="519912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ol_z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3491640" y="5580000"/>
            <a:ext cx="90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ol_vy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 rot="16200000">
            <a:off x="4055400" y="5711760"/>
            <a:ext cx="108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am_dol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 rot="16200000">
            <a:off x="4343760" y="5718960"/>
            <a:ext cx="109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am_h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7075800" y="4400640"/>
            <a:ext cx="125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Zvitok_h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6796800" y="5122800"/>
            <a:ext cx="98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l_d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6264360" y="5859360"/>
            <a:ext cx="75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_d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5865840" y="62420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_h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 rot="16200000">
            <a:off x="5306400" y="5722920"/>
            <a:ext cx="82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_h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 rot="16200000">
            <a:off x="4880520" y="57672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_d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"/>
          <p:cNvSpPr/>
          <p:nvPr/>
        </p:nvSpPr>
        <p:spPr>
          <a:xfrm>
            <a:off x="1103400" y="1766880"/>
            <a:ext cx="6933960" cy="48006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600" spc="-1" strike="noStrike">
                <a:solidFill>
                  <a:srgbClr val="221304"/>
                </a:solidFill>
                <a:latin typeface="Times New Roman"/>
              </a:rPr>
              <a:t>Pokračovanie zadania odvíjačka</a:t>
            </a:r>
            <a:endParaRPr b="0" lang="en-US" sz="1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 rot="16200000">
            <a:off x="3452040" y="2451960"/>
            <a:ext cx="860400" cy="71280"/>
          </a:xfrm>
          <a:custGeom>
            <a:avLst/>
            <a:gdLst>
              <a:gd name="textAreaLeft" fmla="*/ 189000 w 860400"/>
              <a:gd name="textAreaRight" fmla="*/ 671400 w 860400"/>
              <a:gd name="textAreaTop" fmla="*/ 15480 h 71280"/>
              <a:gd name="textAreaBottom" fmla="*/ 5580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 flipH="1" rot="5400000">
            <a:off x="5173560" y="2451600"/>
            <a:ext cx="860400" cy="71640"/>
          </a:xfrm>
          <a:custGeom>
            <a:avLst/>
            <a:gdLst>
              <a:gd name="textAreaLeft" fmla="*/ 189000 w 860400"/>
              <a:gd name="textAreaRight" fmla="*/ 671400 w 860400"/>
              <a:gd name="textAreaTop" fmla="*/ 15480 h 71640"/>
              <a:gd name="textAreaBottom" fmla="*/ 5616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3703680" y="2128680"/>
            <a:ext cx="142920" cy="7178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5640480" y="2128680"/>
            <a:ext cx="142920" cy="7178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3917880" y="2344680"/>
            <a:ext cx="287280" cy="287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5281560" y="2344680"/>
            <a:ext cx="287280" cy="287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 rot="16200000">
            <a:off x="4097160" y="2452320"/>
            <a:ext cx="287280" cy="71640"/>
          </a:xfrm>
          <a:custGeom>
            <a:avLst/>
            <a:gdLst>
              <a:gd name="textAreaLeft" fmla="*/ 63000 w 287280"/>
              <a:gd name="textAreaRight" fmla="*/ 224280 w 287280"/>
              <a:gd name="textAreaTop" fmla="*/ 15480 h 71640"/>
              <a:gd name="textAreaBottom" fmla="*/ 5616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 flipH="1" rot="5400000">
            <a:off x="5102280" y="2452680"/>
            <a:ext cx="287280" cy="71280"/>
          </a:xfrm>
          <a:custGeom>
            <a:avLst/>
            <a:gdLst>
              <a:gd name="textAreaLeft" fmla="*/ 63000 w 287280"/>
              <a:gd name="textAreaRight" fmla="*/ 224280 w 287280"/>
              <a:gd name="textAreaTop" fmla="*/ 15480 h 71280"/>
              <a:gd name="textAreaBottom" fmla="*/ 5580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3632040" y="2200320"/>
            <a:ext cx="71640" cy="5745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5711760" y="2416320"/>
            <a:ext cx="430200" cy="1425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3200400" y="2416320"/>
            <a:ext cx="431640" cy="1425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3057480" y="2273400"/>
            <a:ext cx="430200" cy="15066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5711760" y="3780000"/>
            <a:ext cx="862200" cy="71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5568840" y="3851280"/>
            <a:ext cx="1148040" cy="4302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2841480" y="3780000"/>
            <a:ext cx="862200" cy="71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5927760" y="2273400"/>
            <a:ext cx="430200" cy="15066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2698920" y="3851280"/>
            <a:ext cx="1147680" cy="4302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4133880" y="3421080"/>
            <a:ext cx="1147680" cy="142920"/>
          </a:xfrm>
          <a:prstGeom prst="rect">
            <a:avLst/>
          </a:prstGeom>
          <a:solidFill>
            <a:srgbClr val="fefde3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4564080" y="3564000"/>
            <a:ext cx="216000" cy="430200"/>
          </a:xfrm>
          <a:prstGeom prst="rect">
            <a:avLst/>
          </a:prstGeom>
          <a:solidFill>
            <a:srgbClr val="fefde3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4492800" y="3922560"/>
            <a:ext cx="358560" cy="358920"/>
          </a:xfrm>
          <a:prstGeom prst="rect">
            <a:avLst/>
          </a:prstGeom>
          <a:solidFill>
            <a:srgbClr val="fefde3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2627280" y="4065480"/>
            <a:ext cx="1290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5497560" y="4065480"/>
            <a:ext cx="1290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2482920" y="4281480"/>
            <a:ext cx="4449600" cy="214200"/>
          </a:xfrm>
          <a:prstGeom prst="rect">
            <a:avLst/>
          </a:prstGeom>
          <a:solidFill>
            <a:srgbClr val="fefde3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1981080" y="3922560"/>
            <a:ext cx="646200" cy="287640"/>
          </a:xfrm>
          <a:prstGeom prst="rect">
            <a:avLst/>
          </a:prstGeom>
          <a:solidFill>
            <a:srgbClr val="3694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6788160" y="3922560"/>
            <a:ext cx="646200" cy="287640"/>
          </a:xfrm>
          <a:prstGeom prst="rect">
            <a:avLst/>
          </a:prstGeom>
          <a:solidFill>
            <a:srgbClr val="3694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 flipV="1">
            <a:off x="1981080" y="3922200"/>
            <a:ext cx="646200" cy="287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1981080" y="3922560"/>
            <a:ext cx="646200" cy="287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6788160" y="3922560"/>
            <a:ext cx="646200" cy="287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 flipV="1">
            <a:off x="6788160" y="3922200"/>
            <a:ext cx="646200" cy="287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2268360" y="4210200"/>
            <a:ext cx="0" cy="93168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7075440" y="4210200"/>
            <a:ext cx="0" cy="93168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2052720" y="5141880"/>
            <a:ext cx="430200" cy="430200"/>
          </a:xfrm>
          <a:prstGeom prst="ellipse">
            <a:avLst/>
          </a:prstGeom>
          <a:solidFill>
            <a:srgbClr val="3694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6859440" y="5141880"/>
            <a:ext cx="432000" cy="430200"/>
          </a:xfrm>
          <a:prstGeom prst="ellipse">
            <a:avLst/>
          </a:prstGeom>
          <a:solidFill>
            <a:srgbClr val="3694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2986200" y="5213520"/>
            <a:ext cx="0" cy="869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6357960" y="5213520"/>
            <a:ext cx="0" cy="88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 flipH="1">
            <a:off x="2482920" y="52135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6357960" y="5213520"/>
            <a:ext cx="501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 flipH="1">
            <a:off x="6571800" y="5500800"/>
            <a:ext cx="1800" cy="3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6573960" y="5500800"/>
            <a:ext cx="285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2770200" y="542916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 flipH="1">
            <a:off x="2482920" y="54291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2124000" y="4640400"/>
            <a:ext cx="287280" cy="1425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6932520" y="4640400"/>
            <a:ext cx="285840" cy="1425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2482920" y="4640400"/>
            <a:ext cx="73080" cy="1425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1981080" y="4640400"/>
            <a:ext cx="71640" cy="1425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6788160" y="4640400"/>
            <a:ext cx="71280" cy="144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7291440" y="4640400"/>
            <a:ext cx="71280" cy="1425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 flipH="1">
            <a:off x="2555640" y="4711680"/>
            <a:ext cx="1003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5783400" y="4711680"/>
            <a:ext cx="10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3273480" y="4927680"/>
            <a:ext cx="0" cy="136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6070680" y="4927680"/>
            <a:ext cx="0" cy="136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6932520" y="4854600"/>
            <a:ext cx="285840" cy="460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6932520" y="4927680"/>
            <a:ext cx="285840" cy="44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2124000" y="4854600"/>
            <a:ext cx="287280" cy="460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2124000" y="4927680"/>
            <a:ext cx="287280" cy="44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 flipH="1">
            <a:off x="2482920" y="4927680"/>
            <a:ext cx="79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6070680" y="4927680"/>
            <a:ext cx="861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5783400" y="4711680"/>
            <a:ext cx="0" cy="157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3559320" y="4711680"/>
            <a:ext cx="0" cy="157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3330720" y="3659040"/>
            <a:ext cx="71280" cy="73080"/>
          </a:xfrm>
          <a:prstGeom prst="ellipse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3416400" y="370692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3990960" y="3706920"/>
            <a:ext cx="0" cy="258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5424480" y="3706920"/>
            <a:ext cx="64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5424480" y="3706920"/>
            <a:ext cx="0" cy="258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4425840" y="3635280"/>
            <a:ext cx="0" cy="2654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4960800" y="3619440"/>
            <a:ext cx="0" cy="2654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3846600" y="3635280"/>
            <a:ext cx="56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4944960" y="3621240"/>
            <a:ext cx="838440" cy="1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3759120" y="3592440"/>
            <a:ext cx="71640" cy="73080"/>
          </a:xfrm>
          <a:prstGeom prst="ellipse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5776920" y="3592440"/>
            <a:ext cx="73080" cy="73080"/>
          </a:xfrm>
          <a:prstGeom prst="ellipse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6072120" y="3687840"/>
            <a:ext cx="73080" cy="73080"/>
          </a:xfrm>
          <a:prstGeom prst="ellipse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>
            <a:hlinkClick r:id="" action="ppaction://hlinkshowjump?jump=previousslide"/>
          </p:cNvPr>
          <p:cNvSpPr/>
          <p:nvPr/>
        </p:nvSpPr>
        <p:spPr>
          <a:xfrm>
            <a:off x="8183520" y="4602240"/>
            <a:ext cx="565200" cy="585720"/>
          </a:xfrm>
          <a:custGeom>
            <a:avLst/>
            <a:gdLst>
              <a:gd name="textAreaLeft" fmla="*/ 36360 w 565200"/>
              <a:gd name="textAreaRight" fmla="*/ 528840 w 565200"/>
              <a:gd name="textAreaTop" fmla="*/ 36360 h 585720"/>
              <a:gd name="textAreaBottom" fmla="*/ 549360 h 585720"/>
            </a:gdLst>
            <a:ahLst/>
            <a:rect l="textAreaLeft" t="textAreaTop" r="textAreaRight" b="textAreaBottom"/>
            <a:pathLst>
              <a:path w="21600" h="22384">
                <a:moveTo>
                  <a:pt x="0" y="0"/>
                </a:moveTo>
                <a:lnTo>
                  <a:pt x="21600" y="0"/>
                </a:lnTo>
                <a:lnTo>
                  <a:pt x="21600" y="22384"/>
                </a:lnTo>
                <a:lnTo>
                  <a:pt x="0" y="22384"/>
                </a:lnTo>
                <a:close/>
              </a:path>
              <a:path fill="lightenLess" w="21600" h="2238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84">
                <a:moveTo>
                  <a:pt x="21600" y="0"/>
                </a:moveTo>
                <a:lnTo>
                  <a:pt x="21600" y="22384"/>
                </a:lnTo>
                <a:lnTo>
                  <a:pt x="20200" y="20984"/>
                </a:lnTo>
                <a:lnTo>
                  <a:pt x="20200" y="1400"/>
                </a:lnTo>
                <a:close/>
              </a:path>
              <a:path fill="darkenLess" w="21600" h="22384">
                <a:moveTo>
                  <a:pt x="21600" y="22384"/>
                </a:moveTo>
                <a:lnTo>
                  <a:pt x="0" y="22384"/>
                </a:lnTo>
                <a:lnTo>
                  <a:pt x="1400" y="20984"/>
                </a:lnTo>
                <a:lnTo>
                  <a:pt x="20200" y="20984"/>
                </a:lnTo>
                <a:close/>
              </a:path>
              <a:path fill="lighten" w="21600" h="22384">
                <a:moveTo>
                  <a:pt x="0" y="2238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84"/>
                </a:lnTo>
                <a:close/>
              </a:path>
              <a:path fill="darken" w="21600" h="22384">
                <a:moveTo>
                  <a:pt x="3794" y="11192"/>
                </a:moveTo>
                <a:lnTo>
                  <a:pt x="17806" y="4185"/>
                </a:lnTo>
                <a:lnTo>
                  <a:pt x="17806" y="18198"/>
                </a:lnTo>
                <a:close/>
              </a:path>
            </a:pathLst>
          </a:cu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>
            <a:hlinkClick r:id="" action="ppaction://hlinkshowjump?jump=nextslide"/>
          </p:cNvPr>
          <p:cNvSpPr/>
          <p:nvPr/>
        </p:nvSpPr>
        <p:spPr>
          <a:xfrm>
            <a:off x="8196120" y="5294160"/>
            <a:ext cx="567000" cy="586080"/>
          </a:xfrm>
          <a:custGeom>
            <a:avLst/>
            <a:gdLst>
              <a:gd name="textAreaLeft" fmla="*/ 36720 w 567000"/>
              <a:gd name="textAreaRight" fmla="*/ 530280 w 567000"/>
              <a:gd name="textAreaTop" fmla="*/ 36720 h 586080"/>
              <a:gd name="textAreaBottom" fmla="*/ 549360 h 586080"/>
            </a:gdLst>
            <a:ahLst/>
            <a:rect l="textAreaLeft" t="textAreaTop" r="textAreaRight" b="textAreaBottom"/>
            <a:pathLst>
              <a:path w="21600" h="22326">
                <a:moveTo>
                  <a:pt x="0" y="0"/>
                </a:moveTo>
                <a:lnTo>
                  <a:pt x="21600" y="0"/>
                </a:lnTo>
                <a:lnTo>
                  <a:pt x="21600" y="22326"/>
                </a:lnTo>
                <a:lnTo>
                  <a:pt x="0" y="22326"/>
                </a:lnTo>
                <a:close/>
              </a:path>
              <a:path fill="lightenLess" w="21600" h="223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26">
                <a:moveTo>
                  <a:pt x="21600" y="0"/>
                </a:moveTo>
                <a:lnTo>
                  <a:pt x="21600" y="22326"/>
                </a:lnTo>
                <a:lnTo>
                  <a:pt x="20200" y="20926"/>
                </a:lnTo>
                <a:lnTo>
                  <a:pt x="20200" y="1400"/>
                </a:lnTo>
                <a:close/>
              </a:path>
              <a:path fill="darkenLess" w="21600" h="22326">
                <a:moveTo>
                  <a:pt x="21600" y="22326"/>
                </a:moveTo>
                <a:lnTo>
                  <a:pt x="0" y="22326"/>
                </a:lnTo>
                <a:lnTo>
                  <a:pt x="1400" y="20926"/>
                </a:lnTo>
                <a:lnTo>
                  <a:pt x="20200" y="20926"/>
                </a:lnTo>
                <a:close/>
              </a:path>
              <a:path fill="lighten" w="21600" h="22326">
                <a:moveTo>
                  <a:pt x="0" y="223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26"/>
                </a:lnTo>
                <a:close/>
              </a:path>
              <a:path fill="darken" w="21600" h="22326">
                <a:moveTo>
                  <a:pt x="3794" y="4157"/>
                </a:moveTo>
                <a:lnTo>
                  <a:pt x="17806" y="11163"/>
                </a:lnTo>
                <a:lnTo>
                  <a:pt x="3794" y="18170"/>
                </a:lnTo>
                <a:close/>
              </a:path>
            </a:pathLst>
          </a:cu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>
            <a:hlinkClick r:id="" action="ppaction://hlinkshowjump?jump=firstslide"/>
          </p:cNvPr>
          <p:cNvSpPr/>
          <p:nvPr/>
        </p:nvSpPr>
        <p:spPr>
          <a:xfrm>
            <a:off x="8213760" y="5987880"/>
            <a:ext cx="565200" cy="586080"/>
          </a:xfrm>
          <a:custGeom>
            <a:avLst/>
            <a:gdLst>
              <a:gd name="textAreaLeft" fmla="*/ 36360 w 565200"/>
              <a:gd name="textAreaRight" fmla="*/ 528840 w 565200"/>
              <a:gd name="textAreaTop" fmla="*/ 36360 h 586080"/>
              <a:gd name="textAreaBottom" fmla="*/ 549720 h 586080"/>
            </a:gdLst>
            <a:ahLst/>
            <a:rect l="textAreaLeft" t="textAreaTop" r="textAreaRight" b="textAreaBottom"/>
            <a:pathLst>
              <a:path w="21600" h="22397">
                <a:moveTo>
                  <a:pt x="0" y="0"/>
                </a:moveTo>
                <a:lnTo>
                  <a:pt x="21600" y="0"/>
                </a:lnTo>
                <a:lnTo>
                  <a:pt x="21600" y="22397"/>
                </a:lnTo>
                <a:lnTo>
                  <a:pt x="0" y="22397"/>
                </a:lnTo>
                <a:close/>
              </a:path>
              <a:path fill="lightenLess" w="21600" h="223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97">
                <a:moveTo>
                  <a:pt x="21600" y="0"/>
                </a:moveTo>
                <a:lnTo>
                  <a:pt x="21600" y="22397"/>
                </a:lnTo>
                <a:lnTo>
                  <a:pt x="20200" y="20997"/>
                </a:lnTo>
                <a:lnTo>
                  <a:pt x="20200" y="1400"/>
                </a:lnTo>
                <a:close/>
              </a:path>
              <a:path fill="darkenLess" w="21600" h="22397">
                <a:moveTo>
                  <a:pt x="21600" y="22397"/>
                </a:moveTo>
                <a:lnTo>
                  <a:pt x="0" y="22397"/>
                </a:lnTo>
                <a:lnTo>
                  <a:pt x="1400" y="20997"/>
                </a:lnTo>
                <a:lnTo>
                  <a:pt x="20200" y="20997"/>
                </a:lnTo>
                <a:close/>
              </a:path>
              <a:path fill="lighten" w="21600" h="22397">
                <a:moveTo>
                  <a:pt x="0" y="223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97"/>
                </a:lnTo>
                <a:close/>
              </a:path>
              <a:path fill="darken" w="21600" h="22397">
                <a:moveTo>
                  <a:pt x="7301" y="11199"/>
                </a:moveTo>
                <a:lnTo>
                  <a:pt x="17806" y="4192"/>
                </a:lnTo>
                <a:lnTo>
                  <a:pt x="17806" y="18205"/>
                </a:lnTo>
                <a:close/>
              </a:path>
              <a:path fill="darken" w="21600" h="22397">
                <a:moveTo>
                  <a:pt x="3794" y="4192"/>
                </a:moveTo>
                <a:lnTo>
                  <a:pt x="5456" y="4192"/>
                </a:lnTo>
                <a:lnTo>
                  <a:pt x="5456" y="18205"/>
                </a:lnTo>
                <a:lnTo>
                  <a:pt x="3794" y="18205"/>
                </a:lnTo>
                <a:close/>
              </a:path>
            </a:pathLst>
          </a:cu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3095280" y="6230880"/>
            <a:ext cx="3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3403080" y="6245280"/>
            <a:ext cx="4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5541480" y="6230880"/>
            <a:ext cx="4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5881320" y="6232680"/>
            <a:ext cx="3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2004480" y="568476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1_z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2093040" y="595008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1_vy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6531840" y="566892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2_vy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6297120" y="602460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2_z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 rot="16200000">
            <a:off x="4526280" y="5253120"/>
            <a:ext cx="136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jan_2_v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 rot="16200000">
            <a:off x="3560400" y="5241960"/>
            <a:ext cx="13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jan_1_dn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 rot="16200000">
            <a:off x="4060440" y="5256360"/>
            <a:ext cx="13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jan_2_dn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 rot="16200000">
            <a:off x="3138840" y="5265720"/>
            <a:ext cx="136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jan_1_v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"/>
          <p:cNvSpPr/>
          <p:nvPr/>
        </p:nvSpPr>
        <p:spPr>
          <a:xfrm>
            <a:off x="1143000" y="1600200"/>
            <a:ext cx="7543800" cy="50292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221304"/>
                </a:solidFill>
                <a:latin typeface="Times New Roman"/>
              </a:rPr>
              <a:t>Z</a:t>
            </a:r>
            <a:r>
              <a:rPr b="1" i="1" lang="sk-SK" sz="4400" spc="-1" strike="noStrike">
                <a:solidFill>
                  <a:srgbClr val="221304"/>
                </a:solidFill>
                <a:latin typeface="Times New Roman"/>
              </a:rPr>
              <a:t>adanie 16:Plniaca linka</a:t>
            </a:r>
            <a:r>
              <a:rPr b="0" i="1" lang="sk-SK" sz="4400" spc="-1" strike="noStrike">
                <a:solidFill>
                  <a:srgbClr val="221304"/>
                </a:solidFill>
                <a:latin typeface="Times New Roman"/>
              </a:rPr>
              <a:t> 1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926" name=""/>
          <p:cNvGrpSpPr/>
          <p:nvPr/>
        </p:nvGrpSpPr>
        <p:grpSpPr>
          <a:xfrm>
            <a:off x="1371600" y="1829160"/>
            <a:ext cx="6933960" cy="4571640"/>
            <a:chOff x="1371600" y="1829160"/>
            <a:chExt cx="6933960" cy="4571640"/>
          </a:xfrm>
        </p:grpSpPr>
        <p:sp>
          <p:nvSpPr>
            <p:cNvPr id="1927" name=""/>
            <p:cNvSpPr/>
            <p:nvPr/>
          </p:nvSpPr>
          <p:spPr>
            <a:xfrm flipV="1">
              <a:off x="5450400" y="5618880"/>
              <a:ext cx="0" cy="360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5392440" y="5498640"/>
              <a:ext cx="291240" cy="120240"/>
            </a:xfrm>
            <a:prstGeom prst="rect">
              <a:avLst/>
            </a:prstGeom>
            <a:solidFill>
              <a:srgbClr val="fefde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5625360" y="5558760"/>
              <a:ext cx="1746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5567040" y="5197680"/>
              <a:ext cx="291240" cy="120240"/>
            </a:xfrm>
            <a:prstGeom prst="rect">
              <a:avLst/>
            </a:prstGeom>
            <a:solidFill>
              <a:srgbClr val="fefde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 flipV="1">
              <a:off x="5800320" y="5258160"/>
              <a:ext cx="0" cy="3006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5800320" y="5257800"/>
              <a:ext cx="40788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5800320" y="5859360"/>
              <a:ext cx="291240" cy="120240"/>
            </a:xfrm>
            <a:prstGeom prst="rect">
              <a:avLst/>
            </a:prstGeom>
            <a:solidFill>
              <a:srgbClr val="fefde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 flipV="1">
              <a:off x="5625360" y="5623200"/>
              <a:ext cx="0" cy="4770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5625360" y="6100200"/>
              <a:ext cx="2912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 flipV="1">
              <a:off x="5916600" y="5919840"/>
              <a:ext cx="0" cy="180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 flipV="1">
              <a:off x="5858640" y="5679000"/>
              <a:ext cx="0" cy="180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 rot="16200000">
              <a:off x="1652040" y="5807880"/>
              <a:ext cx="661680" cy="524160"/>
            </a:xfrm>
            <a:prstGeom prst="rect">
              <a:avLst/>
            </a:prstGeom>
            <a:solidFill>
              <a:srgbClr val="fefde3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 flipV="1" rot="16200000">
              <a:off x="1302120" y="5982480"/>
              <a:ext cx="661680" cy="174600"/>
            </a:xfrm>
            <a:custGeom>
              <a:avLst/>
              <a:gdLst>
                <a:gd name="textAreaLeft" fmla="*/ 154440 w 661680"/>
                <a:gd name="textAreaRight" fmla="*/ 507240 w 661680"/>
                <a:gd name="textAreaTop" fmla="*/ 40680 h 174600"/>
                <a:gd name="textAreaBottom" fmla="*/ 133920 h 17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5674" y="21600"/>
                  </a:lnTo>
                  <a:lnTo>
                    <a:pt x="5926" y="21600"/>
                  </a:lnTo>
                  <a:close/>
                </a:path>
              </a:pathLst>
            </a:custGeom>
            <a:solidFill>
              <a:srgbClr val="fefde3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 rot="16200000">
              <a:off x="1308600" y="5982840"/>
              <a:ext cx="300600" cy="174600"/>
            </a:xfrm>
            <a:prstGeom prst="rect">
              <a:avLst/>
            </a:prstGeom>
            <a:solidFill>
              <a:srgbClr val="fefde3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 rot="16200000">
              <a:off x="2001600" y="5982480"/>
              <a:ext cx="661680" cy="174600"/>
            </a:xfrm>
            <a:custGeom>
              <a:avLst/>
              <a:gdLst>
                <a:gd name="textAreaLeft" fmla="*/ 163080 w 661680"/>
                <a:gd name="textAreaRight" fmla="*/ 498600 w 661680"/>
                <a:gd name="textAreaTop" fmla="*/ 42840 h 174600"/>
                <a:gd name="textAreaBottom" fmla="*/ 131760 h 17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5153" y="21600"/>
                  </a:lnTo>
                  <a:lnTo>
                    <a:pt x="6447" y="21600"/>
                  </a:lnTo>
                  <a:close/>
                </a:path>
              </a:pathLst>
            </a:custGeom>
            <a:solidFill>
              <a:srgbClr val="fefde3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 rot="19421400">
              <a:off x="2361600" y="5919840"/>
              <a:ext cx="349200" cy="120240"/>
            </a:xfrm>
            <a:prstGeom prst="parallelogram">
              <a:avLst>
                <a:gd name="adj" fmla="val 72605"/>
              </a:avLst>
            </a:prstGeom>
            <a:solidFill>
              <a:srgbClr val="fefde3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 rot="16200000">
              <a:off x="2562120" y="5713560"/>
              <a:ext cx="240480" cy="291240"/>
            </a:xfrm>
            <a:prstGeom prst="rect">
              <a:avLst/>
            </a:prstGeom>
            <a:solidFill>
              <a:srgbClr val="fefde3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 flipV="1" rot="16200000">
              <a:off x="2765520" y="5801040"/>
              <a:ext cx="240480" cy="116280"/>
            </a:xfrm>
            <a:prstGeom prst="triangle">
              <a:avLst>
                <a:gd name="adj" fmla="val 50000"/>
              </a:avLst>
            </a:prstGeom>
            <a:solidFill>
              <a:srgbClr val="fefde3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5" name=""/>
            <p:cNvGrpSpPr/>
            <p:nvPr/>
          </p:nvGrpSpPr>
          <p:grpSpPr>
            <a:xfrm>
              <a:off x="2886480" y="5432040"/>
              <a:ext cx="232920" cy="246960"/>
              <a:chOff x="2886480" y="5432040"/>
              <a:chExt cx="232920" cy="246960"/>
            </a:xfrm>
          </p:grpSpPr>
          <p:sp>
            <p:nvSpPr>
              <p:cNvPr id="1946" name=""/>
              <p:cNvSpPr/>
              <p:nvPr/>
            </p:nvSpPr>
            <p:spPr>
              <a:xfrm rot="16200000">
                <a:off x="2882520" y="5442120"/>
                <a:ext cx="240480" cy="232920"/>
              </a:xfrm>
              <a:prstGeom prst="ellipse">
                <a:avLst/>
              </a:prstGeom>
              <a:solidFill>
                <a:srgbClr val="fefde3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 flipV="1">
                <a:off x="2935800" y="5432040"/>
                <a:ext cx="69480" cy="215640"/>
              </a:xfrm>
              <a:prstGeom prst="line">
                <a:avLst/>
              </a:prstGeom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 flipH="1" flipV="1">
                <a:off x="2997720" y="5440320"/>
                <a:ext cx="92880" cy="199440"/>
              </a:xfrm>
              <a:prstGeom prst="line">
                <a:avLst/>
              </a:prstGeom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9" name=""/>
            <p:cNvSpPr/>
            <p:nvPr/>
          </p:nvSpPr>
          <p:spPr>
            <a:xfrm rot="16200000">
              <a:off x="2428920" y="3612600"/>
              <a:ext cx="1085760" cy="533520"/>
            </a:xfrm>
            <a:prstGeom prst="rect">
              <a:avLst/>
            </a:prstGeom>
            <a:solidFill>
              <a:srgbClr val="fefde3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0" name=""/>
            <p:cNvGrpSpPr/>
            <p:nvPr/>
          </p:nvGrpSpPr>
          <p:grpSpPr>
            <a:xfrm>
              <a:off x="2886480" y="2250000"/>
              <a:ext cx="174600" cy="240480"/>
              <a:chOff x="2886480" y="2250000"/>
              <a:chExt cx="174600" cy="240480"/>
            </a:xfrm>
          </p:grpSpPr>
          <p:sp>
            <p:nvSpPr>
              <p:cNvPr id="1951" name=""/>
              <p:cNvSpPr/>
              <p:nvPr/>
            </p:nvSpPr>
            <p:spPr>
              <a:xfrm rot="16200000">
                <a:off x="2888280" y="2324880"/>
                <a:ext cx="111600" cy="100440"/>
              </a:xfrm>
              <a:prstGeom prst="ellipse">
                <a:avLst/>
              </a:prstGeom>
              <a:solidFill>
                <a:srgbClr val="fefde3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2886480" y="2250000"/>
                <a:ext cx="116280" cy="0"/>
              </a:xfrm>
              <a:prstGeom prst="line">
                <a:avLst/>
              </a:prstGeom>
              <a:ln w="1908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2886480" y="2490480"/>
                <a:ext cx="116280" cy="0"/>
              </a:xfrm>
              <a:prstGeom prst="line">
                <a:avLst/>
              </a:prstGeom>
              <a:ln w="1908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 flipV="1">
                <a:off x="3061080" y="2310120"/>
                <a:ext cx="0" cy="120240"/>
              </a:xfrm>
              <a:prstGeom prst="line">
                <a:avLst/>
              </a:prstGeom>
              <a:ln w="1908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5" name=""/>
            <p:cNvGrpSpPr/>
            <p:nvPr/>
          </p:nvGrpSpPr>
          <p:grpSpPr>
            <a:xfrm>
              <a:off x="2866320" y="2850120"/>
              <a:ext cx="174600" cy="180360"/>
              <a:chOff x="2866320" y="2850120"/>
              <a:chExt cx="174600" cy="180360"/>
            </a:xfrm>
          </p:grpSpPr>
          <p:sp>
            <p:nvSpPr>
              <p:cNvPr id="1956" name=""/>
              <p:cNvSpPr/>
              <p:nvPr/>
            </p:nvSpPr>
            <p:spPr>
              <a:xfrm rot="16200000">
                <a:off x="2863440" y="2853000"/>
                <a:ext cx="180360" cy="174600"/>
              </a:xfrm>
              <a:prstGeom prst="ellipse">
                <a:avLst/>
              </a:prstGeom>
              <a:solidFill>
                <a:srgbClr val="fefde3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 rot="16200000">
                <a:off x="2886120" y="2881800"/>
                <a:ext cx="120240" cy="116280"/>
              </a:xfrm>
              <a:prstGeom prst="ellipse">
                <a:avLst/>
              </a:prstGeom>
              <a:solidFill>
                <a:srgbClr val="fefde3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8" name=""/>
            <p:cNvSpPr/>
            <p:nvPr/>
          </p:nvSpPr>
          <p:spPr>
            <a:xfrm rot="16200000">
              <a:off x="3259440" y="2282760"/>
              <a:ext cx="360720" cy="174600"/>
            </a:xfrm>
            <a:custGeom>
              <a:avLst/>
              <a:gdLst>
                <a:gd name="textAreaLeft" fmla="*/ 79200 w 360720"/>
                <a:gd name="textAreaRight" fmla="*/ 281520 w 360720"/>
                <a:gd name="textAreaTop" fmla="*/ 38520 h 174600"/>
                <a:gd name="textAreaBottom" fmla="*/ 136440 h 17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190" y="21600"/>
                  </a:lnTo>
                  <a:lnTo>
                    <a:pt x="5410" y="21600"/>
                  </a:lnTo>
                  <a:close/>
                </a:path>
              </a:pathLst>
            </a:custGeom>
            <a:solidFill>
              <a:srgbClr val="fefde3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 flipV="1">
              <a:off x="2650680" y="3392280"/>
              <a:ext cx="0" cy="11952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 flipV="1">
              <a:off x="3300480" y="4230720"/>
              <a:ext cx="0" cy="11952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1" name=""/>
            <p:cNvGrpSpPr/>
            <p:nvPr/>
          </p:nvGrpSpPr>
          <p:grpSpPr>
            <a:xfrm>
              <a:off x="3643920" y="4243680"/>
              <a:ext cx="181440" cy="111600"/>
              <a:chOff x="3643920" y="4243680"/>
              <a:chExt cx="181440" cy="111600"/>
            </a:xfrm>
          </p:grpSpPr>
          <p:sp>
            <p:nvSpPr>
              <p:cNvPr id="1962" name=""/>
              <p:cNvSpPr/>
              <p:nvPr/>
            </p:nvSpPr>
            <p:spPr>
              <a:xfrm rot="16200000">
                <a:off x="3728880" y="4258800"/>
                <a:ext cx="103680" cy="88920"/>
              </a:xfrm>
              <a:prstGeom prst="triangle">
                <a:avLst>
                  <a:gd name="adj" fmla="val 50000"/>
                </a:avLst>
              </a:prstGeom>
              <a:solidFill>
                <a:srgbClr val="fefde3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 flipV="1" rot="16200000">
                <a:off x="3628800" y="4258800"/>
                <a:ext cx="111600" cy="81360"/>
              </a:xfrm>
              <a:prstGeom prst="triangle">
                <a:avLst>
                  <a:gd name="adj" fmla="val 50000"/>
                </a:avLst>
              </a:prstGeom>
              <a:solidFill>
                <a:srgbClr val="fefde3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4" name=""/>
            <p:cNvGrpSpPr/>
            <p:nvPr/>
          </p:nvGrpSpPr>
          <p:grpSpPr>
            <a:xfrm>
              <a:off x="2105280" y="3400200"/>
              <a:ext cx="181440" cy="111600"/>
              <a:chOff x="2105280" y="3400200"/>
              <a:chExt cx="181440" cy="111600"/>
            </a:xfrm>
          </p:grpSpPr>
          <p:sp>
            <p:nvSpPr>
              <p:cNvPr id="1965" name=""/>
              <p:cNvSpPr/>
              <p:nvPr/>
            </p:nvSpPr>
            <p:spPr>
              <a:xfrm rot="16200000">
                <a:off x="2190240" y="3415320"/>
                <a:ext cx="103680" cy="88920"/>
              </a:xfrm>
              <a:prstGeom prst="triangle">
                <a:avLst>
                  <a:gd name="adj" fmla="val 50000"/>
                </a:avLst>
              </a:prstGeom>
              <a:solidFill>
                <a:srgbClr val="fefde3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 flipV="1" rot="16200000">
                <a:off x="2090160" y="3415320"/>
                <a:ext cx="111600" cy="81360"/>
              </a:xfrm>
              <a:prstGeom prst="triangle">
                <a:avLst>
                  <a:gd name="adj" fmla="val 50000"/>
                </a:avLst>
              </a:prstGeom>
              <a:solidFill>
                <a:srgbClr val="fefde3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7" name=""/>
            <p:cNvGrpSpPr/>
            <p:nvPr/>
          </p:nvGrpSpPr>
          <p:grpSpPr>
            <a:xfrm>
              <a:off x="2359080" y="3034800"/>
              <a:ext cx="108000" cy="187920"/>
              <a:chOff x="2359080" y="3034800"/>
              <a:chExt cx="108000" cy="187920"/>
            </a:xfrm>
          </p:grpSpPr>
          <p:sp>
            <p:nvSpPr>
              <p:cNvPr id="1968" name=""/>
              <p:cNvSpPr/>
              <p:nvPr/>
            </p:nvSpPr>
            <p:spPr>
              <a:xfrm>
                <a:off x="2359080" y="3130920"/>
                <a:ext cx="100080" cy="91800"/>
              </a:xfrm>
              <a:prstGeom prst="triangle">
                <a:avLst>
                  <a:gd name="adj" fmla="val 50000"/>
                </a:avLst>
              </a:prstGeom>
              <a:solidFill>
                <a:srgbClr val="fefde3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 flipV="1">
                <a:off x="2359080" y="3034440"/>
                <a:ext cx="108000" cy="83880"/>
              </a:xfrm>
              <a:prstGeom prst="triangle">
                <a:avLst>
                  <a:gd name="adj" fmla="val 50000"/>
                </a:avLst>
              </a:prstGeom>
              <a:solidFill>
                <a:srgbClr val="fefde3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70" name=""/>
            <p:cNvSpPr/>
            <p:nvPr/>
          </p:nvSpPr>
          <p:spPr>
            <a:xfrm>
              <a:off x="2303640" y="3453120"/>
              <a:ext cx="349560" cy="0"/>
            </a:xfrm>
            <a:prstGeom prst="line">
              <a:avLst/>
            </a:prstGeom>
            <a:ln w="28440">
              <a:solidFill>
                <a:srgbClr val="9696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1720800" y="3453120"/>
              <a:ext cx="380520" cy="0"/>
            </a:xfrm>
            <a:prstGeom prst="line">
              <a:avLst/>
            </a:prstGeom>
            <a:ln w="28440">
              <a:solidFill>
                <a:srgbClr val="9696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 flipV="1">
              <a:off x="2420280" y="3212640"/>
              <a:ext cx="0" cy="240480"/>
            </a:xfrm>
            <a:prstGeom prst="line">
              <a:avLst/>
            </a:prstGeom>
            <a:ln w="28440">
              <a:solidFill>
                <a:srgbClr val="9696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 flipV="1">
              <a:off x="2420280" y="2791440"/>
              <a:ext cx="0" cy="240480"/>
            </a:xfrm>
            <a:prstGeom prst="line">
              <a:avLst/>
            </a:prstGeom>
            <a:ln w="28440">
              <a:solidFill>
                <a:srgbClr val="9696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3294360" y="4295160"/>
              <a:ext cx="349560" cy="0"/>
            </a:xfrm>
            <a:prstGeom prst="line">
              <a:avLst/>
            </a:prstGeom>
            <a:ln w="28440">
              <a:solidFill>
                <a:srgbClr val="9696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 flipV="1">
              <a:off x="3527640" y="4054680"/>
              <a:ext cx="0" cy="240480"/>
            </a:xfrm>
            <a:prstGeom prst="line">
              <a:avLst/>
            </a:prstGeom>
            <a:ln w="28440">
              <a:solidFill>
                <a:srgbClr val="9696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76" name=""/>
            <p:cNvGrpSpPr/>
            <p:nvPr/>
          </p:nvGrpSpPr>
          <p:grpSpPr>
            <a:xfrm>
              <a:off x="3643920" y="4003200"/>
              <a:ext cx="181440" cy="111600"/>
              <a:chOff x="3643920" y="4003200"/>
              <a:chExt cx="181440" cy="111600"/>
            </a:xfrm>
          </p:grpSpPr>
          <p:sp>
            <p:nvSpPr>
              <p:cNvPr id="1977" name=""/>
              <p:cNvSpPr/>
              <p:nvPr/>
            </p:nvSpPr>
            <p:spPr>
              <a:xfrm rot="16200000">
                <a:off x="3728880" y="4018320"/>
                <a:ext cx="103680" cy="88920"/>
              </a:xfrm>
              <a:prstGeom prst="triangle">
                <a:avLst>
                  <a:gd name="adj" fmla="val 50000"/>
                </a:avLst>
              </a:prstGeom>
              <a:solidFill>
                <a:srgbClr val="fefde3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 flipV="1" rot="16200000">
                <a:off x="3628800" y="4018320"/>
                <a:ext cx="111600" cy="81360"/>
              </a:xfrm>
              <a:prstGeom prst="triangle">
                <a:avLst>
                  <a:gd name="adj" fmla="val 50000"/>
                </a:avLst>
              </a:prstGeom>
              <a:solidFill>
                <a:srgbClr val="fefde3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79" name=""/>
            <p:cNvSpPr/>
            <p:nvPr/>
          </p:nvSpPr>
          <p:spPr>
            <a:xfrm>
              <a:off x="3527640" y="4054680"/>
              <a:ext cx="116280" cy="0"/>
            </a:xfrm>
            <a:prstGeom prst="line">
              <a:avLst/>
            </a:prstGeom>
            <a:ln w="28440">
              <a:solidFill>
                <a:srgbClr val="9696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3818880" y="4295160"/>
              <a:ext cx="349560" cy="0"/>
            </a:xfrm>
            <a:prstGeom prst="line">
              <a:avLst/>
            </a:prstGeom>
            <a:ln w="28440">
              <a:solidFill>
                <a:srgbClr val="9696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3818880" y="4054680"/>
              <a:ext cx="349560" cy="0"/>
            </a:xfrm>
            <a:prstGeom prst="line">
              <a:avLst/>
            </a:prstGeom>
            <a:ln w="28440">
              <a:solidFill>
                <a:srgbClr val="969696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3061440" y="2370240"/>
              <a:ext cx="23292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 flipV="1">
              <a:off x="2944800" y="3031920"/>
              <a:ext cx="0" cy="3006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 flipV="1">
              <a:off x="2944800" y="2490840"/>
              <a:ext cx="0" cy="360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 flipV="1">
              <a:off x="2944800" y="1889280"/>
              <a:ext cx="0" cy="360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2886480" y="5859360"/>
              <a:ext cx="116280" cy="0"/>
            </a:xfrm>
            <a:prstGeom prst="line">
              <a:avLst/>
            </a:prstGeom>
            <a:ln w="19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5450040" y="5499000"/>
              <a:ext cx="0" cy="120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5625360" y="5559120"/>
              <a:ext cx="0" cy="601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 rot="10800000">
              <a:off x="2769480" y="4716360"/>
              <a:ext cx="291240" cy="120240"/>
            </a:xfrm>
            <a:prstGeom prst="rect">
              <a:avLst/>
            </a:prstGeom>
            <a:solidFill>
              <a:srgbClr val="fefde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 flipV="1">
              <a:off x="3003120" y="4777200"/>
              <a:ext cx="0" cy="601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 flipH="1">
              <a:off x="2827800" y="4776480"/>
              <a:ext cx="1746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 flipV="1">
              <a:off x="3003120" y="5679000"/>
              <a:ext cx="0" cy="180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 flipV="1">
              <a:off x="3003120" y="4836960"/>
              <a:ext cx="0" cy="6015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 flipV="1">
              <a:off x="2828160" y="4416120"/>
              <a:ext cx="0" cy="54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5" name=""/>
            <p:cNvGrpSpPr/>
            <p:nvPr/>
          </p:nvGrpSpPr>
          <p:grpSpPr>
            <a:xfrm>
              <a:off x="2769840" y="4957200"/>
              <a:ext cx="116280" cy="300600"/>
              <a:chOff x="2769840" y="4957200"/>
              <a:chExt cx="116280" cy="300600"/>
            </a:xfrm>
          </p:grpSpPr>
          <p:sp>
            <p:nvSpPr>
              <p:cNvPr id="1996" name=""/>
              <p:cNvSpPr/>
              <p:nvPr/>
            </p:nvSpPr>
            <p:spPr>
              <a:xfrm rot="16200000">
                <a:off x="2677680" y="5049360"/>
                <a:ext cx="300600" cy="116280"/>
              </a:xfrm>
              <a:prstGeom prst="rect">
                <a:avLst/>
              </a:prstGeom>
              <a:solidFill>
                <a:srgbClr val="fefde3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2769840" y="5078160"/>
                <a:ext cx="116280" cy="11988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8" name=""/>
            <p:cNvSpPr/>
            <p:nvPr/>
          </p:nvSpPr>
          <p:spPr>
            <a:xfrm>
              <a:off x="3030480" y="5197680"/>
              <a:ext cx="4968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2478600" y="5077440"/>
              <a:ext cx="2912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0" name=""/>
            <p:cNvGrpSpPr/>
            <p:nvPr/>
          </p:nvGrpSpPr>
          <p:grpSpPr>
            <a:xfrm>
              <a:off x="3352680" y="4656600"/>
              <a:ext cx="116280" cy="300600"/>
              <a:chOff x="3352680" y="4656600"/>
              <a:chExt cx="116280" cy="300600"/>
            </a:xfrm>
          </p:grpSpPr>
          <p:sp>
            <p:nvSpPr>
              <p:cNvPr id="2001" name=""/>
              <p:cNvSpPr/>
              <p:nvPr/>
            </p:nvSpPr>
            <p:spPr>
              <a:xfrm rot="16200000">
                <a:off x="3260520" y="4748760"/>
                <a:ext cx="300600" cy="116280"/>
              </a:xfrm>
              <a:prstGeom prst="rect">
                <a:avLst/>
              </a:prstGeom>
              <a:solidFill>
                <a:srgbClr val="fefde3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3352680" y="4777560"/>
                <a:ext cx="116280" cy="11988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03" name=""/>
            <p:cNvSpPr/>
            <p:nvPr/>
          </p:nvSpPr>
          <p:spPr>
            <a:xfrm>
              <a:off x="3061440" y="4776480"/>
              <a:ext cx="2912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3469320" y="4897080"/>
              <a:ext cx="2912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2886480" y="5197680"/>
              <a:ext cx="1047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2944800" y="1888920"/>
              <a:ext cx="20977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5042520" y="1889280"/>
              <a:ext cx="0" cy="4090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5042520" y="5979600"/>
              <a:ext cx="40788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9" name=""/>
            <p:cNvGrpSpPr/>
            <p:nvPr/>
          </p:nvGrpSpPr>
          <p:grpSpPr>
            <a:xfrm>
              <a:off x="6965640" y="5198040"/>
              <a:ext cx="1048680" cy="962280"/>
              <a:chOff x="6965640" y="5198040"/>
              <a:chExt cx="1048680" cy="962280"/>
            </a:xfrm>
          </p:grpSpPr>
          <p:sp>
            <p:nvSpPr>
              <p:cNvPr id="2010" name=""/>
              <p:cNvSpPr/>
              <p:nvPr/>
            </p:nvSpPr>
            <p:spPr>
              <a:xfrm rot="16200000">
                <a:off x="6600960" y="5562720"/>
                <a:ext cx="962280" cy="232920"/>
              </a:xfrm>
              <a:prstGeom prst="triangle">
                <a:avLst>
                  <a:gd name="adj" fmla="val 50000"/>
                </a:avLst>
              </a:prstGeom>
              <a:solidFill>
                <a:srgbClr val="fefde3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 flipV="1" rot="16200000">
                <a:off x="7125120" y="5270760"/>
                <a:ext cx="962280" cy="815760"/>
              </a:xfrm>
              <a:prstGeom prst="triangle">
                <a:avLst>
                  <a:gd name="adj" fmla="val 50000"/>
                </a:avLst>
              </a:prstGeom>
              <a:solidFill>
                <a:srgbClr val="fefde3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2" name=""/>
            <p:cNvGrpSpPr/>
            <p:nvPr/>
          </p:nvGrpSpPr>
          <p:grpSpPr>
            <a:xfrm>
              <a:off x="6965640" y="2189880"/>
              <a:ext cx="1048680" cy="962280"/>
              <a:chOff x="6965640" y="2189880"/>
              <a:chExt cx="1048680" cy="962280"/>
            </a:xfrm>
          </p:grpSpPr>
          <p:sp>
            <p:nvSpPr>
              <p:cNvPr id="2013" name=""/>
              <p:cNvSpPr/>
              <p:nvPr/>
            </p:nvSpPr>
            <p:spPr>
              <a:xfrm rot="16200000">
                <a:off x="6600960" y="2554560"/>
                <a:ext cx="962280" cy="232920"/>
              </a:xfrm>
              <a:prstGeom prst="triangle">
                <a:avLst>
                  <a:gd name="adj" fmla="val 50000"/>
                </a:avLst>
              </a:prstGeom>
              <a:solidFill>
                <a:srgbClr val="fefde3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 flipV="1" rot="16200000">
                <a:off x="7125120" y="2262600"/>
                <a:ext cx="962280" cy="815760"/>
              </a:xfrm>
              <a:prstGeom prst="triangle">
                <a:avLst>
                  <a:gd name="adj" fmla="val 50000"/>
                </a:avLst>
              </a:prstGeom>
              <a:solidFill>
                <a:srgbClr val="fefde3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5" name=""/>
            <p:cNvSpPr/>
            <p:nvPr/>
          </p:nvSpPr>
          <p:spPr>
            <a:xfrm rot="16200000">
              <a:off x="5300280" y="4929120"/>
              <a:ext cx="300600" cy="116280"/>
            </a:xfrm>
            <a:prstGeom prst="rect">
              <a:avLst/>
            </a:prstGeom>
            <a:solidFill>
              <a:srgbClr val="fefde3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 flipV="1">
              <a:off x="5450400" y="5137920"/>
              <a:ext cx="0" cy="360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5508720" y="4957200"/>
              <a:ext cx="2912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 flipV="1">
              <a:off x="5625360" y="4985280"/>
              <a:ext cx="0" cy="2124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 flipV="1">
              <a:off x="5625360" y="4475880"/>
              <a:ext cx="0" cy="4528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5800320" y="4416480"/>
              <a:ext cx="0" cy="54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 flipV="1">
              <a:off x="5800320" y="2731320"/>
              <a:ext cx="0" cy="14436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5742000" y="3332880"/>
              <a:ext cx="291240" cy="120240"/>
            </a:xfrm>
            <a:prstGeom prst="rect">
              <a:avLst/>
            </a:prstGeom>
            <a:solidFill>
              <a:srgbClr val="fefde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5974920" y="3393000"/>
              <a:ext cx="1746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5916600" y="3031920"/>
              <a:ext cx="291240" cy="120240"/>
            </a:xfrm>
            <a:prstGeom prst="rect">
              <a:avLst/>
            </a:prstGeom>
            <a:solidFill>
              <a:srgbClr val="fefde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 flipV="1">
              <a:off x="6149880" y="3092400"/>
              <a:ext cx="0" cy="3006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6149880" y="3092040"/>
              <a:ext cx="40788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6149880" y="3693960"/>
              <a:ext cx="291240" cy="120240"/>
            </a:xfrm>
            <a:prstGeom prst="rect">
              <a:avLst/>
            </a:prstGeom>
            <a:solidFill>
              <a:srgbClr val="fefde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 flipV="1">
              <a:off x="5974920" y="3393360"/>
              <a:ext cx="0" cy="54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5974920" y="3934440"/>
              <a:ext cx="2912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 flipV="1">
              <a:off x="6266520" y="3754080"/>
              <a:ext cx="0" cy="180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6266520" y="3753720"/>
              <a:ext cx="58248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 flipV="1">
              <a:off x="6208200" y="3513240"/>
              <a:ext cx="0" cy="180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5858640" y="5679000"/>
              <a:ext cx="122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4" name=""/>
            <p:cNvGrpSpPr/>
            <p:nvPr/>
          </p:nvGrpSpPr>
          <p:grpSpPr>
            <a:xfrm>
              <a:off x="5714640" y="4596120"/>
              <a:ext cx="174600" cy="180360"/>
              <a:chOff x="5714640" y="4596120"/>
              <a:chExt cx="174600" cy="180360"/>
            </a:xfrm>
          </p:grpSpPr>
          <p:sp>
            <p:nvSpPr>
              <p:cNvPr id="2035" name=""/>
              <p:cNvSpPr/>
              <p:nvPr/>
            </p:nvSpPr>
            <p:spPr>
              <a:xfrm rot="16200000">
                <a:off x="5711760" y="4599000"/>
                <a:ext cx="180360" cy="174600"/>
              </a:xfrm>
              <a:prstGeom prst="ellipse">
                <a:avLst/>
              </a:prstGeom>
              <a:solidFill>
                <a:srgbClr val="fefde3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 rot="16200000">
                <a:off x="5734440" y="4627800"/>
                <a:ext cx="120240" cy="116280"/>
              </a:xfrm>
              <a:prstGeom prst="ellipse">
                <a:avLst/>
              </a:prstGeom>
              <a:solidFill>
                <a:srgbClr val="fefde3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7" name=""/>
            <p:cNvGrpSpPr/>
            <p:nvPr/>
          </p:nvGrpSpPr>
          <p:grpSpPr>
            <a:xfrm>
              <a:off x="5742000" y="4173480"/>
              <a:ext cx="174600" cy="240480"/>
              <a:chOff x="5742000" y="4173480"/>
              <a:chExt cx="174600" cy="240480"/>
            </a:xfrm>
          </p:grpSpPr>
          <p:sp>
            <p:nvSpPr>
              <p:cNvPr id="2038" name=""/>
              <p:cNvSpPr/>
              <p:nvPr/>
            </p:nvSpPr>
            <p:spPr>
              <a:xfrm rot="16200000">
                <a:off x="5743800" y="4248360"/>
                <a:ext cx="111600" cy="100440"/>
              </a:xfrm>
              <a:prstGeom prst="ellipse">
                <a:avLst/>
              </a:prstGeom>
              <a:solidFill>
                <a:srgbClr val="fefde3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5742000" y="4173480"/>
                <a:ext cx="116280" cy="0"/>
              </a:xfrm>
              <a:prstGeom prst="line">
                <a:avLst/>
              </a:prstGeom>
              <a:ln w="1908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5742000" y="4413960"/>
                <a:ext cx="116280" cy="0"/>
              </a:xfrm>
              <a:prstGeom prst="line">
                <a:avLst/>
              </a:prstGeom>
              <a:ln w="1908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 flipV="1">
                <a:off x="5916600" y="4233600"/>
                <a:ext cx="0" cy="120240"/>
              </a:xfrm>
              <a:prstGeom prst="line">
                <a:avLst/>
              </a:prstGeom>
              <a:ln w="1908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42" name=""/>
            <p:cNvSpPr/>
            <p:nvPr/>
          </p:nvSpPr>
          <p:spPr>
            <a:xfrm>
              <a:off x="5913000" y="4293720"/>
              <a:ext cx="23292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 rot="16200000">
              <a:off x="6103440" y="4214520"/>
              <a:ext cx="360720" cy="174600"/>
            </a:xfrm>
            <a:custGeom>
              <a:avLst/>
              <a:gdLst>
                <a:gd name="textAreaLeft" fmla="*/ 64440 w 360720"/>
                <a:gd name="textAreaRight" fmla="*/ 296280 w 360720"/>
                <a:gd name="textAreaTop" fmla="*/ 31320 h 174600"/>
                <a:gd name="textAreaBottom" fmla="*/ 143280 h 17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777" y="21600"/>
                  </a:lnTo>
                  <a:lnTo>
                    <a:pt x="3823" y="21600"/>
                  </a:lnTo>
                  <a:close/>
                </a:path>
              </a:pathLst>
            </a:custGeom>
            <a:solidFill>
              <a:srgbClr val="fefde3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5916600" y="5919480"/>
              <a:ext cx="134028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 rot="16200000">
              <a:off x="5649840" y="2522520"/>
              <a:ext cx="300600" cy="116280"/>
            </a:xfrm>
            <a:prstGeom prst="rect">
              <a:avLst/>
            </a:prstGeom>
            <a:solidFill>
              <a:srgbClr val="fefde3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 flipV="1">
              <a:off x="5637600" y="2026080"/>
              <a:ext cx="0" cy="556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 flipV="1">
              <a:off x="6849360" y="2911680"/>
              <a:ext cx="0" cy="8420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6849360" y="2911680"/>
              <a:ext cx="40788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6208200" y="3513240"/>
              <a:ext cx="524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 flipV="1">
              <a:off x="6732720" y="2671200"/>
              <a:ext cx="0" cy="8420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6732720" y="2670840"/>
              <a:ext cx="3495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8014680" y="5679000"/>
              <a:ext cx="11628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8014680" y="2670840"/>
              <a:ext cx="11628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54" name=""/>
            <p:cNvGrpSpPr/>
            <p:nvPr/>
          </p:nvGrpSpPr>
          <p:grpSpPr>
            <a:xfrm>
              <a:off x="8014680" y="5378400"/>
              <a:ext cx="290880" cy="887400"/>
              <a:chOff x="8014680" y="5378400"/>
              <a:chExt cx="290880" cy="887400"/>
            </a:xfrm>
          </p:grpSpPr>
          <p:grpSp>
            <p:nvGrpSpPr>
              <p:cNvPr id="2055" name=""/>
              <p:cNvGrpSpPr/>
              <p:nvPr/>
            </p:nvGrpSpPr>
            <p:grpSpPr>
              <a:xfrm>
                <a:off x="8014680" y="5378400"/>
                <a:ext cx="290880" cy="887400"/>
                <a:chOff x="8014680" y="5378400"/>
                <a:chExt cx="290880" cy="887400"/>
              </a:xfrm>
            </p:grpSpPr>
            <p:sp>
              <p:nvSpPr>
                <p:cNvPr id="2056" name=""/>
                <p:cNvSpPr/>
                <p:nvPr/>
              </p:nvSpPr>
              <p:spPr>
                <a:xfrm rot="16200000">
                  <a:off x="7932240" y="5717160"/>
                  <a:ext cx="513720" cy="116640"/>
                </a:xfrm>
                <a:prstGeom prst="rect">
                  <a:avLst/>
                </a:prstGeom>
                <a:solidFill>
                  <a:srgbClr val="fefd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7" name=""/>
                <p:cNvSpPr/>
                <p:nvPr/>
              </p:nvSpPr>
              <p:spPr>
                <a:xfrm rot="16200000">
                  <a:off x="8107920" y="5378760"/>
                  <a:ext cx="46440" cy="232920"/>
                </a:xfrm>
                <a:prstGeom prst="rect">
                  <a:avLst/>
                </a:prstGeom>
                <a:solidFill>
                  <a:srgbClr val="fefd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8" name=""/>
                <p:cNvSpPr/>
                <p:nvPr/>
              </p:nvSpPr>
              <p:spPr>
                <a:xfrm rot="16200000">
                  <a:off x="7949520" y="5722920"/>
                  <a:ext cx="653760" cy="57960"/>
                </a:xfrm>
                <a:prstGeom prst="rect">
                  <a:avLst/>
                </a:prstGeom>
                <a:solidFill>
                  <a:srgbClr val="fefd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 rot="16200000">
                  <a:off x="8055000" y="5396040"/>
                  <a:ext cx="93240" cy="57960"/>
                </a:xfrm>
                <a:prstGeom prst="rect">
                  <a:avLst/>
                </a:prstGeom>
                <a:solidFill>
                  <a:srgbClr val="fefd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 flipV="1">
                  <a:off x="8189280" y="6032520"/>
                  <a:ext cx="0" cy="233280"/>
                </a:xfrm>
                <a:prstGeom prst="line">
                  <a:avLst/>
                </a:prstGeom>
                <a:ln w="28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1" name=""/>
              <p:cNvGrpSpPr/>
              <p:nvPr/>
            </p:nvGrpSpPr>
            <p:grpSpPr>
              <a:xfrm>
                <a:off x="8154000" y="5776920"/>
                <a:ext cx="58320" cy="233280"/>
                <a:chOff x="8154000" y="5776920"/>
                <a:chExt cx="58320" cy="233280"/>
              </a:xfrm>
            </p:grpSpPr>
            <p:sp>
              <p:nvSpPr>
                <p:cNvPr id="2062" name=""/>
                <p:cNvSpPr/>
                <p:nvPr/>
              </p:nvSpPr>
              <p:spPr>
                <a:xfrm flipH="1" flipV="1">
                  <a:off x="8154000" y="5963760"/>
                  <a:ext cx="57960" cy="46440"/>
                </a:xfrm>
                <a:prstGeom prst="line">
                  <a:avLst/>
                </a:prstGeom>
                <a:ln w="190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 flipV="1">
                  <a:off x="8154360" y="5917320"/>
                  <a:ext cx="57960" cy="46440"/>
                </a:xfrm>
                <a:prstGeom prst="line">
                  <a:avLst/>
                </a:prstGeom>
                <a:ln w="190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 flipH="1" flipV="1">
                  <a:off x="8154000" y="5870520"/>
                  <a:ext cx="57960" cy="46440"/>
                </a:xfrm>
                <a:prstGeom prst="line">
                  <a:avLst/>
                </a:prstGeom>
                <a:ln w="190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 flipV="1">
                  <a:off x="8154360" y="5823720"/>
                  <a:ext cx="57960" cy="46440"/>
                </a:xfrm>
                <a:prstGeom prst="line">
                  <a:avLst/>
                </a:prstGeom>
                <a:ln w="190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 flipH="1" flipV="1">
                  <a:off x="8154000" y="5776920"/>
                  <a:ext cx="57960" cy="46440"/>
                </a:xfrm>
                <a:prstGeom prst="line">
                  <a:avLst/>
                </a:prstGeom>
                <a:ln w="190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7" name=""/>
              <p:cNvGrpSpPr/>
              <p:nvPr/>
            </p:nvGrpSpPr>
            <p:grpSpPr>
              <a:xfrm>
                <a:off x="8154000" y="5590800"/>
                <a:ext cx="58320" cy="233280"/>
                <a:chOff x="8154000" y="5590800"/>
                <a:chExt cx="58320" cy="233280"/>
              </a:xfrm>
            </p:grpSpPr>
            <p:sp>
              <p:nvSpPr>
                <p:cNvPr id="2068" name=""/>
                <p:cNvSpPr/>
                <p:nvPr/>
              </p:nvSpPr>
              <p:spPr>
                <a:xfrm flipH="1" flipV="1">
                  <a:off x="8154000" y="5777640"/>
                  <a:ext cx="57960" cy="46440"/>
                </a:xfrm>
                <a:prstGeom prst="line">
                  <a:avLst/>
                </a:prstGeom>
                <a:ln w="190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 flipV="1">
                  <a:off x="8154360" y="5731200"/>
                  <a:ext cx="57960" cy="46440"/>
                </a:xfrm>
                <a:prstGeom prst="line">
                  <a:avLst/>
                </a:prstGeom>
                <a:ln w="190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 flipH="1" flipV="1">
                  <a:off x="8154000" y="5684400"/>
                  <a:ext cx="57960" cy="46440"/>
                </a:xfrm>
                <a:prstGeom prst="line">
                  <a:avLst/>
                </a:prstGeom>
                <a:ln w="190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 flipV="1">
                  <a:off x="8154360" y="5637600"/>
                  <a:ext cx="57960" cy="46440"/>
                </a:xfrm>
                <a:prstGeom prst="line">
                  <a:avLst/>
                </a:prstGeom>
                <a:ln w="190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 flipH="1" flipV="1">
                  <a:off x="8154000" y="5590800"/>
                  <a:ext cx="57960" cy="46440"/>
                </a:xfrm>
                <a:prstGeom prst="line">
                  <a:avLst/>
                </a:prstGeom>
                <a:ln w="190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73" name=""/>
            <p:cNvGrpSpPr/>
            <p:nvPr/>
          </p:nvGrpSpPr>
          <p:grpSpPr>
            <a:xfrm>
              <a:off x="8014680" y="2370240"/>
              <a:ext cx="290880" cy="895320"/>
              <a:chOff x="8014680" y="2370240"/>
              <a:chExt cx="290880" cy="895320"/>
            </a:xfrm>
          </p:grpSpPr>
          <p:grpSp>
            <p:nvGrpSpPr>
              <p:cNvPr id="2074" name=""/>
              <p:cNvGrpSpPr/>
              <p:nvPr/>
            </p:nvGrpSpPr>
            <p:grpSpPr>
              <a:xfrm>
                <a:off x="8014680" y="2370240"/>
                <a:ext cx="290880" cy="895320"/>
                <a:chOff x="8014680" y="2370240"/>
                <a:chExt cx="290880" cy="895320"/>
              </a:xfrm>
            </p:grpSpPr>
            <p:sp>
              <p:nvSpPr>
                <p:cNvPr id="2075" name=""/>
                <p:cNvSpPr/>
                <p:nvPr/>
              </p:nvSpPr>
              <p:spPr>
                <a:xfrm rot="16200000">
                  <a:off x="7930080" y="2712600"/>
                  <a:ext cx="518400" cy="116640"/>
                </a:xfrm>
                <a:prstGeom prst="rect">
                  <a:avLst/>
                </a:prstGeom>
                <a:solidFill>
                  <a:srgbClr val="fefd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 rot="16200000">
                  <a:off x="8107560" y="2371320"/>
                  <a:ext cx="46800" cy="232920"/>
                </a:xfrm>
                <a:prstGeom prst="rect">
                  <a:avLst/>
                </a:prstGeom>
                <a:solidFill>
                  <a:srgbClr val="fefd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 rot="16200000">
                  <a:off x="7946640" y="2718360"/>
                  <a:ext cx="659880" cy="57960"/>
                </a:xfrm>
                <a:prstGeom prst="rect">
                  <a:avLst/>
                </a:prstGeom>
                <a:solidFill>
                  <a:srgbClr val="fefd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8" name=""/>
                <p:cNvSpPr/>
                <p:nvPr/>
              </p:nvSpPr>
              <p:spPr>
                <a:xfrm rot="16200000">
                  <a:off x="8054640" y="2388240"/>
                  <a:ext cx="93960" cy="57960"/>
                </a:xfrm>
                <a:prstGeom prst="rect">
                  <a:avLst/>
                </a:prstGeom>
                <a:solidFill>
                  <a:srgbClr val="fefd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9" name=""/>
                <p:cNvSpPr/>
                <p:nvPr/>
              </p:nvSpPr>
              <p:spPr>
                <a:xfrm flipV="1">
                  <a:off x="8189280" y="3030120"/>
                  <a:ext cx="0" cy="235440"/>
                </a:xfrm>
                <a:prstGeom prst="line">
                  <a:avLst/>
                </a:prstGeom>
                <a:ln w="28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0" name=""/>
              <p:cNvGrpSpPr/>
              <p:nvPr/>
            </p:nvGrpSpPr>
            <p:grpSpPr>
              <a:xfrm>
                <a:off x="8146080" y="2789280"/>
                <a:ext cx="58320" cy="235080"/>
                <a:chOff x="8146080" y="2789280"/>
                <a:chExt cx="58320" cy="235080"/>
              </a:xfrm>
            </p:grpSpPr>
            <p:sp>
              <p:nvSpPr>
                <p:cNvPr id="2081" name=""/>
                <p:cNvSpPr/>
                <p:nvPr/>
              </p:nvSpPr>
              <p:spPr>
                <a:xfrm flipH="1" flipV="1">
                  <a:off x="8146080" y="2977560"/>
                  <a:ext cx="57960" cy="46800"/>
                </a:xfrm>
                <a:prstGeom prst="line">
                  <a:avLst/>
                </a:prstGeom>
                <a:ln w="190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2" name=""/>
                <p:cNvSpPr/>
                <p:nvPr/>
              </p:nvSpPr>
              <p:spPr>
                <a:xfrm flipV="1">
                  <a:off x="8146440" y="2930400"/>
                  <a:ext cx="57960" cy="47160"/>
                </a:xfrm>
                <a:prstGeom prst="line">
                  <a:avLst/>
                </a:prstGeom>
                <a:ln w="190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3" name=""/>
                <p:cNvSpPr/>
                <p:nvPr/>
              </p:nvSpPr>
              <p:spPr>
                <a:xfrm flipH="1" flipV="1">
                  <a:off x="8146080" y="2883240"/>
                  <a:ext cx="57960" cy="46800"/>
                </a:xfrm>
                <a:prstGeom prst="line">
                  <a:avLst/>
                </a:prstGeom>
                <a:ln w="190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 flipV="1">
                  <a:off x="8146440" y="2836440"/>
                  <a:ext cx="57960" cy="46800"/>
                </a:xfrm>
                <a:prstGeom prst="line">
                  <a:avLst/>
                </a:prstGeom>
                <a:ln w="190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 flipH="1" flipV="1">
                  <a:off x="8146080" y="2789280"/>
                  <a:ext cx="57960" cy="46800"/>
                </a:xfrm>
                <a:prstGeom prst="line">
                  <a:avLst/>
                </a:prstGeom>
                <a:ln w="190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6" name=""/>
              <p:cNvGrpSpPr/>
              <p:nvPr/>
            </p:nvGrpSpPr>
            <p:grpSpPr>
              <a:xfrm>
                <a:off x="8154000" y="2601360"/>
                <a:ext cx="58320" cy="235080"/>
                <a:chOff x="8154000" y="2601360"/>
                <a:chExt cx="58320" cy="235080"/>
              </a:xfrm>
            </p:grpSpPr>
            <p:sp>
              <p:nvSpPr>
                <p:cNvPr id="2087" name=""/>
                <p:cNvSpPr/>
                <p:nvPr/>
              </p:nvSpPr>
              <p:spPr>
                <a:xfrm flipH="1" flipV="1">
                  <a:off x="8154000" y="2789640"/>
                  <a:ext cx="57960" cy="46800"/>
                </a:xfrm>
                <a:prstGeom prst="line">
                  <a:avLst/>
                </a:prstGeom>
                <a:ln w="190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8" name=""/>
                <p:cNvSpPr/>
                <p:nvPr/>
              </p:nvSpPr>
              <p:spPr>
                <a:xfrm flipV="1">
                  <a:off x="8154360" y="2742480"/>
                  <a:ext cx="57960" cy="47160"/>
                </a:xfrm>
                <a:prstGeom prst="line">
                  <a:avLst/>
                </a:prstGeom>
                <a:ln w="190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9" name=""/>
                <p:cNvSpPr/>
                <p:nvPr/>
              </p:nvSpPr>
              <p:spPr>
                <a:xfrm flipH="1" flipV="1">
                  <a:off x="8154000" y="2695320"/>
                  <a:ext cx="57960" cy="46800"/>
                </a:xfrm>
                <a:prstGeom prst="line">
                  <a:avLst/>
                </a:prstGeom>
                <a:ln w="190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 flipV="1">
                  <a:off x="8154360" y="2648520"/>
                  <a:ext cx="57960" cy="46800"/>
                </a:xfrm>
                <a:prstGeom prst="line">
                  <a:avLst/>
                </a:prstGeom>
                <a:ln w="190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 flipH="1" flipV="1">
                  <a:off x="8154000" y="2601360"/>
                  <a:ext cx="57960" cy="46800"/>
                </a:xfrm>
                <a:prstGeom prst="line">
                  <a:avLst/>
                </a:prstGeom>
                <a:ln w="190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92" name=""/>
            <p:cNvSpPr/>
            <p:nvPr/>
          </p:nvSpPr>
          <p:spPr>
            <a:xfrm>
              <a:off x="1779480" y="5618880"/>
              <a:ext cx="104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 flipV="1">
              <a:off x="1779480" y="5017320"/>
              <a:ext cx="0" cy="60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 flipV="1">
              <a:off x="2129040" y="5017680"/>
              <a:ext cx="0" cy="48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 flipH="1">
              <a:off x="2886120" y="507744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2129040" y="5498640"/>
              <a:ext cx="69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 flipV="1">
              <a:off x="3760560" y="4355640"/>
              <a:ext cx="0" cy="18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5742000" y="5077440"/>
              <a:ext cx="0" cy="12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8131320" y="4776840"/>
              <a:ext cx="0" cy="48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8131320" y="1829160"/>
              <a:ext cx="0" cy="48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5642280" y="2586240"/>
              <a:ext cx="1051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 flipV="1">
              <a:off x="6047640" y="2465280"/>
              <a:ext cx="0" cy="556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3" name="">
            <a:hlinkClick r:id="" action="ppaction://hlinkshowjump?jump=previousslide"/>
          </p:cNvPr>
          <p:cNvSpPr/>
          <p:nvPr/>
        </p:nvSpPr>
        <p:spPr>
          <a:xfrm>
            <a:off x="3038400" y="5943600"/>
            <a:ext cx="565200" cy="585720"/>
          </a:xfrm>
          <a:custGeom>
            <a:avLst/>
            <a:gdLst>
              <a:gd name="textAreaLeft" fmla="*/ 36360 w 565200"/>
              <a:gd name="textAreaRight" fmla="*/ 528840 w 565200"/>
              <a:gd name="textAreaTop" fmla="*/ 36360 h 585720"/>
              <a:gd name="textAreaBottom" fmla="*/ 549360 h 585720"/>
            </a:gdLst>
            <a:ahLst/>
            <a:rect l="textAreaLeft" t="textAreaTop" r="textAreaRight" b="textAreaBottom"/>
            <a:pathLst>
              <a:path w="21600" h="22384">
                <a:moveTo>
                  <a:pt x="0" y="0"/>
                </a:moveTo>
                <a:lnTo>
                  <a:pt x="21600" y="0"/>
                </a:lnTo>
                <a:lnTo>
                  <a:pt x="21600" y="22384"/>
                </a:lnTo>
                <a:lnTo>
                  <a:pt x="0" y="22384"/>
                </a:lnTo>
                <a:close/>
              </a:path>
              <a:path fill="lightenLess" w="21600" h="2238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84">
                <a:moveTo>
                  <a:pt x="21600" y="0"/>
                </a:moveTo>
                <a:lnTo>
                  <a:pt x="21600" y="22384"/>
                </a:lnTo>
                <a:lnTo>
                  <a:pt x="20200" y="20984"/>
                </a:lnTo>
                <a:lnTo>
                  <a:pt x="20200" y="1400"/>
                </a:lnTo>
                <a:close/>
              </a:path>
              <a:path fill="darkenLess" w="21600" h="22384">
                <a:moveTo>
                  <a:pt x="21600" y="22384"/>
                </a:moveTo>
                <a:lnTo>
                  <a:pt x="0" y="22384"/>
                </a:lnTo>
                <a:lnTo>
                  <a:pt x="1400" y="20984"/>
                </a:lnTo>
                <a:lnTo>
                  <a:pt x="20200" y="20984"/>
                </a:lnTo>
                <a:close/>
              </a:path>
              <a:path fill="lighten" w="21600" h="22384">
                <a:moveTo>
                  <a:pt x="0" y="2238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84"/>
                </a:lnTo>
                <a:close/>
              </a:path>
              <a:path fill="darken" w="21600" h="22384">
                <a:moveTo>
                  <a:pt x="3794" y="11192"/>
                </a:moveTo>
                <a:lnTo>
                  <a:pt x="17806" y="4185"/>
                </a:lnTo>
                <a:lnTo>
                  <a:pt x="17806" y="18198"/>
                </a:lnTo>
                <a:close/>
              </a:path>
            </a:pathLst>
          </a:cu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>
            <a:hlinkClick r:id="" action="ppaction://hlinkshowjump?jump=nextslide"/>
          </p:cNvPr>
          <p:cNvSpPr/>
          <p:nvPr/>
        </p:nvSpPr>
        <p:spPr>
          <a:xfrm>
            <a:off x="3657600" y="5943600"/>
            <a:ext cx="566640" cy="585720"/>
          </a:xfrm>
          <a:custGeom>
            <a:avLst/>
            <a:gdLst>
              <a:gd name="textAreaLeft" fmla="*/ 36720 w 566640"/>
              <a:gd name="textAreaRight" fmla="*/ 529920 w 566640"/>
              <a:gd name="textAreaTop" fmla="*/ 36720 h 585720"/>
              <a:gd name="textAreaBottom" fmla="*/ 549000 h 585720"/>
            </a:gdLst>
            <a:ahLst/>
            <a:rect l="textAreaLeft" t="textAreaTop" r="textAreaRight" b="textAreaBottom"/>
            <a:pathLst>
              <a:path w="21600" h="22327">
                <a:moveTo>
                  <a:pt x="0" y="0"/>
                </a:moveTo>
                <a:lnTo>
                  <a:pt x="21600" y="0"/>
                </a:lnTo>
                <a:lnTo>
                  <a:pt x="21600" y="22327"/>
                </a:lnTo>
                <a:lnTo>
                  <a:pt x="0" y="22327"/>
                </a:lnTo>
                <a:close/>
              </a:path>
              <a:path fill="lightenLess" w="21600" h="223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27">
                <a:moveTo>
                  <a:pt x="21600" y="0"/>
                </a:moveTo>
                <a:lnTo>
                  <a:pt x="21600" y="22327"/>
                </a:lnTo>
                <a:lnTo>
                  <a:pt x="20200" y="20927"/>
                </a:lnTo>
                <a:lnTo>
                  <a:pt x="20200" y="1400"/>
                </a:lnTo>
                <a:close/>
              </a:path>
              <a:path fill="darkenLess" w="21600" h="22327">
                <a:moveTo>
                  <a:pt x="21600" y="22327"/>
                </a:moveTo>
                <a:lnTo>
                  <a:pt x="0" y="22327"/>
                </a:lnTo>
                <a:lnTo>
                  <a:pt x="1400" y="20927"/>
                </a:lnTo>
                <a:lnTo>
                  <a:pt x="20200" y="20927"/>
                </a:lnTo>
                <a:close/>
              </a:path>
              <a:path fill="lighten" w="21600" h="22327">
                <a:moveTo>
                  <a:pt x="0" y="223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27"/>
                </a:lnTo>
                <a:close/>
              </a:path>
              <a:path fill="darken" w="21600" h="22327">
                <a:moveTo>
                  <a:pt x="3794" y="4157"/>
                </a:moveTo>
                <a:lnTo>
                  <a:pt x="17806" y="11163"/>
                </a:lnTo>
                <a:lnTo>
                  <a:pt x="3794" y="18170"/>
                </a:lnTo>
                <a:close/>
              </a:path>
            </a:pathLst>
          </a:cu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>
            <a:hlinkClick r:id="" action="ppaction://hlinkshowjump?jump=firstslide"/>
          </p:cNvPr>
          <p:cNvSpPr/>
          <p:nvPr/>
        </p:nvSpPr>
        <p:spPr>
          <a:xfrm>
            <a:off x="4278240" y="5943600"/>
            <a:ext cx="565200" cy="585720"/>
          </a:xfrm>
          <a:custGeom>
            <a:avLst/>
            <a:gdLst>
              <a:gd name="textAreaLeft" fmla="*/ 36360 w 565200"/>
              <a:gd name="textAreaRight" fmla="*/ 528840 w 565200"/>
              <a:gd name="textAreaTop" fmla="*/ 36360 h 585720"/>
              <a:gd name="textAreaBottom" fmla="*/ 549360 h 585720"/>
            </a:gdLst>
            <a:ahLst/>
            <a:rect l="textAreaLeft" t="textAreaTop" r="textAreaRight" b="textAreaBottom"/>
            <a:pathLst>
              <a:path w="21600" h="22384">
                <a:moveTo>
                  <a:pt x="0" y="0"/>
                </a:moveTo>
                <a:lnTo>
                  <a:pt x="21600" y="0"/>
                </a:lnTo>
                <a:lnTo>
                  <a:pt x="21600" y="22384"/>
                </a:lnTo>
                <a:lnTo>
                  <a:pt x="0" y="22384"/>
                </a:lnTo>
                <a:close/>
              </a:path>
              <a:path fill="lightenLess" w="21600" h="2238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84">
                <a:moveTo>
                  <a:pt x="21600" y="0"/>
                </a:moveTo>
                <a:lnTo>
                  <a:pt x="21600" y="22384"/>
                </a:lnTo>
                <a:lnTo>
                  <a:pt x="20200" y="20984"/>
                </a:lnTo>
                <a:lnTo>
                  <a:pt x="20200" y="1400"/>
                </a:lnTo>
                <a:close/>
              </a:path>
              <a:path fill="darkenLess" w="21600" h="22384">
                <a:moveTo>
                  <a:pt x="21600" y="22384"/>
                </a:moveTo>
                <a:lnTo>
                  <a:pt x="0" y="22384"/>
                </a:lnTo>
                <a:lnTo>
                  <a:pt x="1400" y="20984"/>
                </a:lnTo>
                <a:lnTo>
                  <a:pt x="20200" y="20984"/>
                </a:lnTo>
                <a:close/>
              </a:path>
              <a:path fill="lighten" w="21600" h="22384">
                <a:moveTo>
                  <a:pt x="0" y="2238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84"/>
                </a:lnTo>
                <a:close/>
              </a:path>
              <a:path fill="darken" w="21600" h="22384">
                <a:moveTo>
                  <a:pt x="7301" y="11192"/>
                </a:moveTo>
                <a:lnTo>
                  <a:pt x="17806" y="4185"/>
                </a:lnTo>
                <a:lnTo>
                  <a:pt x="17806" y="18198"/>
                </a:lnTo>
                <a:close/>
              </a:path>
              <a:path fill="darken" w="21600" h="22384">
                <a:moveTo>
                  <a:pt x="3794" y="4185"/>
                </a:moveTo>
                <a:lnTo>
                  <a:pt x="5456" y="4185"/>
                </a:lnTo>
                <a:lnTo>
                  <a:pt x="5456" y="18198"/>
                </a:lnTo>
                <a:lnTo>
                  <a:pt x="3794" y="18198"/>
                </a:lnTo>
                <a:close/>
              </a:path>
            </a:pathLst>
          </a:cu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600" spc="-1" strike="noStrike">
                <a:solidFill>
                  <a:srgbClr val="221304"/>
                </a:solidFill>
                <a:latin typeface="Times New Roman"/>
              </a:rPr>
              <a:t>p</a:t>
            </a:r>
            <a:r>
              <a:rPr b="1" i="1" lang="en-US" sz="1600" spc="-1" strike="noStrike">
                <a:solidFill>
                  <a:srgbClr val="221304"/>
                </a:solidFill>
                <a:latin typeface="Times New Roman"/>
              </a:rPr>
              <a:t>okra</a:t>
            </a:r>
            <a:r>
              <a:rPr b="1" i="1" lang="sk-SK" sz="1600" spc="-1" strike="noStrike">
                <a:solidFill>
                  <a:srgbClr val="221304"/>
                </a:solidFill>
                <a:latin typeface="Times New Roman"/>
              </a:rPr>
              <a:t>čovanie zadania</a:t>
            </a:r>
            <a:endParaRPr b="0" lang="en-US" sz="16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"/>
          <p:cNvSpPr/>
          <p:nvPr/>
        </p:nvSpPr>
        <p:spPr>
          <a:xfrm>
            <a:off x="1219320" y="1752480"/>
            <a:ext cx="6858000" cy="48006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221304"/>
                </a:solidFill>
                <a:latin typeface="Times New Roman"/>
              </a:rPr>
              <a:t>Z</a:t>
            </a:r>
            <a:r>
              <a:rPr b="0" i="1" lang="sk-SK" sz="4400" spc="-1" strike="noStrike">
                <a:solidFill>
                  <a:srgbClr val="221304"/>
                </a:solidFill>
                <a:latin typeface="Times New Roman"/>
              </a:rPr>
              <a:t>adanie 17:Plniaca linka 2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2109" name=""/>
          <p:cNvGrpSpPr/>
          <p:nvPr/>
        </p:nvGrpSpPr>
        <p:grpSpPr>
          <a:xfrm>
            <a:off x="2743200" y="2057400"/>
            <a:ext cx="4519440" cy="4051080"/>
            <a:chOff x="2743200" y="2057400"/>
            <a:chExt cx="4519440" cy="4051080"/>
          </a:xfrm>
        </p:grpSpPr>
        <p:sp>
          <p:nvSpPr>
            <p:cNvPr id="2110" name=""/>
            <p:cNvSpPr/>
            <p:nvPr/>
          </p:nvSpPr>
          <p:spPr>
            <a:xfrm>
              <a:off x="6401880" y="4281840"/>
              <a:ext cx="358560" cy="143280"/>
            </a:xfrm>
            <a:prstGeom prst="rect">
              <a:avLst/>
            </a:prstGeom>
            <a:solidFill>
              <a:srgbClr val="fefde3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11" name=""/>
            <p:cNvGrpSpPr/>
            <p:nvPr/>
          </p:nvGrpSpPr>
          <p:grpSpPr>
            <a:xfrm>
              <a:off x="3675600" y="4157280"/>
              <a:ext cx="1147680" cy="1147320"/>
              <a:chOff x="3675600" y="4157280"/>
              <a:chExt cx="1147680" cy="1147320"/>
            </a:xfrm>
          </p:grpSpPr>
          <p:sp>
            <p:nvSpPr>
              <p:cNvPr id="2112" name=""/>
              <p:cNvSpPr/>
              <p:nvPr/>
            </p:nvSpPr>
            <p:spPr>
              <a:xfrm flipV="1">
                <a:off x="3675600" y="4320360"/>
                <a:ext cx="1147680" cy="983880"/>
              </a:xfrm>
              <a:prstGeom prst="triangle">
                <a:avLst>
                  <a:gd name="adj" fmla="val 50000"/>
                </a:avLst>
              </a:prstGeom>
              <a:solidFill>
                <a:srgbClr val="fefde3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3675600" y="4157280"/>
                <a:ext cx="1147680" cy="163800"/>
              </a:xfrm>
              <a:prstGeom prst="triangle">
                <a:avLst>
                  <a:gd name="adj" fmla="val 50000"/>
                </a:avLst>
              </a:prstGeom>
              <a:solidFill>
                <a:srgbClr val="fefde3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4" name=""/>
            <p:cNvSpPr/>
            <p:nvPr/>
          </p:nvSpPr>
          <p:spPr>
            <a:xfrm>
              <a:off x="4106160" y="2703240"/>
              <a:ext cx="358560" cy="143280"/>
            </a:xfrm>
            <a:prstGeom prst="rect">
              <a:avLst/>
            </a:prstGeom>
            <a:solidFill>
              <a:srgbClr val="fefde3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 rot="5400000">
              <a:off x="5002920" y="2810880"/>
              <a:ext cx="358560" cy="143280"/>
            </a:xfrm>
            <a:prstGeom prst="rect">
              <a:avLst/>
            </a:prstGeom>
            <a:solidFill>
              <a:srgbClr val="fefde3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 rot="5400000">
              <a:off x="5433120" y="3313080"/>
              <a:ext cx="358560" cy="143280"/>
            </a:xfrm>
            <a:prstGeom prst="rect">
              <a:avLst/>
            </a:prstGeom>
            <a:solidFill>
              <a:srgbClr val="fefde3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 rot="5400000">
              <a:off x="4357080" y="3313080"/>
              <a:ext cx="358560" cy="143280"/>
            </a:xfrm>
            <a:prstGeom prst="rect">
              <a:avLst/>
            </a:prstGeom>
            <a:solidFill>
              <a:srgbClr val="fefde3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18" name=""/>
            <p:cNvGrpSpPr/>
            <p:nvPr/>
          </p:nvGrpSpPr>
          <p:grpSpPr>
            <a:xfrm>
              <a:off x="3747240" y="5573520"/>
              <a:ext cx="1076760" cy="534960"/>
              <a:chOff x="3747240" y="5573520"/>
              <a:chExt cx="1076760" cy="534960"/>
            </a:xfrm>
          </p:grpSpPr>
          <p:sp>
            <p:nvSpPr>
              <p:cNvPr id="2119" name=""/>
              <p:cNvSpPr/>
              <p:nvPr/>
            </p:nvSpPr>
            <p:spPr>
              <a:xfrm>
                <a:off x="3774600" y="6036840"/>
                <a:ext cx="861120" cy="71640"/>
              </a:xfrm>
              <a:prstGeom prst="rect">
                <a:avLst/>
              </a:prstGeom>
              <a:solidFill>
                <a:srgbClr val="fefde3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3917880" y="5802480"/>
                <a:ext cx="645480" cy="214920"/>
              </a:xfrm>
              <a:prstGeom prst="rect">
                <a:avLst/>
              </a:prstGeom>
              <a:solidFill>
                <a:srgbClr val="fefde3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4593600" y="5573520"/>
                <a:ext cx="71640" cy="430200"/>
              </a:xfrm>
              <a:prstGeom prst="rect">
                <a:avLst/>
              </a:prstGeom>
              <a:solidFill>
                <a:srgbClr val="fefde3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4680720" y="5640480"/>
                <a:ext cx="143280" cy="71640"/>
              </a:xfrm>
              <a:prstGeom prst="rect">
                <a:avLst/>
              </a:prstGeom>
              <a:solidFill>
                <a:srgbClr val="fefde3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3747240" y="5859720"/>
                <a:ext cx="143280" cy="71640"/>
              </a:xfrm>
              <a:prstGeom prst="rect">
                <a:avLst/>
              </a:prstGeom>
              <a:solidFill>
                <a:srgbClr val="fefde3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4" name=""/>
            <p:cNvGrpSpPr/>
            <p:nvPr/>
          </p:nvGrpSpPr>
          <p:grpSpPr>
            <a:xfrm>
              <a:off x="6114960" y="2703240"/>
              <a:ext cx="286920" cy="215280"/>
              <a:chOff x="6114960" y="2703240"/>
              <a:chExt cx="286920" cy="215280"/>
            </a:xfrm>
          </p:grpSpPr>
          <p:sp>
            <p:nvSpPr>
              <p:cNvPr id="2125" name=""/>
              <p:cNvSpPr/>
              <p:nvPr/>
            </p:nvSpPr>
            <p:spPr>
              <a:xfrm>
                <a:off x="6186600" y="2703240"/>
                <a:ext cx="143280" cy="143640"/>
              </a:xfrm>
              <a:prstGeom prst="ellipse">
                <a:avLst/>
              </a:prstGeom>
              <a:solidFill>
                <a:srgbClr val="fefde3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6114960" y="2703240"/>
                <a:ext cx="0" cy="143640"/>
              </a:xfrm>
              <a:prstGeom prst="line">
                <a:avLst/>
              </a:prstGeom>
              <a:ln w="1908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6401880" y="2703240"/>
                <a:ext cx="0" cy="143640"/>
              </a:xfrm>
              <a:prstGeom prst="line">
                <a:avLst/>
              </a:prstGeom>
              <a:ln w="1908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 flipH="1">
                <a:off x="6186600" y="2918520"/>
                <a:ext cx="143280" cy="0"/>
              </a:xfrm>
              <a:prstGeom prst="line">
                <a:avLst/>
              </a:prstGeom>
              <a:ln w="1908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29" name=""/>
            <p:cNvSpPr/>
            <p:nvPr/>
          </p:nvSpPr>
          <p:spPr>
            <a:xfrm>
              <a:off x="6904080" y="2057400"/>
              <a:ext cx="358560" cy="143280"/>
            </a:xfrm>
            <a:prstGeom prst="rect">
              <a:avLst/>
            </a:prstGeom>
            <a:solidFill>
              <a:srgbClr val="fefde3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 flipH="1">
              <a:off x="2743200" y="2129040"/>
              <a:ext cx="41608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7119360" y="2200680"/>
              <a:ext cx="0" cy="5738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4464720" y="2774880"/>
              <a:ext cx="16498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6401880" y="2774880"/>
              <a:ext cx="71712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6258240" y="2918520"/>
              <a:ext cx="0" cy="28692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6042960" y="3277080"/>
              <a:ext cx="430200" cy="215280"/>
            </a:xfrm>
            <a:custGeom>
              <a:avLst/>
              <a:gdLst>
                <a:gd name="textAreaLeft" fmla="*/ 94680 w 430200"/>
                <a:gd name="textAreaRight" fmla="*/ 335520 w 430200"/>
                <a:gd name="textAreaTop" fmla="*/ 47160 h 215280"/>
                <a:gd name="textAreaBottom" fmla="*/ 168120 h 21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efde3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 flipV="1">
              <a:off x="4249440" y="2487960"/>
              <a:ext cx="0" cy="215280"/>
            </a:xfrm>
            <a:prstGeom prst="line">
              <a:avLst/>
            </a:prstGeom>
            <a:ln w="28440">
              <a:solidFill>
                <a:srgbClr val="9696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4249440" y="2487960"/>
              <a:ext cx="1793160" cy="0"/>
            </a:xfrm>
            <a:prstGeom prst="line">
              <a:avLst/>
            </a:prstGeom>
            <a:ln w="28440">
              <a:solidFill>
                <a:srgbClr val="9696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5684400" y="3349080"/>
              <a:ext cx="143280" cy="0"/>
            </a:xfrm>
            <a:prstGeom prst="line">
              <a:avLst/>
            </a:prstGeom>
            <a:ln w="28440">
              <a:solidFill>
                <a:srgbClr val="9696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5827680" y="3349080"/>
              <a:ext cx="0" cy="1004400"/>
            </a:xfrm>
            <a:prstGeom prst="line">
              <a:avLst/>
            </a:prstGeom>
            <a:ln w="28440">
              <a:solidFill>
                <a:srgbClr val="9696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5827680" y="4353480"/>
              <a:ext cx="573840" cy="0"/>
            </a:xfrm>
            <a:prstGeom prst="line">
              <a:avLst/>
            </a:prstGeom>
            <a:ln w="28440">
              <a:solidFill>
                <a:srgbClr val="9696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 flipV="1">
              <a:off x="6473520" y="3994560"/>
              <a:ext cx="0" cy="286920"/>
            </a:xfrm>
            <a:prstGeom prst="line">
              <a:avLst/>
            </a:prstGeom>
            <a:ln w="28440">
              <a:solidFill>
                <a:srgbClr val="9696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 flipV="1">
              <a:off x="6617160" y="4425120"/>
              <a:ext cx="0" cy="286920"/>
            </a:xfrm>
            <a:prstGeom prst="line">
              <a:avLst/>
            </a:prstGeom>
            <a:ln w="28440">
              <a:solidFill>
                <a:srgbClr val="9696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6473520" y="4281840"/>
              <a:ext cx="14328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4536360" y="3420720"/>
              <a:ext cx="0" cy="10044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 flipH="1">
              <a:off x="4249080" y="3277080"/>
              <a:ext cx="21492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4249440" y="3277080"/>
              <a:ext cx="0" cy="100476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4536360" y="3420720"/>
              <a:ext cx="28692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 flipV="1">
              <a:off x="4823280" y="2990160"/>
              <a:ext cx="0" cy="43056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4823280" y="2990160"/>
              <a:ext cx="35856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5182200" y="2990160"/>
              <a:ext cx="0" cy="502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5182200" y="3492360"/>
              <a:ext cx="430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5612760" y="3492360"/>
              <a:ext cx="0" cy="502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4240080" y="5667480"/>
              <a:ext cx="0" cy="15912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3173400" y="5894280"/>
              <a:ext cx="573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6688800" y="2703240"/>
              <a:ext cx="143280" cy="143280"/>
            </a:xfrm>
            <a:prstGeom prst="ellipse">
              <a:avLst/>
            </a:prstGeom>
            <a:solidFill>
              <a:srgbClr val="fefde3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4174560" y="5456160"/>
              <a:ext cx="143280" cy="143280"/>
            </a:xfrm>
            <a:prstGeom prst="ellipse">
              <a:avLst/>
            </a:prstGeom>
            <a:solidFill>
              <a:srgbClr val="fefde3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4162680" y="5650560"/>
              <a:ext cx="14256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4162680" y="5402880"/>
              <a:ext cx="14256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4240080" y="5315040"/>
              <a:ext cx="0" cy="1022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0" name="">
            <a:hlinkClick r:id="" action="ppaction://hlinkshowjump?jump=previousslide"/>
          </p:cNvPr>
          <p:cNvSpPr/>
          <p:nvPr/>
        </p:nvSpPr>
        <p:spPr>
          <a:xfrm>
            <a:off x="6781680" y="5943600"/>
            <a:ext cx="565200" cy="585720"/>
          </a:xfrm>
          <a:custGeom>
            <a:avLst/>
            <a:gdLst>
              <a:gd name="textAreaLeft" fmla="*/ 36360 w 565200"/>
              <a:gd name="textAreaRight" fmla="*/ 528840 w 565200"/>
              <a:gd name="textAreaTop" fmla="*/ 36360 h 585720"/>
              <a:gd name="textAreaBottom" fmla="*/ 549360 h 585720"/>
            </a:gdLst>
            <a:ahLst/>
            <a:rect l="textAreaLeft" t="textAreaTop" r="textAreaRight" b="textAreaBottom"/>
            <a:pathLst>
              <a:path w="21600" h="22384">
                <a:moveTo>
                  <a:pt x="0" y="0"/>
                </a:moveTo>
                <a:lnTo>
                  <a:pt x="21600" y="0"/>
                </a:lnTo>
                <a:lnTo>
                  <a:pt x="21600" y="22384"/>
                </a:lnTo>
                <a:lnTo>
                  <a:pt x="0" y="22384"/>
                </a:lnTo>
                <a:close/>
              </a:path>
              <a:path fill="lightenLess" w="21600" h="2238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84">
                <a:moveTo>
                  <a:pt x="21600" y="0"/>
                </a:moveTo>
                <a:lnTo>
                  <a:pt x="21600" y="22384"/>
                </a:lnTo>
                <a:lnTo>
                  <a:pt x="20200" y="20984"/>
                </a:lnTo>
                <a:lnTo>
                  <a:pt x="20200" y="1400"/>
                </a:lnTo>
                <a:close/>
              </a:path>
              <a:path fill="darkenLess" w="21600" h="22384">
                <a:moveTo>
                  <a:pt x="21600" y="22384"/>
                </a:moveTo>
                <a:lnTo>
                  <a:pt x="0" y="22384"/>
                </a:lnTo>
                <a:lnTo>
                  <a:pt x="1400" y="20984"/>
                </a:lnTo>
                <a:lnTo>
                  <a:pt x="20200" y="20984"/>
                </a:lnTo>
                <a:close/>
              </a:path>
              <a:path fill="lighten" w="21600" h="22384">
                <a:moveTo>
                  <a:pt x="0" y="2238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84"/>
                </a:lnTo>
                <a:close/>
              </a:path>
              <a:path fill="darken" w="21600" h="22384">
                <a:moveTo>
                  <a:pt x="3794" y="11192"/>
                </a:moveTo>
                <a:lnTo>
                  <a:pt x="17806" y="4185"/>
                </a:lnTo>
                <a:lnTo>
                  <a:pt x="17806" y="18198"/>
                </a:lnTo>
                <a:close/>
              </a:path>
            </a:pathLst>
          </a:cu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>
            <a:hlinkClick r:id="" action="ppaction://hlinkshowjump?jump=nextslide"/>
          </p:cNvPr>
          <p:cNvSpPr/>
          <p:nvPr/>
        </p:nvSpPr>
        <p:spPr>
          <a:xfrm>
            <a:off x="7400880" y="5943600"/>
            <a:ext cx="566640" cy="585720"/>
          </a:xfrm>
          <a:custGeom>
            <a:avLst/>
            <a:gdLst>
              <a:gd name="textAreaLeft" fmla="*/ 36720 w 566640"/>
              <a:gd name="textAreaRight" fmla="*/ 529920 w 566640"/>
              <a:gd name="textAreaTop" fmla="*/ 36720 h 585720"/>
              <a:gd name="textAreaBottom" fmla="*/ 549000 h 585720"/>
            </a:gdLst>
            <a:ahLst/>
            <a:rect l="textAreaLeft" t="textAreaTop" r="textAreaRight" b="textAreaBottom"/>
            <a:pathLst>
              <a:path w="21600" h="22327">
                <a:moveTo>
                  <a:pt x="0" y="0"/>
                </a:moveTo>
                <a:lnTo>
                  <a:pt x="21600" y="0"/>
                </a:lnTo>
                <a:lnTo>
                  <a:pt x="21600" y="22327"/>
                </a:lnTo>
                <a:lnTo>
                  <a:pt x="0" y="22327"/>
                </a:lnTo>
                <a:close/>
              </a:path>
              <a:path fill="lightenLess" w="21600" h="223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27">
                <a:moveTo>
                  <a:pt x="21600" y="0"/>
                </a:moveTo>
                <a:lnTo>
                  <a:pt x="21600" y="22327"/>
                </a:lnTo>
                <a:lnTo>
                  <a:pt x="20200" y="20927"/>
                </a:lnTo>
                <a:lnTo>
                  <a:pt x="20200" y="1400"/>
                </a:lnTo>
                <a:close/>
              </a:path>
              <a:path fill="darkenLess" w="21600" h="22327">
                <a:moveTo>
                  <a:pt x="21600" y="22327"/>
                </a:moveTo>
                <a:lnTo>
                  <a:pt x="0" y="22327"/>
                </a:lnTo>
                <a:lnTo>
                  <a:pt x="1400" y="20927"/>
                </a:lnTo>
                <a:lnTo>
                  <a:pt x="20200" y="20927"/>
                </a:lnTo>
                <a:close/>
              </a:path>
              <a:path fill="lighten" w="21600" h="22327">
                <a:moveTo>
                  <a:pt x="0" y="223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27"/>
                </a:lnTo>
                <a:close/>
              </a:path>
              <a:path fill="darken" w="21600" h="22327">
                <a:moveTo>
                  <a:pt x="3794" y="4157"/>
                </a:moveTo>
                <a:lnTo>
                  <a:pt x="17806" y="11163"/>
                </a:lnTo>
                <a:lnTo>
                  <a:pt x="3794" y="18170"/>
                </a:lnTo>
                <a:close/>
              </a:path>
            </a:pathLst>
          </a:cu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>
            <a:hlinkClick r:id="" action="ppaction://hlinkshowjump?jump=firstslide"/>
          </p:cNvPr>
          <p:cNvSpPr/>
          <p:nvPr/>
        </p:nvSpPr>
        <p:spPr>
          <a:xfrm>
            <a:off x="8021520" y="5943600"/>
            <a:ext cx="565200" cy="585720"/>
          </a:xfrm>
          <a:custGeom>
            <a:avLst/>
            <a:gdLst>
              <a:gd name="textAreaLeft" fmla="*/ 36360 w 565200"/>
              <a:gd name="textAreaRight" fmla="*/ 528840 w 565200"/>
              <a:gd name="textAreaTop" fmla="*/ 36360 h 585720"/>
              <a:gd name="textAreaBottom" fmla="*/ 549360 h 585720"/>
            </a:gdLst>
            <a:ahLst/>
            <a:rect l="textAreaLeft" t="textAreaTop" r="textAreaRight" b="textAreaBottom"/>
            <a:pathLst>
              <a:path w="21600" h="22384">
                <a:moveTo>
                  <a:pt x="0" y="0"/>
                </a:moveTo>
                <a:lnTo>
                  <a:pt x="21600" y="0"/>
                </a:lnTo>
                <a:lnTo>
                  <a:pt x="21600" y="22384"/>
                </a:lnTo>
                <a:lnTo>
                  <a:pt x="0" y="22384"/>
                </a:lnTo>
                <a:close/>
              </a:path>
              <a:path fill="lightenLess" w="21600" h="2238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84">
                <a:moveTo>
                  <a:pt x="21600" y="0"/>
                </a:moveTo>
                <a:lnTo>
                  <a:pt x="21600" y="22384"/>
                </a:lnTo>
                <a:lnTo>
                  <a:pt x="20200" y="20984"/>
                </a:lnTo>
                <a:lnTo>
                  <a:pt x="20200" y="1400"/>
                </a:lnTo>
                <a:close/>
              </a:path>
              <a:path fill="darkenLess" w="21600" h="22384">
                <a:moveTo>
                  <a:pt x="21600" y="22384"/>
                </a:moveTo>
                <a:lnTo>
                  <a:pt x="0" y="22384"/>
                </a:lnTo>
                <a:lnTo>
                  <a:pt x="1400" y="20984"/>
                </a:lnTo>
                <a:lnTo>
                  <a:pt x="20200" y="20984"/>
                </a:lnTo>
                <a:close/>
              </a:path>
              <a:path fill="lighten" w="21600" h="22384">
                <a:moveTo>
                  <a:pt x="0" y="2238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84"/>
                </a:lnTo>
                <a:close/>
              </a:path>
              <a:path fill="darken" w="21600" h="22384">
                <a:moveTo>
                  <a:pt x="7301" y="11192"/>
                </a:moveTo>
                <a:lnTo>
                  <a:pt x="17806" y="4185"/>
                </a:lnTo>
                <a:lnTo>
                  <a:pt x="17806" y="18198"/>
                </a:lnTo>
                <a:close/>
              </a:path>
              <a:path fill="darken" w="21600" h="22384">
                <a:moveTo>
                  <a:pt x="3794" y="4185"/>
                </a:moveTo>
                <a:lnTo>
                  <a:pt x="5456" y="4185"/>
                </a:lnTo>
                <a:lnTo>
                  <a:pt x="5456" y="18198"/>
                </a:lnTo>
                <a:lnTo>
                  <a:pt x="3794" y="18198"/>
                </a:lnTo>
                <a:close/>
              </a:path>
            </a:pathLst>
          </a:cu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600" spc="-1" strike="noStrike">
                <a:solidFill>
                  <a:srgbClr val="221304"/>
                </a:solidFill>
                <a:latin typeface="Times New Roman"/>
              </a:rPr>
              <a:t>p</a:t>
            </a:r>
            <a:r>
              <a:rPr b="1" i="1" lang="en-US" sz="1600" spc="-1" strike="noStrike">
                <a:solidFill>
                  <a:srgbClr val="221304"/>
                </a:solidFill>
                <a:latin typeface="Times New Roman"/>
              </a:rPr>
              <a:t>okra</a:t>
            </a:r>
            <a:r>
              <a:rPr b="1" i="1" lang="sk-SK" sz="1600" spc="-1" strike="noStrike">
                <a:solidFill>
                  <a:srgbClr val="221304"/>
                </a:solidFill>
                <a:latin typeface="Times New Roman"/>
              </a:rPr>
              <a:t>čovanie zadania</a:t>
            </a:r>
            <a:endParaRPr b="0" lang="en-US" sz="16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"/>
          <p:cNvSpPr/>
          <p:nvPr/>
        </p:nvSpPr>
        <p:spPr>
          <a:xfrm>
            <a:off x="1447920" y="1644480"/>
            <a:ext cx="6629400" cy="460404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Z</a:t>
            </a:r>
            <a:r>
              <a:rPr b="1" lang="sk-SK" sz="4400" spc="-1" strike="noStrike">
                <a:solidFill>
                  <a:srgbClr val="221304"/>
                </a:solidFill>
                <a:latin typeface="Times New Roman"/>
              </a:rPr>
              <a:t>adanie</a:t>
            </a: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 18</a:t>
            </a:r>
            <a:r>
              <a:rPr b="0" i="1" lang="sk-SK" sz="4400" spc="-1" strike="noStrike">
                <a:solidFill>
                  <a:srgbClr val="221304"/>
                </a:solidFill>
                <a:latin typeface="Times New Roman"/>
              </a:rPr>
              <a:t> :</a:t>
            </a:r>
            <a:r>
              <a:rPr b="1" i="1" lang="sk-SK" sz="4400" spc="-1" strike="noStrike">
                <a:solidFill>
                  <a:srgbClr val="221304"/>
                </a:solidFill>
                <a:latin typeface="Times New Roman"/>
              </a:rPr>
              <a:t>Ukladače tabúľ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2344680" y="3292560"/>
            <a:ext cx="287280" cy="287280"/>
          </a:xfrm>
          <a:prstGeom prst="ellipse">
            <a:avLst/>
          </a:prstGeom>
          <a:solidFill>
            <a:srgbClr val="cbbd83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2057400" y="3292560"/>
            <a:ext cx="43020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2057400" y="3579840"/>
            <a:ext cx="43020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2990880" y="3076560"/>
            <a:ext cx="214200" cy="144360"/>
          </a:xfrm>
          <a:prstGeom prst="rect">
            <a:avLst/>
          </a:prstGeom>
          <a:solidFill>
            <a:srgbClr val="00ff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2774880" y="3076560"/>
            <a:ext cx="142920" cy="144360"/>
          </a:xfrm>
          <a:prstGeom prst="ellipse">
            <a:avLst/>
          </a:prstGeom>
          <a:solidFill>
            <a:srgbClr val="fefde3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3276720" y="3076560"/>
            <a:ext cx="144360" cy="144360"/>
          </a:xfrm>
          <a:prstGeom prst="ellipse">
            <a:avLst/>
          </a:prstGeom>
          <a:solidFill>
            <a:srgbClr val="fefde3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3492360" y="3076560"/>
            <a:ext cx="214560" cy="144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3780000" y="3076560"/>
            <a:ext cx="142560" cy="144360"/>
          </a:xfrm>
          <a:prstGeom prst="ellipse">
            <a:avLst/>
          </a:prstGeom>
          <a:solidFill>
            <a:srgbClr val="fefde3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3994200" y="3076560"/>
            <a:ext cx="216000" cy="144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4281480" y="3076560"/>
            <a:ext cx="142920" cy="144360"/>
          </a:xfrm>
          <a:prstGeom prst="ellipse">
            <a:avLst/>
          </a:prstGeom>
          <a:solidFill>
            <a:srgbClr val="fefde3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4497480" y="3076560"/>
            <a:ext cx="214200" cy="144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4782960" y="3076560"/>
            <a:ext cx="144720" cy="144360"/>
          </a:xfrm>
          <a:prstGeom prst="ellipse">
            <a:avLst/>
          </a:prstGeom>
          <a:solidFill>
            <a:srgbClr val="fefde3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4998960" y="3076560"/>
            <a:ext cx="216000" cy="144360"/>
          </a:xfrm>
          <a:prstGeom prst="rect">
            <a:avLst/>
          </a:prstGeom>
          <a:solidFill>
            <a:srgbClr val="cc99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5286240" y="3076560"/>
            <a:ext cx="142920" cy="144360"/>
          </a:xfrm>
          <a:prstGeom prst="ellipse">
            <a:avLst/>
          </a:prstGeom>
          <a:solidFill>
            <a:srgbClr val="fefde3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5500800" y="3076560"/>
            <a:ext cx="215640" cy="144360"/>
          </a:xfrm>
          <a:prstGeom prst="rect">
            <a:avLst/>
          </a:prstGeom>
          <a:solidFill>
            <a:srgbClr val="cc99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5788080" y="3076560"/>
            <a:ext cx="144360" cy="144360"/>
          </a:xfrm>
          <a:prstGeom prst="ellipse">
            <a:avLst/>
          </a:prstGeom>
          <a:solidFill>
            <a:srgbClr val="fefde3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6004080" y="3076560"/>
            <a:ext cx="214200" cy="144360"/>
          </a:xfrm>
          <a:prstGeom prst="rect">
            <a:avLst/>
          </a:prstGeom>
          <a:solidFill>
            <a:srgbClr val="cc99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6505560" y="3076560"/>
            <a:ext cx="216000" cy="144360"/>
          </a:xfrm>
          <a:prstGeom prst="rect">
            <a:avLst/>
          </a:prstGeom>
          <a:solidFill>
            <a:srgbClr val="fefde3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6289560" y="3076560"/>
            <a:ext cx="144720" cy="144360"/>
          </a:xfrm>
          <a:prstGeom prst="ellipse">
            <a:avLst/>
          </a:prstGeom>
          <a:solidFill>
            <a:srgbClr val="fefde3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6792840" y="3076560"/>
            <a:ext cx="142920" cy="144360"/>
          </a:xfrm>
          <a:prstGeom prst="ellipse">
            <a:avLst/>
          </a:prstGeom>
          <a:solidFill>
            <a:srgbClr val="fefde3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2846520" y="2933640"/>
            <a:ext cx="4376520" cy="71640"/>
          </a:xfrm>
          <a:prstGeom prst="rect">
            <a:avLst/>
          </a:prstGeom>
          <a:solidFill>
            <a:srgbClr val="fefde3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4352760" y="2862360"/>
            <a:ext cx="287640" cy="142920"/>
          </a:xfrm>
          <a:prstGeom prst="rect">
            <a:avLst/>
          </a:prstGeom>
          <a:solidFill>
            <a:srgbClr val="ff33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6434280" y="2862360"/>
            <a:ext cx="287280" cy="142920"/>
          </a:xfrm>
          <a:prstGeom prst="rect">
            <a:avLst/>
          </a:prstGeom>
          <a:solidFill>
            <a:srgbClr val="ff33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4568760" y="2790720"/>
            <a:ext cx="71640" cy="717480"/>
          </a:xfrm>
          <a:prstGeom prst="rect">
            <a:avLst/>
          </a:prstGeom>
          <a:solidFill>
            <a:srgbClr val="ff33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6648480" y="2790720"/>
            <a:ext cx="73080" cy="717480"/>
          </a:xfrm>
          <a:prstGeom prst="rect">
            <a:avLst/>
          </a:prstGeom>
          <a:solidFill>
            <a:srgbClr val="ff33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3205080" y="3579840"/>
            <a:ext cx="1363680" cy="71280"/>
          </a:xfrm>
          <a:prstGeom prst="rect">
            <a:avLst/>
          </a:prstGeom>
          <a:solidFill>
            <a:srgbClr val="cc00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5286240" y="3579840"/>
            <a:ext cx="1362240" cy="71280"/>
          </a:xfrm>
          <a:prstGeom prst="rect">
            <a:avLst/>
          </a:prstGeom>
          <a:solidFill>
            <a:srgbClr val="59afcd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3492360" y="4081320"/>
            <a:ext cx="717840" cy="430200"/>
          </a:xfrm>
          <a:prstGeom prst="rect">
            <a:avLst/>
          </a:prstGeom>
          <a:solidFill>
            <a:srgbClr val="cc00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5573880" y="4081320"/>
            <a:ext cx="715680" cy="430200"/>
          </a:xfrm>
          <a:prstGeom prst="rect">
            <a:avLst/>
          </a:prstGeom>
          <a:solidFill>
            <a:srgbClr val="59afcd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4281480" y="3651120"/>
            <a:ext cx="71280" cy="860400"/>
          </a:xfrm>
          <a:prstGeom prst="rect">
            <a:avLst/>
          </a:prstGeom>
          <a:solidFill>
            <a:srgbClr val="fefde3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4352760" y="3722760"/>
            <a:ext cx="71640" cy="71280"/>
          </a:xfrm>
          <a:prstGeom prst="rect">
            <a:avLst/>
          </a:prstGeom>
          <a:solidFill>
            <a:srgbClr val="fefde3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4352760" y="3867120"/>
            <a:ext cx="71640" cy="71640"/>
          </a:xfrm>
          <a:prstGeom prst="rect">
            <a:avLst/>
          </a:prstGeom>
          <a:solidFill>
            <a:srgbClr val="fefde3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4352760" y="4010040"/>
            <a:ext cx="71640" cy="71280"/>
          </a:xfrm>
          <a:prstGeom prst="rect">
            <a:avLst/>
          </a:prstGeom>
          <a:solidFill>
            <a:srgbClr val="fefde3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4352760" y="4152960"/>
            <a:ext cx="71640" cy="73080"/>
          </a:xfrm>
          <a:prstGeom prst="rect">
            <a:avLst/>
          </a:prstGeom>
          <a:solidFill>
            <a:srgbClr val="fefde3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4352760" y="4297320"/>
            <a:ext cx="71640" cy="71640"/>
          </a:xfrm>
          <a:prstGeom prst="rect">
            <a:avLst/>
          </a:prstGeom>
          <a:solidFill>
            <a:srgbClr val="fefde3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4352760" y="4440240"/>
            <a:ext cx="71640" cy="71280"/>
          </a:xfrm>
          <a:prstGeom prst="rect">
            <a:avLst/>
          </a:prstGeom>
          <a:solidFill>
            <a:srgbClr val="fefde3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6434280" y="3722760"/>
            <a:ext cx="71280" cy="71280"/>
          </a:xfrm>
          <a:prstGeom prst="rect">
            <a:avLst/>
          </a:prstGeom>
          <a:solidFill>
            <a:srgbClr val="fefde3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6434280" y="3867120"/>
            <a:ext cx="71280" cy="71640"/>
          </a:xfrm>
          <a:prstGeom prst="rect">
            <a:avLst/>
          </a:prstGeom>
          <a:solidFill>
            <a:srgbClr val="fefde3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6434280" y="4010040"/>
            <a:ext cx="71280" cy="71280"/>
          </a:xfrm>
          <a:prstGeom prst="rect">
            <a:avLst/>
          </a:prstGeom>
          <a:solidFill>
            <a:srgbClr val="fefde3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6434280" y="4152960"/>
            <a:ext cx="71280" cy="73080"/>
          </a:xfrm>
          <a:prstGeom prst="rect">
            <a:avLst/>
          </a:prstGeom>
          <a:solidFill>
            <a:srgbClr val="fefde3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6434280" y="4297320"/>
            <a:ext cx="71280" cy="71640"/>
          </a:xfrm>
          <a:prstGeom prst="rect">
            <a:avLst/>
          </a:prstGeom>
          <a:solidFill>
            <a:srgbClr val="fefde3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6434280" y="4440240"/>
            <a:ext cx="71280" cy="71280"/>
          </a:xfrm>
          <a:prstGeom prst="rect">
            <a:avLst/>
          </a:prstGeom>
          <a:solidFill>
            <a:srgbClr val="fefde3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6362640" y="3651120"/>
            <a:ext cx="71640" cy="860400"/>
          </a:xfrm>
          <a:prstGeom prst="rect">
            <a:avLst/>
          </a:prstGeom>
          <a:solidFill>
            <a:srgbClr val="fefde3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3635280" y="3651120"/>
            <a:ext cx="430200" cy="430200"/>
          </a:xfrm>
          <a:prstGeom prst="rect">
            <a:avLst/>
          </a:prstGeom>
          <a:solidFill>
            <a:srgbClr val="cc0066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5716440" y="3651120"/>
            <a:ext cx="430200" cy="430200"/>
          </a:xfrm>
          <a:prstGeom prst="rect">
            <a:avLst/>
          </a:prstGeom>
          <a:solidFill>
            <a:srgbClr val="59afc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2917800" y="4656240"/>
            <a:ext cx="432000" cy="142920"/>
          </a:xfrm>
          <a:prstGeom prst="rect">
            <a:avLst/>
          </a:prstGeom>
          <a:solidFill>
            <a:srgbClr val="cc0066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4998960" y="4656240"/>
            <a:ext cx="430200" cy="142920"/>
          </a:xfrm>
          <a:prstGeom prst="rect">
            <a:avLst/>
          </a:prstGeom>
          <a:solidFill>
            <a:srgbClr val="59afc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 flipV="1">
            <a:off x="2990880" y="4225680"/>
            <a:ext cx="0" cy="43020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2990880" y="4226040"/>
            <a:ext cx="501480" cy="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5070600" y="4226040"/>
            <a:ext cx="503280" cy="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 flipV="1">
            <a:off x="5070600" y="4225680"/>
            <a:ext cx="0" cy="43020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3276720" y="4440240"/>
            <a:ext cx="215640" cy="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5357880" y="4440240"/>
            <a:ext cx="216000" cy="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3276720" y="4440240"/>
            <a:ext cx="0" cy="21600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5357880" y="4440240"/>
            <a:ext cx="0" cy="21600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2200320" y="3292560"/>
            <a:ext cx="1076400" cy="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3492360" y="3508200"/>
            <a:ext cx="1076400" cy="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3492360" y="3435480"/>
            <a:ext cx="1076400" cy="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3349800" y="3363840"/>
            <a:ext cx="1074600" cy="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2990880" y="3363840"/>
            <a:ext cx="214200" cy="144360"/>
          </a:xfrm>
          <a:prstGeom prst="rightArrow">
            <a:avLst>
              <a:gd name="adj1" fmla="val 50000"/>
              <a:gd name="adj2" fmla="val 37095"/>
            </a:avLst>
          </a:prstGeom>
          <a:solidFill>
            <a:srgbClr val="fefde3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2665440" y="3122640"/>
            <a:ext cx="71280" cy="71280"/>
          </a:xfrm>
          <a:prstGeom prst="ellipse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4608360" y="3606840"/>
            <a:ext cx="71640" cy="71280"/>
          </a:xfrm>
          <a:prstGeom prst="ellipse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6711840" y="3627360"/>
            <a:ext cx="71640" cy="71640"/>
          </a:xfrm>
          <a:prstGeom prst="ellipse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4514760" y="3973680"/>
            <a:ext cx="71640" cy="71280"/>
          </a:xfrm>
          <a:prstGeom prst="ellipse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4471920" y="4467240"/>
            <a:ext cx="71640" cy="73080"/>
          </a:xfrm>
          <a:prstGeom prst="ellipse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6616800" y="4489560"/>
            <a:ext cx="71280" cy="71280"/>
          </a:xfrm>
          <a:prstGeom prst="ellipse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4735440" y="3395520"/>
            <a:ext cx="71640" cy="71640"/>
          </a:xfrm>
          <a:prstGeom prst="ellipse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6773760" y="3395520"/>
            <a:ext cx="71640" cy="71640"/>
          </a:xfrm>
          <a:prstGeom prst="ellipse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3567240" y="287640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4092480" y="286704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5111640" y="286704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5616720" y="286704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6099120" y="286704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4659480" y="286704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3578400" y="287640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5111640" y="2876400"/>
            <a:ext cx="98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4071960" y="2362320"/>
            <a:ext cx="0" cy="51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5648400" y="2362320"/>
            <a:ext cx="0" cy="51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3094200" y="2371680"/>
            <a:ext cx="0" cy="69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2705040" y="3203640"/>
            <a:ext cx="0" cy="259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4497480" y="4511520"/>
            <a:ext cx="0" cy="129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6648480" y="45846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4568760" y="40100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4640400" y="3651120"/>
            <a:ext cx="14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4782960" y="343548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6864480" y="343548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6792840" y="36511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>
            <a:off x="6648480" y="40100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>
            <a:off x="4640400" y="4010040"/>
            <a:ext cx="0" cy="211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4782960" y="3651120"/>
            <a:ext cx="1800" cy="244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4927680" y="3435480"/>
            <a:ext cx="0" cy="236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6792840" y="4010040"/>
            <a:ext cx="0" cy="21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6935760" y="3651120"/>
            <a:ext cx="0" cy="246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7080120" y="3435480"/>
            <a:ext cx="0" cy="236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6605640" y="3984480"/>
            <a:ext cx="71280" cy="71640"/>
          </a:xfrm>
          <a:prstGeom prst="ellipse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 flipV="1">
            <a:off x="3282840" y="4800600"/>
            <a:ext cx="0" cy="99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 flipV="1">
            <a:off x="2990880" y="4798800"/>
            <a:ext cx="0" cy="99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 flipV="1">
            <a:off x="5070600" y="4798800"/>
            <a:ext cx="0" cy="99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 flipV="1">
            <a:off x="5357880" y="4798800"/>
            <a:ext cx="0" cy="99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5" name=""/>
          <p:cNvGrpSpPr/>
          <p:nvPr/>
        </p:nvGrpSpPr>
        <p:grpSpPr>
          <a:xfrm>
            <a:off x="7385040" y="6119640"/>
            <a:ext cx="1422000" cy="409680"/>
            <a:chOff x="7385040" y="6119640"/>
            <a:chExt cx="1422000" cy="409680"/>
          </a:xfrm>
        </p:grpSpPr>
        <p:sp>
          <p:nvSpPr>
            <p:cNvPr id="2266" name="">
              <a:hlinkClick r:id="" action="ppaction://hlinkshowjump?jump=previousslide"/>
            </p:cNvPr>
            <p:cNvSpPr/>
            <p:nvPr/>
          </p:nvSpPr>
          <p:spPr>
            <a:xfrm>
              <a:off x="7385040" y="6119640"/>
              <a:ext cx="445320" cy="409680"/>
            </a:xfrm>
            <a:custGeom>
              <a:avLst/>
              <a:gdLst>
                <a:gd name="textAreaLeft" fmla="*/ 26280 w 445320"/>
                <a:gd name="textAreaRight" fmla="*/ 419040 w 445320"/>
                <a:gd name="textAreaTop" fmla="*/ 26280 h 409680"/>
                <a:gd name="textAreaBottom" fmla="*/ 383400 h 409680"/>
              </a:gdLst>
              <a:ahLst/>
              <a:rect l="textAreaLeft" t="textAreaTop" r="textAreaRight" b="textAreaBottom"/>
              <a:pathLst>
                <a:path w="23477" h="21600">
                  <a:moveTo>
                    <a:pt x="0" y="0"/>
                  </a:moveTo>
                  <a:lnTo>
                    <a:pt x="23477" y="0"/>
                  </a:lnTo>
                  <a:lnTo>
                    <a:pt x="23477" y="21600"/>
                  </a:lnTo>
                  <a:lnTo>
                    <a:pt x="0" y="21600"/>
                  </a:lnTo>
                  <a:close/>
                </a:path>
                <a:path fill="lightenLess" w="23477" h="21600">
                  <a:moveTo>
                    <a:pt x="0" y="0"/>
                  </a:moveTo>
                  <a:lnTo>
                    <a:pt x="23477" y="0"/>
                  </a:lnTo>
                  <a:lnTo>
                    <a:pt x="22077" y="1400"/>
                  </a:lnTo>
                  <a:lnTo>
                    <a:pt x="1400" y="1400"/>
                  </a:lnTo>
                  <a:close/>
                </a:path>
                <a:path fill="darken" w="23477" h="21600">
                  <a:moveTo>
                    <a:pt x="23477" y="0"/>
                  </a:moveTo>
                  <a:lnTo>
                    <a:pt x="23477" y="21600"/>
                  </a:lnTo>
                  <a:lnTo>
                    <a:pt x="22077" y="20200"/>
                  </a:lnTo>
                  <a:lnTo>
                    <a:pt x="22077" y="1400"/>
                  </a:lnTo>
                  <a:close/>
                </a:path>
                <a:path fill="darkenLess" w="23477" h="21600">
                  <a:moveTo>
                    <a:pt x="2347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2077" y="20200"/>
                  </a:lnTo>
                  <a:close/>
                </a:path>
                <a:path fill="lighten" w="2347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3477" h="21600">
                  <a:moveTo>
                    <a:pt x="4732" y="10800"/>
                  </a:moveTo>
                  <a:lnTo>
                    <a:pt x="18745" y="3794"/>
                  </a:lnTo>
                  <a:lnTo>
                    <a:pt x="18745" y="17806"/>
                  </a:lnTo>
                  <a:close/>
                </a:path>
              </a:pathLst>
            </a:custGeom>
            <a:solidFill>
              <a:srgbClr val="fefd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>
              <a:hlinkClick r:id="" action="ppaction://hlinkshowjump?jump=nextslide"/>
            </p:cNvPr>
            <p:cNvSpPr/>
            <p:nvPr/>
          </p:nvSpPr>
          <p:spPr>
            <a:xfrm>
              <a:off x="7872840" y="6119640"/>
              <a:ext cx="446400" cy="409680"/>
            </a:xfrm>
            <a:custGeom>
              <a:avLst/>
              <a:gdLst>
                <a:gd name="textAreaLeft" fmla="*/ 26280 w 446400"/>
                <a:gd name="textAreaRight" fmla="*/ 420120 w 446400"/>
                <a:gd name="textAreaTop" fmla="*/ 26280 h 409680"/>
                <a:gd name="textAreaBottom" fmla="*/ 383400 h 409680"/>
              </a:gdLst>
              <a:ahLst/>
              <a:rect l="textAreaLeft" t="textAreaTop" r="textAreaRight" b="textAreaBottom"/>
              <a:pathLst>
                <a:path w="23534" h="21600">
                  <a:moveTo>
                    <a:pt x="0" y="0"/>
                  </a:moveTo>
                  <a:lnTo>
                    <a:pt x="23534" y="0"/>
                  </a:lnTo>
                  <a:lnTo>
                    <a:pt x="23534" y="21600"/>
                  </a:lnTo>
                  <a:lnTo>
                    <a:pt x="0" y="21600"/>
                  </a:lnTo>
                  <a:close/>
                </a:path>
                <a:path fill="lightenLess" w="23534" h="21600">
                  <a:moveTo>
                    <a:pt x="0" y="0"/>
                  </a:moveTo>
                  <a:lnTo>
                    <a:pt x="23534" y="0"/>
                  </a:lnTo>
                  <a:lnTo>
                    <a:pt x="22134" y="1400"/>
                  </a:lnTo>
                  <a:lnTo>
                    <a:pt x="1400" y="1400"/>
                  </a:lnTo>
                  <a:close/>
                </a:path>
                <a:path fill="darken" w="23534" h="21600">
                  <a:moveTo>
                    <a:pt x="23534" y="0"/>
                  </a:moveTo>
                  <a:lnTo>
                    <a:pt x="23534" y="21600"/>
                  </a:lnTo>
                  <a:lnTo>
                    <a:pt x="22134" y="20200"/>
                  </a:lnTo>
                  <a:lnTo>
                    <a:pt x="22134" y="1400"/>
                  </a:lnTo>
                  <a:close/>
                </a:path>
                <a:path fill="darkenLess" w="23534" h="21600">
                  <a:moveTo>
                    <a:pt x="2353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2134" y="20200"/>
                  </a:lnTo>
                  <a:close/>
                </a:path>
                <a:path fill="lighten" w="2353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3534" h="21600">
                  <a:moveTo>
                    <a:pt x="4761" y="3794"/>
                  </a:moveTo>
                  <a:lnTo>
                    <a:pt x="18774" y="10800"/>
                  </a:lnTo>
                  <a:lnTo>
                    <a:pt x="4761" y="17806"/>
                  </a:lnTo>
                  <a:close/>
                </a:path>
              </a:pathLst>
            </a:custGeom>
            <a:solidFill>
              <a:srgbClr val="fefd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>
              <a:hlinkClick r:id="" action="ppaction://hlinkshowjump?jump=firstslide"/>
            </p:cNvPr>
            <p:cNvSpPr/>
            <p:nvPr/>
          </p:nvSpPr>
          <p:spPr>
            <a:xfrm>
              <a:off x="8361720" y="6119640"/>
              <a:ext cx="445320" cy="409680"/>
            </a:xfrm>
            <a:custGeom>
              <a:avLst/>
              <a:gdLst>
                <a:gd name="textAreaLeft" fmla="*/ 26280 w 445320"/>
                <a:gd name="textAreaRight" fmla="*/ 419040 w 445320"/>
                <a:gd name="textAreaTop" fmla="*/ 26280 h 409680"/>
                <a:gd name="textAreaBottom" fmla="*/ 383400 h 409680"/>
              </a:gdLst>
              <a:ahLst/>
              <a:rect l="textAreaLeft" t="textAreaTop" r="textAreaRight" b="textAreaBottom"/>
              <a:pathLst>
                <a:path w="23477" h="21600">
                  <a:moveTo>
                    <a:pt x="0" y="0"/>
                  </a:moveTo>
                  <a:lnTo>
                    <a:pt x="23477" y="0"/>
                  </a:lnTo>
                  <a:lnTo>
                    <a:pt x="23477" y="21600"/>
                  </a:lnTo>
                  <a:lnTo>
                    <a:pt x="0" y="21600"/>
                  </a:lnTo>
                  <a:close/>
                </a:path>
                <a:path fill="lightenLess" w="23477" h="21600">
                  <a:moveTo>
                    <a:pt x="0" y="0"/>
                  </a:moveTo>
                  <a:lnTo>
                    <a:pt x="23477" y="0"/>
                  </a:lnTo>
                  <a:lnTo>
                    <a:pt x="22077" y="1400"/>
                  </a:lnTo>
                  <a:lnTo>
                    <a:pt x="1400" y="1400"/>
                  </a:lnTo>
                  <a:close/>
                </a:path>
                <a:path fill="darken" w="23477" h="21600">
                  <a:moveTo>
                    <a:pt x="23477" y="0"/>
                  </a:moveTo>
                  <a:lnTo>
                    <a:pt x="23477" y="21600"/>
                  </a:lnTo>
                  <a:lnTo>
                    <a:pt x="22077" y="20200"/>
                  </a:lnTo>
                  <a:lnTo>
                    <a:pt x="22077" y="1400"/>
                  </a:lnTo>
                  <a:close/>
                </a:path>
                <a:path fill="darkenLess" w="23477" h="21600">
                  <a:moveTo>
                    <a:pt x="2347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2077" y="20200"/>
                  </a:lnTo>
                  <a:close/>
                </a:path>
                <a:path fill="lighten" w="2347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3477" h="21600">
                  <a:moveTo>
                    <a:pt x="8240" y="10800"/>
                  </a:moveTo>
                  <a:lnTo>
                    <a:pt x="18745" y="3794"/>
                  </a:lnTo>
                  <a:lnTo>
                    <a:pt x="18745" y="17806"/>
                  </a:lnTo>
                  <a:close/>
                </a:path>
                <a:path fill="darken" w="23477" h="21600">
                  <a:moveTo>
                    <a:pt x="4732" y="3794"/>
                  </a:moveTo>
                  <a:lnTo>
                    <a:pt x="6395" y="3794"/>
                  </a:lnTo>
                  <a:lnTo>
                    <a:pt x="6395" y="17806"/>
                  </a:lnTo>
                  <a:lnTo>
                    <a:pt x="4732" y="17806"/>
                  </a:lnTo>
                  <a:close/>
                </a:path>
              </a:pathLst>
            </a:custGeom>
            <a:solidFill>
              <a:srgbClr val="fefd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9" name=""/>
          <p:cNvSpPr/>
          <p:nvPr/>
        </p:nvSpPr>
        <p:spPr>
          <a:xfrm>
            <a:off x="2457000" y="191124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mag_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 rot="16200000">
            <a:off x="2106000" y="525672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u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3534840" y="192564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mag_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5025600" y="194004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mag_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 rot="16200000">
            <a:off x="2332440" y="5299200"/>
            <a:ext cx="109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ol_1_h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 rot="16200000">
            <a:off x="2602080" y="529056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ol_1_dol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 rot="16200000">
            <a:off x="4945320" y="520164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ol_2_dol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 rot="16200000">
            <a:off x="4632840" y="5180400"/>
            <a:ext cx="109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ol_2_h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3504600" y="5494320"/>
            <a:ext cx="98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_1_dol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5717520" y="5450040"/>
            <a:ext cx="98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_2_dol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4920480" y="3193920"/>
            <a:ext cx="71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Zar_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7074720" y="5451480"/>
            <a:ext cx="71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Zar_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3727800" y="5878440"/>
            <a:ext cx="84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Krok_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5969520" y="5894280"/>
            <a:ext cx="84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Krok_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4758840" y="5910120"/>
            <a:ext cx="99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_1_h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6927480" y="5807160"/>
            <a:ext cx="99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_2_h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"/>
          <p:cNvSpPr/>
          <p:nvPr/>
        </p:nvSpPr>
        <p:spPr>
          <a:xfrm>
            <a:off x="689040" y="1528920"/>
            <a:ext cx="7315200" cy="50227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600" spc="-1" strike="noStrike">
                <a:solidFill>
                  <a:srgbClr val="221304"/>
                </a:solidFill>
                <a:latin typeface="Times New Roman"/>
              </a:rPr>
              <a:t>Pokračovanie zadania ukladače tabúľ</a:t>
            </a:r>
            <a:endParaRPr b="0" lang="en-US" sz="1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2590920" y="3944880"/>
            <a:ext cx="5022720" cy="727200"/>
          </a:xfrm>
          <a:prstGeom prst="rect">
            <a:avLst/>
          </a:prstGeom>
          <a:solidFill>
            <a:srgbClr val="fefde3"/>
          </a:soli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3021120" y="3416400"/>
            <a:ext cx="1434960" cy="461880"/>
          </a:xfrm>
          <a:prstGeom prst="rect">
            <a:avLst/>
          </a:prstGeom>
          <a:solidFill>
            <a:srgbClr val="cbbd83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5102280" y="3416400"/>
            <a:ext cx="1434960" cy="461880"/>
          </a:xfrm>
          <a:prstGeom prst="rect">
            <a:avLst/>
          </a:prstGeom>
          <a:solidFill>
            <a:srgbClr val="cbbd83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3021120" y="4010040"/>
            <a:ext cx="144360" cy="595440"/>
          </a:xfrm>
          <a:prstGeom prst="rect">
            <a:avLst/>
          </a:prstGeom>
          <a:solidFill>
            <a:srgbClr val="ffcc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3257640" y="4010040"/>
            <a:ext cx="101520" cy="77004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3451320" y="4010040"/>
            <a:ext cx="144360" cy="595440"/>
          </a:xfrm>
          <a:prstGeom prst="rect">
            <a:avLst/>
          </a:prstGeom>
          <a:solidFill>
            <a:srgbClr val="ffcc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3882960" y="4010040"/>
            <a:ext cx="142920" cy="595440"/>
          </a:xfrm>
          <a:prstGeom prst="rect">
            <a:avLst/>
          </a:prstGeom>
          <a:solidFill>
            <a:srgbClr val="ffcc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4313160" y="4010040"/>
            <a:ext cx="142920" cy="595440"/>
          </a:xfrm>
          <a:prstGeom prst="rect">
            <a:avLst/>
          </a:prstGeom>
          <a:solidFill>
            <a:srgbClr val="ffcc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4743360" y="4010040"/>
            <a:ext cx="142920" cy="595440"/>
          </a:xfrm>
          <a:prstGeom prst="rect">
            <a:avLst/>
          </a:prstGeom>
          <a:solidFill>
            <a:srgbClr val="ffcc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5173560" y="4010040"/>
            <a:ext cx="144720" cy="595440"/>
          </a:xfrm>
          <a:prstGeom prst="rect">
            <a:avLst/>
          </a:prstGeom>
          <a:solidFill>
            <a:srgbClr val="ffcc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5603760" y="4010040"/>
            <a:ext cx="144720" cy="595440"/>
          </a:xfrm>
          <a:prstGeom prst="rect">
            <a:avLst/>
          </a:prstGeom>
          <a:solidFill>
            <a:srgbClr val="ffcc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6035760" y="4010040"/>
            <a:ext cx="142920" cy="595440"/>
          </a:xfrm>
          <a:prstGeom prst="rect">
            <a:avLst/>
          </a:prstGeom>
          <a:solidFill>
            <a:srgbClr val="ffcc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6465960" y="4010040"/>
            <a:ext cx="142920" cy="595440"/>
          </a:xfrm>
          <a:prstGeom prst="rect">
            <a:avLst/>
          </a:prstGeom>
          <a:solidFill>
            <a:srgbClr val="ffcc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7343640" y="4021200"/>
            <a:ext cx="142920" cy="593640"/>
          </a:xfrm>
          <a:prstGeom prst="rect">
            <a:avLst/>
          </a:prstGeom>
          <a:solidFill>
            <a:srgbClr val="ffcc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6896160" y="4010040"/>
            <a:ext cx="142920" cy="595440"/>
          </a:xfrm>
          <a:prstGeom prst="rect">
            <a:avLst/>
          </a:prstGeom>
          <a:solidFill>
            <a:srgbClr val="ffcc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3595680" y="2622600"/>
            <a:ext cx="214200" cy="461880"/>
          </a:xfrm>
          <a:prstGeom prst="rect">
            <a:avLst/>
          </a:prstGeom>
          <a:solidFill>
            <a:srgbClr val="59af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5748480" y="2622600"/>
            <a:ext cx="214200" cy="46188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3666960" y="3084480"/>
            <a:ext cx="71640" cy="265320"/>
          </a:xfrm>
          <a:prstGeom prst="rect">
            <a:avLst/>
          </a:prstGeom>
          <a:solidFill>
            <a:srgbClr val="ffcc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5819760" y="3084480"/>
            <a:ext cx="71280" cy="265320"/>
          </a:xfrm>
          <a:prstGeom prst="rect">
            <a:avLst/>
          </a:prstGeom>
          <a:solidFill>
            <a:srgbClr val="ffcc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3092400" y="3282840"/>
            <a:ext cx="1292400" cy="66960"/>
          </a:xfrm>
          <a:prstGeom prst="rect">
            <a:avLst/>
          </a:prstGeom>
          <a:solidFill>
            <a:srgbClr val="59af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5173560" y="3282840"/>
            <a:ext cx="1292400" cy="66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3451320" y="2225520"/>
            <a:ext cx="503280" cy="131760"/>
          </a:xfrm>
          <a:prstGeom prst="rect">
            <a:avLst/>
          </a:prstGeom>
          <a:solidFill>
            <a:srgbClr val="59af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5603760" y="2292480"/>
            <a:ext cx="503280" cy="1317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3882960" y="2357280"/>
            <a:ext cx="0" cy="33048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6035760" y="2424240"/>
            <a:ext cx="0" cy="33012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3524400" y="2357280"/>
            <a:ext cx="0" cy="59544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5676840" y="2424240"/>
            <a:ext cx="0" cy="59508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3524400" y="2952720"/>
            <a:ext cx="71280" cy="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3809880" y="2687760"/>
            <a:ext cx="73080" cy="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5962680" y="2754360"/>
            <a:ext cx="73080" cy="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5748480" y="3019320"/>
            <a:ext cx="71280" cy="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3882960" y="1828800"/>
            <a:ext cx="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3524400" y="1828800"/>
            <a:ext cx="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5676840" y="1895400"/>
            <a:ext cx="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6035760" y="1895400"/>
            <a:ext cx="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5676840" y="3019320"/>
            <a:ext cx="71640" cy="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 flipH="1" flipV="1">
            <a:off x="4454640" y="2595240"/>
            <a:ext cx="1440" cy="62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 flipV="1">
            <a:off x="6537240" y="2550600"/>
            <a:ext cx="0" cy="66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 flipV="1">
            <a:off x="4672080" y="2904840"/>
            <a:ext cx="0" cy="9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 flipH="1" flipV="1">
            <a:off x="6751800" y="3025800"/>
            <a:ext cx="1440" cy="8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3044880" y="4857840"/>
            <a:ext cx="7128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4430880" y="3191040"/>
            <a:ext cx="7128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4641840" y="3840120"/>
            <a:ext cx="7128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6512040" y="3181320"/>
            <a:ext cx="7128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6721560" y="3830760"/>
            <a:ext cx="7308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>
            <a:off x="3678120" y="4030560"/>
            <a:ext cx="100080" cy="75888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4108320" y="4021200"/>
            <a:ext cx="101880" cy="75888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5400720" y="4021200"/>
            <a:ext cx="101520" cy="7588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5821200" y="4010040"/>
            <a:ext cx="101880" cy="7603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6264360" y="4010040"/>
            <a:ext cx="100080" cy="7603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3270240" y="4726080"/>
            <a:ext cx="946080" cy="8712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5403960" y="4735440"/>
            <a:ext cx="946080" cy="874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5219640" y="4838760"/>
            <a:ext cx="716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3054240" y="5110200"/>
            <a:ext cx="73080" cy="65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5210280" y="5100480"/>
            <a:ext cx="71280" cy="65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3670200" y="4822920"/>
            <a:ext cx="85680" cy="179280"/>
          </a:xfrm>
          <a:prstGeom prst="rect">
            <a:avLst/>
          </a:prstGeom>
          <a:solidFill>
            <a:srgbClr val="ffcc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5819760" y="4803840"/>
            <a:ext cx="85680" cy="179280"/>
          </a:xfrm>
          <a:prstGeom prst="rect">
            <a:avLst/>
          </a:prstGeom>
          <a:solidFill>
            <a:srgbClr val="ffcc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3595680" y="5002200"/>
            <a:ext cx="214200" cy="26496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5748480" y="5002200"/>
            <a:ext cx="214200" cy="2649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3451320" y="5465880"/>
            <a:ext cx="503280" cy="13176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5603760" y="5465880"/>
            <a:ext cx="503280" cy="1317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 flipV="1">
            <a:off x="3524400" y="5068440"/>
            <a:ext cx="0" cy="39708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 flipV="1">
            <a:off x="5676840" y="5068440"/>
            <a:ext cx="0" cy="39708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 flipV="1">
            <a:off x="3882960" y="5200200"/>
            <a:ext cx="0" cy="26532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 flipV="1">
            <a:off x="6035760" y="5200200"/>
            <a:ext cx="0" cy="26532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3524400" y="5068800"/>
            <a:ext cx="71280" cy="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5676840" y="5068800"/>
            <a:ext cx="71640" cy="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5962680" y="5200560"/>
            <a:ext cx="73080" cy="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2878200" y="51339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5102280" y="51339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2590920" y="4870440"/>
            <a:ext cx="43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4815000" y="4870440"/>
            <a:ext cx="43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2878200" y="5133960"/>
            <a:ext cx="0" cy="119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2590920" y="4870440"/>
            <a:ext cx="0" cy="145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 flipV="1">
            <a:off x="3524400" y="5597280"/>
            <a:ext cx="0" cy="726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 flipV="1">
            <a:off x="3882960" y="5597280"/>
            <a:ext cx="0" cy="726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 flipV="1">
            <a:off x="5676840" y="5597280"/>
            <a:ext cx="0" cy="726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 flipV="1">
            <a:off x="6035760" y="5597280"/>
            <a:ext cx="0" cy="726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5102280" y="5133960"/>
            <a:ext cx="0" cy="119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4815000" y="4870440"/>
            <a:ext cx="0" cy="145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6753240" y="5133960"/>
            <a:ext cx="430200" cy="3967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 flipV="1">
            <a:off x="7112160" y="5530680"/>
            <a:ext cx="0" cy="72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 flipV="1">
            <a:off x="6824520" y="5530680"/>
            <a:ext cx="0" cy="72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6967440" y="4672080"/>
            <a:ext cx="0" cy="461880"/>
          </a:xfrm>
          <a:prstGeom prst="line">
            <a:avLst/>
          </a:prstGeom>
          <a:ln w="19080">
            <a:solidFill>
              <a:srgbClr val="96969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2733840" y="3481560"/>
            <a:ext cx="215640" cy="264960"/>
          </a:xfrm>
          <a:prstGeom prst="upDownArrow">
            <a:avLst>
              <a:gd name="adj1" fmla="val 50000"/>
              <a:gd name="adj2" fmla="val 24460"/>
            </a:avLst>
          </a:prstGeom>
          <a:solidFill>
            <a:srgbClr val="ff33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4815000" y="3481560"/>
            <a:ext cx="215640" cy="264960"/>
          </a:xfrm>
          <a:prstGeom prst="upDownArrow">
            <a:avLst>
              <a:gd name="adj1" fmla="val 50000"/>
              <a:gd name="adj2" fmla="val 24460"/>
            </a:avLst>
          </a:prstGeom>
          <a:solidFill>
            <a:srgbClr val="ff33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4384800" y="4803840"/>
            <a:ext cx="287280" cy="198360"/>
          </a:xfrm>
          <a:prstGeom prst="rightArrow">
            <a:avLst>
              <a:gd name="adj1" fmla="val 50000"/>
              <a:gd name="adj2" fmla="val 36207"/>
            </a:avLst>
          </a:prstGeom>
          <a:solidFill>
            <a:srgbClr val="ff33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>
            <a:hlinkClick r:id="" action="ppaction://hlinkshowjump?jump=previousslide"/>
          </p:cNvPr>
          <p:cNvSpPr/>
          <p:nvPr/>
        </p:nvSpPr>
        <p:spPr>
          <a:xfrm>
            <a:off x="8299440" y="4842000"/>
            <a:ext cx="469800" cy="539640"/>
          </a:xfrm>
          <a:custGeom>
            <a:avLst/>
            <a:gdLst>
              <a:gd name="textAreaLeft" fmla="*/ 30240 w 469800"/>
              <a:gd name="textAreaRight" fmla="*/ 439560 w 469800"/>
              <a:gd name="textAreaTop" fmla="*/ 30240 h 539640"/>
              <a:gd name="textAreaBottom" fmla="*/ 509400 h 539640"/>
            </a:gdLst>
            <a:ahLst/>
            <a:rect l="textAreaLeft" t="textAreaTop" r="textAreaRight" b="textAreaBottom"/>
            <a:pathLst>
              <a:path w="21600" h="24809">
                <a:moveTo>
                  <a:pt x="0" y="0"/>
                </a:moveTo>
                <a:lnTo>
                  <a:pt x="21600" y="0"/>
                </a:lnTo>
                <a:lnTo>
                  <a:pt x="21600" y="24809"/>
                </a:lnTo>
                <a:lnTo>
                  <a:pt x="0" y="24809"/>
                </a:lnTo>
                <a:close/>
              </a:path>
              <a:path fill="lightenLess" w="21600" h="248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09">
                <a:moveTo>
                  <a:pt x="21600" y="0"/>
                </a:moveTo>
                <a:lnTo>
                  <a:pt x="21600" y="24809"/>
                </a:lnTo>
                <a:lnTo>
                  <a:pt x="20200" y="23409"/>
                </a:lnTo>
                <a:lnTo>
                  <a:pt x="20200" y="1400"/>
                </a:lnTo>
                <a:close/>
              </a:path>
              <a:path fill="darkenLess" w="21600" h="24809">
                <a:moveTo>
                  <a:pt x="21600" y="24809"/>
                </a:moveTo>
                <a:lnTo>
                  <a:pt x="0" y="24809"/>
                </a:lnTo>
                <a:lnTo>
                  <a:pt x="1400" y="23409"/>
                </a:lnTo>
                <a:lnTo>
                  <a:pt x="20200" y="23409"/>
                </a:lnTo>
                <a:close/>
              </a:path>
              <a:path fill="lighten" w="21600" h="24809">
                <a:moveTo>
                  <a:pt x="0" y="248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09"/>
                </a:lnTo>
                <a:close/>
              </a:path>
              <a:path fill="darken" w="21600" h="24809">
                <a:moveTo>
                  <a:pt x="3794" y="12404"/>
                </a:moveTo>
                <a:lnTo>
                  <a:pt x="17806" y="5398"/>
                </a:lnTo>
                <a:lnTo>
                  <a:pt x="17806" y="19411"/>
                </a:lnTo>
                <a:close/>
              </a:path>
            </a:pathLst>
          </a:cu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>
            <a:hlinkClick r:id="" action="ppaction://hlinkshowjump?jump=nextslide"/>
          </p:cNvPr>
          <p:cNvSpPr/>
          <p:nvPr/>
        </p:nvSpPr>
        <p:spPr>
          <a:xfrm>
            <a:off x="8313840" y="5459400"/>
            <a:ext cx="473040" cy="509760"/>
          </a:xfrm>
          <a:custGeom>
            <a:avLst/>
            <a:gdLst>
              <a:gd name="textAreaLeft" fmla="*/ 30600 w 473040"/>
              <a:gd name="textAreaRight" fmla="*/ 442440 w 473040"/>
              <a:gd name="textAreaTop" fmla="*/ 30600 h 509760"/>
              <a:gd name="textAreaBottom" fmla="*/ 479160 h 509760"/>
            </a:gdLst>
            <a:ahLst/>
            <a:rect l="textAreaLeft" t="textAreaTop" r="textAreaRight" b="textAreaBottom"/>
            <a:pathLst>
              <a:path w="21600" h="23275">
                <a:moveTo>
                  <a:pt x="0" y="0"/>
                </a:moveTo>
                <a:lnTo>
                  <a:pt x="21600" y="0"/>
                </a:lnTo>
                <a:lnTo>
                  <a:pt x="21600" y="23275"/>
                </a:lnTo>
                <a:lnTo>
                  <a:pt x="0" y="23275"/>
                </a:lnTo>
                <a:close/>
              </a:path>
              <a:path fill="lightenLess" w="21600" h="232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75">
                <a:moveTo>
                  <a:pt x="21600" y="0"/>
                </a:moveTo>
                <a:lnTo>
                  <a:pt x="21600" y="23275"/>
                </a:lnTo>
                <a:lnTo>
                  <a:pt x="20200" y="21875"/>
                </a:lnTo>
                <a:lnTo>
                  <a:pt x="20200" y="1400"/>
                </a:lnTo>
                <a:close/>
              </a:path>
              <a:path fill="darkenLess" w="21600" h="23275">
                <a:moveTo>
                  <a:pt x="21600" y="23275"/>
                </a:moveTo>
                <a:lnTo>
                  <a:pt x="0" y="23275"/>
                </a:lnTo>
                <a:lnTo>
                  <a:pt x="1400" y="21875"/>
                </a:lnTo>
                <a:lnTo>
                  <a:pt x="20200" y="21875"/>
                </a:lnTo>
                <a:close/>
              </a:path>
              <a:path fill="lighten" w="21600" h="23275">
                <a:moveTo>
                  <a:pt x="0" y="232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75"/>
                </a:lnTo>
                <a:close/>
              </a:path>
              <a:path fill="darken" w="21600" h="23275">
                <a:moveTo>
                  <a:pt x="3794" y="4631"/>
                </a:moveTo>
                <a:lnTo>
                  <a:pt x="17806" y="11638"/>
                </a:lnTo>
                <a:lnTo>
                  <a:pt x="3794" y="18644"/>
                </a:lnTo>
                <a:close/>
              </a:path>
            </a:pathLst>
          </a:cu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>
            <a:hlinkClick r:id="" action="ppaction://hlinkshowjump?jump=firstslide"/>
          </p:cNvPr>
          <p:cNvSpPr/>
          <p:nvPr/>
        </p:nvSpPr>
        <p:spPr>
          <a:xfrm>
            <a:off x="8317080" y="6048360"/>
            <a:ext cx="485640" cy="509760"/>
          </a:xfrm>
          <a:custGeom>
            <a:avLst/>
            <a:gdLst>
              <a:gd name="textAreaLeft" fmla="*/ 31320 w 485640"/>
              <a:gd name="textAreaRight" fmla="*/ 454320 w 485640"/>
              <a:gd name="textAreaTop" fmla="*/ 31320 h 509760"/>
              <a:gd name="textAreaBottom" fmla="*/ 478440 h 509760"/>
            </a:gdLst>
            <a:ahLst/>
            <a:rect l="textAreaLeft" t="textAreaTop" r="textAreaRight" b="textAreaBottom"/>
            <a:pathLst>
              <a:path w="21600" h="22672">
                <a:moveTo>
                  <a:pt x="0" y="0"/>
                </a:moveTo>
                <a:lnTo>
                  <a:pt x="21600" y="0"/>
                </a:lnTo>
                <a:lnTo>
                  <a:pt x="21600" y="22672"/>
                </a:lnTo>
                <a:lnTo>
                  <a:pt x="0" y="22672"/>
                </a:lnTo>
                <a:close/>
              </a:path>
              <a:path fill="lightenLess" w="21600" h="226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72">
                <a:moveTo>
                  <a:pt x="21600" y="0"/>
                </a:moveTo>
                <a:lnTo>
                  <a:pt x="21600" y="22672"/>
                </a:lnTo>
                <a:lnTo>
                  <a:pt x="20200" y="21272"/>
                </a:lnTo>
                <a:lnTo>
                  <a:pt x="20200" y="1400"/>
                </a:lnTo>
                <a:close/>
              </a:path>
              <a:path fill="darkenLess" w="21600" h="22672">
                <a:moveTo>
                  <a:pt x="21600" y="22672"/>
                </a:moveTo>
                <a:lnTo>
                  <a:pt x="0" y="22672"/>
                </a:lnTo>
                <a:lnTo>
                  <a:pt x="1400" y="21272"/>
                </a:lnTo>
                <a:lnTo>
                  <a:pt x="20200" y="21272"/>
                </a:lnTo>
                <a:close/>
              </a:path>
              <a:path fill="lighten" w="21600" h="22672">
                <a:moveTo>
                  <a:pt x="0" y="226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72"/>
                </a:lnTo>
                <a:close/>
              </a:path>
              <a:path fill="darken" w="21600" h="22672">
                <a:moveTo>
                  <a:pt x="7301" y="11336"/>
                </a:moveTo>
                <a:lnTo>
                  <a:pt x="17806" y="4330"/>
                </a:lnTo>
                <a:lnTo>
                  <a:pt x="17806" y="18342"/>
                </a:lnTo>
                <a:close/>
              </a:path>
              <a:path fill="darken" w="21600" h="22672">
                <a:moveTo>
                  <a:pt x="3794" y="4330"/>
                </a:moveTo>
                <a:lnTo>
                  <a:pt x="5456" y="4330"/>
                </a:lnTo>
                <a:lnTo>
                  <a:pt x="5456" y="18342"/>
                </a:lnTo>
                <a:lnTo>
                  <a:pt x="3794" y="18342"/>
                </a:lnTo>
                <a:close/>
              </a:path>
            </a:pathLst>
          </a:cu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2457720" y="1522440"/>
            <a:ext cx="117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Zos_1_vp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3651480" y="1523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Zos_1_vz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5759640" y="15382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Zos_2_vz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4626360" y="1566720"/>
            <a:ext cx="117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Zos_2_vp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6174360" y="2289240"/>
            <a:ext cx="96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Zos_2_z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3931200" y="2274840"/>
            <a:ext cx="96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Zos_1_z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>
            <a:off x="6720120" y="2716200"/>
            <a:ext cx="97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Zos_2_v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4624560" y="2629080"/>
            <a:ext cx="97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Zos_1vy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6189480" y="6227640"/>
            <a:ext cx="80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ol_z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6941160" y="6227640"/>
            <a:ext cx="81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ol_vy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 rot="16200000">
            <a:off x="1735560" y="5726160"/>
            <a:ext cx="128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Kul_1_vpr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 rot="16200000">
            <a:off x="2132280" y="578340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Kul_1_vza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 rot="16200000">
            <a:off x="4357800" y="576756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Kul_2_vza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 rot="16200000">
            <a:off x="3989880" y="5739120"/>
            <a:ext cx="128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Kul_2_vpr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 rot="16200000">
            <a:off x="2617920" y="5694120"/>
            <a:ext cx="134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idlica_1_h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 rot="16200000">
            <a:off x="3448080" y="5728680"/>
            <a:ext cx="133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idlica_1_dol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 rot="16200000">
            <a:off x="5497560" y="5682600"/>
            <a:ext cx="133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idlica_2_dol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 rot="16200000">
            <a:off x="4799160" y="5693040"/>
            <a:ext cx="134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idlica_2_h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Hodnotenie podľa jednotlivých kritérií: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33640" y="1730520"/>
            <a:ext cx="892080" cy="47865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73320" y="1758960"/>
            <a:ext cx="6491160" cy="180036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Úplná funkčnos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Drobné chýbajúce ošetrenia technológ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Nefunkčné  vedľajšie časti rieše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130480" y="3849840"/>
            <a:ext cx="4224240" cy="3080160"/>
          </a:xfrm>
          <a:prstGeom prst="rect">
            <a:avLst/>
          </a:prstGeom>
          <a:solidFill>
            <a:srgbClr val="59af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Úplná dokumentá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Chýbajúce nepodstatné ča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Chýbajúce ča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Neúplná dokumentá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Výpis progra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435000" y="3870360"/>
            <a:ext cx="2423880" cy="2226960"/>
          </a:xfrm>
          <a:prstGeom prst="rect">
            <a:avLst/>
          </a:prstGeom>
          <a:solidFill>
            <a:srgbClr val="cbbd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Podrobn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Zrozumiteľn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S chyba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Bez komentá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Výpis prigra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"/>
          <p:cNvSpPr/>
          <p:nvPr/>
        </p:nvSpPr>
        <p:spPr>
          <a:xfrm>
            <a:off x="1295280" y="1676520"/>
            <a:ext cx="7086600" cy="48006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Z</a:t>
            </a:r>
            <a:r>
              <a:rPr b="1" lang="sk-SK" sz="4400" spc="-1" strike="noStrike">
                <a:solidFill>
                  <a:srgbClr val="221304"/>
                </a:solidFill>
                <a:latin typeface="Times New Roman"/>
              </a:rPr>
              <a:t>adanie </a:t>
            </a: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19</a:t>
            </a:r>
            <a:r>
              <a:rPr b="0" i="1" lang="en-US" sz="4400" spc="-1" strike="noStrike">
                <a:solidFill>
                  <a:srgbClr val="221304"/>
                </a:solidFill>
                <a:latin typeface="Times New Roman"/>
              </a:rPr>
              <a:t> :</a:t>
            </a:r>
            <a:r>
              <a:rPr b="1" i="1" lang="sk-SK" sz="4400" spc="-1" strike="noStrike">
                <a:solidFill>
                  <a:srgbClr val="221304"/>
                </a:solidFill>
                <a:latin typeface="Times New Roman"/>
              </a:rPr>
              <a:t>Umyvárka au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2127240" y="2259000"/>
            <a:ext cx="4826160" cy="862200"/>
          </a:xfrm>
          <a:prstGeom prst="rect">
            <a:avLst/>
          </a:prstGeom>
          <a:solidFill>
            <a:srgbClr val="fefde3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2136600" y="3121200"/>
            <a:ext cx="644760" cy="2582640"/>
          </a:xfrm>
          <a:prstGeom prst="rect">
            <a:avLst/>
          </a:prstGeom>
          <a:solidFill>
            <a:srgbClr val="fefde3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6297480" y="3121200"/>
            <a:ext cx="655920" cy="2582640"/>
          </a:xfrm>
          <a:prstGeom prst="rect">
            <a:avLst/>
          </a:prstGeom>
          <a:solidFill>
            <a:srgbClr val="fefde3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2781360" y="5632560"/>
            <a:ext cx="73080" cy="142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6226200" y="5632560"/>
            <a:ext cx="71280" cy="142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>
            <a:off x="3284640" y="1828800"/>
            <a:ext cx="860400" cy="860400"/>
          </a:xfrm>
          <a:prstGeom prst="ellipse">
            <a:avLst/>
          </a:prstGeom>
          <a:solidFill>
            <a:srgbClr val="fefde3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4933800" y="1828800"/>
            <a:ext cx="862200" cy="860400"/>
          </a:xfrm>
          <a:prstGeom prst="ellipse">
            <a:avLst/>
          </a:prstGeom>
          <a:solidFill>
            <a:srgbClr val="fefde3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2854440" y="3622680"/>
            <a:ext cx="573120" cy="1865160"/>
          </a:xfrm>
          <a:prstGeom prst="rect">
            <a:avLst/>
          </a:prstGeom>
          <a:solidFill>
            <a:srgbClr val="6600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5651640" y="3622680"/>
            <a:ext cx="574560" cy="1865160"/>
          </a:xfrm>
          <a:prstGeom prst="rect">
            <a:avLst/>
          </a:prstGeom>
          <a:solidFill>
            <a:srgbClr val="ffcc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3498840" y="3765600"/>
            <a:ext cx="2081160" cy="574560"/>
          </a:xfrm>
          <a:prstGeom prst="rect">
            <a:avLst/>
          </a:prstGeom>
          <a:solidFill>
            <a:srgbClr val="3694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2638440" y="4052880"/>
            <a:ext cx="37306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>
            <a:off x="2567160" y="3981600"/>
            <a:ext cx="142560" cy="142560"/>
          </a:xfrm>
          <a:prstGeom prst="rect">
            <a:avLst/>
          </a:prstGeom>
          <a:solidFill>
            <a:srgbClr val="3694b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>
            <a:off x="6369120" y="3981600"/>
            <a:ext cx="144360" cy="142560"/>
          </a:xfrm>
          <a:prstGeom prst="rect">
            <a:avLst/>
          </a:prstGeom>
          <a:solidFill>
            <a:srgbClr val="3694b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2413080" y="2871720"/>
            <a:ext cx="216000" cy="214560"/>
          </a:xfrm>
          <a:prstGeom prst="ellipse">
            <a:avLst/>
          </a:prstGeom>
          <a:solidFill>
            <a:srgbClr val="59afc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6442200" y="2871720"/>
            <a:ext cx="214200" cy="214560"/>
          </a:xfrm>
          <a:prstGeom prst="ellipse">
            <a:avLst/>
          </a:prstGeom>
          <a:solidFill>
            <a:srgbClr val="59afc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6456240" y="5373720"/>
            <a:ext cx="214560" cy="214200"/>
          </a:xfrm>
          <a:prstGeom prst="ellipse">
            <a:avLst/>
          </a:prstGeom>
          <a:solidFill>
            <a:srgbClr val="59afc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2422440" y="5345280"/>
            <a:ext cx="216000" cy="214200"/>
          </a:xfrm>
          <a:prstGeom prst="ellipse">
            <a:avLst/>
          </a:prstGeom>
          <a:solidFill>
            <a:srgbClr val="59afc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2567160" y="2976480"/>
            <a:ext cx="401796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2629080" y="2975040"/>
            <a:ext cx="0" cy="2523960"/>
          </a:xfrm>
          <a:prstGeom prst="line">
            <a:avLst/>
          </a:prstGeom>
          <a:ln cap="rnd" w="28440">
            <a:solidFill>
              <a:srgbClr val="3694b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2400480" y="2975040"/>
            <a:ext cx="0" cy="2523960"/>
          </a:xfrm>
          <a:prstGeom prst="line">
            <a:avLst/>
          </a:prstGeom>
          <a:ln cap="rnd" w="28440">
            <a:solidFill>
              <a:srgbClr val="3694b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6438960" y="3032280"/>
            <a:ext cx="0" cy="2523960"/>
          </a:xfrm>
          <a:prstGeom prst="line">
            <a:avLst/>
          </a:prstGeom>
          <a:ln cap="rnd" w="28440">
            <a:solidFill>
              <a:srgbClr val="3694b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6657840" y="3022560"/>
            <a:ext cx="0" cy="2524320"/>
          </a:xfrm>
          <a:prstGeom prst="line">
            <a:avLst/>
          </a:prstGeom>
          <a:ln cap="rnd" w="28440">
            <a:solidFill>
              <a:srgbClr val="3694b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3476520" y="2003400"/>
            <a:ext cx="476280" cy="476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5124600" y="2013120"/>
            <a:ext cx="476280" cy="475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2467080" y="3979800"/>
            <a:ext cx="295200" cy="181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2063880" y="2905200"/>
            <a:ext cx="295200" cy="181080"/>
          </a:xfrm>
          <a:prstGeom prst="rect">
            <a:avLst/>
          </a:prstGeom>
          <a:solidFill>
            <a:srgbClr val="3694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2009880" y="5518080"/>
            <a:ext cx="295200" cy="1810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2352600" y="5622840"/>
            <a:ext cx="73080" cy="142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6572160" y="5632560"/>
            <a:ext cx="73080" cy="142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 flipV="1">
            <a:off x="3152880" y="2822040"/>
            <a:ext cx="0" cy="26766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 flipV="1">
            <a:off x="5943600" y="2784600"/>
            <a:ext cx="0" cy="26762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5810400" y="2736720"/>
            <a:ext cx="228600" cy="114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3000240" y="2746440"/>
            <a:ext cx="228600" cy="114120"/>
          </a:xfrm>
          <a:prstGeom prst="rect">
            <a:avLst/>
          </a:prstGeom>
          <a:solidFill>
            <a:srgbClr val="6600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2733840" y="2803680"/>
            <a:ext cx="366696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4533840" y="2746440"/>
            <a:ext cx="90720" cy="90360"/>
          </a:xfrm>
          <a:prstGeom prst="rect">
            <a:avLst/>
          </a:prstGeom>
          <a:solidFill>
            <a:srgbClr val="fefde3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4219560" y="2755800"/>
            <a:ext cx="228600" cy="11448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4695840" y="2755800"/>
            <a:ext cx="228600" cy="114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4238640" y="2422440"/>
            <a:ext cx="171360" cy="25740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>
            <a:off x="4705200" y="2413080"/>
            <a:ext cx="171720" cy="2570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5819760" y="2413080"/>
            <a:ext cx="171360" cy="257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3038400" y="2441520"/>
            <a:ext cx="171360" cy="257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4314960" y="2679840"/>
            <a:ext cx="0" cy="85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4781520" y="2670120"/>
            <a:ext cx="0" cy="85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>
            <a:off x="5905440" y="2670120"/>
            <a:ext cx="0" cy="85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>
            <a:off x="3143160" y="2670120"/>
            <a:ext cx="0" cy="85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3505320" y="3117960"/>
            <a:ext cx="2209680" cy="504720"/>
          </a:xfrm>
          <a:custGeom>
            <a:avLst/>
            <a:gdLst>
              <a:gd name="textAreaLeft" fmla="*/ 295200 w 2209680"/>
              <a:gd name="textAreaRight" fmla="*/ 1914480 w 2209680"/>
              <a:gd name="textAreaTop" fmla="*/ 67320 h 504720"/>
              <a:gd name="textAreaBottom" fmla="*/ 4374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552" y="21600"/>
                </a:lnTo>
                <a:lnTo>
                  <a:pt x="2048" y="21600"/>
                </a:lnTo>
                <a:close/>
              </a:path>
            </a:pathLst>
          </a:custGeom>
          <a:solidFill>
            <a:srgbClr val="fefde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3643200" y="3406680"/>
            <a:ext cx="19368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3571920" y="3263760"/>
            <a:ext cx="2079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3714840" y="3551400"/>
            <a:ext cx="17938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3571920" y="3192480"/>
            <a:ext cx="2079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3571920" y="3335400"/>
            <a:ext cx="2079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3643200" y="3479760"/>
            <a:ext cx="19368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3068640" y="3335400"/>
            <a:ext cx="144360" cy="216000"/>
          </a:xfrm>
          <a:custGeom>
            <a:avLst/>
            <a:gdLst>
              <a:gd name="textAreaLeft" fmla="*/ 19080 w 144360"/>
              <a:gd name="textAreaRight" fmla="*/ 125280 w 144360"/>
              <a:gd name="textAreaTop" fmla="*/ 37800 h 216000"/>
              <a:gd name="textAreaBottom" fmla="*/ 156600 h 2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 flipH="1">
            <a:off x="5866560" y="3335400"/>
            <a:ext cx="142920" cy="216000"/>
          </a:xfrm>
          <a:custGeom>
            <a:avLst/>
            <a:gdLst>
              <a:gd name="textAreaLeft" fmla="*/ 19080 w 142920"/>
              <a:gd name="textAreaRight" fmla="*/ 123840 w 142920"/>
              <a:gd name="textAreaTop" fmla="*/ 37800 h 216000"/>
              <a:gd name="textAreaBottom" fmla="*/ 156600 h 2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>
            <a:off x="3714840" y="3981600"/>
            <a:ext cx="142920" cy="142560"/>
          </a:xfrm>
          <a:custGeom>
            <a:avLst/>
            <a:gdLst>
              <a:gd name="textAreaLeft" fmla="*/ 24840 w 142920"/>
              <a:gd name="textAreaRight" fmla="*/ 103680 w 142920"/>
              <a:gd name="textAreaTop" fmla="*/ 19080 h 142560"/>
              <a:gd name="textAreaBottom" fmla="*/ 123480 h 142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6727680" y="3838680"/>
            <a:ext cx="144720" cy="214200"/>
          </a:xfrm>
          <a:prstGeom prst="upDownArrow">
            <a:avLst>
              <a:gd name="adj1" fmla="val 50000"/>
              <a:gd name="adj2" fmla="val 29465"/>
            </a:avLst>
          </a:prstGeom>
          <a:solidFill>
            <a:srgbClr val="3694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5221440" y="2617920"/>
            <a:ext cx="215640" cy="144360"/>
          </a:xfrm>
          <a:prstGeom prst="leftRightArrow">
            <a:avLst>
              <a:gd name="adj1" fmla="val 50000"/>
              <a:gd name="adj2" fmla="val 2973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3571920" y="2617920"/>
            <a:ext cx="214200" cy="144360"/>
          </a:xfrm>
          <a:prstGeom prst="leftRightArrow">
            <a:avLst>
              <a:gd name="adj1" fmla="val 50000"/>
              <a:gd name="adj2" fmla="val 29538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1914480" y="5794200"/>
            <a:ext cx="53341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1905120" y="5794200"/>
            <a:ext cx="5343480" cy="190800"/>
          </a:xfrm>
          <a:prstGeom prst="rect">
            <a:avLst/>
          </a:pr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>
            <a:hlinkClick r:id="" action="ppaction://hlinkshowjump?jump=previousslide"/>
          </p:cNvPr>
          <p:cNvSpPr/>
          <p:nvPr/>
        </p:nvSpPr>
        <p:spPr>
          <a:xfrm>
            <a:off x="6924600" y="6019920"/>
            <a:ext cx="565200" cy="585720"/>
          </a:xfrm>
          <a:custGeom>
            <a:avLst/>
            <a:gdLst>
              <a:gd name="textAreaLeft" fmla="*/ 36360 w 565200"/>
              <a:gd name="textAreaRight" fmla="*/ 528840 w 565200"/>
              <a:gd name="textAreaTop" fmla="*/ 36360 h 585720"/>
              <a:gd name="textAreaBottom" fmla="*/ 549360 h 585720"/>
            </a:gdLst>
            <a:ahLst/>
            <a:rect l="textAreaLeft" t="textAreaTop" r="textAreaRight" b="textAreaBottom"/>
            <a:pathLst>
              <a:path w="21600" h="22384">
                <a:moveTo>
                  <a:pt x="0" y="0"/>
                </a:moveTo>
                <a:lnTo>
                  <a:pt x="21600" y="0"/>
                </a:lnTo>
                <a:lnTo>
                  <a:pt x="21600" y="22384"/>
                </a:lnTo>
                <a:lnTo>
                  <a:pt x="0" y="22384"/>
                </a:lnTo>
                <a:close/>
              </a:path>
              <a:path fill="lightenLess" w="21600" h="2238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84">
                <a:moveTo>
                  <a:pt x="21600" y="0"/>
                </a:moveTo>
                <a:lnTo>
                  <a:pt x="21600" y="22384"/>
                </a:lnTo>
                <a:lnTo>
                  <a:pt x="20200" y="20984"/>
                </a:lnTo>
                <a:lnTo>
                  <a:pt x="20200" y="1400"/>
                </a:lnTo>
                <a:close/>
              </a:path>
              <a:path fill="darkenLess" w="21600" h="22384">
                <a:moveTo>
                  <a:pt x="21600" y="22384"/>
                </a:moveTo>
                <a:lnTo>
                  <a:pt x="0" y="22384"/>
                </a:lnTo>
                <a:lnTo>
                  <a:pt x="1400" y="20984"/>
                </a:lnTo>
                <a:lnTo>
                  <a:pt x="20200" y="20984"/>
                </a:lnTo>
                <a:close/>
              </a:path>
              <a:path fill="lighten" w="21600" h="22384">
                <a:moveTo>
                  <a:pt x="0" y="2238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84"/>
                </a:lnTo>
                <a:close/>
              </a:path>
              <a:path fill="darken" w="21600" h="22384">
                <a:moveTo>
                  <a:pt x="3794" y="11192"/>
                </a:moveTo>
                <a:lnTo>
                  <a:pt x="17806" y="4185"/>
                </a:lnTo>
                <a:lnTo>
                  <a:pt x="17806" y="18198"/>
                </a:lnTo>
                <a:close/>
              </a:path>
            </a:pathLst>
          </a:cu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>
            <a:hlinkClick r:id="" action="ppaction://hlinkshowjump?jump=nextslide"/>
          </p:cNvPr>
          <p:cNvSpPr/>
          <p:nvPr/>
        </p:nvSpPr>
        <p:spPr>
          <a:xfrm>
            <a:off x="7543800" y="6019920"/>
            <a:ext cx="566640" cy="585720"/>
          </a:xfrm>
          <a:custGeom>
            <a:avLst/>
            <a:gdLst>
              <a:gd name="textAreaLeft" fmla="*/ 36720 w 566640"/>
              <a:gd name="textAreaRight" fmla="*/ 529920 w 566640"/>
              <a:gd name="textAreaTop" fmla="*/ 36720 h 585720"/>
              <a:gd name="textAreaBottom" fmla="*/ 549000 h 585720"/>
            </a:gdLst>
            <a:ahLst/>
            <a:rect l="textAreaLeft" t="textAreaTop" r="textAreaRight" b="textAreaBottom"/>
            <a:pathLst>
              <a:path w="21600" h="22327">
                <a:moveTo>
                  <a:pt x="0" y="0"/>
                </a:moveTo>
                <a:lnTo>
                  <a:pt x="21600" y="0"/>
                </a:lnTo>
                <a:lnTo>
                  <a:pt x="21600" y="22327"/>
                </a:lnTo>
                <a:lnTo>
                  <a:pt x="0" y="22327"/>
                </a:lnTo>
                <a:close/>
              </a:path>
              <a:path fill="lightenLess" w="21600" h="223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27">
                <a:moveTo>
                  <a:pt x="21600" y="0"/>
                </a:moveTo>
                <a:lnTo>
                  <a:pt x="21600" y="22327"/>
                </a:lnTo>
                <a:lnTo>
                  <a:pt x="20200" y="20927"/>
                </a:lnTo>
                <a:lnTo>
                  <a:pt x="20200" y="1400"/>
                </a:lnTo>
                <a:close/>
              </a:path>
              <a:path fill="darkenLess" w="21600" h="22327">
                <a:moveTo>
                  <a:pt x="21600" y="22327"/>
                </a:moveTo>
                <a:lnTo>
                  <a:pt x="0" y="22327"/>
                </a:lnTo>
                <a:lnTo>
                  <a:pt x="1400" y="20927"/>
                </a:lnTo>
                <a:lnTo>
                  <a:pt x="20200" y="20927"/>
                </a:lnTo>
                <a:close/>
              </a:path>
              <a:path fill="lighten" w="21600" h="22327">
                <a:moveTo>
                  <a:pt x="0" y="223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27"/>
                </a:lnTo>
                <a:close/>
              </a:path>
              <a:path fill="darken" w="21600" h="22327">
                <a:moveTo>
                  <a:pt x="3794" y="4157"/>
                </a:moveTo>
                <a:lnTo>
                  <a:pt x="17806" y="11163"/>
                </a:lnTo>
                <a:lnTo>
                  <a:pt x="3794" y="18170"/>
                </a:lnTo>
                <a:close/>
              </a:path>
            </a:pathLst>
          </a:cu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>
            <a:hlinkClick r:id="" action="ppaction://hlinkshowjump?jump=firstslide"/>
          </p:cNvPr>
          <p:cNvSpPr/>
          <p:nvPr/>
        </p:nvSpPr>
        <p:spPr>
          <a:xfrm>
            <a:off x="8164440" y="6019920"/>
            <a:ext cx="565200" cy="585720"/>
          </a:xfrm>
          <a:custGeom>
            <a:avLst/>
            <a:gdLst>
              <a:gd name="textAreaLeft" fmla="*/ 36360 w 565200"/>
              <a:gd name="textAreaRight" fmla="*/ 528840 w 565200"/>
              <a:gd name="textAreaTop" fmla="*/ 36360 h 585720"/>
              <a:gd name="textAreaBottom" fmla="*/ 549360 h 585720"/>
            </a:gdLst>
            <a:ahLst/>
            <a:rect l="textAreaLeft" t="textAreaTop" r="textAreaRight" b="textAreaBottom"/>
            <a:pathLst>
              <a:path w="21600" h="22384">
                <a:moveTo>
                  <a:pt x="0" y="0"/>
                </a:moveTo>
                <a:lnTo>
                  <a:pt x="21600" y="0"/>
                </a:lnTo>
                <a:lnTo>
                  <a:pt x="21600" y="22384"/>
                </a:lnTo>
                <a:lnTo>
                  <a:pt x="0" y="22384"/>
                </a:lnTo>
                <a:close/>
              </a:path>
              <a:path fill="lightenLess" w="21600" h="2238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84">
                <a:moveTo>
                  <a:pt x="21600" y="0"/>
                </a:moveTo>
                <a:lnTo>
                  <a:pt x="21600" y="22384"/>
                </a:lnTo>
                <a:lnTo>
                  <a:pt x="20200" y="20984"/>
                </a:lnTo>
                <a:lnTo>
                  <a:pt x="20200" y="1400"/>
                </a:lnTo>
                <a:close/>
              </a:path>
              <a:path fill="darkenLess" w="21600" h="22384">
                <a:moveTo>
                  <a:pt x="21600" y="22384"/>
                </a:moveTo>
                <a:lnTo>
                  <a:pt x="0" y="22384"/>
                </a:lnTo>
                <a:lnTo>
                  <a:pt x="1400" y="20984"/>
                </a:lnTo>
                <a:lnTo>
                  <a:pt x="20200" y="20984"/>
                </a:lnTo>
                <a:close/>
              </a:path>
              <a:path fill="lighten" w="21600" h="22384">
                <a:moveTo>
                  <a:pt x="0" y="2238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84"/>
                </a:lnTo>
                <a:close/>
              </a:path>
              <a:path fill="darken" w="21600" h="22384">
                <a:moveTo>
                  <a:pt x="7301" y="11192"/>
                </a:moveTo>
                <a:lnTo>
                  <a:pt x="17806" y="4185"/>
                </a:lnTo>
                <a:lnTo>
                  <a:pt x="17806" y="18198"/>
                </a:lnTo>
                <a:close/>
              </a:path>
              <a:path fill="darken" w="21600" h="22384">
                <a:moveTo>
                  <a:pt x="3794" y="4185"/>
                </a:moveTo>
                <a:lnTo>
                  <a:pt x="5456" y="4185"/>
                </a:lnTo>
                <a:lnTo>
                  <a:pt x="5456" y="18198"/>
                </a:lnTo>
                <a:lnTo>
                  <a:pt x="3794" y="18198"/>
                </a:lnTo>
                <a:close/>
              </a:path>
            </a:pathLst>
          </a:cu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1680840" y="257328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3463920" y="208584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5086080" y="208584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1650960" y="516888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2549520" y="232236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6000480" y="232236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4113000" y="208584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4483080" y="208584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2330280" y="367992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600" spc="-1" strike="noStrike">
                <a:solidFill>
                  <a:srgbClr val="221304"/>
                </a:solidFill>
                <a:latin typeface="Times New Roman"/>
              </a:rPr>
              <a:t>p</a:t>
            </a:r>
            <a:r>
              <a:rPr b="1" i="1" lang="en-US" sz="1600" spc="-1" strike="noStrike">
                <a:solidFill>
                  <a:srgbClr val="221304"/>
                </a:solidFill>
                <a:latin typeface="Times New Roman"/>
              </a:rPr>
              <a:t>okra</a:t>
            </a:r>
            <a:r>
              <a:rPr b="1" i="1" lang="sk-SK" sz="1600" spc="-1" strike="noStrike">
                <a:solidFill>
                  <a:srgbClr val="221304"/>
                </a:solidFill>
                <a:latin typeface="Times New Roman"/>
              </a:rPr>
              <a:t>čovanie zadania</a:t>
            </a:r>
            <a:endParaRPr b="0" lang="en-US" sz="16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0" name=""/>
          <p:cNvSpPr/>
          <p:nvPr/>
        </p:nvSpPr>
        <p:spPr>
          <a:xfrm>
            <a:off x="4897440" y="1193760"/>
            <a:ext cx="3429000" cy="267984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5087880" y="1563840"/>
            <a:ext cx="2638440" cy="35388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1192320" y="3981600"/>
            <a:ext cx="3657600" cy="25272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1254240" y="4470480"/>
            <a:ext cx="2462040" cy="35388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1193760" y="1193760"/>
            <a:ext cx="3657600" cy="26956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600" spc="-1" strike="noStrike">
                <a:solidFill>
                  <a:srgbClr val="221304"/>
                </a:solidFill>
                <a:latin typeface="Times New Roman"/>
              </a:rPr>
              <a:t>Pokračovanie zadania umyvárka aut</a:t>
            </a:r>
            <a:endParaRPr b="0" lang="en-US" sz="1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2125800" y="3197160"/>
            <a:ext cx="1542960" cy="24768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1843200" y="1946160"/>
            <a:ext cx="71280" cy="71640"/>
          </a:xfrm>
          <a:prstGeom prst="ellipse">
            <a:avLst/>
          </a:prstGeom>
          <a:solidFill>
            <a:srgbClr val="fefde3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3909960" y="1936800"/>
            <a:ext cx="71640" cy="71280"/>
          </a:xfrm>
          <a:prstGeom prst="ellipse">
            <a:avLst/>
          </a:prstGeom>
          <a:solidFill>
            <a:srgbClr val="fefde3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 flipH="1">
            <a:off x="3944880" y="1892160"/>
            <a:ext cx="14400" cy="17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0" name=""/>
          <p:cNvGrpSpPr/>
          <p:nvPr/>
        </p:nvGrpSpPr>
        <p:grpSpPr>
          <a:xfrm>
            <a:off x="1373040" y="1990800"/>
            <a:ext cx="704880" cy="1654200"/>
            <a:chOff x="1373040" y="1990800"/>
            <a:chExt cx="704880" cy="1654200"/>
          </a:xfrm>
        </p:grpSpPr>
        <p:sp>
          <p:nvSpPr>
            <p:cNvPr id="2481" name=""/>
            <p:cNvSpPr/>
            <p:nvPr/>
          </p:nvSpPr>
          <p:spPr>
            <a:xfrm>
              <a:off x="1887480" y="1998000"/>
              <a:ext cx="0" cy="162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 flipH="1">
              <a:off x="1649520" y="1990800"/>
              <a:ext cx="304560" cy="163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 flipH="1">
              <a:off x="1373040" y="1990800"/>
              <a:ext cx="657360" cy="165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1801800" y="1990800"/>
              <a:ext cx="276120" cy="163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5" name=""/>
          <p:cNvGrpSpPr/>
          <p:nvPr/>
        </p:nvGrpSpPr>
        <p:grpSpPr>
          <a:xfrm>
            <a:off x="3744720" y="1930320"/>
            <a:ext cx="723960" cy="1638360"/>
            <a:chOff x="3744720" y="1930320"/>
            <a:chExt cx="723960" cy="1638360"/>
          </a:xfrm>
        </p:grpSpPr>
        <p:sp>
          <p:nvSpPr>
            <p:cNvPr id="2486" name=""/>
            <p:cNvSpPr/>
            <p:nvPr/>
          </p:nvSpPr>
          <p:spPr>
            <a:xfrm>
              <a:off x="3878280" y="1930320"/>
              <a:ext cx="285840" cy="163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3782880" y="1945080"/>
              <a:ext cx="685800" cy="159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 flipH="1">
              <a:off x="3744720" y="1930320"/>
              <a:ext cx="285480" cy="162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9" name=""/>
          <p:cNvSpPr/>
          <p:nvPr/>
        </p:nvSpPr>
        <p:spPr>
          <a:xfrm>
            <a:off x="2220840" y="3378240"/>
            <a:ext cx="181080" cy="314280"/>
          </a:xfrm>
          <a:custGeom>
            <a:avLst/>
            <a:gdLst>
              <a:gd name="textAreaLeft" fmla="*/ 8640 w 181080"/>
              <a:gd name="textAreaRight" fmla="*/ 172440 w 181080"/>
              <a:gd name="textAreaTop" fmla="*/ 8640 h 314280"/>
              <a:gd name="textAreaBottom" fmla="*/ 305640 h 314280"/>
            </a:gdLst>
            <a:ahLst/>
            <a:rect l="textAreaLeft" t="textAreaTop" r="textAreaRight" b="textAreaBottom"/>
            <a:pathLst>
              <a:path w="21600" h="37457">
                <a:moveTo>
                  <a:pt x="3600" y="0"/>
                </a:moveTo>
                <a:arcTo wR="3600" hR="3600" stAng="16200000" swAng="-5400000"/>
                <a:lnTo>
                  <a:pt x="0" y="33857"/>
                </a:lnTo>
                <a:arcTo wR="3600" hR="3600" stAng="10800000" swAng="-5400000"/>
                <a:lnTo>
                  <a:pt x="18000" y="374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3382920" y="3397320"/>
            <a:ext cx="181080" cy="314280"/>
          </a:xfrm>
          <a:custGeom>
            <a:avLst/>
            <a:gdLst>
              <a:gd name="textAreaLeft" fmla="*/ 8640 w 181080"/>
              <a:gd name="textAreaRight" fmla="*/ 172440 w 181080"/>
              <a:gd name="textAreaTop" fmla="*/ 8640 h 314280"/>
              <a:gd name="textAreaBottom" fmla="*/ 305640 h 314280"/>
            </a:gdLst>
            <a:ahLst/>
            <a:rect l="textAreaLeft" t="textAreaTop" r="textAreaRight" b="textAreaBottom"/>
            <a:pathLst>
              <a:path w="21600" h="37457">
                <a:moveTo>
                  <a:pt x="3600" y="0"/>
                </a:moveTo>
                <a:arcTo wR="3600" hR="3600" stAng="16200000" swAng="-5400000"/>
                <a:lnTo>
                  <a:pt x="0" y="33857"/>
                </a:lnTo>
                <a:arcTo wR="3600" hR="3600" stAng="10800000" swAng="-5400000"/>
                <a:lnTo>
                  <a:pt x="18000" y="374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2220840" y="2949480"/>
            <a:ext cx="1371600" cy="371520"/>
          </a:xfrm>
          <a:prstGeom prst="roundRect">
            <a:avLst>
              <a:gd name="adj" fmla="val 42579"/>
            </a:avLst>
          </a:pr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2220840" y="3244680"/>
            <a:ext cx="228600" cy="10512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3268800" y="3244680"/>
            <a:ext cx="228600" cy="10512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 flipV="1">
            <a:off x="2382840" y="2662200"/>
            <a:ext cx="1047600" cy="333360"/>
          </a:xfrm>
          <a:custGeom>
            <a:avLst/>
            <a:gdLst>
              <a:gd name="textAreaLeft" fmla="*/ 124200 w 1047600"/>
              <a:gd name="textAreaRight" fmla="*/ 923400 w 1047600"/>
              <a:gd name="textAreaTop" fmla="*/ 39600 h 333360"/>
              <a:gd name="textAreaBottom" fmla="*/ 293760 h 3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134" y="21600"/>
                </a:lnTo>
                <a:lnTo>
                  <a:pt x="1466" y="21600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2449440" y="2558880"/>
            <a:ext cx="924120" cy="133560"/>
          </a:xfrm>
          <a:prstGeom prst="roundRect">
            <a:avLst>
              <a:gd name="adj" fmla="val 50000"/>
            </a:avLst>
          </a:pr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3316320" y="2778120"/>
            <a:ext cx="228600" cy="10476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2287440" y="2759040"/>
            <a:ext cx="228600" cy="10476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2343240" y="3648240"/>
            <a:ext cx="1266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9" name=""/>
          <p:cNvGrpSpPr/>
          <p:nvPr/>
        </p:nvGrpSpPr>
        <p:grpSpPr>
          <a:xfrm>
            <a:off x="5181120" y="2438280"/>
            <a:ext cx="2951280" cy="1393560"/>
            <a:chOff x="5181120" y="2438280"/>
            <a:chExt cx="2951280" cy="1393560"/>
          </a:xfrm>
        </p:grpSpPr>
        <p:sp>
          <p:nvSpPr>
            <p:cNvPr id="2500" name=""/>
            <p:cNvSpPr/>
            <p:nvPr/>
          </p:nvSpPr>
          <p:spPr>
            <a:xfrm>
              <a:off x="5655600" y="3355560"/>
              <a:ext cx="390600" cy="228600"/>
            </a:xfrm>
            <a:prstGeom prst="parallelogram">
              <a:avLst>
                <a:gd name="adj" fmla="val 42717"/>
              </a:avLst>
            </a:prstGeom>
            <a:solidFill>
              <a:srgbClr val="fef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6532200" y="3203280"/>
              <a:ext cx="90720" cy="90720"/>
            </a:xfrm>
            <a:prstGeom prst="roundRect">
              <a:avLst>
                <a:gd name="adj" fmla="val 16667"/>
              </a:avLst>
            </a:prstGeom>
            <a:solidFill>
              <a:srgbClr val="fef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 flipV="1" rot="5400000">
              <a:off x="6275160" y="3364920"/>
              <a:ext cx="295200" cy="266400"/>
            </a:xfrm>
            <a:prstGeom prst="rtTriangle">
              <a:avLst/>
            </a:prstGeom>
            <a:solidFill>
              <a:srgbClr val="fef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03" name=""/>
            <p:cNvGrpSpPr/>
            <p:nvPr/>
          </p:nvGrpSpPr>
          <p:grpSpPr>
            <a:xfrm>
              <a:off x="5636880" y="2859480"/>
              <a:ext cx="2495520" cy="972360"/>
              <a:chOff x="5636880" y="2859480"/>
              <a:chExt cx="2495520" cy="972360"/>
            </a:xfrm>
          </p:grpSpPr>
          <p:sp>
            <p:nvSpPr>
              <p:cNvPr id="2504" name=""/>
              <p:cNvSpPr/>
              <p:nvPr/>
            </p:nvSpPr>
            <p:spPr>
              <a:xfrm>
                <a:off x="5989320" y="3441240"/>
                <a:ext cx="409320" cy="390600"/>
              </a:xfrm>
              <a:prstGeom prst="ellipse">
                <a:avLst/>
              </a:prstGeom>
              <a:solidFill>
                <a:srgbClr val="fefd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5636880" y="3498120"/>
                <a:ext cx="257040" cy="133200"/>
              </a:xfrm>
              <a:prstGeom prst="roundRect">
                <a:avLst>
                  <a:gd name="adj" fmla="val 16667"/>
                </a:avLst>
              </a:prstGeom>
              <a:solidFill>
                <a:srgbClr val="fefd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 rot="21279600">
                <a:off x="5778000" y="3218760"/>
                <a:ext cx="925920" cy="157320"/>
              </a:xfrm>
              <a:prstGeom prst="roundRect">
                <a:avLst>
                  <a:gd name="adj" fmla="val 16667"/>
                </a:avLst>
              </a:prstGeom>
              <a:solidFill>
                <a:srgbClr val="fefd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 flipV="1">
                <a:off x="6617880" y="2859120"/>
                <a:ext cx="1495440" cy="343080"/>
              </a:xfrm>
              <a:custGeom>
                <a:avLst/>
                <a:gdLst>
                  <a:gd name="textAreaLeft" fmla="*/ 328680 w 1495440"/>
                  <a:gd name="textAreaRight" fmla="*/ 1166760 w 1495440"/>
                  <a:gd name="textAreaTop" fmla="*/ 75240 h 343080"/>
                  <a:gd name="textAreaBottom" fmla="*/ 267840 h 343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efd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6617880" y="3202920"/>
                <a:ext cx="1514520" cy="447840"/>
              </a:xfrm>
              <a:prstGeom prst="rect">
                <a:avLst/>
              </a:prstGeom>
              <a:solidFill>
                <a:srgbClr val="fefd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6494040" y="3278880"/>
                <a:ext cx="190440" cy="381240"/>
              </a:xfrm>
              <a:prstGeom prst="rect">
                <a:avLst/>
              </a:prstGeom>
              <a:solidFill>
                <a:srgbClr val="fefd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10" name=""/>
            <p:cNvSpPr/>
            <p:nvPr/>
          </p:nvSpPr>
          <p:spPr>
            <a:xfrm>
              <a:off x="5493960" y="2793240"/>
              <a:ext cx="90720" cy="90720"/>
            </a:xfrm>
            <a:prstGeom prst="ellipse">
              <a:avLst/>
            </a:prstGeom>
            <a:solidFill>
              <a:srgbClr val="fef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5540040" y="2438280"/>
              <a:ext cx="0" cy="1267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 flipH="1">
              <a:off x="5396760" y="2438280"/>
              <a:ext cx="215280" cy="12924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 flipH="1">
              <a:off x="5181120" y="2438280"/>
              <a:ext cx="502200" cy="12924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5458680" y="2438280"/>
              <a:ext cx="215280" cy="12924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5396760" y="2438280"/>
              <a:ext cx="502200" cy="12924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6" name=""/>
          <p:cNvGrpSpPr/>
          <p:nvPr/>
        </p:nvGrpSpPr>
        <p:grpSpPr>
          <a:xfrm>
            <a:off x="2286000" y="5105520"/>
            <a:ext cx="2495520" cy="970920"/>
            <a:chOff x="2286000" y="5105520"/>
            <a:chExt cx="2495520" cy="970920"/>
          </a:xfrm>
        </p:grpSpPr>
        <p:sp>
          <p:nvSpPr>
            <p:cNvPr id="2517" name=""/>
            <p:cNvSpPr/>
            <p:nvPr/>
          </p:nvSpPr>
          <p:spPr>
            <a:xfrm>
              <a:off x="2638080" y="5686200"/>
              <a:ext cx="409320" cy="390240"/>
            </a:xfrm>
            <a:prstGeom prst="ellipse">
              <a:avLst/>
            </a:prstGeom>
            <a:solidFill>
              <a:srgbClr val="fef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2286000" y="5743440"/>
              <a:ext cx="257040" cy="133200"/>
            </a:xfrm>
            <a:prstGeom prst="roundRect">
              <a:avLst>
                <a:gd name="adj" fmla="val 16667"/>
              </a:avLst>
            </a:prstGeom>
            <a:solidFill>
              <a:srgbClr val="fef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 rot="21279600">
              <a:off x="2427120" y="5464080"/>
              <a:ext cx="925560" cy="157320"/>
            </a:xfrm>
            <a:prstGeom prst="roundRect">
              <a:avLst>
                <a:gd name="adj" fmla="val 16667"/>
              </a:avLst>
            </a:prstGeom>
            <a:solidFill>
              <a:srgbClr val="fef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 flipV="1">
              <a:off x="3267000" y="5105520"/>
              <a:ext cx="1495440" cy="342720"/>
            </a:xfrm>
            <a:custGeom>
              <a:avLst/>
              <a:gdLst>
                <a:gd name="textAreaLeft" fmla="*/ 328680 w 1495440"/>
                <a:gd name="textAreaRight" fmla="*/ 1166760 w 1495440"/>
                <a:gd name="textAreaTop" fmla="*/ 75240 h 342720"/>
                <a:gd name="textAreaBottom" fmla="*/ 267480 h 34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ef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3267000" y="5448240"/>
              <a:ext cx="1514520" cy="447480"/>
            </a:xfrm>
            <a:prstGeom prst="rect">
              <a:avLst/>
            </a:prstGeom>
            <a:solidFill>
              <a:srgbClr val="fef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3143160" y="5524200"/>
              <a:ext cx="190440" cy="380880"/>
            </a:xfrm>
            <a:prstGeom prst="rect">
              <a:avLst/>
            </a:prstGeom>
            <a:solidFill>
              <a:srgbClr val="fef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3" name=""/>
          <p:cNvSpPr/>
          <p:nvPr/>
        </p:nvSpPr>
        <p:spPr>
          <a:xfrm>
            <a:off x="2286000" y="5535720"/>
            <a:ext cx="431640" cy="215640"/>
          </a:xfrm>
          <a:prstGeom prst="parallelogram">
            <a:avLst>
              <a:gd name="adj" fmla="val 5004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 flipH="1">
            <a:off x="3003480" y="5535720"/>
            <a:ext cx="432000" cy="358560"/>
          </a:xfrm>
          <a:prstGeom prst="parallelogram">
            <a:avLst>
              <a:gd name="adj" fmla="val 30120"/>
            </a:avLst>
          </a:pr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1741320" y="5481720"/>
            <a:ext cx="501840" cy="501480"/>
          </a:xfrm>
          <a:prstGeom prst="ellipse">
            <a:avLst/>
          </a:prstGeom>
          <a:solidFill>
            <a:srgbClr val="3694b6"/>
          </a:solidFill>
          <a:ln w="936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6" name=""/>
          <p:cNvGrpSpPr/>
          <p:nvPr/>
        </p:nvGrpSpPr>
        <p:grpSpPr>
          <a:xfrm>
            <a:off x="1444320" y="4829040"/>
            <a:ext cx="1067040" cy="1290240"/>
            <a:chOff x="1444320" y="4829040"/>
            <a:chExt cx="1067040" cy="1290240"/>
          </a:xfrm>
        </p:grpSpPr>
        <p:sp>
          <p:nvSpPr>
            <p:cNvPr id="2527" name=""/>
            <p:cNvSpPr/>
            <p:nvPr/>
          </p:nvSpPr>
          <p:spPr>
            <a:xfrm>
              <a:off x="2000160" y="4829040"/>
              <a:ext cx="0" cy="128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 flipH="1">
              <a:off x="1768320" y="4831560"/>
              <a:ext cx="314640" cy="128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1920960" y="4839840"/>
              <a:ext cx="28584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 flipH="1">
              <a:off x="1444320" y="4839840"/>
              <a:ext cx="771480" cy="12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1778040" y="4839840"/>
              <a:ext cx="73332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2" name=""/>
          <p:cNvSpPr/>
          <p:nvPr/>
        </p:nvSpPr>
        <p:spPr>
          <a:xfrm>
            <a:off x="1949400" y="5681520"/>
            <a:ext cx="90360" cy="90720"/>
          </a:xfrm>
          <a:prstGeom prst="ellipse">
            <a:avLst/>
          </a:prstGeom>
          <a:solidFill>
            <a:srgbClr val="fefde3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5430960" y="2793960"/>
            <a:ext cx="90360" cy="903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4" name=""/>
          <p:cNvGrpSpPr/>
          <p:nvPr/>
        </p:nvGrpSpPr>
        <p:grpSpPr>
          <a:xfrm>
            <a:off x="5118120" y="1936800"/>
            <a:ext cx="717480" cy="1793520"/>
            <a:chOff x="5118120" y="1936800"/>
            <a:chExt cx="717480" cy="1793520"/>
          </a:xfrm>
        </p:grpSpPr>
        <p:sp>
          <p:nvSpPr>
            <p:cNvPr id="2535" name=""/>
            <p:cNvSpPr/>
            <p:nvPr/>
          </p:nvSpPr>
          <p:spPr>
            <a:xfrm>
              <a:off x="5477040" y="1936800"/>
              <a:ext cx="0" cy="175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 flipH="1">
              <a:off x="5333760" y="1936800"/>
              <a:ext cx="214200" cy="179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 flipH="1">
              <a:off x="5118120" y="1936800"/>
              <a:ext cx="503280" cy="179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5396040" y="1936800"/>
              <a:ext cx="215640" cy="179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5334120" y="1936800"/>
              <a:ext cx="501480" cy="179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0" name="">
            <a:hlinkClick r:id="" action="ppaction://hlinkshowjump?jump=previousslide"/>
          </p:cNvPr>
          <p:cNvSpPr/>
          <p:nvPr/>
        </p:nvSpPr>
        <p:spPr>
          <a:xfrm>
            <a:off x="6781680" y="5943600"/>
            <a:ext cx="565200" cy="585720"/>
          </a:xfrm>
          <a:custGeom>
            <a:avLst/>
            <a:gdLst>
              <a:gd name="textAreaLeft" fmla="*/ 36360 w 565200"/>
              <a:gd name="textAreaRight" fmla="*/ 528840 w 565200"/>
              <a:gd name="textAreaTop" fmla="*/ 36360 h 585720"/>
              <a:gd name="textAreaBottom" fmla="*/ 549360 h 585720"/>
            </a:gdLst>
            <a:ahLst/>
            <a:rect l="textAreaLeft" t="textAreaTop" r="textAreaRight" b="textAreaBottom"/>
            <a:pathLst>
              <a:path w="21600" h="22384">
                <a:moveTo>
                  <a:pt x="0" y="0"/>
                </a:moveTo>
                <a:lnTo>
                  <a:pt x="21600" y="0"/>
                </a:lnTo>
                <a:lnTo>
                  <a:pt x="21600" y="22384"/>
                </a:lnTo>
                <a:lnTo>
                  <a:pt x="0" y="22384"/>
                </a:lnTo>
                <a:close/>
              </a:path>
              <a:path fill="lightenLess" w="21600" h="2238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84">
                <a:moveTo>
                  <a:pt x="21600" y="0"/>
                </a:moveTo>
                <a:lnTo>
                  <a:pt x="21600" y="22384"/>
                </a:lnTo>
                <a:lnTo>
                  <a:pt x="20200" y="20984"/>
                </a:lnTo>
                <a:lnTo>
                  <a:pt x="20200" y="1400"/>
                </a:lnTo>
                <a:close/>
              </a:path>
              <a:path fill="darkenLess" w="21600" h="22384">
                <a:moveTo>
                  <a:pt x="21600" y="22384"/>
                </a:moveTo>
                <a:lnTo>
                  <a:pt x="0" y="22384"/>
                </a:lnTo>
                <a:lnTo>
                  <a:pt x="1400" y="20984"/>
                </a:lnTo>
                <a:lnTo>
                  <a:pt x="20200" y="20984"/>
                </a:lnTo>
                <a:close/>
              </a:path>
              <a:path fill="lighten" w="21600" h="22384">
                <a:moveTo>
                  <a:pt x="0" y="2238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84"/>
                </a:lnTo>
                <a:close/>
              </a:path>
              <a:path fill="darken" w="21600" h="22384">
                <a:moveTo>
                  <a:pt x="3794" y="11192"/>
                </a:moveTo>
                <a:lnTo>
                  <a:pt x="17806" y="4185"/>
                </a:lnTo>
                <a:lnTo>
                  <a:pt x="17806" y="18198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>
            <a:hlinkClick r:id="" action="ppaction://hlinkshowjump?jump=nextslide"/>
          </p:cNvPr>
          <p:cNvSpPr/>
          <p:nvPr/>
        </p:nvSpPr>
        <p:spPr>
          <a:xfrm>
            <a:off x="7400880" y="5943600"/>
            <a:ext cx="566640" cy="585720"/>
          </a:xfrm>
          <a:custGeom>
            <a:avLst/>
            <a:gdLst>
              <a:gd name="textAreaLeft" fmla="*/ 36720 w 566640"/>
              <a:gd name="textAreaRight" fmla="*/ 529920 w 566640"/>
              <a:gd name="textAreaTop" fmla="*/ 36720 h 585720"/>
              <a:gd name="textAreaBottom" fmla="*/ 549000 h 585720"/>
            </a:gdLst>
            <a:ahLst/>
            <a:rect l="textAreaLeft" t="textAreaTop" r="textAreaRight" b="textAreaBottom"/>
            <a:pathLst>
              <a:path w="21600" h="22327">
                <a:moveTo>
                  <a:pt x="0" y="0"/>
                </a:moveTo>
                <a:lnTo>
                  <a:pt x="21600" y="0"/>
                </a:lnTo>
                <a:lnTo>
                  <a:pt x="21600" y="22327"/>
                </a:lnTo>
                <a:lnTo>
                  <a:pt x="0" y="22327"/>
                </a:lnTo>
                <a:close/>
              </a:path>
              <a:path fill="lightenLess" w="21600" h="223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27">
                <a:moveTo>
                  <a:pt x="21600" y="0"/>
                </a:moveTo>
                <a:lnTo>
                  <a:pt x="21600" y="22327"/>
                </a:lnTo>
                <a:lnTo>
                  <a:pt x="20200" y="20927"/>
                </a:lnTo>
                <a:lnTo>
                  <a:pt x="20200" y="1400"/>
                </a:lnTo>
                <a:close/>
              </a:path>
              <a:path fill="darkenLess" w="21600" h="22327">
                <a:moveTo>
                  <a:pt x="21600" y="22327"/>
                </a:moveTo>
                <a:lnTo>
                  <a:pt x="0" y="22327"/>
                </a:lnTo>
                <a:lnTo>
                  <a:pt x="1400" y="20927"/>
                </a:lnTo>
                <a:lnTo>
                  <a:pt x="20200" y="20927"/>
                </a:lnTo>
                <a:close/>
              </a:path>
              <a:path fill="lighten" w="21600" h="22327">
                <a:moveTo>
                  <a:pt x="0" y="223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27"/>
                </a:lnTo>
                <a:close/>
              </a:path>
              <a:path fill="darken" w="21600" h="22327">
                <a:moveTo>
                  <a:pt x="3794" y="4157"/>
                </a:moveTo>
                <a:lnTo>
                  <a:pt x="17806" y="11163"/>
                </a:lnTo>
                <a:lnTo>
                  <a:pt x="3794" y="1817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>
            <a:hlinkClick r:id="" action="ppaction://hlinkshowjump?jump=firstslide"/>
          </p:cNvPr>
          <p:cNvSpPr/>
          <p:nvPr/>
        </p:nvSpPr>
        <p:spPr>
          <a:xfrm>
            <a:off x="8021520" y="5943600"/>
            <a:ext cx="565200" cy="585720"/>
          </a:xfrm>
          <a:custGeom>
            <a:avLst/>
            <a:gdLst>
              <a:gd name="textAreaLeft" fmla="*/ 36360 w 565200"/>
              <a:gd name="textAreaRight" fmla="*/ 528840 w 565200"/>
              <a:gd name="textAreaTop" fmla="*/ 36360 h 585720"/>
              <a:gd name="textAreaBottom" fmla="*/ 549360 h 585720"/>
            </a:gdLst>
            <a:ahLst/>
            <a:rect l="textAreaLeft" t="textAreaTop" r="textAreaRight" b="textAreaBottom"/>
            <a:pathLst>
              <a:path w="21600" h="22384">
                <a:moveTo>
                  <a:pt x="0" y="0"/>
                </a:moveTo>
                <a:lnTo>
                  <a:pt x="21600" y="0"/>
                </a:lnTo>
                <a:lnTo>
                  <a:pt x="21600" y="22384"/>
                </a:lnTo>
                <a:lnTo>
                  <a:pt x="0" y="22384"/>
                </a:lnTo>
                <a:close/>
              </a:path>
              <a:path fill="lightenLess" w="21600" h="2238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84">
                <a:moveTo>
                  <a:pt x="21600" y="0"/>
                </a:moveTo>
                <a:lnTo>
                  <a:pt x="21600" y="22384"/>
                </a:lnTo>
                <a:lnTo>
                  <a:pt x="20200" y="20984"/>
                </a:lnTo>
                <a:lnTo>
                  <a:pt x="20200" y="1400"/>
                </a:lnTo>
                <a:close/>
              </a:path>
              <a:path fill="darkenLess" w="21600" h="22384">
                <a:moveTo>
                  <a:pt x="21600" y="22384"/>
                </a:moveTo>
                <a:lnTo>
                  <a:pt x="0" y="22384"/>
                </a:lnTo>
                <a:lnTo>
                  <a:pt x="1400" y="20984"/>
                </a:lnTo>
                <a:lnTo>
                  <a:pt x="20200" y="20984"/>
                </a:lnTo>
                <a:close/>
              </a:path>
              <a:path fill="lighten" w="21600" h="22384">
                <a:moveTo>
                  <a:pt x="0" y="2238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84"/>
                </a:lnTo>
                <a:close/>
              </a:path>
              <a:path fill="darken" w="21600" h="22384">
                <a:moveTo>
                  <a:pt x="7301" y="11192"/>
                </a:moveTo>
                <a:lnTo>
                  <a:pt x="17806" y="4185"/>
                </a:lnTo>
                <a:lnTo>
                  <a:pt x="17806" y="18198"/>
                </a:lnTo>
                <a:close/>
              </a:path>
              <a:path fill="darken" w="21600" h="22384">
                <a:moveTo>
                  <a:pt x="3794" y="4185"/>
                </a:moveTo>
                <a:lnTo>
                  <a:pt x="5456" y="4185"/>
                </a:lnTo>
                <a:lnTo>
                  <a:pt x="5456" y="18198"/>
                </a:lnTo>
                <a:lnTo>
                  <a:pt x="3794" y="18198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3819600" y="2286000"/>
            <a:ext cx="428400" cy="147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1250280" y="1201680"/>
            <a:ext cx="113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o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é ke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5114160" y="1216080"/>
            <a:ext cx="113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o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é ke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1221120" y="4049640"/>
            <a:ext cx="130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Strešná kef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5265720" y="2257560"/>
            <a:ext cx="428760" cy="1474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5100120" y="1571760"/>
            <a:ext cx="263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3300"/>
                </a:solidFill>
                <a:latin typeface="Times New Roman"/>
              </a:rPr>
              <a:t>BNN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k-SK" sz="1600" spc="-1" strike="noStrike">
                <a:solidFill>
                  <a:srgbClr val="66ff66"/>
                </a:solidFill>
                <a:latin typeface="Times New Roman"/>
              </a:rPr>
              <a:t>BPP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   BN   </a:t>
            </a:r>
            <a:r>
              <a:rPr b="1" lang="sk-SK" sz="1600" spc="-1" strike="noStrike">
                <a:solidFill>
                  <a:srgbClr val="66ff66"/>
                </a:solidFill>
                <a:latin typeface="Times New Roman"/>
              </a:rPr>
              <a:t>BPP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k-SK" sz="1600" spc="-1" strike="noStrike">
                <a:solidFill>
                  <a:srgbClr val="ff3300"/>
                </a:solidFill>
                <a:latin typeface="Times New Roman"/>
              </a:rPr>
              <a:t>BN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1195200" y="4491000"/>
            <a:ext cx="252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3300"/>
                </a:solidFill>
                <a:latin typeface="Times New Roman"/>
              </a:rPr>
              <a:t>SNN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k-SK" sz="1600" spc="-1" strike="noStrike">
                <a:solidFill>
                  <a:srgbClr val="66ff66"/>
                </a:solidFill>
                <a:latin typeface="Times New Roman"/>
              </a:rPr>
              <a:t>SPP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   SN   </a:t>
            </a:r>
            <a:r>
              <a:rPr b="1" lang="sk-SK" sz="1600" spc="-1" strike="noStrike">
                <a:solidFill>
                  <a:srgbClr val="66ff66"/>
                </a:solidFill>
                <a:latin typeface="Times New Roman"/>
              </a:rPr>
              <a:t>SPP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k-SK" sz="1600" spc="-1" strike="noStrike">
                <a:solidFill>
                  <a:srgbClr val="ff3300"/>
                </a:solidFill>
                <a:latin typeface="Times New Roman"/>
              </a:rPr>
              <a:t>SN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1294920" y="1557360"/>
            <a:ext cx="18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3300"/>
                </a:solidFill>
                <a:latin typeface="Times New Roman"/>
              </a:rPr>
              <a:t>Z   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BP0</a:t>
            </a:r>
            <a:r>
              <a:rPr b="1" lang="sk-SK" sz="16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sk-SK" sz="1600" spc="-1" strike="noStrike">
                <a:solidFill>
                  <a:srgbClr val="66ff66"/>
                </a:solidFill>
                <a:latin typeface="Times New Roman"/>
              </a:rPr>
              <a:t>BPN </a:t>
            </a:r>
            <a:r>
              <a:rPr b="1" lang="sk-SK" sz="1600" spc="-1" strike="noStrike">
                <a:solidFill>
                  <a:srgbClr val="ff3300"/>
                </a:solidFill>
                <a:latin typeface="Times New Roman"/>
              </a:rPr>
              <a:t>  N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600" spc="-1" strike="noStrike">
                <a:solidFill>
                  <a:srgbClr val="221304"/>
                </a:solidFill>
                <a:latin typeface="Times New Roman"/>
              </a:rPr>
              <a:t>p</a:t>
            </a:r>
            <a:r>
              <a:rPr b="1" i="1" lang="en-US" sz="1600" spc="-1" strike="noStrike">
                <a:solidFill>
                  <a:srgbClr val="221304"/>
                </a:solidFill>
                <a:latin typeface="Times New Roman"/>
              </a:rPr>
              <a:t>okra</a:t>
            </a:r>
            <a:r>
              <a:rPr b="1" i="1" lang="sk-SK" sz="1600" spc="-1" strike="noStrike">
                <a:solidFill>
                  <a:srgbClr val="221304"/>
                </a:solidFill>
                <a:latin typeface="Times New Roman"/>
              </a:rPr>
              <a:t>čovanie zadania</a:t>
            </a:r>
            <a:endParaRPr b="0" lang="en-US" sz="16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"/>
          <p:cNvSpPr/>
          <p:nvPr/>
        </p:nvSpPr>
        <p:spPr>
          <a:xfrm>
            <a:off x="2057400" y="3809880"/>
            <a:ext cx="5867280" cy="27432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2057400" y="1676520"/>
            <a:ext cx="5867280" cy="20574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600" spc="-1" strike="noStrike">
                <a:solidFill>
                  <a:srgbClr val="221304"/>
                </a:solidFill>
                <a:latin typeface="Times New Roman"/>
              </a:rPr>
              <a:t>Pokračovanie zadania umyvárka aut</a:t>
            </a:r>
            <a:endParaRPr b="0" lang="en-US" sz="1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5913360" y="3236760"/>
            <a:ext cx="358920" cy="358920"/>
          </a:xfrm>
          <a:prstGeom prst="ellipse">
            <a:avLst/>
          </a:prstGeom>
          <a:solidFill>
            <a:srgbClr val="fefde3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3832200" y="3236760"/>
            <a:ext cx="358920" cy="358920"/>
          </a:xfrm>
          <a:prstGeom prst="ellipse">
            <a:avLst/>
          </a:prstGeom>
          <a:solidFill>
            <a:srgbClr val="fefde3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 flipV="1">
            <a:off x="4191120" y="2590200"/>
            <a:ext cx="1866960" cy="430200"/>
          </a:xfrm>
          <a:custGeom>
            <a:avLst/>
            <a:gdLst>
              <a:gd name="textAreaLeft" fmla="*/ 410400 w 1866960"/>
              <a:gd name="textAreaRight" fmla="*/ 1456560 w 1866960"/>
              <a:gd name="textAreaTop" fmla="*/ 94680 h 430200"/>
              <a:gd name="textAreaBottom" fmla="*/ 335520 h 43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3473280" y="3021120"/>
            <a:ext cx="1076400" cy="215640"/>
          </a:xfrm>
          <a:prstGeom prst="roundRect">
            <a:avLst>
              <a:gd name="adj" fmla="val 50000"/>
            </a:avLst>
          </a:pr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5699160" y="3021120"/>
            <a:ext cx="1076400" cy="215640"/>
          </a:xfrm>
          <a:prstGeom prst="roundRect">
            <a:avLst>
              <a:gd name="adj" fmla="val 50000"/>
            </a:avLst>
          </a:pr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4264200" y="3021120"/>
            <a:ext cx="1577880" cy="43020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3473280" y="3092400"/>
            <a:ext cx="287640" cy="28728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6343560" y="3164040"/>
            <a:ext cx="432000" cy="28728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2755800" y="2374920"/>
            <a:ext cx="0" cy="93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2828880" y="3308400"/>
            <a:ext cx="501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 flipV="1">
            <a:off x="3330720" y="2519280"/>
            <a:ext cx="1076040" cy="573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4478400" y="24462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"/>
          <p:cNvSpPr/>
          <p:nvPr/>
        </p:nvSpPr>
        <p:spPr>
          <a:xfrm>
            <a:off x="5052960" y="2446200"/>
            <a:ext cx="501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"/>
          <p:cNvSpPr/>
          <p:nvPr/>
        </p:nvSpPr>
        <p:spPr>
          <a:xfrm>
            <a:off x="5626080" y="2446200"/>
            <a:ext cx="5032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"/>
          <p:cNvSpPr/>
          <p:nvPr/>
        </p:nvSpPr>
        <p:spPr>
          <a:xfrm>
            <a:off x="6200640" y="2878200"/>
            <a:ext cx="71784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>
            <a:off x="6918480" y="30211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>
            <a:off x="7061040" y="330840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 flipH="1">
            <a:off x="7060680" y="309240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 flipV="1">
            <a:off x="7061040" y="28047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 flipH="1" flipV="1">
            <a:off x="6200640" y="2661840"/>
            <a:ext cx="8604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 flipH="1" flipV="1">
            <a:off x="5770080" y="2303640"/>
            <a:ext cx="358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 flipH="1">
            <a:off x="5052600" y="2303640"/>
            <a:ext cx="646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 flipH="1">
            <a:off x="4478040" y="2303640"/>
            <a:ext cx="43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 flipH="1">
            <a:off x="3259080" y="2303640"/>
            <a:ext cx="107640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 flipH="1">
            <a:off x="2971800" y="29494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 flipV="1">
            <a:off x="2971800" y="23749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2684520" y="1873080"/>
            <a:ext cx="430200" cy="430560"/>
          </a:xfrm>
          <a:prstGeom prst="ellipse">
            <a:avLst/>
          </a:prstGeom>
          <a:solidFill>
            <a:srgbClr val="3694b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2828880" y="2016000"/>
            <a:ext cx="142920" cy="144720"/>
          </a:xfrm>
          <a:prstGeom prst="ellipse">
            <a:avLst/>
          </a:prstGeom>
          <a:solidFill>
            <a:srgbClr val="fefde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3568680" y="4630680"/>
            <a:ext cx="2403360" cy="930240"/>
          </a:xfrm>
          <a:prstGeom prst="roundRect">
            <a:avLst>
              <a:gd name="adj" fmla="val 16667"/>
            </a:avLst>
          </a:prstGeom>
          <a:solidFill>
            <a:srgbClr val="cbbd8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4289400" y="4568760"/>
            <a:ext cx="60480" cy="123840"/>
          </a:xfrm>
          <a:custGeom>
            <a:avLst/>
            <a:gdLst>
              <a:gd name="textAreaLeft" fmla="*/ 2880 w 60480"/>
              <a:gd name="textAreaRight" fmla="*/ 57600 w 60480"/>
              <a:gd name="textAreaTop" fmla="*/ 2880 h 123840"/>
              <a:gd name="textAreaBottom" fmla="*/ 120960 h 123840"/>
            </a:gdLst>
            <a:ahLst/>
            <a:rect l="textAreaLeft" t="textAreaTop" r="textAreaRight" b="textAreaBottom"/>
            <a:pathLst>
              <a:path w="21600" h="44095">
                <a:moveTo>
                  <a:pt x="3600" y="0"/>
                </a:moveTo>
                <a:arcTo wR="3600" hR="3600" stAng="16200000" swAng="-5400000"/>
                <a:lnTo>
                  <a:pt x="0" y="40495"/>
                </a:lnTo>
                <a:arcTo wR="3600" hR="3600" stAng="10800000" swAng="-5400000"/>
                <a:lnTo>
                  <a:pt x="18000" y="440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4289400" y="5560920"/>
            <a:ext cx="60480" cy="123840"/>
          </a:xfrm>
          <a:custGeom>
            <a:avLst/>
            <a:gdLst>
              <a:gd name="textAreaLeft" fmla="*/ 2880 w 60480"/>
              <a:gd name="textAreaRight" fmla="*/ 57600 w 60480"/>
              <a:gd name="textAreaTop" fmla="*/ 2880 h 123840"/>
              <a:gd name="textAreaBottom" fmla="*/ 120960 h 123840"/>
            </a:gdLst>
            <a:ahLst/>
            <a:rect l="textAreaLeft" t="textAreaTop" r="textAreaRight" b="textAreaBottom"/>
            <a:pathLst>
              <a:path w="21600" h="44095">
                <a:moveTo>
                  <a:pt x="3600" y="0"/>
                </a:moveTo>
                <a:arcTo wR="3600" hR="3600" stAng="16200000" swAng="-5400000"/>
                <a:lnTo>
                  <a:pt x="0" y="40495"/>
                </a:lnTo>
                <a:arcTo wR="3600" hR="3600" stAng="10800000" swAng="-5400000"/>
                <a:lnTo>
                  <a:pt x="18000" y="440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2666880" y="3886200"/>
            <a:ext cx="480960" cy="4968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2666880" y="5943600"/>
            <a:ext cx="480960" cy="496800"/>
          </a:xfrm>
          <a:prstGeom prst="ellipse">
            <a:avLst/>
          </a:prstGeom>
          <a:solidFill>
            <a:srgbClr val="6600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2847960" y="4073400"/>
            <a:ext cx="11916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2849400" y="6127920"/>
            <a:ext cx="11916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>
            <a:off x="2847960" y="4444920"/>
            <a:ext cx="0" cy="43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2908440" y="5002200"/>
            <a:ext cx="480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 flipV="1">
            <a:off x="3448080" y="4506840"/>
            <a:ext cx="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>
            <a:off x="3448080" y="4444920"/>
            <a:ext cx="264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6093000" y="4506840"/>
            <a:ext cx="0" cy="43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5" name=""/>
          <p:cNvSpPr/>
          <p:nvPr/>
        </p:nvSpPr>
        <p:spPr>
          <a:xfrm flipV="1">
            <a:off x="6272280" y="4195800"/>
            <a:ext cx="0" cy="74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 flipH="1">
            <a:off x="3327120" y="4195800"/>
            <a:ext cx="282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7" name=""/>
          <p:cNvSpPr/>
          <p:nvPr/>
        </p:nvSpPr>
        <p:spPr>
          <a:xfrm>
            <a:off x="3327480" y="4259160"/>
            <a:ext cx="0" cy="62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8" name=""/>
          <p:cNvSpPr/>
          <p:nvPr/>
        </p:nvSpPr>
        <p:spPr>
          <a:xfrm flipH="1">
            <a:off x="2967120" y="4816440"/>
            <a:ext cx="241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9" name=""/>
          <p:cNvSpPr/>
          <p:nvPr/>
        </p:nvSpPr>
        <p:spPr>
          <a:xfrm flipV="1">
            <a:off x="2967120" y="444492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0" name=""/>
          <p:cNvSpPr/>
          <p:nvPr/>
        </p:nvSpPr>
        <p:spPr>
          <a:xfrm>
            <a:off x="4410000" y="4692600"/>
            <a:ext cx="1020960" cy="80640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"/>
          <p:cNvSpPr/>
          <p:nvPr/>
        </p:nvSpPr>
        <p:spPr>
          <a:xfrm rot="16200000">
            <a:off x="3795840" y="5006880"/>
            <a:ext cx="868320" cy="239760"/>
          </a:xfrm>
          <a:custGeom>
            <a:avLst/>
            <a:gdLst>
              <a:gd name="textAreaLeft" fmla="*/ 81000 w 868320"/>
              <a:gd name="textAreaRight" fmla="*/ 787320 w 868320"/>
              <a:gd name="textAreaTop" fmla="*/ 22320 h 239760"/>
              <a:gd name="textAreaBottom" fmla="*/ 217440 h 239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109" y="21600"/>
                </a:lnTo>
                <a:lnTo>
                  <a:pt x="491" y="21600"/>
                </a:lnTo>
                <a:close/>
              </a:path>
            </a:pathLst>
          </a:custGeom>
          <a:solidFill>
            <a:srgbClr val="fefde3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"/>
          <p:cNvSpPr/>
          <p:nvPr/>
        </p:nvSpPr>
        <p:spPr>
          <a:xfrm flipH="1" rot="5400000">
            <a:off x="5176800" y="5006880"/>
            <a:ext cx="868320" cy="239760"/>
          </a:xfrm>
          <a:custGeom>
            <a:avLst/>
            <a:gdLst>
              <a:gd name="textAreaLeft" fmla="*/ 81000 w 868320"/>
              <a:gd name="textAreaRight" fmla="*/ 787320 w 868320"/>
              <a:gd name="textAreaTop" fmla="*/ 22320 h 239760"/>
              <a:gd name="textAreaBottom" fmla="*/ 217440 h 239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109" y="21600"/>
                </a:lnTo>
                <a:lnTo>
                  <a:pt x="491" y="21600"/>
                </a:lnTo>
                <a:close/>
              </a:path>
            </a:pathLst>
          </a:custGeom>
          <a:solidFill>
            <a:srgbClr val="fefde3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"/>
          <p:cNvSpPr/>
          <p:nvPr/>
        </p:nvSpPr>
        <p:spPr>
          <a:xfrm>
            <a:off x="2908440" y="5189400"/>
            <a:ext cx="480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4" name=""/>
          <p:cNvSpPr/>
          <p:nvPr/>
        </p:nvSpPr>
        <p:spPr>
          <a:xfrm>
            <a:off x="3448080" y="525132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"/>
          <p:cNvSpPr/>
          <p:nvPr/>
        </p:nvSpPr>
        <p:spPr>
          <a:xfrm flipV="1">
            <a:off x="2847960" y="5312880"/>
            <a:ext cx="0" cy="49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"/>
          <p:cNvSpPr/>
          <p:nvPr/>
        </p:nvSpPr>
        <p:spPr>
          <a:xfrm>
            <a:off x="3448080" y="5810400"/>
            <a:ext cx="264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"/>
          <p:cNvSpPr/>
          <p:nvPr/>
        </p:nvSpPr>
        <p:spPr>
          <a:xfrm flipV="1">
            <a:off x="6093000" y="5126040"/>
            <a:ext cx="0" cy="49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>
            <a:off x="6272280" y="5189400"/>
            <a:ext cx="0" cy="62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"/>
          <p:cNvSpPr/>
          <p:nvPr/>
        </p:nvSpPr>
        <p:spPr>
          <a:xfrm flipH="1">
            <a:off x="3389400" y="6056280"/>
            <a:ext cx="2822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"/>
          <p:cNvSpPr/>
          <p:nvPr/>
        </p:nvSpPr>
        <p:spPr>
          <a:xfrm flipV="1">
            <a:off x="3327480" y="5313240"/>
            <a:ext cx="0" cy="74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"/>
          <p:cNvSpPr/>
          <p:nvPr/>
        </p:nvSpPr>
        <p:spPr>
          <a:xfrm flipH="1">
            <a:off x="2967120" y="5375160"/>
            <a:ext cx="241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2" name=""/>
          <p:cNvSpPr/>
          <p:nvPr/>
        </p:nvSpPr>
        <p:spPr>
          <a:xfrm>
            <a:off x="2967120" y="5499000"/>
            <a:ext cx="0" cy="311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3" name="">
            <a:hlinkClick r:id="" action="ppaction://hlinkshowjump?jump=previousslide"/>
          </p:cNvPr>
          <p:cNvSpPr/>
          <p:nvPr/>
        </p:nvSpPr>
        <p:spPr>
          <a:xfrm>
            <a:off x="6781680" y="5943600"/>
            <a:ext cx="565200" cy="585720"/>
          </a:xfrm>
          <a:custGeom>
            <a:avLst/>
            <a:gdLst>
              <a:gd name="textAreaLeft" fmla="*/ 36360 w 565200"/>
              <a:gd name="textAreaRight" fmla="*/ 528840 w 565200"/>
              <a:gd name="textAreaTop" fmla="*/ 36360 h 585720"/>
              <a:gd name="textAreaBottom" fmla="*/ 549360 h 585720"/>
            </a:gdLst>
            <a:ahLst/>
            <a:rect l="textAreaLeft" t="textAreaTop" r="textAreaRight" b="textAreaBottom"/>
            <a:pathLst>
              <a:path w="21600" h="22384">
                <a:moveTo>
                  <a:pt x="0" y="0"/>
                </a:moveTo>
                <a:lnTo>
                  <a:pt x="21600" y="0"/>
                </a:lnTo>
                <a:lnTo>
                  <a:pt x="21600" y="22384"/>
                </a:lnTo>
                <a:lnTo>
                  <a:pt x="0" y="22384"/>
                </a:lnTo>
                <a:close/>
              </a:path>
              <a:path fill="lightenLess" w="21600" h="2238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84">
                <a:moveTo>
                  <a:pt x="21600" y="0"/>
                </a:moveTo>
                <a:lnTo>
                  <a:pt x="21600" y="22384"/>
                </a:lnTo>
                <a:lnTo>
                  <a:pt x="20200" y="20984"/>
                </a:lnTo>
                <a:lnTo>
                  <a:pt x="20200" y="1400"/>
                </a:lnTo>
                <a:close/>
              </a:path>
              <a:path fill="darkenLess" w="21600" h="22384">
                <a:moveTo>
                  <a:pt x="21600" y="22384"/>
                </a:moveTo>
                <a:lnTo>
                  <a:pt x="0" y="22384"/>
                </a:lnTo>
                <a:lnTo>
                  <a:pt x="1400" y="20984"/>
                </a:lnTo>
                <a:lnTo>
                  <a:pt x="20200" y="20984"/>
                </a:lnTo>
                <a:close/>
              </a:path>
              <a:path fill="lighten" w="21600" h="22384">
                <a:moveTo>
                  <a:pt x="0" y="2238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84"/>
                </a:lnTo>
                <a:close/>
              </a:path>
              <a:path fill="darken" w="21600" h="22384">
                <a:moveTo>
                  <a:pt x="3794" y="11192"/>
                </a:moveTo>
                <a:lnTo>
                  <a:pt x="17806" y="4185"/>
                </a:lnTo>
                <a:lnTo>
                  <a:pt x="17806" y="18198"/>
                </a:lnTo>
                <a:close/>
              </a:path>
            </a:pathLst>
          </a:cu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4" name="">
            <a:hlinkClick r:id="" action="ppaction://hlinkshowjump?jump=nextslide"/>
          </p:cNvPr>
          <p:cNvSpPr/>
          <p:nvPr/>
        </p:nvSpPr>
        <p:spPr>
          <a:xfrm>
            <a:off x="7400880" y="5943600"/>
            <a:ext cx="566640" cy="585720"/>
          </a:xfrm>
          <a:custGeom>
            <a:avLst/>
            <a:gdLst>
              <a:gd name="textAreaLeft" fmla="*/ 36720 w 566640"/>
              <a:gd name="textAreaRight" fmla="*/ 529920 w 566640"/>
              <a:gd name="textAreaTop" fmla="*/ 36720 h 585720"/>
              <a:gd name="textAreaBottom" fmla="*/ 549000 h 585720"/>
            </a:gdLst>
            <a:ahLst/>
            <a:rect l="textAreaLeft" t="textAreaTop" r="textAreaRight" b="textAreaBottom"/>
            <a:pathLst>
              <a:path w="21600" h="22327">
                <a:moveTo>
                  <a:pt x="0" y="0"/>
                </a:moveTo>
                <a:lnTo>
                  <a:pt x="21600" y="0"/>
                </a:lnTo>
                <a:lnTo>
                  <a:pt x="21600" y="22327"/>
                </a:lnTo>
                <a:lnTo>
                  <a:pt x="0" y="22327"/>
                </a:lnTo>
                <a:close/>
              </a:path>
              <a:path fill="lightenLess" w="21600" h="223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27">
                <a:moveTo>
                  <a:pt x="21600" y="0"/>
                </a:moveTo>
                <a:lnTo>
                  <a:pt x="21600" y="22327"/>
                </a:lnTo>
                <a:lnTo>
                  <a:pt x="20200" y="20927"/>
                </a:lnTo>
                <a:lnTo>
                  <a:pt x="20200" y="1400"/>
                </a:lnTo>
                <a:close/>
              </a:path>
              <a:path fill="darkenLess" w="21600" h="22327">
                <a:moveTo>
                  <a:pt x="21600" y="22327"/>
                </a:moveTo>
                <a:lnTo>
                  <a:pt x="0" y="22327"/>
                </a:lnTo>
                <a:lnTo>
                  <a:pt x="1400" y="20927"/>
                </a:lnTo>
                <a:lnTo>
                  <a:pt x="20200" y="20927"/>
                </a:lnTo>
                <a:close/>
              </a:path>
              <a:path fill="lighten" w="21600" h="22327">
                <a:moveTo>
                  <a:pt x="0" y="223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27"/>
                </a:lnTo>
                <a:close/>
              </a:path>
              <a:path fill="darken" w="21600" h="22327">
                <a:moveTo>
                  <a:pt x="3794" y="4157"/>
                </a:moveTo>
                <a:lnTo>
                  <a:pt x="17806" y="11163"/>
                </a:lnTo>
                <a:lnTo>
                  <a:pt x="3794" y="18170"/>
                </a:lnTo>
                <a:close/>
              </a:path>
            </a:pathLst>
          </a:cu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5" name="">
            <a:hlinkClick r:id="" action="ppaction://hlinkshowjump?jump=firstslide"/>
          </p:cNvPr>
          <p:cNvSpPr/>
          <p:nvPr/>
        </p:nvSpPr>
        <p:spPr>
          <a:xfrm>
            <a:off x="8021520" y="5943600"/>
            <a:ext cx="565200" cy="585720"/>
          </a:xfrm>
          <a:custGeom>
            <a:avLst/>
            <a:gdLst>
              <a:gd name="textAreaLeft" fmla="*/ 36360 w 565200"/>
              <a:gd name="textAreaRight" fmla="*/ 528840 w 565200"/>
              <a:gd name="textAreaTop" fmla="*/ 36360 h 585720"/>
              <a:gd name="textAreaBottom" fmla="*/ 549360 h 585720"/>
            </a:gdLst>
            <a:ahLst/>
            <a:rect l="textAreaLeft" t="textAreaTop" r="textAreaRight" b="textAreaBottom"/>
            <a:pathLst>
              <a:path w="21600" h="22384">
                <a:moveTo>
                  <a:pt x="0" y="0"/>
                </a:moveTo>
                <a:lnTo>
                  <a:pt x="21600" y="0"/>
                </a:lnTo>
                <a:lnTo>
                  <a:pt x="21600" y="22384"/>
                </a:lnTo>
                <a:lnTo>
                  <a:pt x="0" y="22384"/>
                </a:lnTo>
                <a:close/>
              </a:path>
              <a:path fill="lightenLess" w="21600" h="2238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84">
                <a:moveTo>
                  <a:pt x="21600" y="0"/>
                </a:moveTo>
                <a:lnTo>
                  <a:pt x="21600" y="22384"/>
                </a:lnTo>
                <a:lnTo>
                  <a:pt x="20200" y="20984"/>
                </a:lnTo>
                <a:lnTo>
                  <a:pt x="20200" y="1400"/>
                </a:lnTo>
                <a:close/>
              </a:path>
              <a:path fill="darkenLess" w="21600" h="22384">
                <a:moveTo>
                  <a:pt x="21600" y="22384"/>
                </a:moveTo>
                <a:lnTo>
                  <a:pt x="0" y="22384"/>
                </a:lnTo>
                <a:lnTo>
                  <a:pt x="1400" y="20984"/>
                </a:lnTo>
                <a:lnTo>
                  <a:pt x="20200" y="20984"/>
                </a:lnTo>
                <a:close/>
              </a:path>
              <a:path fill="lighten" w="21600" h="22384">
                <a:moveTo>
                  <a:pt x="0" y="2238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84"/>
                </a:lnTo>
                <a:close/>
              </a:path>
              <a:path fill="darken" w="21600" h="22384">
                <a:moveTo>
                  <a:pt x="7301" y="11192"/>
                </a:moveTo>
                <a:lnTo>
                  <a:pt x="17806" y="4185"/>
                </a:lnTo>
                <a:lnTo>
                  <a:pt x="17806" y="18198"/>
                </a:lnTo>
                <a:close/>
              </a:path>
              <a:path fill="darken" w="21600" h="22384">
                <a:moveTo>
                  <a:pt x="3794" y="4185"/>
                </a:moveTo>
                <a:lnTo>
                  <a:pt x="5456" y="4185"/>
                </a:lnTo>
                <a:lnTo>
                  <a:pt x="5456" y="18198"/>
                </a:lnTo>
                <a:lnTo>
                  <a:pt x="3794" y="18198"/>
                </a:lnTo>
                <a:close/>
              </a:path>
            </a:pathLst>
          </a:cu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6" name=""/>
          <p:cNvSpPr/>
          <p:nvPr/>
        </p:nvSpPr>
        <p:spPr>
          <a:xfrm>
            <a:off x="4876920" y="1846440"/>
            <a:ext cx="3809880" cy="32590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7" name=""/>
          <p:cNvSpPr/>
          <p:nvPr/>
        </p:nvSpPr>
        <p:spPr>
          <a:xfrm>
            <a:off x="1143000" y="1846440"/>
            <a:ext cx="3581280" cy="32590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600" spc="-1" strike="noStrike">
                <a:solidFill>
                  <a:srgbClr val="221304"/>
                </a:solidFill>
                <a:latin typeface="Times New Roman"/>
              </a:rPr>
              <a:t>Pokračovanie zadania umyvárka aut</a:t>
            </a:r>
            <a:endParaRPr b="0" lang="en-US" sz="1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19" name=""/>
          <p:cNvSpPr/>
          <p:nvPr/>
        </p:nvSpPr>
        <p:spPr>
          <a:xfrm>
            <a:off x="1841400" y="3033720"/>
            <a:ext cx="430200" cy="1292040"/>
          </a:xfrm>
          <a:prstGeom prst="rect">
            <a:avLst/>
          </a:prstGeom>
          <a:solidFill>
            <a:srgbClr val="6600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0" name=""/>
          <p:cNvSpPr/>
          <p:nvPr/>
        </p:nvSpPr>
        <p:spPr>
          <a:xfrm>
            <a:off x="3778200" y="3033720"/>
            <a:ext cx="432000" cy="1292040"/>
          </a:xfrm>
          <a:prstGeom prst="rect">
            <a:avLst/>
          </a:prstGeom>
          <a:solidFill>
            <a:srgbClr val="ffcc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1" name=""/>
          <p:cNvSpPr/>
          <p:nvPr/>
        </p:nvSpPr>
        <p:spPr>
          <a:xfrm>
            <a:off x="2057400" y="2819520"/>
            <a:ext cx="0" cy="157788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2" name=""/>
          <p:cNvSpPr/>
          <p:nvPr/>
        </p:nvSpPr>
        <p:spPr>
          <a:xfrm>
            <a:off x="3994200" y="2819520"/>
            <a:ext cx="0" cy="157788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3" name=""/>
          <p:cNvSpPr/>
          <p:nvPr/>
        </p:nvSpPr>
        <p:spPr>
          <a:xfrm>
            <a:off x="2455920" y="264312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4" name=""/>
          <p:cNvSpPr/>
          <p:nvPr/>
        </p:nvSpPr>
        <p:spPr>
          <a:xfrm>
            <a:off x="3522600" y="263376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5" name=""/>
          <p:cNvSpPr/>
          <p:nvPr/>
        </p:nvSpPr>
        <p:spPr>
          <a:xfrm>
            <a:off x="4389480" y="264312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6" name=""/>
          <p:cNvSpPr/>
          <p:nvPr/>
        </p:nvSpPr>
        <p:spPr>
          <a:xfrm>
            <a:off x="1579680" y="264312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7" name=""/>
          <p:cNvSpPr/>
          <p:nvPr/>
        </p:nvSpPr>
        <p:spPr>
          <a:xfrm>
            <a:off x="4424400" y="2674800"/>
            <a:ext cx="0" cy="222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8" name=""/>
          <p:cNvSpPr/>
          <p:nvPr/>
        </p:nvSpPr>
        <p:spPr>
          <a:xfrm>
            <a:off x="3564000" y="2746440"/>
            <a:ext cx="0" cy="21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9" name=""/>
          <p:cNvSpPr/>
          <p:nvPr/>
        </p:nvSpPr>
        <p:spPr>
          <a:xfrm>
            <a:off x="2487600" y="2746440"/>
            <a:ext cx="0" cy="21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0" name=""/>
          <p:cNvSpPr/>
          <p:nvPr/>
        </p:nvSpPr>
        <p:spPr>
          <a:xfrm>
            <a:off x="1625760" y="2746440"/>
            <a:ext cx="0" cy="21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1" name=""/>
          <p:cNvSpPr/>
          <p:nvPr/>
        </p:nvSpPr>
        <p:spPr>
          <a:xfrm>
            <a:off x="1554120" y="2819520"/>
            <a:ext cx="100476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"/>
          <p:cNvSpPr/>
          <p:nvPr/>
        </p:nvSpPr>
        <p:spPr>
          <a:xfrm>
            <a:off x="3492360" y="2819520"/>
            <a:ext cx="100332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3" name=""/>
          <p:cNvSpPr/>
          <p:nvPr/>
        </p:nvSpPr>
        <p:spPr>
          <a:xfrm>
            <a:off x="5943600" y="2514600"/>
            <a:ext cx="387360" cy="1685880"/>
          </a:xfrm>
          <a:prstGeom prst="rect">
            <a:avLst/>
          </a:prstGeom>
          <a:solidFill>
            <a:srgbClr val="ff33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4" name=""/>
          <p:cNvSpPr/>
          <p:nvPr/>
        </p:nvSpPr>
        <p:spPr>
          <a:xfrm>
            <a:off x="5999040" y="4141800"/>
            <a:ext cx="111240" cy="119160"/>
          </a:xfrm>
          <a:prstGeom prst="ellipse">
            <a:avLst/>
          </a:prstGeom>
          <a:solidFill>
            <a:srgbClr val="fefde3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5" name=""/>
          <p:cNvSpPr/>
          <p:nvPr/>
        </p:nvSpPr>
        <p:spPr>
          <a:xfrm>
            <a:off x="6164280" y="4141800"/>
            <a:ext cx="109440" cy="119160"/>
          </a:xfrm>
          <a:prstGeom prst="ellipse">
            <a:avLst/>
          </a:prstGeom>
          <a:solidFill>
            <a:srgbClr val="fefde3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"/>
          <p:cNvSpPr/>
          <p:nvPr/>
        </p:nvSpPr>
        <p:spPr>
          <a:xfrm>
            <a:off x="6418440" y="2610000"/>
            <a:ext cx="55440" cy="60120"/>
          </a:xfrm>
          <a:prstGeom prst="ellipse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"/>
          <p:cNvSpPr/>
          <p:nvPr/>
        </p:nvSpPr>
        <p:spPr>
          <a:xfrm>
            <a:off x="6418440" y="3265560"/>
            <a:ext cx="55440" cy="60120"/>
          </a:xfrm>
          <a:prstGeom prst="ellipse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"/>
          <p:cNvSpPr/>
          <p:nvPr/>
        </p:nvSpPr>
        <p:spPr>
          <a:xfrm>
            <a:off x="6410160" y="3984480"/>
            <a:ext cx="55800" cy="60480"/>
          </a:xfrm>
          <a:prstGeom prst="ellipse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"/>
          <p:cNvSpPr/>
          <p:nvPr/>
        </p:nvSpPr>
        <p:spPr>
          <a:xfrm>
            <a:off x="6478560" y="2635200"/>
            <a:ext cx="68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"/>
          <p:cNvSpPr/>
          <p:nvPr/>
        </p:nvSpPr>
        <p:spPr>
          <a:xfrm>
            <a:off x="6494400" y="3297240"/>
            <a:ext cx="662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1" name=""/>
          <p:cNvSpPr/>
          <p:nvPr/>
        </p:nvSpPr>
        <p:spPr>
          <a:xfrm>
            <a:off x="6494400" y="4019400"/>
            <a:ext cx="662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2" name=""/>
          <p:cNvSpPr/>
          <p:nvPr/>
        </p:nvSpPr>
        <p:spPr>
          <a:xfrm>
            <a:off x="4952880" y="4260960"/>
            <a:ext cx="3581640" cy="0"/>
          </a:xfrm>
          <a:prstGeom prst="line">
            <a:avLst/>
          </a:prstGeom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3" name=""/>
          <p:cNvSpPr/>
          <p:nvPr/>
        </p:nvSpPr>
        <p:spPr>
          <a:xfrm>
            <a:off x="5094360" y="4105440"/>
            <a:ext cx="55440" cy="60120"/>
          </a:xfrm>
          <a:prstGeom prst="ellipse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>
            <a:off x="8443800" y="4105440"/>
            <a:ext cx="55800" cy="60120"/>
          </a:xfrm>
          <a:prstGeom prst="ellipse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>
            <a:off x="5118120" y="4168800"/>
            <a:ext cx="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>
            <a:off x="8475840" y="4168800"/>
            <a:ext cx="0" cy="63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">
            <a:hlinkClick r:id="" action="ppaction://hlinkshowjump?jump=previousslide"/>
          </p:cNvPr>
          <p:cNvSpPr/>
          <p:nvPr/>
        </p:nvSpPr>
        <p:spPr>
          <a:xfrm>
            <a:off x="6781680" y="5943600"/>
            <a:ext cx="565200" cy="585720"/>
          </a:xfrm>
          <a:custGeom>
            <a:avLst/>
            <a:gdLst>
              <a:gd name="textAreaLeft" fmla="*/ 36360 w 565200"/>
              <a:gd name="textAreaRight" fmla="*/ 528840 w 565200"/>
              <a:gd name="textAreaTop" fmla="*/ 36360 h 585720"/>
              <a:gd name="textAreaBottom" fmla="*/ 549360 h 585720"/>
            </a:gdLst>
            <a:ahLst/>
            <a:rect l="textAreaLeft" t="textAreaTop" r="textAreaRight" b="textAreaBottom"/>
            <a:pathLst>
              <a:path w="21600" h="22384">
                <a:moveTo>
                  <a:pt x="0" y="0"/>
                </a:moveTo>
                <a:lnTo>
                  <a:pt x="21600" y="0"/>
                </a:lnTo>
                <a:lnTo>
                  <a:pt x="21600" y="22384"/>
                </a:lnTo>
                <a:lnTo>
                  <a:pt x="0" y="22384"/>
                </a:lnTo>
                <a:close/>
              </a:path>
              <a:path fill="lightenLess" w="21600" h="2238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84">
                <a:moveTo>
                  <a:pt x="21600" y="0"/>
                </a:moveTo>
                <a:lnTo>
                  <a:pt x="21600" y="22384"/>
                </a:lnTo>
                <a:lnTo>
                  <a:pt x="20200" y="20984"/>
                </a:lnTo>
                <a:lnTo>
                  <a:pt x="20200" y="1400"/>
                </a:lnTo>
                <a:close/>
              </a:path>
              <a:path fill="darkenLess" w="21600" h="22384">
                <a:moveTo>
                  <a:pt x="21600" y="22384"/>
                </a:moveTo>
                <a:lnTo>
                  <a:pt x="0" y="22384"/>
                </a:lnTo>
                <a:lnTo>
                  <a:pt x="1400" y="20984"/>
                </a:lnTo>
                <a:lnTo>
                  <a:pt x="20200" y="20984"/>
                </a:lnTo>
                <a:close/>
              </a:path>
              <a:path fill="lighten" w="21600" h="22384">
                <a:moveTo>
                  <a:pt x="0" y="2238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84"/>
                </a:lnTo>
                <a:close/>
              </a:path>
              <a:path fill="darken" w="21600" h="22384">
                <a:moveTo>
                  <a:pt x="3794" y="11192"/>
                </a:moveTo>
                <a:lnTo>
                  <a:pt x="17806" y="4185"/>
                </a:lnTo>
                <a:lnTo>
                  <a:pt x="17806" y="18198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">
            <a:hlinkClick r:id="" action="ppaction://hlinkshowjump?jump=nextslide"/>
          </p:cNvPr>
          <p:cNvSpPr/>
          <p:nvPr/>
        </p:nvSpPr>
        <p:spPr>
          <a:xfrm>
            <a:off x="7400880" y="5943600"/>
            <a:ext cx="566640" cy="585720"/>
          </a:xfrm>
          <a:custGeom>
            <a:avLst/>
            <a:gdLst>
              <a:gd name="textAreaLeft" fmla="*/ 36720 w 566640"/>
              <a:gd name="textAreaRight" fmla="*/ 529920 w 566640"/>
              <a:gd name="textAreaTop" fmla="*/ 36720 h 585720"/>
              <a:gd name="textAreaBottom" fmla="*/ 549000 h 585720"/>
            </a:gdLst>
            <a:ahLst/>
            <a:rect l="textAreaLeft" t="textAreaTop" r="textAreaRight" b="textAreaBottom"/>
            <a:pathLst>
              <a:path w="21600" h="22327">
                <a:moveTo>
                  <a:pt x="0" y="0"/>
                </a:moveTo>
                <a:lnTo>
                  <a:pt x="21600" y="0"/>
                </a:lnTo>
                <a:lnTo>
                  <a:pt x="21600" y="22327"/>
                </a:lnTo>
                <a:lnTo>
                  <a:pt x="0" y="22327"/>
                </a:lnTo>
                <a:close/>
              </a:path>
              <a:path fill="lightenLess" w="21600" h="223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27">
                <a:moveTo>
                  <a:pt x="21600" y="0"/>
                </a:moveTo>
                <a:lnTo>
                  <a:pt x="21600" y="22327"/>
                </a:lnTo>
                <a:lnTo>
                  <a:pt x="20200" y="20927"/>
                </a:lnTo>
                <a:lnTo>
                  <a:pt x="20200" y="1400"/>
                </a:lnTo>
                <a:close/>
              </a:path>
              <a:path fill="darkenLess" w="21600" h="22327">
                <a:moveTo>
                  <a:pt x="21600" y="22327"/>
                </a:moveTo>
                <a:lnTo>
                  <a:pt x="0" y="22327"/>
                </a:lnTo>
                <a:lnTo>
                  <a:pt x="1400" y="20927"/>
                </a:lnTo>
                <a:lnTo>
                  <a:pt x="20200" y="20927"/>
                </a:lnTo>
                <a:close/>
              </a:path>
              <a:path fill="lighten" w="21600" h="22327">
                <a:moveTo>
                  <a:pt x="0" y="223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27"/>
                </a:lnTo>
                <a:close/>
              </a:path>
              <a:path fill="darken" w="21600" h="22327">
                <a:moveTo>
                  <a:pt x="3794" y="4157"/>
                </a:moveTo>
                <a:lnTo>
                  <a:pt x="17806" y="11163"/>
                </a:lnTo>
                <a:lnTo>
                  <a:pt x="3794" y="1817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">
            <a:hlinkClick r:id="" action="ppaction://hlinkshowjump?jump=firstslide"/>
          </p:cNvPr>
          <p:cNvSpPr/>
          <p:nvPr/>
        </p:nvSpPr>
        <p:spPr>
          <a:xfrm>
            <a:off x="8021520" y="5943600"/>
            <a:ext cx="565200" cy="585720"/>
          </a:xfrm>
          <a:custGeom>
            <a:avLst/>
            <a:gdLst>
              <a:gd name="textAreaLeft" fmla="*/ 36360 w 565200"/>
              <a:gd name="textAreaRight" fmla="*/ 528840 w 565200"/>
              <a:gd name="textAreaTop" fmla="*/ 36360 h 585720"/>
              <a:gd name="textAreaBottom" fmla="*/ 549360 h 585720"/>
            </a:gdLst>
            <a:ahLst/>
            <a:rect l="textAreaLeft" t="textAreaTop" r="textAreaRight" b="textAreaBottom"/>
            <a:pathLst>
              <a:path w="21600" h="22384">
                <a:moveTo>
                  <a:pt x="0" y="0"/>
                </a:moveTo>
                <a:lnTo>
                  <a:pt x="21600" y="0"/>
                </a:lnTo>
                <a:lnTo>
                  <a:pt x="21600" y="22384"/>
                </a:lnTo>
                <a:lnTo>
                  <a:pt x="0" y="22384"/>
                </a:lnTo>
                <a:close/>
              </a:path>
              <a:path fill="lightenLess" w="21600" h="2238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84">
                <a:moveTo>
                  <a:pt x="21600" y="0"/>
                </a:moveTo>
                <a:lnTo>
                  <a:pt x="21600" y="22384"/>
                </a:lnTo>
                <a:lnTo>
                  <a:pt x="20200" y="20984"/>
                </a:lnTo>
                <a:lnTo>
                  <a:pt x="20200" y="1400"/>
                </a:lnTo>
                <a:close/>
              </a:path>
              <a:path fill="darkenLess" w="21600" h="22384">
                <a:moveTo>
                  <a:pt x="21600" y="22384"/>
                </a:moveTo>
                <a:lnTo>
                  <a:pt x="0" y="22384"/>
                </a:lnTo>
                <a:lnTo>
                  <a:pt x="1400" y="20984"/>
                </a:lnTo>
                <a:lnTo>
                  <a:pt x="20200" y="20984"/>
                </a:lnTo>
                <a:close/>
              </a:path>
              <a:path fill="lighten" w="21600" h="22384">
                <a:moveTo>
                  <a:pt x="0" y="2238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84"/>
                </a:lnTo>
                <a:close/>
              </a:path>
              <a:path fill="darken" w="21600" h="22384">
                <a:moveTo>
                  <a:pt x="7301" y="11192"/>
                </a:moveTo>
                <a:lnTo>
                  <a:pt x="17806" y="4185"/>
                </a:lnTo>
                <a:lnTo>
                  <a:pt x="17806" y="18198"/>
                </a:lnTo>
                <a:close/>
              </a:path>
              <a:path fill="darken" w="21600" h="22384">
                <a:moveTo>
                  <a:pt x="3794" y="4185"/>
                </a:moveTo>
                <a:lnTo>
                  <a:pt x="5456" y="4185"/>
                </a:lnTo>
                <a:lnTo>
                  <a:pt x="5456" y="18198"/>
                </a:lnTo>
                <a:lnTo>
                  <a:pt x="3794" y="18198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0" name=""/>
          <p:cNvSpPr/>
          <p:nvPr/>
        </p:nvSpPr>
        <p:spPr>
          <a:xfrm>
            <a:off x="1397160" y="2292480"/>
            <a:ext cx="4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"/>
          <p:cNvSpPr/>
          <p:nvPr/>
        </p:nvSpPr>
        <p:spPr>
          <a:xfrm>
            <a:off x="2252880" y="2292480"/>
            <a:ext cx="4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2" name=""/>
          <p:cNvSpPr/>
          <p:nvPr/>
        </p:nvSpPr>
        <p:spPr>
          <a:xfrm>
            <a:off x="3269880" y="22780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L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3" name=""/>
          <p:cNvSpPr/>
          <p:nvPr/>
        </p:nvSpPr>
        <p:spPr>
          <a:xfrm>
            <a:off x="4184280" y="2263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"/>
          <p:cNvSpPr/>
          <p:nvPr/>
        </p:nvSpPr>
        <p:spPr>
          <a:xfrm>
            <a:off x="4935960" y="373860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K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5" name=""/>
          <p:cNvSpPr/>
          <p:nvPr/>
        </p:nvSpPr>
        <p:spPr>
          <a:xfrm>
            <a:off x="8064720" y="3724200"/>
            <a:ext cx="49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K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"/>
          <p:cNvSpPr/>
          <p:nvPr/>
        </p:nvSpPr>
        <p:spPr>
          <a:xfrm>
            <a:off x="7179840" y="248616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H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7" name=""/>
          <p:cNvSpPr/>
          <p:nvPr/>
        </p:nvSpPr>
        <p:spPr>
          <a:xfrm>
            <a:off x="7178760" y="3857760"/>
            <a:ext cx="4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D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"/>
          <p:cNvSpPr/>
          <p:nvPr/>
        </p:nvSpPr>
        <p:spPr>
          <a:xfrm>
            <a:off x="7148880" y="31798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600" spc="-1" strike="noStrike">
                <a:solidFill>
                  <a:srgbClr val="221304"/>
                </a:solidFill>
                <a:latin typeface="Times New Roman"/>
              </a:rPr>
              <a:t>p</a:t>
            </a:r>
            <a:r>
              <a:rPr b="1" i="1" lang="en-US" sz="1600" spc="-1" strike="noStrike">
                <a:solidFill>
                  <a:srgbClr val="221304"/>
                </a:solidFill>
                <a:latin typeface="Times New Roman"/>
              </a:rPr>
              <a:t>okra</a:t>
            </a:r>
            <a:r>
              <a:rPr b="1" i="1" lang="sk-SK" sz="1600" spc="-1" strike="noStrike">
                <a:solidFill>
                  <a:srgbClr val="221304"/>
                </a:solidFill>
                <a:latin typeface="Times New Roman"/>
              </a:rPr>
              <a:t>čovanie zadania</a:t>
            </a:r>
            <a:endParaRPr b="0" lang="en-US" sz="16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0" name=""/>
          <p:cNvSpPr/>
          <p:nvPr/>
        </p:nvSpPr>
        <p:spPr>
          <a:xfrm>
            <a:off x="5548320" y="1662120"/>
            <a:ext cx="3276720" cy="35146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"/>
          <p:cNvSpPr/>
          <p:nvPr/>
        </p:nvSpPr>
        <p:spPr>
          <a:xfrm>
            <a:off x="990720" y="1676520"/>
            <a:ext cx="4495680" cy="350496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Z</a:t>
            </a:r>
            <a:r>
              <a:rPr b="1" lang="sk-SK" sz="4400" spc="-1" strike="noStrike">
                <a:solidFill>
                  <a:srgbClr val="221304"/>
                </a:solidFill>
                <a:latin typeface="Times New Roman"/>
              </a:rPr>
              <a:t>adanie </a:t>
            </a: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20</a:t>
            </a:r>
            <a:r>
              <a:rPr b="0" i="1" lang="sk-SK" sz="4400" spc="-1" strike="noStrike">
                <a:solidFill>
                  <a:srgbClr val="221304"/>
                </a:solidFill>
                <a:latin typeface="Times New Roman"/>
              </a:rPr>
              <a:t>:</a:t>
            </a:r>
            <a:r>
              <a:rPr b="1" i="1" lang="sk-SK" sz="4400" spc="-1" strike="noStrike">
                <a:solidFill>
                  <a:srgbClr val="221304"/>
                </a:solidFill>
                <a:latin typeface="Times New Roman"/>
              </a:rPr>
              <a:t>Programovacia hlav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63" name=""/>
          <p:cNvSpPr/>
          <p:nvPr/>
        </p:nvSpPr>
        <p:spPr>
          <a:xfrm>
            <a:off x="2320920" y="3313080"/>
            <a:ext cx="291960" cy="4932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"/>
          <p:cNvSpPr/>
          <p:nvPr/>
        </p:nvSpPr>
        <p:spPr>
          <a:xfrm>
            <a:off x="1832040" y="2133720"/>
            <a:ext cx="3371760" cy="295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5" name=""/>
          <p:cNvSpPr/>
          <p:nvPr/>
        </p:nvSpPr>
        <p:spPr>
          <a:xfrm>
            <a:off x="2125800" y="2428920"/>
            <a:ext cx="242640" cy="9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6" name=""/>
          <p:cNvSpPr/>
          <p:nvPr/>
        </p:nvSpPr>
        <p:spPr>
          <a:xfrm>
            <a:off x="2563920" y="2428920"/>
            <a:ext cx="244440" cy="9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"/>
          <p:cNvSpPr/>
          <p:nvPr/>
        </p:nvSpPr>
        <p:spPr>
          <a:xfrm>
            <a:off x="3102120" y="2428920"/>
            <a:ext cx="244440" cy="9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"/>
          <p:cNvSpPr/>
          <p:nvPr/>
        </p:nvSpPr>
        <p:spPr>
          <a:xfrm>
            <a:off x="3736800" y="2428920"/>
            <a:ext cx="244800" cy="9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9" name=""/>
          <p:cNvSpPr/>
          <p:nvPr/>
        </p:nvSpPr>
        <p:spPr>
          <a:xfrm>
            <a:off x="4127400" y="2428920"/>
            <a:ext cx="244440" cy="9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0" name=""/>
          <p:cNvSpPr/>
          <p:nvPr/>
        </p:nvSpPr>
        <p:spPr>
          <a:xfrm>
            <a:off x="2271600" y="2674800"/>
            <a:ext cx="390600" cy="638280"/>
          </a:xfrm>
          <a:prstGeom prst="rect">
            <a:avLst/>
          </a:prstGeom>
          <a:solidFill>
            <a:srgbClr val="ffcc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1" name=""/>
          <p:cNvSpPr/>
          <p:nvPr/>
        </p:nvSpPr>
        <p:spPr>
          <a:xfrm>
            <a:off x="2417760" y="2478240"/>
            <a:ext cx="98280" cy="1031760"/>
          </a:xfrm>
          <a:prstGeom prst="rect">
            <a:avLst/>
          </a:prstGeom>
          <a:solidFill>
            <a:srgbClr val="ffcc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"/>
          <p:cNvSpPr/>
          <p:nvPr/>
        </p:nvSpPr>
        <p:spPr>
          <a:xfrm>
            <a:off x="2320920" y="3510000"/>
            <a:ext cx="291960" cy="49320"/>
          </a:xfrm>
          <a:prstGeom prst="rect">
            <a:avLst/>
          </a:prstGeom>
          <a:solidFill>
            <a:srgbClr val="ffcc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3" name=""/>
          <p:cNvSpPr/>
          <p:nvPr/>
        </p:nvSpPr>
        <p:spPr>
          <a:xfrm flipH="1">
            <a:off x="2320560" y="3362400"/>
            <a:ext cx="291960" cy="4896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4" name=""/>
          <p:cNvSpPr/>
          <p:nvPr/>
        </p:nvSpPr>
        <p:spPr>
          <a:xfrm>
            <a:off x="2368440" y="2133720"/>
            <a:ext cx="195480" cy="9828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5" name=""/>
          <p:cNvSpPr/>
          <p:nvPr/>
        </p:nvSpPr>
        <p:spPr>
          <a:xfrm>
            <a:off x="2808360" y="2133720"/>
            <a:ext cx="293760" cy="9828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6" name=""/>
          <p:cNvSpPr/>
          <p:nvPr/>
        </p:nvSpPr>
        <p:spPr>
          <a:xfrm>
            <a:off x="3346560" y="2133720"/>
            <a:ext cx="390240" cy="9828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7" name=""/>
          <p:cNvSpPr/>
          <p:nvPr/>
        </p:nvSpPr>
        <p:spPr>
          <a:xfrm>
            <a:off x="3981600" y="2133720"/>
            <a:ext cx="145800" cy="9828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8" name=""/>
          <p:cNvSpPr/>
          <p:nvPr/>
        </p:nvSpPr>
        <p:spPr>
          <a:xfrm flipH="1">
            <a:off x="2320560" y="3460680"/>
            <a:ext cx="291960" cy="4932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9" name=""/>
          <p:cNvSpPr/>
          <p:nvPr/>
        </p:nvSpPr>
        <p:spPr>
          <a:xfrm>
            <a:off x="2320920" y="3411360"/>
            <a:ext cx="291960" cy="4932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0" name=""/>
          <p:cNvSpPr/>
          <p:nvPr/>
        </p:nvSpPr>
        <p:spPr>
          <a:xfrm>
            <a:off x="2173320" y="3805200"/>
            <a:ext cx="293760" cy="4932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1" name=""/>
          <p:cNvSpPr/>
          <p:nvPr/>
        </p:nvSpPr>
        <p:spPr>
          <a:xfrm>
            <a:off x="1685880" y="2625840"/>
            <a:ext cx="3370320" cy="2952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2" name=""/>
          <p:cNvSpPr/>
          <p:nvPr/>
        </p:nvSpPr>
        <p:spPr>
          <a:xfrm>
            <a:off x="1978200" y="2921040"/>
            <a:ext cx="244440" cy="982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3" name=""/>
          <p:cNvSpPr/>
          <p:nvPr/>
        </p:nvSpPr>
        <p:spPr>
          <a:xfrm>
            <a:off x="2417760" y="2921040"/>
            <a:ext cx="244440" cy="982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4" name=""/>
          <p:cNvSpPr/>
          <p:nvPr/>
        </p:nvSpPr>
        <p:spPr>
          <a:xfrm>
            <a:off x="2954160" y="2921040"/>
            <a:ext cx="244800" cy="982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5" name=""/>
          <p:cNvSpPr/>
          <p:nvPr/>
        </p:nvSpPr>
        <p:spPr>
          <a:xfrm>
            <a:off x="3589200" y="2921040"/>
            <a:ext cx="244440" cy="982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6" name=""/>
          <p:cNvSpPr/>
          <p:nvPr/>
        </p:nvSpPr>
        <p:spPr>
          <a:xfrm>
            <a:off x="3979800" y="2921040"/>
            <a:ext cx="244440" cy="982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7" name=""/>
          <p:cNvSpPr/>
          <p:nvPr/>
        </p:nvSpPr>
        <p:spPr>
          <a:xfrm>
            <a:off x="2125800" y="3166920"/>
            <a:ext cx="390240" cy="638280"/>
          </a:xfrm>
          <a:prstGeom prst="rect">
            <a:avLst/>
          </a:prstGeom>
          <a:solidFill>
            <a:srgbClr val="ff3399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8" name=""/>
          <p:cNvSpPr/>
          <p:nvPr/>
        </p:nvSpPr>
        <p:spPr>
          <a:xfrm>
            <a:off x="2271600" y="2970360"/>
            <a:ext cx="96840" cy="1031760"/>
          </a:xfrm>
          <a:prstGeom prst="rect">
            <a:avLst/>
          </a:prstGeom>
          <a:solidFill>
            <a:srgbClr val="ff3399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9" name=""/>
          <p:cNvSpPr/>
          <p:nvPr/>
        </p:nvSpPr>
        <p:spPr>
          <a:xfrm>
            <a:off x="2173320" y="4002120"/>
            <a:ext cx="293760" cy="49320"/>
          </a:xfrm>
          <a:prstGeom prst="rect">
            <a:avLst/>
          </a:prstGeom>
          <a:solidFill>
            <a:srgbClr val="ff3399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0" name=""/>
          <p:cNvSpPr/>
          <p:nvPr/>
        </p:nvSpPr>
        <p:spPr>
          <a:xfrm flipH="1">
            <a:off x="2173320" y="3854520"/>
            <a:ext cx="293760" cy="4932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1" name=""/>
          <p:cNvSpPr/>
          <p:nvPr/>
        </p:nvSpPr>
        <p:spPr>
          <a:xfrm>
            <a:off x="2222640" y="2625840"/>
            <a:ext cx="195120" cy="9828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2" name=""/>
          <p:cNvSpPr/>
          <p:nvPr/>
        </p:nvSpPr>
        <p:spPr>
          <a:xfrm>
            <a:off x="2662200" y="2625840"/>
            <a:ext cx="291960" cy="9828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3" name=""/>
          <p:cNvSpPr/>
          <p:nvPr/>
        </p:nvSpPr>
        <p:spPr>
          <a:xfrm>
            <a:off x="3198960" y="2625840"/>
            <a:ext cx="390240" cy="9828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4" name=""/>
          <p:cNvSpPr/>
          <p:nvPr/>
        </p:nvSpPr>
        <p:spPr>
          <a:xfrm>
            <a:off x="3833640" y="2625840"/>
            <a:ext cx="146160" cy="9828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5" name=""/>
          <p:cNvSpPr/>
          <p:nvPr/>
        </p:nvSpPr>
        <p:spPr>
          <a:xfrm flipH="1">
            <a:off x="2173320" y="3952800"/>
            <a:ext cx="293760" cy="4932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6" name=""/>
          <p:cNvSpPr/>
          <p:nvPr/>
        </p:nvSpPr>
        <p:spPr>
          <a:xfrm>
            <a:off x="2173320" y="3903840"/>
            <a:ext cx="293760" cy="4896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7" name=""/>
          <p:cNvSpPr/>
          <p:nvPr/>
        </p:nvSpPr>
        <p:spPr>
          <a:xfrm>
            <a:off x="1978200" y="4295880"/>
            <a:ext cx="291960" cy="4896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8" name=""/>
          <p:cNvSpPr/>
          <p:nvPr/>
        </p:nvSpPr>
        <p:spPr>
          <a:xfrm>
            <a:off x="1488960" y="3116160"/>
            <a:ext cx="3372120" cy="295200"/>
          </a:xfrm>
          <a:prstGeom prst="rect">
            <a:avLst/>
          </a:prstGeom>
          <a:solidFill>
            <a:srgbClr val="3694b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9" name=""/>
          <p:cNvSpPr/>
          <p:nvPr/>
        </p:nvSpPr>
        <p:spPr>
          <a:xfrm>
            <a:off x="1782720" y="3411360"/>
            <a:ext cx="243000" cy="98640"/>
          </a:xfrm>
          <a:prstGeom prst="rect">
            <a:avLst/>
          </a:prstGeom>
          <a:solidFill>
            <a:srgbClr val="3694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0" name=""/>
          <p:cNvSpPr/>
          <p:nvPr/>
        </p:nvSpPr>
        <p:spPr>
          <a:xfrm>
            <a:off x="2220840" y="3411360"/>
            <a:ext cx="244440" cy="98640"/>
          </a:xfrm>
          <a:prstGeom prst="rect">
            <a:avLst/>
          </a:prstGeom>
          <a:solidFill>
            <a:srgbClr val="3694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"/>
          <p:cNvSpPr/>
          <p:nvPr/>
        </p:nvSpPr>
        <p:spPr>
          <a:xfrm>
            <a:off x="2759040" y="3411360"/>
            <a:ext cx="244440" cy="98640"/>
          </a:xfrm>
          <a:prstGeom prst="rect">
            <a:avLst/>
          </a:prstGeom>
          <a:solidFill>
            <a:srgbClr val="3694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2" name=""/>
          <p:cNvSpPr/>
          <p:nvPr/>
        </p:nvSpPr>
        <p:spPr>
          <a:xfrm>
            <a:off x="3394080" y="3411360"/>
            <a:ext cx="244440" cy="98640"/>
          </a:xfrm>
          <a:prstGeom prst="rect">
            <a:avLst/>
          </a:prstGeom>
          <a:solidFill>
            <a:srgbClr val="3694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3" name=""/>
          <p:cNvSpPr/>
          <p:nvPr/>
        </p:nvSpPr>
        <p:spPr>
          <a:xfrm>
            <a:off x="3784680" y="3411360"/>
            <a:ext cx="244440" cy="98640"/>
          </a:xfrm>
          <a:prstGeom prst="rect">
            <a:avLst/>
          </a:prstGeom>
          <a:solidFill>
            <a:srgbClr val="3694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4" name=""/>
          <p:cNvSpPr/>
          <p:nvPr/>
        </p:nvSpPr>
        <p:spPr>
          <a:xfrm>
            <a:off x="1928880" y="3657600"/>
            <a:ext cx="390600" cy="638280"/>
          </a:xfrm>
          <a:prstGeom prst="rect">
            <a:avLst/>
          </a:prstGeom>
          <a:solidFill>
            <a:srgbClr val="3694b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5" name=""/>
          <p:cNvSpPr/>
          <p:nvPr/>
        </p:nvSpPr>
        <p:spPr>
          <a:xfrm>
            <a:off x="2075040" y="3460680"/>
            <a:ext cx="98280" cy="1032120"/>
          </a:xfrm>
          <a:prstGeom prst="rect">
            <a:avLst/>
          </a:prstGeom>
          <a:solidFill>
            <a:srgbClr val="3694b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6" name=""/>
          <p:cNvSpPr/>
          <p:nvPr/>
        </p:nvSpPr>
        <p:spPr>
          <a:xfrm>
            <a:off x="1978200" y="4492800"/>
            <a:ext cx="291960" cy="48960"/>
          </a:xfrm>
          <a:prstGeom prst="rect">
            <a:avLst/>
          </a:prstGeom>
          <a:solidFill>
            <a:srgbClr val="3694b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7" name=""/>
          <p:cNvSpPr/>
          <p:nvPr/>
        </p:nvSpPr>
        <p:spPr>
          <a:xfrm flipH="1">
            <a:off x="1977840" y="4344840"/>
            <a:ext cx="291960" cy="4932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8" name=""/>
          <p:cNvSpPr/>
          <p:nvPr/>
        </p:nvSpPr>
        <p:spPr>
          <a:xfrm>
            <a:off x="2025720" y="3116160"/>
            <a:ext cx="195120" cy="9864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9" name=""/>
          <p:cNvSpPr/>
          <p:nvPr/>
        </p:nvSpPr>
        <p:spPr>
          <a:xfrm>
            <a:off x="2465280" y="3116160"/>
            <a:ext cx="293760" cy="9864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0" name=""/>
          <p:cNvSpPr/>
          <p:nvPr/>
        </p:nvSpPr>
        <p:spPr>
          <a:xfrm>
            <a:off x="3003480" y="3116160"/>
            <a:ext cx="390600" cy="9864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1" name=""/>
          <p:cNvSpPr/>
          <p:nvPr/>
        </p:nvSpPr>
        <p:spPr>
          <a:xfrm>
            <a:off x="3638520" y="3116160"/>
            <a:ext cx="146160" cy="9864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2" name=""/>
          <p:cNvSpPr/>
          <p:nvPr/>
        </p:nvSpPr>
        <p:spPr>
          <a:xfrm flipH="1">
            <a:off x="1977840" y="4443480"/>
            <a:ext cx="291960" cy="4932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"/>
          <p:cNvSpPr/>
          <p:nvPr/>
        </p:nvSpPr>
        <p:spPr>
          <a:xfrm>
            <a:off x="1978200" y="4394160"/>
            <a:ext cx="291960" cy="4932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4" name=""/>
          <p:cNvSpPr/>
          <p:nvPr/>
        </p:nvSpPr>
        <p:spPr>
          <a:xfrm>
            <a:off x="1782720" y="4788000"/>
            <a:ext cx="293760" cy="4896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5" name=""/>
          <p:cNvSpPr/>
          <p:nvPr/>
        </p:nvSpPr>
        <p:spPr>
          <a:xfrm>
            <a:off x="1295280" y="3608280"/>
            <a:ext cx="3370320" cy="295560"/>
          </a:xfrm>
          <a:prstGeom prst="rect">
            <a:avLst/>
          </a:prstGeom>
          <a:solidFill>
            <a:srgbClr val="fefde3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6" name=""/>
          <p:cNvSpPr/>
          <p:nvPr/>
        </p:nvSpPr>
        <p:spPr>
          <a:xfrm>
            <a:off x="1587600" y="3903840"/>
            <a:ext cx="244440" cy="98280"/>
          </a:xfrm>
          <a:prstGeom prst="rect">
            <a:avLst/>
          </a:pr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7" name=""/>
          <p:cNvSpPr/>
          <p:nvPr/>
        </p:nvSpPr>
        <p:spPr>
          <a:xfrm>
            <a:off x="2027160" y="3903840"/>
            <a:ext cx="244440" cy="98280"/>
          </a:xfrm>
          <a:prstGeom prst="rect">
            <a:avLst/>
          </a:pr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8" name=""/>
          <p:cNvSpPr/>
          <p:nvPr/>
        </p:nvSpPr>
        <p:spPr>
          <a:xfrm>
            <a:off x="2563920" y="3903840"/>
            <a:ext cx="244440" cy="98280"/>
          </a:xfrm>
          <a:prstGeom prst="rect">
            <a:avLst/>
          </a:pr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9" name=""/>
          <p:cNvSpPr/>
          <p:nvPr/>
        </p:nvSpPr>
        <p:spPr>
          <a:xfrm>
            <a:off x="3198960" y="3903840"/>
            <a:ext cx="244440" cy="98280"/>
          </a:xfrm>
          <a:prstGeom prst="rect">
            <a:avLst/>
          </a:pr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0" name=""/>
          <p:cNvSpPr/>
          <p:nvPr/>
        </p:nvSpPr>
        <p:spPr>
          <a:xfrm>
            <a:off x="3589200" y="3903840"/>
            <a:ext cx="244440" cy="98280"/>
          </a:xfrm>
          <a:prstGeom prst="rect">
            <a:avLst/>
          </a:pr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1" name=""/>
          <p:cNvSpPr/>
          <p:nvPr/>
        </p:nvSpPr>
        <p:spPr>
          <a:xfrm>
            <a:off x="1735200" y="4149720"/>
            <a:ext cx="390600" cy="638280"/>
          </a:xfrm>
          <a:prstGeom prst="rect">
            <a:avLst/>
          </a:pr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2" name=""/>
          <p:cNvSpPr/>
          <p:nvPr/>
        </p:nvSpPr>
        <p:spPr>
          <a:xfrm>
            <a:off x="1881360" y="3952800"/>
            <a:ext cx="96840" cy="103212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3" name=""/>
          <p:cNvSpPr/>
          <p:nvPr/>
        </p:nvSpPr>
        <p:spPr>
          <a:xfrm>
            <a:off x="1782720" y="4984920"/>
            <a:ext cx="293760" cy="489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4" name=""/>
          <p:cNvSpPr/>
          <p:nvPr/>
        </p:nvSpPr>
        <p:spPr>
          <a:xfrm flipH="1">
            <a:off x="1782720" y="4836960"/>
            <a:ext cx="293760" cy="4932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5" name=""/>
          <p:cNvSpPr/>
          <p:nvPr/>
        </p:nvSpPr>
        <p:spPr>
          <a:xfrm>
            <a:off x="1832040" y="3608280"/>
            <a:ext cx="195120" cy="9864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6" name=""/>
          <p:cNvSpPr/>
          <p:nvPr/>
        </p:nvSpPr>
        <p:spPr>
          <a:xfrm>
            <a:off x="2271600" y="3608280"/>
            <a:ext cx="292320" cy="9864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7" name=""/>
          <p:cNvSpPr/>
          <p:nvPr/>
        </p:nvSpPr>
        <p:spPr>
          <a:xfrm>
            <a:off x="2808360" y="3608280"/>
            <a:ext cx="390600" cy="9864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8" name=""/>
          <p:cNvSpPr/>
          <p:nvPr/>
        </p:nvSpPr>
        <p:spPr>
          <a:xfrm>
            <a:off x="3443400" y="3608280"/>
            <a:ext cx="145800" cy="9864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9" name=""/>
          <p:cNvSpPr/>
          <p:nvPr/>
        </p:nvSpPr>
        <p:spPr>
          <a:xfrm flipH="1">
            <a:off x="1782720" y="4935600"/>
            <a:ext cx="293760" cy="4932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0" name=""/>
          <p:cNvSpPr/>
          <p:nvPr/>
        </p:nvSpPr>
        <p:spPr>
          <a:xfrm>
            <a:off x="1782720" y="4886280"/>
            <a:ext cx="293760" cy="4932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1" name=""/>
          <p:cNvSpPr/>
          <p:nvPr/>
        </p:nvSpPr>
        <p:spPr>
          <a:xfrm>
            <a:off x="6257880" y="3432240"/>
            <a:ext cx="249120" cy="4932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2" name=""/>
          <p:cNvSpPr/>
          <p:nvPr/>
        </p:nvSpPr>
        <p:spPr>
          <a:xfrm>
            <a:off x="5840280" y="2259000"/>
            <a:ext cx="2878200" cy="293760"/>
          </a:xfrm>
          <a:prstGeom prst="rect">
            <a:avLst/>
          </a:pr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3" name=""/>
          <p:cNvSpPr/>
          <p:nvPr/>
        </p:nvSpPr>
        <p:spPr>
          <a:xfrm>
            <a:off x="6091200" y="2552760"/>
            <a:ext cx="208080" cy="96840"/>
          </a:xfrm>
          <a:prstGeom prst="rect">
            <a:avLst/>
          </a:pr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4" name=""/>
          <p:cNvSpPr/>
          <p:nvPr/>
        </p:nvSpPr>
        <p:spPr>
          <a:xfrm>
            <a:off x="6465960" y="2552760"/>
            <a:ext cx="207720" cy="96840"/>
          </a:xfrm>
          <a:prstGeom prst="rect">
            <a:avLst/>
          </a:pr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5" name=""/>
          <p:cNvSpPr/>
          <p:nvPr/>
        </p:nvSpPr>
        <p:spPr>
          <a:xfrm>
            <a:off x="6924600" y="2552760"/>
            <a:ext cx="208080" cy="96840"/>
          </a:xfrm>
          <a:prstGeom prst="rect">
            <a:avLst/>
          </a:pr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6" name=""/>
          <p:cNvSpPr/>
          <p:nvPr/>
        </p:nvSpPr>
        <p:spPr>
          <a:xfrm>
            <a:off x="7466040" y="2552760"/>
            <a:ext cx="208080" cy="96840"/>
          </a:xfrm>
          <a:prstGeom prst="rect">
            <a:avLst/>
          </a:pr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7" name=""/>
          <p:cNvSpPr/>
          <p:nvPr/>
        </p:nvSpPr>
        <p:spPr>
          <a:xfrm>
            <a:off x="7799400" y="2552760"/>
            <a:ext cx="208080" cy="96840"/>
          </a:xfrm>
          <a:prstGeom prst="rect">
            <a:avLst/>
          </a:pr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8" name=""/>
          <p:cNvSpPr/>
          <p:nvPr/>
        </p:nvSpPr>
        <p:spPr>
          <a:xfrm>
            <a:off x="6215040" y="2797200"/>
            <a:ext cx="333360" cy="63504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9" name=""/>
          <p:cNvSpPr/>
          <p:nvPr/>
        </p:nvSpPr>
        <p:spPr>
          <a:xfrm>
            <a:off x="6340320" y="2602080"/>
            <a:ext cx="84240" cy="1025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0" name=""/>
          <p:cNvSpPr/>
          <p:nvPr/>
        </p:nvSpPr>
        <p:spPr>
          <a:xfrm>
            <a:off x="6257880" y="3627360"/>
            <a:ext cx="249120" cy="493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1" name=""/>
          <p:cNvSpPr/>
          <p:nvPr/>
        </p:nvSpPr>
        <p:spPr>
          <a:xfrm flipH="1">
            <a:off x="6257880" y="3481560"/>
            <a:ext cx="249120" cy="4896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2" name=""/>
          <p:cNvSpPr/>
          <p:nvPr/>
        </p:nvSpPr>
        <p:spPr>
          <a:xfrm>
            <a:off x="6299280" y="2259000"/>
            <a:ext cx="166680" cy="9828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3" name=""/>
          <p:cNvSpPr/>
          <p:nvPr/>
        </p:nvSpPr>
        <p:spPr>
          <a:xfrm>
            <a:off x="6673680" y="2259000"/>
            <a:ext cx="250920" cy="9828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4" name=""/>
          <p:cNvSpPr/>
          <p:nvPr/>
        </p:nvSpPr>
        <p:spPr>
          <a:xfrm>
            <a:off x="7132680" y="2259000"/>
            <a:ext cx="333360" cy="9828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5" name=""/>
          <p:cNvSpPr/>
          <p:nvPr/>
        </p:nvSpPr>
        <p:spPr>
          <a:xfrm>
            <a:off x="7674120" y="2259000"/>
            <a:ext cx="125280" cy="9828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6" name=""/>
          <p:cNvSpPr/>
          <p:nvPr/>
        </p:nvSpPr>
        <p:spPr>
          <a:xfrm flipH="1">
            <a:off x="6257880" y="3578400"/>
            <a:ext cx="249120" cy="4896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7" name=""/>
          <p:cNvSpPr/>
          <p:nvPr/>
        </p:nvSpPr>
        <p:spPr>
          <a:xfrm>
            <a:off x="6257880" y="3530520"/>
            <a:ext cx="249120" cy="4788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8" name=""/>
          <p:cNvSpPr/>
          <p:nvPr/>
        </p:nvSpPr>
        <p:spPr>
          <a:xfrm rot="5400000">
            <a:off x="6589080" y="2928600"/>
            <a:ext cx="293760" cy="125640"/>
          </a:xfrm>
          <a:prstGeom prst="rightArrow">
            <a:avLst>
              <a:gd name="adj1" fmla="val 50000"/>
              <a:gd name="adj2" fmla="val 58453"/>
            </a:avLst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9" name=""/>
          <p:cNvSpPr/>
          <p:nvPr/>
        </p:nvSpPr>
        <p:spPr>
          <a:xfrm flipH="1" rot="5400000">
            <a:off x="6588720" y="3368520"/>
            <a:ext cx="293760" cy="125640"/>
          </a:xfrm>
          <a:prstGeom prst="rightArrow">
            <a:avLst>
              <a:gd name="adj1" fmla="val 50000"/>
              <a:gd name="adj2" fmla="val 58453"/>
            </a:avLst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0" name=""/>
          <p:cNvSpPr/>
          <p:nvPr/>
        </p:nvSpPr>
        <p:spPr>
          <a:xfrm>
            <a:off x="5715000" y="3187800"/>
            <a:ext cx="500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"/>
          <p:cNvSpPr/>
          <p:nvPr/>
        </p:nvSpPr>
        <p:spPr>
          <a:xfrm>
            <a:off x="8175600" y="2992320"/>
            <a:ext cx="290520" cy="53676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2" name=""/>
          <p:cNvSpPr/>
          <p:nvPr/>
        </p:nvSpPr>
        <p:spPr>
          <a:xfrm>
            <a:off x="8258040" y="2209680"/>
            <a:ext cx="125640" cy="1027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3" name=""/>
          <p:cNvSpPr/>
          <p:nvPr/>
        </p:nvSpPr>
        <p:spPr>
          <a:xfrm>
            <a:off x="7632720" y="3284640"/>
            <a:ext cx="501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4" name=""/>
          <p:cNvGrpSpPr/>
          <p:nvPr/>
        </p:nvGrpSpPr>
        <p:grpSpPr>
          <a:xfrm>
            <a:off x="6781680" y="5943600"/>
            <a:ext cx="1805040" cy="585720"/>
            <a:chOff x="6781680" y="5943600"/>
            <a:chExt cx="1805040" cy="585720"/>
          </a:xfrm>
        </p:grpSpPr>
        <p:sp>
          <p:nvSpPr>
            <p:cNvPr id="2755" name="">
              <a:hlinkClick r:id="" action="ppaction://hlinkshowjump?jump=previousslide"/>
            </p:cNvPr>
            <p:cNvSpPr/>
            <p:nvPr/>
          </p:nvSpPr>
          <p:spPr>
            <a:xfrm>
              <a:off x="6781680" y="5943600"/>
              <a:ext cx="565200" cy="585720"/>
            </a:xfrm>
            <a:custGeom>
              <a:avLst/>
              <a:gdLst>
                <a:gd name="textAreaLeft" fmla="*/ 36360 w 565200"/>
                <a:gd name="textAreaRight" fmla="*/ 528840 w 565200"/>
                <a:gd name="textAreaTop" fmla="*/ 36360 h 585720"/>
                <a:gd name="textAreaBottom" fmla="*/ 549360 h 585720"/>
              </a:gdLst>
              <a:ahLst/>
              <a:rect l="textAreaLeft" t="textAreaTop" r="textAreaRight" b="textAreaBottom"/>
              <a:pathLst>
                <a:path w="21600" h="22384">
                  <a:moveTo>
                    <a:pt x="0" y="0"/>
                  </a:moveTo>
                  <a:lnTo>
                    <a:pt x="21600" y="0"/>
                  </a:lnTo>
                  <a:lnTo>
                    <a:pt x="21600" y="22384"/>
                  </a:lnTo>
                  <a:lnTo>
                    <a:pt x="0" y="22384"/>
                  </a:lnTo>
                  <a:close/>
                </a:path>
                <a:path fill="lightenLess" w="21600" h="22384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2384">
                  <a:moveTo>
                    <a:pt x="21600" y="0"/>
                  </a:moveTo>
                  <a:lnTo>
                    <a:pt x="21600" y="22384"/>
                  </a:lnTo>
                  <a:lnTo>
                    <a:pt x="20200" y="20984"/>
                  </a:lnTo>
                  <a:lnTo>
                    <a:pt x="20200" y="1400"/>
                  </a:lnTo>
                  <a:close/>
                </a:path>
                <a:path fill="darkenLess" w="21600" h="22384">
                  <a:moveTo>
                    <a:pt x="21600" y="22384"/>
                  </a:moveTo>
                  <a:lnTo>
                    <a:pt x="0" y="22384"/>
                  </a:lnTo>
                  <a:lnTo>
                    <a:pt x="1400" y="20984"/>
                  </a:lnTo>
                  <a:lnTo>
                    <a:pt x="20200" y="20984"/>
                  </a:lnTo>
                  <a:close/>
                </a:path>
                <a:path fill="lighten" w="21600" h="22384">
                  <a:moveTo>
                    <a:pt x="0" y="22384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984"/>
                  </a:lnTo>
                  <a:close/>
                </a:path>
                <a:path fill="darken" w="21600" h="22384">
                  <a:moveTo>
                    <a:pt x="3794" y="11192"/>
                  </a:moveTo>
                  <a:lnTo>
                    <a:pt x="17806" y="4185"/>
                  </a:lnTo>
                  <a:lnTo>
                    <a:pt x="17806" y="18198"/>
                  </a:lnTo>
                  <a:close/>
                </a:path>
              </a:pathLst>
            </a:cu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>
              <a:hlinkClick r:id="" action="ppaction://hlinkshowjump?jump=nextslide"/>
            </p:cNvPr>
            <p:cNvSpPr/>
            <p:nvPr/>
          </p:nvSpPr>
          <p:spPr>
            <a:xfrm>
              <a:off x="7400880" y="5943600"/>
              <a:ext cx="566640" cy="585720"/>
            </a:xfrm>
            <a:custGeom>
              <a:avLst/>
              <a:gdLst>
                <a:gd name="textAreaLeft" fmla="*/ 36720 w 566640"/>
                <a:gd name="textAreaRight" fmla="*/ 529920 w 566640"/>
                <a:gd name="textAreaTop" fmla="*/ 36720 h 585720"/>
                <a:gd name="textAreaBottom" fmla="*/ 549000 h 585720"/>
              </a:gdLst>
              <a:ahLst/>
              <a:rect l="textAreaLeft" t="textAreaTop" r="textAreaRight" b="textAreaBottom"/>
              <a:pathLst>
                <a:path w="21600" h="22327">
                  <a:moveTo>
                    <a:pt x="0" y="0"/>
                  </a:moveTo>
                  <a:lnTo>
                    <a:pt x="21600" y="0"/>
                  </a:lnTo>
                  <a:lnTo>
                    <a:pt x="21600" y="22327"/>
                  </a:lnTo>
                  <a:lnTo>
                    <a:pt x="0" y="22327"/>
                  </a:lnTo>
                  <a:close/>
                </a:path>
                <a:path fill="lightenLess" w="21600" h="22327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2327">
                  <a:moveTo>
                    <a:pt x="21600" y="0"/>
                  </a:moveTo>
                  <a:lnTo>
                    <a:pt x="21600" y="22327"/>
                  </a:lnTo>
                  <a:lnTo>
                    <a:pt x="20200" y="20927"/>
                  </a:lnTo>
                  <a:lnTo>
                    <a:pt x="20200" y="1400"/>
                  </a:lnTo>
                  <a:close/>
                </a:path>
                <a:path fill="darkenLess" w="21600" h="22327">
                  <a:moveTo>
                    <a:pt x="21600" y="22327"/>
                  </a:moveTo>
                  <a:lnTo>
                    <a:pt x="0" y="22327"/>
                  </a:lnTo>
                  <a:lnTo>
                    <a:pt x="1400" y="20927"/>
                  </a:lnTo>
                  <a:lnTo>
                    <a:pt x="20200" y="20927"/>
                  </a:lnTo>
                  <a:close/>
                </a:path>
                <a:path fill="lighten" w="21600" h="22327">
                  <a:moveTo>
                    <a:pt x="0" y="22327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927"/>
                  </a:lnTo>
                  <a:close/>
                </a:path>
                <a:path fill="darken" w="21600" h="22327">
                  <a:moveTo>
                    <a:pt x="3794" y="4157"/>
                  </a:moveTo>
                  <a:lnTo>
                    <a:pt x="17806" y="11163"/>
                  </a:lnTo>
                  <a:lnTo>
                    <a:pt x="3794" y="18170"/>
                  </a:lnTo>
                  <a:close/>
                </a:path>
              </a:pathLst>
            </a:cu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>
              <a:hlinkClick r:id="" action="ppaction://hlinkshowjump?jump=firstslide"/>
            </p:cNvPr>
            <p:cNvSpPr/>
            <p:nvPr/>
          </p:nvSpPr>
          <p:spPr>
            <a:xfrm>
              <a:off x="8021520" y="5943600"/>
              <a:ext cx="565200" cy="585720"/>
            </a:xfrm>
            <a:custGeom>
              <a:avLst/>
              <a:gdLst>
                <a:gd name="textAreaLeft" fmla="*/ 36360 w 565200"/>
                <a:gd name="textAreaRight" fmla="*/ 528840 w 565200"/>
                <a:gd name="textAreaTop" fmla="*/ 36360 h 585720"/>
                <a:gd name="textAreaBottom" fmla="*/ 549360 h 585720"/>
              </a:gdLst>
              <a:ahLst/>
              <a:rect l="textAreaLeft" t="textAreaTop" r="textAreaRight" b="textAreaBottom"/>
              <a:pathLst>
                <a:path w="21600" h="22384">
                  <a:moveTo>
                    <a:pt x="0" y="0"/>
                  </a:moveTo>
                  <a:lnTo>
                    <a:pt x="21600" y="0"/>
                  </a:lnTo>
                  <a:lnTo>
                    <a:pt x="21600" y="22384"/>
                  </a:lnTo>
                  <a:lnTo>
                    <a:pt x="0" y="22384"/>
                  </a:lnTo>
                  <a:close/>
                </a:path>
                <a:path fill="lightenLess" w="21600" h="22384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2384">
                  <a:moveTo>
                    <a:pt x="21600" y="0"/>
                  </a:moveTo>
                  <a:lnTo>
                    <a:pt x="21600" y="22384"/>
                  </a:lnTo>
                  <a:lnTo>
                    <a:pt x="20200" y="20984"/>
                  </a:lnTo>
                  <a:lnTo>
                    <a:pt x="20200" y="1400"/>
                  </a:lnTo>
                  <a:close/>
                </a:path>
                <a:path fill="darkenLess" w="21600" h="22384">
                  <a:moveTo>
                    <a:pt x="21600" y="22384"/>
                  </a:moveTo>
                  <a:lnTo>
                    <a:pt x="0" y="22384"/>
                  </a:lnTo>
                  <a:lnTo>
                    <a:pt x="1400" y="20984"/>
                  </a:lnTo>
                  <a:lnTo>
                    <a:pt x="20200" y="20984"/>
                  </a:lnTo>
                  <a:close/>
                </a:path>
                <a:path fill="lighten" w="21600" h="22384">
                  <a:moveTo>
                    <a:pt x="0" y="22384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984"/>
                  </a:lnTo>
                  <a:close/>
                </a:path>
                <a:path fill="darken" w="21600" h="22384">
                  <a:moveTo>
                    <a:pt x="7301" y="11192"/>
                  </a:moveTo>
                  <a:lnTo>
                    <a:pt x="17806" y="4185"/>
                  </a:lnTo>
                  <a:lnTo>
                    <a:pt x="17806" y="18198"/>
                  </a:lnTo>
                  <a:close/>
                </a:path>
                <a:path fill="darken" w="21600" h="22384">
                  <a:moveTo>
                    <a:pt x="3794" y="4185"/>
                  </a:moveTo>
                  <a:lnTo>
                    <a:pt x="5456" y="4185"/>
                  </a:lnTo>
                  <a:lnTo>
                    <a:pt x="5456" y="18198"/>
                  </a:lnTo>
                  <a:lnTo>
                    <a:pt x="3794" y="18198"/>
                  </a:lnTo>
                  <a:close/>
                </a:path>
              </a:pathLst>
            </a:cu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8" name=""/>
          <p:cNvSpPr/>
          <p:nvPr/>
        </p:nvSpPr>
        <p:spPr>
          <a:xfrm>
            <a:off x="5633280" y="437184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ret_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9" name=""/>
          <p:cNvSpPr/>
          <p:nvPr/>
        </p:nvSpPr>
        <p:spPr>
          <a:xfrm>
            <a:off x="5707080" y="3186000"/>
            <a:ext cx="0" cy="117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0" name=""/>
          <p:cNvSpPr/>
          <p:nvPr/>
        </p:nvSpPr>
        <p:spPr>
          <a:xfrm>
            <a:off x="7624800" y="3305160"/>
            <a:ext cx="0" cy="117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1" name=""/>
          <p:cNvSpPr/>
          <p:nvPr/>
        </p:nvSpPr>
        <p:spPr>
          <a:xfrm>
            <a:off x="7343280" y="4564080"/>
            <a:ext cx="120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Koncpol_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2" name=""/>
          <p:cNvSpPr/>
          <p:nvPr/>
        </p:nvSpPr>
        <p:spPr>
          <a:xfrm>
            <a:off x="7167600" y="2816280"/>
            <a:ext cx="0" cy="1415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3" name=""/>
          <p:cNvSpPr/>
          <p:nvPr/>
        </p:nvSpPr>
        <p:spPr>
          <a:xfrm>
            <a:off x="7094520" y="2743200"/>
            <a:ext cx="131760" cy="103320"/>
          </a:xfrm>
          <a:prstGeom prst="ellipse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4" name=""/>
          <p:cNvSpPr/>
          <p:nvPr/>
        </p:nvSpPr>
        <p:spPr>
          <a:xfrm>
            <a:off x="6725520" y="425304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Krok_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600" spc="-1" strike="noStrike">
                <a:solidFill>
                  <a:srgbClr val="221304"/>
                </a:solidFill>
                <a:latin typeface="Times New Roman"/>
              </a:rPr>
              <a:t>p</a:t>
            </a:r>
            <a:r>
              <a:rPr b="1" i="1" lang="en-US" sz="1600" spc="-1" strike="noStrike">
                <a:solidFill>
                  <a:srgbClr val="221304"/>
                </a:solidFill>
                <a:latin typeface="Times New Roman"/>
              </a:rPr>
              <a:t>okra</a:t>
            </a:r>
            <a:r>
              <a:rPr b="1" i="1" lang="sk-SK" sz="1600" spc="-1" strike="noStrike">
                <a:solidFill>
                  <a:srgbClr val="221304"/>
                </a:solidFill>
                <a:latin typeface="Times New Roman"/>
              </a:rPr>
              <a:t>čovanie zadania</a:t>
            </a:r>
            <a:endParaRPr b="0" lang="en-US" sz="16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Z</a:t>
            </a:r>
            <a:r>
              <a:rPr b="1" lang="sk-SK" sz="4400" spc="-1" strike="noStrike">
                <a:solidFill>
                  <a:srgbClr val="221304"/>
                </a:solidFill>
                <a:latin typeface="Times New Roman"/>
              </a:rPr>
              <a:t>adanie </a:t>
            </a: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21</a:t>
            </a:r>
            <a:r>
              <a:rPr b="0" i="1" lang="sk-SK" sz="4400" spc="-1" strike="noStrike">
                <a:solidFill>
                  <a:srgbClr val="221304"/>
                </a:solidFill>
                <a:latin typeface="Times New Roman"/>
              </a:rPr>
              <a:t>:</a:t>
            </a:r>
            <a:r>
              <a:rPr b="1" i="1" lang="en-US" sz="4400" spc="-1" strike="noStrike">
                <a:solidFill>
                  <a:srgbClr val="221304"/>
                </a:solidFill>
                <a:latin typeface="Times New Roman"/>
              </a:rPr>
              <a:t>Plniaca link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2767" name=""/>
          <p:cNvGrpSpPr/>
          <p:nvPr/>
        </p:nvGrpSpPr>
        <p:grpSpPr>
          <a:xfrm>
            <a:off x="1557360" y="2214720"/>
            <a:ext cx="5972040" cy="2957400"/>
            <a:chOff x="1557360" y="2214720"/>
            <a:chExt cx="5972040" cy="2957400"/>
          </a:xfrm>
        </p:grpSpPr>
        <p:sp>
          <p:nvSpPr>
            <p:cNvPr id="2768" name=""/>
            <p:cNvSpPr/>
            <p:nvPr/>
          </p:nvSpPr>
          <p:spPr>
            <a:xfrm>
              <a:off x="1585800" y="3371760"/>
              <a:ext cx="5929560" cy="80028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69" name=""/>
            <p:cNvGrpSpPr/>
            <p:nvPr/>
          </p:nvGrpSpPr>
          <p:grpSpPr>
            <a:xfrm>
              <a:off x="1843200" y="3600360"/>
              <a:ext cx="5243040" cy="314280"/>
              <a:chOff x="1843200" y="3600360"/>
              <a:chExt cx="5243040" cy="314280"/>
            </a:xfrm>
          </p:grpSpPr>
          <p:grpSp>
            <p:nvGrpSpPr>
              <p:cNvPr id="2770" name=""/>
              <p:cNvGrpSpPr/>
              <p:nvPr/>
            </p:nvGrpSpPr>
            <p:grpSpPr>
              <a:xfrm>
                <a:off x="1843200" y="3600360"/>
                <a:ext cx="2542680" cy="299880"/>
                <a:chOff x="1843200" y="3600360"/>
                <a:chExt cx="2542680" cy="299880"/>
              </a:xfrm>
            </p:grpSpPr>
            <p:grpSp>
              <p:nvGrpSpPr>
                <p:cNvPr id="2771" name=""/>
                <p:cNvGrpSpPr/>
                <p:nvPr/>
              </p:nvGrpSpPr>
              <p:grpSpPr>
                <a:xfrm>
                  <a:off x="1843200" y="3600360"/>
                  <a:ext cx="1200240" cy="299880"/>
                  <a:chOff x="1843200" y="3600360"/>
                  <a:chExt cx="1200240" cy="299880"/>
                </a:xfrm>
              </p:grpSpPr>
              <p:sp>
                <p:nvSpPr>
                  <p:cNvPr id="2772" name=""/>
                  <p:cNvSpPr/>
                  <p:nvPr/>
                </p:nvSpPr>
                <p:spPr>
                  <a:xfrm>
                    <a:off x="1843200" y="3600360"/>
                    <a:ext cx="314280" cy="2998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3" name=""/>
                  <p:cNvSpPr/>
                  <p:nvPr/>
                </p:nvSpPr>
                <p:spPr>
                  <a:xfrm>
                    <a:off x="2271960" y="3600360"/>
                    <a:ext cx="314280" cy="2998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4" name=""/>
                  <p:cNvSpPr/>
                  <p:nvPr/>
                </p:nvSpPr>
                <p:spPr>
                  <a:xfrm>
                    <a:off x="2729160" y="3600360"/>
                    <a:ext cx="314280" cy="2998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75" name=""/>
                <p:cNvGrpSpPr/>
                <p:nvPr/>
              </p:nvGrpSpPr>
              <p:grpSpPr>
                <a:xfrm>
                  <a:off x="3186360" y="3600360"/>
                  <a:ext cx="1199520" cy="299880"/>
                  <a:chOff x="3186360" y="3600360"/>
                  <a:chExt cx="1199520" cy="299880"/>
                </a:xfrm>
              </p:grpSpPr>
              <p:sp>
                <p:nvSpPr>
                  <p:cNvPr id="2776" name=""/>
                  <p:cNvSpPr/>
                  <p:nvPr/>
                </p:nvSpPr>
                <p:spPr>
                  <a:xfrm>
                    <a:off x="3186360" y="3600360"/>
                    <a:ext cx="313920" cy="2998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7" name=""/>
                  <p:cNvSpPr/>
                  <p:nvPr/>
                </p:nvSpPr>
                <p:spPr>
                  <a:xfrm>
                    <a:off x="3614760" y="3600360"/>
                    <a:ext cx="313920" cy="2998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8" name=""/>
                  <p:cNvSpPr/>
                  <p:nvPr/>
                </p:nvSpPr>
                <p:spPr>
                  <a:xfrm>
                    <a:off x="4071960" y="3600360"/>
                    <a:ext cx="313920" cy="2998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79" name=""/>
              <p:cNvGrpSpPr/>
              <p:nvPr/>
            </p:nvGrpSpPr>
            <p:grpSpPr>
              <a:xfrm>
                <a:off x="4543560" y="3614760"/>
                <a:ext cx="2542680" cy="299880"/>
                <a:chOff x="4543560" y="3614760"/>
                <a:chExt cx="2542680" cy="299880"/>
              </a:xfrm>
            </p:grpSpPr>
            <p:grpSp>
              <p:nvGrpSpPr>
                <p:cNvPr id="2780" name=""/>
                <p:cNvGrpSpPr/>
                <p:nvPr/>
              </p:nvGrpSpPr>
              <p:grpSpPr>
                <a:xfrm>
                  <a:off x="4543560" y="3614760"/>
                  <a:ext cx="1200240" cy="299880"/>
                  <a:chOff x="4543560" y="3614760"/>
                  <a:chExt cx="1200240" cy="299880"/>
                </a:xfrm>
              </p:grpSpPr>
              <p:sp>
                <p:nvSpPr>
                  <p:cNvPr id="2781" name=""/>
                  <p:cNvSpPr/>
                  <p:nvPr/>
                </p:nvSpPr>
                <p:spPr>
                  <a:xfrm>
                    <a:off x="4543560" y="3614760"/>
                    <a:ext cx="314280" cy="2998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2" name=""/>
                  <p:cNvSpPr/>
                  <p:nvPr/>
                </p:nvSpPr>
                <p:spPr>
                  <a:xfrm>
                    <a:off x="4972320" y="3614760"/>
                    <a:ext cx="314280" cy="2998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3" name=""/>
                  <p:cNvSpPr/>
                  <p:nvPr/>
                </p:nvSpPr>
                <p:spPr>
                  <a:xfrm>
                    <a:off x="5429520" y="3614760"/>
                    <a:ext cx="314280" cy="2998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84" name=""/>
                <p:cNvGrpSpPr/>
                <p:nvPr/>
              </p:nvGrpSpPr>
              <p:grpSpPr>
                <a:xfrm>
                  <a:off x="5886720" y="3614760"/>
                  <a:ext cx="1199520" cy="299880"/>
                  <a:chOff x="5886720" y="3614760"/>
                  <a:chExt cx="1199520" cy="299880"/>
                </a:xfrm>
              </p:grpSpPr>
              <p:sp>
                <p:nvSpPr>
                  <p:cNvPr id="2785" name=""/>
                  <p:cNvSpPr/>
                  <p:nvPr/>
                </p:nvSpPr>
                <p:spPr>
                  <a:xfrm>
                    <a:off x="5886720" y="3614760"/>
                    <a:ext cx="313920" cy="2998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6" name=""/>
                  <p:cNvSpPr/>
                  <p:nvPr/>
                </p:nvSpPr>
                <p:spPr>
                  <a:xfrm>
                    <a:off x="6315120" y="3614760"/>
                    <a:ext cx="313920" cy="2998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7" name=""/>
                  <p:cNvSpPr/>
                  <p:nvPr/>
                </p:nvSpPr>
                <p:spPr>
                  <a:xfrm>
                    <a:off x="6772320" y="3614760"/>
                    <a:ext cx="313920" cy="2998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788" name=""/>
            <p:cNvSpPr/>
            <p:nvPr/>
          </p:nvSpPr>
          <p:spPr>
            <a:xfrm flipV="1">
              <a:off x="2271600" y="4300560"/>
              <a:ext cx="285840" cy="257040"/>
            </a:xfrm>
            <a:custGeom>
              <a:avLst/>
              <a:gdLst>
                <a:gd name="textAreaLeft" fmla="*/ 62640 w 285840"/>
                <a:gd name="textAreaRight" fmla="*/ 223200 w 285840"/>
                <a:gd name="textAreaTop" fmla="*/ 56520 h 257040"/>
                <a:gd name="textAreaBottom" fmla="*/ 200520 h 25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3694b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 flipV="1">
              <a:off x="4100400" y="4272120"/>
              <a:ext cx="285840" cy="257040"/>
            </a:xfrm>
            <a:custGeom>
              <a:avLst/>
              <a:gdLst>
                <a:gd name="textAreaLeft" fmla="*/ 62640 w 285840"/>
                <a:gd name="textAreaRight" fmla="*/ 223200 w 285840"/>
                <a:gd name="textAreaTop" fmla="*/ 56520 h 257040"/>
                <a:gd name="textAreaBottom" fmla="*/ 200520 h 25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3694b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6372360" y="4300560"/>
              <a:ext cx="314280" cy="6714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6400800" y="4614840"/>
              <a:ext cx="257040" cy="88920"/>
            </a:xfrm>
            <a:prstGeom prst="rect">
              <a:avLst/>
            </a:prstGeom>
            <a:solidFill>
              <a:srgbClr val="fefd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6386400" y="3971880"/>
              <a:ext cx="257400" cy="88920"/>
            </a:xfrm>
            <a:prstGeom prst="rect">
              <a:avLst/>
            </a:prstGeom>
            <a:solidFill>
              <a:srgbClr val="fefd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6529320" y="4057560"/>
              <a:ext cx="0" cy="571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 flipH="1">
              <a:off x="6757920" y="4371840"/>
              <a:ext cx="67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 flipH="1">
              <a:off x="6771960" y="4857840"/>
              <a:ext cx="67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2414520" y="4600440"/>
              <a:ext cx="0" cy="5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4257720" y="4586400"/>
              <a:ext cx="0" cy="5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6129360" y="2214720"/>
              <a:ext cx="571320" cy="59976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6429240" y="2471760"/>
              <a:ext cx="800280" cy="799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7143840" y="4186080"/>
              <a:ext cx="385560" cy="8892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7115040" y="3271680"/>
              <a:ext cx="385920" cy="8892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1571760" y="3271680"/>
              <a:ext cx="385560" cy="8892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1557360" y="4200480"/>
              <a:ext cx="385920" cy="8892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5629320" y="4272120"/>
              <a:ext cx="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5543640" y="4229280"/>
              <a:ext cx="171360" cy="17136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6" name=""/>
          <p:cNvGrpSpPr/>
          <p:nvPr/>
        </p:nvGrpSpPr>
        <p:grpSpPr>
          <a:xfrm>
            <a:off x="6796080" y="5686560"/>
            <a:ext cx="1805040" cy="585720"/>
            <a:chOff x="6796080" y="5686560"/>
            <a:chExt cx="1805040" cy="585720"/>
          </a:xfrm>
        </p:grpSpPr>
        <p:sp>
          <p:nvSpPr>
            <p:cNvPr id="2807" name="">
              <a:hlinkClick r:id="" action="ppaction://hlinkshowjump?jump=previousslide"/>
            </p:cNvPr>
            <p:cNvSpPr/>
            <p:nvPr/>
          </p:nvSpPr>
          <p:spPr>
            <a:xfrm>
              <a:off x="6796080" y="5686560"/>
              <a:ext cx="565200" cy="585720"/>
            </a:xfrm>
            <a:custGeom>
              <a:avLst/>
              <a:gdLst>
                <a:gd name="textAreaLeft" fmla="*/ 36360 w 565200"/>
                <a:gd name="textAreaRight" fmla="*/ 528840 w 565200"/>
                <a:gd name="textAreaTop" fmla="*/ 36360 h 585720"/>
                <a:gd name="textAreaBottom" fmla="*/ 549360 h 585720"/>
              </a:gdLst>
              <a:ahLst/>
              <a:rect l="textAreaLeft" t="textAreaTop" r="textAreaRight" b="textAreaBottom"/>
              <a:pathLst>
                <a:path w="21600" h="22384">
                  <a:moveTo>
                    <a:pt x="0" y="0"/>
                  </a:moveTo>
                  <a:lnTo>
                    <a:pt x="21600" y="0"/>
                  </a:lnTo>
                  <a:lnTo>
                    <a:pt x="21600" y="22384"/>
                  </a:lnTo>
                  <a:lnTo>
                    <a:pt x="0" y="22384"/>
                  </a:lnTo>
                  <a:close/>
                </a:path>
                <a:path fill="lightenLess" w="21600" h="22384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2384">
                  <a:moveTo>
                    <a:pt x="21600" y="0"/>
                  </a:moveTo>
                  <a:lnTo>
                    <a:pt x="21600" y="22384"/>
                  </a:lnTo>
                  <a:lnTo>
                    <a:pt x="20200" y="20984"/>
                  </a:lnTo>
                  <a:lnTo>
                    <a:pt x="20200" y="1400"/>
                  </a:lnTo>
                  <a:close/>
                </a:path>
                <a:path fill="darkenLess" w="21600" h="22384">
                  <a:moveTo>
                    <a:pt x="21600" y="22384"/>
                  </a:moveTo>
                  <a:lnTo>
                    <a:pt x="0" y="22384"/>
                  </a:lnTo>
                  <a:lnTo>
                    <a:pt x="1400" y="20984"/>
                  </a:lnTo>
                  <a:lnTo>
                    <a:pt x="20200" y="20984"/>
                  </a:lnTo>
                  <a:close/>
                </a:path>
                <a:path fill="lighten" w="21600" h="22384">
                  <a:moveTo>
                    <a:pt x="0" y="22384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984"/>
                  </a:lnTo>
                  <a:close/>
                </a:path>
                <a:path fill="darken" w="21600" h="22384">
                  <a:moveTo>
                    <a:pt x="3794" y="11192"/>
                  </a:moveTo>
                  <a:lnTo>
                    <a:pt x="17806" y="4185"/>
                  </a:lnTo>
                  <a:lnTo>
                    <a:pt x="17806" y="18198"/>
                  </a:lnTo>
                  <a:close/>
                </a:path>
              </a:pathLst>
            </a:cu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>
              <a:hlinkClick r:id="" action="ppaction://hlinkshowjump?jump=nextslide"/>
            </p:cNvPr>
            <p:cNvSpPr/>
            <p:nvPr/>
          </p:nvSpPr>
          <p:spPr>
            <a:xfrm>
              <a:off x="7415280" y="5686560"/>
              <a:ext cx="566640" cy="585720"/>
            </a:xfrm>
            <a:custGeom>
              <a:avLst/>
              <a:gdLst>
                <a:gd name="textAreaLeft" fmla="*/ 36720 w 566640"/>
                <a:gd name="textAreaRight" fmla="*/ 529920 w 566640"/>
                <a:gd name="textAreaTop" fmla="*/ 36720 h 585720"/>
                <a:gd name="textAreaBottom" fmla="*/ 549000 h 585720"/>
              </a:gdLst>
              <a:ahLst/>
              <a:rect l="textAreaLeft" t="textAreaTop" r="textAreaRight" b="textAreaBottom"/>
              <a:pathLst>
                <a:path w="21600" h="22327">
                  <a:moveTo>
                    <a:pt x="0" y="0"/>
                  </a:moveTo>
                  <a:lnTo>
                    <a:pt x="21600" y="0"/>
                  </a:lnTo>
                  <a:lnTo>
                    <a:pt x="21600" y="22327"/>
                  </a:lnTo>
                  <a:lnTo>
                    <a:pt x="0" y="22327"/>
                  </a:lnTo>
                  <a:close/>
                </a:path>
                <a:path fill="lightenLess" w="21600" h="22327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2327">
                  <a:moveTo>
                    <a:pt x="21600" y="0"/>
                  </a:moveTo>
                  <a:lnTo>
                    <a:pt x="21600" y="22327"/>
                  </a:lnTo>
                  <a:lnTo>
                    <a:pt x="20200" y="20927"/>
                  </a:lnTo>
                  <a:lnTo>
                    <a:pt x="20200" y="1400"/>
                  </a:lnTo>
                  <a:close/>
                </a:path>
                <a:path fill="darkenLess" w="21600" h="22327">
                  <a:moveTo>
                    <a:pt x="21600" y="22327"/>
                  </a:moveTo>
                  <a:lnTo>
                    <a:pt x="0" y="22327"/>
                  </a:lnTo>
                  <a:lnTo>
                    <a:pt x="1400" y="20927"/>
                  </a:lnTo>
                  <a:lnTo>
                    <a:pt x="20200" y="20927"/>
                  </a:lnTo>
                  <a:close/>
                </a:path>
                <a:path fill="lighten" w="21600" h="22327">
                  <a:moveTo>
                    <a:pt x="0" y="22327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927"/>
                  </a:lnTo>
                  <a:close/>
                </a:path>
                <a:path fill="darken" w="21600" h="22327">
                  <a:moveTo>
                    <a:pt x="3794" y="4157"/>
                  </a:moveTo>
                  <a:lnTo>
                    <a:pt x="17806" y="11163"/>
                  </a:lnTo>
                  <a:lnTo>
                    <a:pt x="3794" y="18170"/>
                  </a:lnTo>
                  <a:close/>
                </a:path>
              </a:pathLst>
            </a:cu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>
              <a:hlinkClick r:id="" action="ppaction://hlinkshowjump?jump=firstslide"/>
            </p:cNvPr>
            <p:cNvSpPr/>
            <p:nvPr/>
          </p:nvSpPr>
          <p:spPr>
            <a:xfrm>
              <a:off x="8035920" y="5686560"/>
              <a:ext cx="565200" cy="585720"/>
            </a:xfrm>
            <a:custGeom>
              <a:avLst/>
              <a:gdLst>
                <a:gd name="textAreaLeft" fmla="*/ 36360 w 565200"/>
                <a:gd name="textAreaRight" fmla="*/ 528840 w 565200"/>
                <a:gd name="textAreaTop" fmla="*/ 36360 h 585720"/>
                <a:gd name="textAreaBottom" fmla="*/ 549360 h 585720"/>
              </a:gdLst>
              <a:ahLst/>
              <a:rect l="textAreaLeft" t="textAreaTop" r="textAreaRight" b="textAreaBottom"/>
              <a:pathLst>
                <a:path w="21600" h="22384">
                  <a:moveTo>
                    <a:pt x="0" y="0"/>
                  </a:moveTo>
                  <a:lnTo>
                    <a:pt x="21600" y="0"/>
                  </a:lnTo>
                  <a:lnTo>
                    <a:pt x="21600" y="22384"/>
                  </a:lnTo>
                  <a:lnTo>
                    <a:pt x="0" y="22384"/>
                  </a:lnTo>
                  <a:close/>
                </a:path>
                <a:path fill="lightenLess" w="21600" h="22384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2384">
                  <a:moveTo>
                    <a:pt x="21600" y="0"/>
                  </a:moveTo>
                  <a:lnTo>
                    <a:pt x="21600" y="22384"/>
                  </a:lnTo>
                  <a:lnTo>
                    <a:pt x="20200" y="20984"/>
                  </a:lnTo>
                  <a:lnTo>
                    <a:pt x="20200" y="1400"/>
                  </a:lnTo>
                  <a:close/>
                </a:path>
                <a:path fill="darkenLess" w="21600" h="22384">
                  <a:moveTo>
                    <a:pt x="21600" y="22384"/>
                  </a:moveTo>
                  <a:lnTo>
                    <a:pt x="0" y="22384"/>
                  </a:lnTo>
                  <a:lnTo>
                    <a:pt x="1400" y="20984"/>
                  </a:lnTo>
                  <a:lnTo>
                    <a:pt x="20200" y="20984"/>
                  </a:lnTo>
                  <a:close/>
                </a:path>
                <a:path fill="lighten" w="21600" h="22384">
                  <a:moveTo>
                    <a:pt x="0" y="22384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984"/>
                  </a:lnTo>
                  <a:close/>
                </a:path>
                <a:path fill="darken" w="21600" h="22384">
                  <a:moveTo>
                    <a:pt x="7301" y="11192"/>
                  </a:moveTo>
                  <a:lnTo>
                    <a:pt x="17806" y="4185"/>
                  </a:lnTo>
                  <a:lnTo>
                    <a:pt x="17806" y="18198"/>
                  </a:lnTo>
                  <a:close/>
                </a:path>
                <a:path fill="darken" w="21600" h="22384">
                  <a:moveTo>
                    <a:pt x="3794" y="4185"/>
                  </a:moveTo>
                  <a:lnTo>
                    <a:pt x="5456" y="4185"/>
                  </a:lnTo>
                  <a:lnTo>
                    <a:pt x="5456" y="18198"/>
                  </a:lnTo>
                  <a:lnTo>
                    <a:pt x="3794" y="18198"/>
                  </a:lnTo>
                  <a:close/>
                </a:path>
              </a:pathLst>
            </a:cu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Zadanie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sk-SK" sz="4400" spc="-1" strike="noStrike">
                <a:solidFill>
                  <a:srgbClr val="221304"/>
                </a:solidFill>
                <a:latin typeface="Times New Roman"/>
              </a:rPr>
              <a:t> 1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: </a:t>
            </a:r>
            <a:r>
              <a:rPr b="1" i="1" lang="en-US" sz="4400" spc="-1" strike="noStrike">
                <a:solidFill>
                  <a:srgbClr val="221304"/>
                </a:solidFill>
                <a:latin typeface="Times New Roman"/>
              </a:rPr>
              <a:t>Kri</a:t>
            </a:r>
            <a:r>
              <a:rPr b="1" i="1" lang="sk-SK" sz="4400" spc="-1" strike="noStrike">
                <a:solidFill>
                  <a:srgbClr val="221304"/>
                </a:solidFill>
                <a:latin typeface="Times New Roman"/>
              </a:rPr>
              <a:t>žovatk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08240" y="1855800"/>
            <a:ext cx="5486400" cy="4648320"/>
          </a:xfrm>
          <a:prstGeom prst="rect">
            <a:avLst/>
          </a:prstGeom>
          <a:solidFill>
            <a:srgbClr val="a1bd69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803240" y="3494160"/>
            <a:ext cx="1624320" cy="1184040"/>
            <a:chOff x="1803240" y="3494160"/>
            <a:chExt cx="1624320" cy="1184040"/>
          </a:xfrm>
        </p:grpSpPr>
        <p:sp>
          <p:nvSpPr>
            <p:cNvPr id="108" name=""/>
            <p:cNvSpPr/>
            <p:nvPr/>
          </p:nvSpPr>
          <p:spPr>
            <a:xfrm>
              <a:off x="1803240" y="3494160"/>
              <a:ext cx="1624320" cy="2959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03240" y="3790080"/>
              <a:ext cx="1624320" cy="2959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803240" y="4086000"/>
              <a:ext cx="1624320" cy="2959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803240" y="4382280"/>
              <a:ext cx="1624320" cy="2959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525840" y="1886040"/>
            <a:ext cx="1352520" cy="1319040"/>
            <a:chOff x="3525840" y="1886040"/>
            <a:chExt cx="1352520" cy="1319040"/>
          </a:xfrm>
        </p:grpSpPr>
        <p:sp>
          <p:nvSpPr>
            <p:cNvPr id="113" name=""/>
            <p:cNvSpPr/>
            <p:nvPr/>
          </p:nvSpPr>
          <p:spPr>
            <a:xfrm rot="16200000">
              <a:off x="3035160" y="2376360"/>
              <a:ext cx="1319040" cy="338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16200000">
              <a:off x="3373200" y="2376360"/>
              <a:ext cx="1319040" cy="338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16200000">
              <a:off x="3711240" y="2376360"/>
              <a:ext cx="1319040" cy="338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6200000">
              <a:off x="4049640" y="2376360"/>
              <a:ext cx="1319040" cy="338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3525840" y="3494160"/>
            <a:ext cx="1352520" cy="118404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960800" y="3494160"/>
            <a:ext cx="1624320" cy="1184040"/>
            <a:chOff x="4960800" y="3494160"/>
            <a:chExt cx="1624320" cy="1184040"/>
          </a:xfrm>
        </p:grpSpPr>
        <p:sp>
          <p:nvSpPr>
            <p:cNvPr id="119" name=""/>
            <p:cNvSpPr/>
            <p:nvPr/>
          </p:nvSpPr>
          <p:spPr>
            <a:xfrm>
              <a:off x="4960800" y="3494160"/>
              <a:ext cx="1624320" cy="2959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960800" y="3790080"/>
              <a:ext cx="1624320" cy="2959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960800" y="4086000"/>
              <a:ext cx="1624320" cy="2959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960800" y="4382280"/>
              <a:ext cx="1624320" cy="2959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3525840" y="4928760"/>
            <a:ext cx="1352520" cy="1422360"/>
            <a:chOff x="3525840" y="4928760"/>
            <a:chExt cx="1352520" cy="1422360"/>
          </a:xfrm>
        </p:grpSpPr>
        <p:sp>
          <p:nvSpPr>
            <p:cNvPr id="124" name=""/>
            <p:cNvSpPr/>
            <p:nvPr/>
          </p:nvSpPr>
          <p:spPr>
            <a:xfrm rot="16200000">
              <a:off x="2983680" y="5470920"/>
              <a:ext cx="1422360" cy="338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16200000">
              <a:off x="3321720" y="5470920"/>
              <a:ext cx="1422360" cy="338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16200000">
              <a:off x="3659760" y="5470920"/>
              <a:ext cx="1422360" cy="338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16200000">
              <a:off x="3998160" y="5470920"/>
              <a:ext cx="1422360" cy="338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521080" y="3494160"/>
            <a:ext cx="473040" cy="7452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21080" y="3638520"/>
            <a:ext cx="473040" cy="7452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21080" y="3781440"/>
            <a:ext cx="473040" cy="7452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21080" y="3924360"/>
            <a:ext cx="473040" cy="7452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21080" y="4068720"/>
            <a:ext cx="473040" cy="7452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21080" y="4211640"/>
            <a:ext cx="473040" cy="7452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21080" y="4356000"/>
            <a:ext cx="473040" cy="7488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21080" y="4498920"/>
            <a:ext cx="473040" cy="7452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21080" y="4641840"/>
            <a:ext cx="473040" cy="7452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21080" y="4786200"/>
            <a:ext cx="473040" cy="7488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5607000" y="3494160"/>
            <a:ext cx="473040" cy="1125360"/>
            <a:chOff x="5607000" y="3494160"/>
            <a:chExt cx="473040" cy="1125360"/>
          </a:xfrm>
        </p:grpSpPr>
        <p:sp>
          <p:nvSpPr>
            <p:cNvPr id="139" name=""/>
            <p:cNvSpPr/>
            <p:nvPr/>
          </p:nvSpPr>
          <p:spPr>
            <a:xfrm>
              <a:off x="5607000" y="3494160"/>
              <a:ext cx="473040" cy="5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607000" y="3612600"/>
              <a:ext cx="473040" cy="5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607000" y="3731040"/>
              <a:ext cx="473040" cy="5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607000" y="3849480"/>
              <a:ext cx="473040" cy="5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607000" y="3967920"/>
              <a:ext cx="473040" cy="5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07000" y="4086360"/>
              <a:ext cx="473040" cy="5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07000" y="4204800"/>
              <a:ext cx="473040" cy="5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07000" y="4323600"/>
              <a:ext cx="473040" cy="5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607000" y="4441680"/>
              <a:ext cx="473040" cy="5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607000" y="4560480"/>
              <a:ext cx="473040" cy="5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526200" y="2417760"/>
            <a:ext cx="1285560" cy="415800"/>
            <a:chOff x="3526200" y="2417760"/>
            <a:chExt cx="1285560" cy="415800"/>
          </a:xfrm>
        </p:grpSpPr>
        <p:sp>
          <p:nvSpPr>
            <p:cNvPr id="150" name=""/>
            <p:cNvSpPr/>
            <p:nvPr/>
          </p:nvSpPr>
          <p:spPr>
            <a:xfrm rot="5400000">
              <a:off x="4569840" y="2591640"/>
              <a:ext cx="415800" cy="6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5400000">
              <a:off x="4434840" y="2592000"/>
              <a:ext cx="415800" cy="6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5400000">
              <a:off x="4299480" y="2592000"/>
              <a:ext cx="415800" cy="6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4163760" y="2591640"/>
              <a:ext cx="415800" cy="6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5400000">
              <a:off x="4028760" y="2592000"/>
              <a:ext cx="415800" cy="6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5400000">
              <a:off x="3893040" y="2591640"/>
              <a:ext cx="415800" cy="6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5400000">
              <a:off x="3758040" y="2592000"/>
              <a:ext cx="415800" cy="6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5400000">
              <a:off x="3622680" y="2592000"/>
              <a:ext cx="415800" cy="6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5400000">
              <a:off x="3486960" y="2591640"/>
              <a:ext cx="415800" cy="6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5400000">
              <a:off x="3351960" y="2592000"/>
              <a:ext cx="415800" cy="6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526200" y="5432400"/>
            <a:ext cx="1285560" cy="414360"/>
            <a:chOff x="3526200" y="5432400"/>
            <a:chExt cx="1285560" cy="414360"/>
          </a:xfrm>
        </p:grpSpPr>
        <p:sp>
          <p:nvSpPr>
            <p:cNvPr id="161" name=""/>
            <p:cNvSpPr/>
            <p:nvPr/>
          </p:nvSpPr>
          <p:spPr>
            <a:xfrm rot="5400000">
              <a:off x="4570560" y="5605560"/>
              <a:ext cx="414360" cy="6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5400000">
              <a:off x="4435560" y="5605920"/>
              <a:ext cx="414360" cy="6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5400000">
              <a:off x="4300200" y="5605920"/>
              <a:ext cx="414360" cy="6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5400000">
              <a:off x="4164480" y="5605560"/>
              <a:ext cx="414360" cy="6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5400000">
              <a:off x="4029480" y="5605920"/>
              <a:ext cx="414360" cy="6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5400000">
              <a:off x="3893760" y="5605560"/>
              <a:ext cx="414360" cy="6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5400000">
              <a:off x="3758760" y="5605920"/>
              <a:ext cx="414360" cy="6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5400000">
              <a:off x="3623400" y="5605920"/>
              <a:ext cx="414360" cy="6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5400000">
              <a:off x="3487680" y="5605560"/>
              <a:ext cx="414360" cy="6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5400000">
              <a:off x="3352680" y="5605920"/>
              <a:ext cx="414360" cy="6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3095280" y="4606920"/>
            <a:ext cx="351000" cy="221760"/>
            <a:chOff x="3095280" y="4606920"/>
            <a:chExt cx="351000" cy="221760"/>
          </a:xfrm>
        </p:grpSpPr>
        <p:sp>
          <p:nvSpPr>
            <p:cNvPr id="172" name=""/>
            <p:cNvSpPr/>
            <p:nvPr/>
          </p:nvSpPr>
          <p:spPr>
            <a:xfrm>
              <a:off x="3104280" y="4606920"/>
              <a:ext cx="342000" cy="130320"/>
            </a:xfrm>
            <a:prstGeom prst="rightArrow">
              <a:avLst>
                <a:gd name="adj1" fmla="val 50000"/>
                <a:gd name="adj2" fmla="val 6560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5400000">
              <a:off x="3141720" y="4604760"/>
              <a:ext cx="177480" cy="27036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270360"/>
                <a:gd name="textAreaBottom" fmla="*/ 270720 h 27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5973840" y="3075120"/>
            <a:ext cx="215640" cy="306360"/>
            <a:chOff x="5973840" y="3075120"/>
            <a:chExt cx="215640" cy="306360"/>
          </a:xfrm>
        </p:grpSpPr>
        <p:sp>
          <p:nvSpPr>
            <p:cNvPr id="175" name=""/>
            <p:cNvSpPr/>
            <p:nvPr/>
          </p:nvSpPr>
          <p:spPr>
            <a:xfrm>
              <a:off x="5973840" y="3075120"/>
              <a:ext cx="215640" cy="306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027840" y="3122640"/>
              <a:ext cx="85680" cy="745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27840" y="3263760"/>
              <a:ext cx="85680" cy="748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6095880" y="3362400"/>
            <a:ext cx="1800" cy="10152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29040" y="3352680"/>
            <a:ext cx="1440" cy="10188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600880" y="4933800"/>
            <a:ext cx="1440" cy="10188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523960" y="4924440"/>
            <a:ext cx="1800" cy="10152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395160" y="5415120"/>
            <a:ext cx="117720" cy="144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3395160" y="2424240"/>
            <a:ext cx="117720" cy="144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957920" y="2928960"/>
            <a:ext cx="117360" cy="144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4967280" y="5929200"/>
            <a:ext cx="117360" cy="180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4284720" y="4292640"/>
            <a:ext cx="216000" cy="487440"/>
            <a:chOff x="4284720" y="4292640"/>
            <a:chExt cx="216000" cy="487440"/>
          </a:xfrm>
        </p:grpSpPr>
        <p:sp>
          <p:nvSpPr>
            <p:cNvPr id="187" name=""/>
            <p:cNvSpPr/>
            <p:nvPr/>
          </p:nvSpPr>
          <p:spPr>
            <a:xfrm rot="10800000">
              <a:off x="4284720" y="4292640"/>
              <a:ext cx="216000" cy="487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10800000">
              <a:off x="4359240" y="4474800"/>
              <a:ext cx="85680" cy="745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10800000">
              <a:off x="4359240" y="4333680"/>
              <a:ext cx="85680" cy="745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10800000">
              <a:off x="4357800" y="4630320"/>
              <a:ext cx="77760" cy="74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3105000" y="4257720"/>
            <a:ext cx="216000" cy="181080"/>
          </a:xfrm>
          <a:custGeom>
            <a:avLst/>
            <a:gdLst>
              <a:gd name="textAreaLeft" fmla="*/ 72000 w 216000"/>
              <a:gd name="textAreaRight" fmla="*/ 185040 w 216000"/>
              <a:gd name="textAreaTop" fmla="*/ 104400 h 181080"/>
              <a:gd name="textAreaBottom" fmla="*/ 155160 h 181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5133960" y="3913920"/>
            <a:ext cx="216000" cy="181080"/>
          </a:xfrm>
          <a:custGeom>
            <a:avLst/>
            <a:gdLst>
              <a:gd name="textAreaLeft" fmla="*/ 72000 w 216000"/>
              <a:gd name="textAreaRight" fmla="*/ 185040 w 216000"/>
              <a:gd name="textAreaTop" fmla="*/ 104400 h 181080"/>
              <a:gd name="textAreaBottom" fmla="*/ 155160 h 181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584880" y="2984040"/>
            <a:ext cx="253800" cy="306360"/>
            <a:chOff x="3584880" y="2984040"/>
            <a:chExt cx="253800" cy="306360"/>
          </a:xfrm>
        </p:grpSpPr>
        <p:sp>
          <p:nvSpPr>
            <p:cNvPr id="194" name=""/>
            <p:cNvSpPr/>
            <p:nvPr/>
          </p:nvSpPr>
          <p:spPr>
            <a:xfrm rot="5400000">
              <a:off x="3614760" y="3066480"/>
              <a:ext cx="298440" cy="149400"/>
            </a:xfrm>
            <a:prstGeom prst="rightArrow">
              <a:avLst>
                <a:gd name="adj1" fmla="val 50000"/>
                <a:gd name="adj2" fmla="val 4994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0800000">
              <a:off x="3584880" y="2984040"/>
              <a:ext cx="203040" cy="23580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235800"/>
                <a:gd name="textAreaBottom" fmla="*/ 236160 h 23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 flipH="1" flipV="1" rot="16200000">
            <a:off x="3966480" y="3081960"/>
            <a:ext cx="188640" cy="206640"/>
          </a:xfrm>
          <a:custGeom>
            <a:avLst/>
            <a:gdLst>
              <a:gd name="textAreaLeft" fmla="*/ 63000 w 188640"/>
              <a:gd name="textAreaRight" fmla="*/ 161640 w 188640"/>
              <a:gd name="textAreaTop" fmla="*/ 119520 h 206640"/>
              <a:gd name="textAreaBottom" fmla="*/ 177480 h 2066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160" bIns="11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5057640" y="3521160"/>
            <a:ext cx="351000" cy="221760"/>
            <a:chOff x="5057640" y="3521160"/>
            <a:chExt cx="351000" cy="221760"/>
          </a:xfrm>
        </p:grpSpPr>
        <p:sp>
          <p:nvSpPr>
            <p:cNvPr id="198" name=""/>
            <p:cNvSpPr/>
            <p:nvPr/>
          </p:nvSpPr>
          <p:spPr>
            <a:xfrm rot="10800000">
              <a:off x="5057640" y="3612600"/>
              <a:ext cx="342000" cy="130320"/>
            </a:xfrm>
            <a:prstGeom prst="rightArrow">
              <a:avLst>
                <a:gd name="adj1" fmla="val 50000"/>
                <a:gd name="adj2" fmla="val 6560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16200000">
              <a:off x="5184720" y="3474720"/>
              <a:ext cx="177480" cy="27036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270360"/>
                <a:gd name="textAreaBottom" fmla="*/ 270720 h 27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4632480" y="4965840"/>
            <a:ext cx="253800" cy="306360"/>
            <a:chOff x="4632480" y="4965840"/>
            <a:chExt cx="253800" cy="306360"/>
          </a:xfrm>
        </p:grpSpPr>
        <p:sp>
          <p:nvSpPr>
            <p:cNvPr id="201" name=""/>
            <p:cNvSpPr/>
            <p:nvPr/>
          </p:nvSpPr>
          <p:spPr>
            <a:xfrm rot="16200000">
              <a:off x="4557600" y="5040360"/>
              <a:ext cx="298440" cy="149040"/>
            </a:xfrm>
            <a:prstGeom prst="rightArrow">
              <a:avLst>
                <a:gd name="adj1" fmla="val 50000"/>
                <a:gd name="adj2" fmla="val 5006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683240" y="5036400"/>
              <a:ext cx="203040" cy="23580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235800"/>
                <a:gd name="textAreaBottom" fmla="*/ 236160 h 23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 rot="16200000">
            <a:off x="4318560" y="5024520"/>
            <a:ext cx="189000" cy="206640"/>
          </a:xfrm>
          <a:custGeom>
            <a:avLst/>
            <a:gdLst>
              <a:gd name="textAreaLeft" fmla="*/ 63000 w 189000"/>
              <a:gd name="textAreaRight" fmla="*/ 162000 w 189000"/>
              <a:gd name="textAreaTop" fmla="*/ 119160 h 206640"/>
              <a:gd name="textAreaBottom" fmla="*/ 177120 h 2066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160" bIns="11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86080" y="2581200"/>
            <a:ext cx="85680" cy="74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14880" y="2610000"/>
            <a:ext cx="85680" cy="74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19760" y="3295800"/>
            <a:ext cx="85680" cy="74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81320" y="3324240"/>
            <a:ext cx="85680" cy="74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581200" y="4962600"/>
            <a:ext cx="85680" cy="74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71760" y="5191200"/>
            <a:ext cx="85680" cy="74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29160" y="4943520"/>
            <a:ext cx="85680" cy="74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048280" y="5715000"/>
            <a:ext cx="85680" cy="74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328920" y="2508120"/>
            <a:ext cx="1800" cy="6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60720" y="3360600"/>
            <a:ext cx="136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146560" y="2695680"/>
            <a:ext cx="1800" cy="5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921280" y="3351240"/>
            <a:ext cx="68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419640" y="5286240"/>
            <a:ext cx="1440" cy="10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33680" y="5010120"/>
            <a:ext cx="44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524560" y="5000760"/>
            <a:ext cx="63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800680"/>
            <a:ext cx="1800" cy="10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6848640" y="5943600"/>
            <a:ext cx="564840" cy="585720"/>
          </a:xfrm>
          <a:custGeom>
            <a:avLst/>
            <a:gdLst>
              <a:gd name="textAreaLeft" fmla="*/ 36360 w 564840"/>
              <a:gd name="textAreaRight" fmla="*/ 528480 w 564840"/>
              <a:gd name="textAreaTop" fmla="*/ 36360 h 585720"/>
              <a:gd name="textAreaBottom" fmla="*/ 549360 h 585720"/>
            </a:gdLst>
            <a:ahLst/>
            <a:rect l="textAreaLeft" t="textAreaTop" r="textAreaRight" b="textAreaBottom"/>
            <a:pathLst>
              <a:path w="21600" h="22398">
                <a:moveTo>
                  <a:pt x="0" y="0"/>
                </a:moveTo>
                <a:lnTo>
                  <a:pt x="21600" y="0"/>
                </a:lnTo>
                <a:lnTo>
                  <a:pt x="21600" y="22398"/>
                </a:lnTo>
                <a:lnTo>
                  <a:pt x="0" y="22398"/>
                </a:lnTo>
                <a:close/>
              </a:path>
              <a:path fill="lightenLess" w="21600" h="223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98">
                <a:moveTo>
                  <a:pt x="21600" y="0"/>
                </a:moveTo>
                <a:lnTo>
                  <a:pt x="21600" y="22398"/>
                </a:lnTo>
                <a:lnTo>
                  <a:pt x="20200" y="20998"/>
                </a:lnTo>
                <a:lnTo>
                  <a:pt x="20200" y="1400"/>
                </a:lnTo>
                <a:close/>
              </a:path>
              <a:path fill="darkenLess" w="21600" h="22398">
                <a:moveTo>
                  <a:pt x="21600" y="22398"/>
                </a:moveTo>
                <a:lnTo>
                  <a:pt x="0" y="22398"/>
                </a:lnTo>
                <a:lnTo>
                  <a:pt x="1400" y="20998"/>
                </a:lnTo>
                <a:lnTo>
                  <a:pt x="20200" y="20998"/>
                </a:lnTo>
                <a:close/>
              </a:path>
              <a:path fill="lighten" w="21600" h="22398">
                <a:moveTo>
                  <a:pt x="0" y="223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98"/>
                </a:lnTo>
                <a:close/>
              </a:path>
              <a:path fill="darken" w="21600" h="22398">
                <a:moveTo>
                  <a:pt x="3794" y="11199"/>
                </a:moveTo>
                <a:lnTo>
                  <a:pt x="17806" y="4192"/>
                </a:lnTo>
                <a:lnTo>
                  <a:pt x="17806" y="18205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>
            <a:hlinkClick r:id="" action="ppaction://hlinkshowjump?jump=nextslide"/>
          </p:cNvPr>
          <p:cNvSpPr/>
          <p:nvPr/>
        </p:nvSpPr>
        <p:spPr>
          <a:xfrm>
            <a:off x="7467480" y="5943600"/>
            <a:ext cx="567000" cy="585720"/>
          </a:xfrm>
          <a:custGeom>
            <a:avLst/>
            <a:gdLst>
              <a:gd name="textAreaLeft" fmla="*/ 36720 w 567000"/>
              <a:gd name="textAreaRight" fmla="*/ 530280 w 567000"/>
              <a:gd name="textAreaTop" fmla="*/ 36720 h 585720"/>
              <a:gd name="textAreaBottom" fmla="*/ 549000 h 585720"/>
            </a:gdLst>
            <a:ahLst/>
            <a:rect l="textAreaLeft" t="textAreaTop" r="textAreaRight" b="textAreaBottom"/>
            <a:pathLst>
              <a:path w="21600" h="22313">
                <a:moveTo>
                  <a:pt x="0" y="0"/>
                </a:moveTo>
                <a:lnTo>
                  <a:pt x="21600" y="0"/>
                </a:lnTo>
                <a:lnTo>
                  <a:pt x="21600" y="22313"/>
                </a:lnTo>
                <a:lnTo>
                  <a:pt x="0" y="22313"/>
                </a:lnTo>
                <a:close/>
              </a:path>
              <a:path fill="lightenLess" w="21600" h="223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13">
                <a:moveTo>
                  <a:pt x="21600" y="0"/>
                </a:moveTo>
                <a:lnTo>
                  <a:pt x="21600" y="22313"/>
                </a:lnTo>
                <a:lnTo>
                  <a:pt x="20200" y="20913"/>
                </a:lnTo>
                <a:lnTo>
                  <a:pt x="20200" y="1400"/>
                </a:lnTo>
                <a:close/>
              </a:path>
              <a:path fill="darkenLess" w="21600" h="22313">
                <a:moveTo>
                  <a:pt x="21600" y="22313"/>
                </a:moveTo>
                <a:lnTo>
                  <a:pt x="0" y="22313"/>
                </a:lnTo>
                <a:lnTo>
                  <a:pt x="1400" y="20913"/>
                </a:lnTo>
                <a:lnTo>
                  <a:pt x="20200" y="20913"/>
                </a:lnTo>
                <a:close/>
              </a:path>
              <a:path fill="lighten" w="21600" h="22313">
                <a:moveTo>
                  <a:pt x="0" y="223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13"/>
                </a:lnTo>
                <a:close/>
              </a:path>
              <a:path fill="darken" w="21600" h="22313">
                <a:moveTo>
                  <a:pt x="3794" y="4150"/>
                </a:moveTo>
                <a:lnTo>
                  <a:pt x="17806" y="11156"/>
                </a:lnTo>
                <a:lnTo>
                  <a:pt x="3794" y="18163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" action="ppaction://hlinkshowjump?jump=firstslide"/>
          </p:cNvPr>
          <p:cNvSpPr/>
          <p:nvPr/>
        </p:nvSpPr>
        <p:spPr>
          <a:xfrm>
            <a:off x="8088480" y="5943600"/>
            <a:ext cx="564840" cy="585720"/>
          </a:xfrm>
          <a:custGeom>
            <a:avLst/>
            <a:gdLst>
              <a:gd name="textAreaLeft" fmla="*/ 36360 w 564840"/>
              <a:gd name="textAreaRight" fmla="*/ 528480 w 564840"/>
              <a:gd name="textAreaTop" fmla="*/ 36360 h 585720"/>
              <a:gd name="textAreaBottom" fmla="*/ 549360 h 585720"/>
            </a:gdLst>
            <a:ahLst/>
            <a:rect l="textAreaLeft" t="textAreaTop" r="textAreaRight" b="textAreaBottom"/>
            <a:pathLst>
              <a:path w="21600" h="22398">
                <a:moveTo>
                  <a:pt x="0" y="0"/>
                </a:moveTo>
                <a:lnTo>
                  <a:pt x="21600" y="0"/>
                </a:lnTo>
                <a:lnTo>
                  <a:pt x="21600" y="22398"/>
                </a:lnTo>
                <a:lnTo>
                  <a:pt x="0" y="22398"/>
                </a:lnTo>
                <a:close/>
              </a:path>
              <a:path fill="lightenLess" w="21600" h="223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98">
                <a:moveTo>
                  <a:pt x="21600" y="0"/>
                </a:moveTo>
                <a:lnTo>
                  <a:pt x="21600" y="22398"/>
                </a:lnTo>
                <a:lnTo>
                  <a:pt x="20200" y="20998"/>
                </a:lnTo>
                <a:lnTo>
                  <a:pt x="20200" y="1400"/>
                </a:lnTo>
                <a:close/>
              </a:path>
              <a:path fill="darkenLess" w="21600" h="22398">
                <a:moveTo>
                  <a:pt x="21600" y="22398"/>
                </a:moveTo>
                <a:lnTo>
                  <a:pt x="0" y="22398"/>
                </a:lnTo>
                <a:lnTo>
                  <a:pt x="1400" y="20998"/>
                </a:lnTo>
                <a:lnTo>
                  <a:pt x="20200" y="20998"/>
                </a:lnTo>
                <a:close/>
              </a:path>
              <a:path fill="lighten" w="21600" h="22398">
                <a:moveTo>
                  <a:pt x="0" y="223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98"/>
                </a:lnTo>
                <a:close/>
              </a:path>
              <a:path fill="darken" w="21600" h="22398">
                <a:moveTo>
                  <a:pt x="7301" y="11199"/>
                </a:moveTo>
                <a:lnTo>
                  <a:pt x="17806" y="4192"/>
                </a:lnTo>
                <a:lnTo>
                  <a:pt x="17806" y="18205"/>
                </a:lnTo>
                <a:close/>
              </a:path>
              <a:path fill="darken" w="21600" h="22398">
                <a:moveTo>
                  <a:pt x="3794" y="4192"/>
                </a:moveTo>
                <a:lnTo>
                  <a:pt x="5456" y="4192"/>
                </a:lnTo>
                <a:lnTo>
                  <a:pt x="5456" y="18205"/>
                </a:lnTo>
                <a:lnTo>
                  <a:pt x="3794" y="18205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847960" y="3075120"/>
            <a:ext cx="215640" cy="306360"/>
            <a:chOff x="2847960" y="3075120"/>
            <a:chExt cx="215640" cy="306360"/>
          </a:xfrm>
        </p:grpSpPr>
        <p:sp>
          <p:nvSpPr>
            <p:cNvPr id="224" name=""/>
            <p:cNvSpPr/>
            <p:nvPr/>
          </p:nvSpPr>
          <p:spPr>
            <a:xfrm>
              <a:off x="2847960" y="3075120"/>
              <a:ext cx="215640" cy="306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901960" y="3122640"/>
              <a:ext cx="85680" cy="745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901960" y="3263760"/>
              <a:ext cx="85680" cy="748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2303640" y="4889160"/>
            <a:ext cx="215640" cy="306360"/>
            <a:chOff x="2303640" y="4889160"/>
            <a:chExt cx="215640" cy="306360"/>
          </a:xfrm>
        </p:grpSpPr>
        <p:sp>
          <p:nvSpPr>
            <p:cNvPr id="228" name=""/>
            <p:cNvSpPr/>
            <p:nvPr/>
          </p:nvSpPr>
          <p:spPr>
            <a:xfrm flipV="1">
              <a:off x="2303640" y="4888800"/>
              <a:ext cx="215640" cy="306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2357640" y="5073120"/>
              <a:ext cx="85680" cy="745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2357640" y="4932000"/>
              <a:ext cx="85680" cy="748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5576760" y="4845240"/>
            <a:ext cx="215640" cy="306360"/>
            <a:chOff x="5576760" y="4845240"/>
            <a:chExt cx="215640" cy="306360"/>
          </a:xfrm>
        </p:grpSpPr>
        <p:sp>
          <p:nvSpPr>
            <p:cNvPr id="232" name=""/>
            <p:cNvSpPr/>
            <p:nvPr/>
          </p:nvSpPr>
          <p:spPr>
            <a:xfrm flipV="1">
              <a:off x="5576760" y="4844880"/>
              <a:ext cx="215640" cy="306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5630760" y="5029200"/>
              <a:ext cx="85680" cy="745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5630760" y="4888080"/>
              <a:ext cx="85680" cy="748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5073840" y="5835600"/>
            <a:ext cx="306360" cy="215640"/>
            <a:chOff x="5073840" y="5835600"/>
            <a:chExt cx="306360" cy="215640"/>
          </a:xfrm>
        </p:grpSpPr>
        <p:sp>
          <p:nvSpPr>
            <p:cNvPr id="236" name=""/>
            <p:cNvSpPr/>
            <p:nvPr/>
          </p:nvSpPr>
          <p:spPr>
            <a:xfrm rot="5400000">
              <a:off x="5119200" y="5790240"/>
              <a:ext cx="215640" cy="306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5400000">
              <a:off x="5252400" y="5895000"/>
              <a:ext cx="85680" cy="745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5400000">
              <a:off x="5111280" y="5895000"/>
              <a:ext cx="85680" cy="748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3081240" y="2297160"/>
            <a:ext cx="306360" cy="215640"/>
            <a:chOff x="3081240" y="2297160"/>
            <a:chExt cx="306360" cy="215640"/>
          </a:xfrm>
        </p:grpSpPr>
        <p:sp>
          <p:nvSpPr>
            <p:cNvPr id="240" name=""/>
            <p:cNvSpPr/>
            <p:nvPr/>
          </p:nvSpPr>
          <p:spPr>
            <a:xfrm flipH="1" rot="16200000">
              <a:off x="3126240" y="2251800"/>
              <a:ext cx="215640" cy="306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 rot="16200000">
              <a:off x="3122640" y="2356560"/>
              <a:ext cx="85680" cy="745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 rot="16200000">
              <a:off x="3264480" y="2356560"/>
              <a:ext cx="85680" cy="748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5132160" y="2768760"/>
            <a:ext cx="306360" cy="215640"/>
            <a:chOff x="5132160" y="2768760"/>
            <a:chExt cx="306360" cy="215640"/>
          </a:xfrm>
        </p:grpSpPr>
        <p:sp>
          <p:nvSpPr>
            <p:cNvPr id="244" name=""/>
            <p:cNvSpPr/>
            <p:nvPr/>
          </p:nvSpPr>
          <p:spPr>
            <a:xfrm rot="5400000">
              <a:off x="5177520" y="2723400"/>
              <a:ext cx="215640" cy="306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5400000">
              <a:off x="5310720" y="2828160"/>
              <a:ext cx="85680" cy="745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rot="5400000">
              <a:off x="5169600" y="2828160"/>
              <a:ext cx="85680" cy="748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4622760" y="4292640"/>
            <a:ext cx="216000" cy="487440"/>
            <a:chOff x="4622760" y="4292640"/>
            <a:chExt cx="216000" cy="487440"/>
          </a:xfrm>
        </p:grpSpPr>
        <p:sp>
          <p:nvSpPr>
            <p:cNvPr id="248" name=""/>
            <p:cNvSpPr/>
            <p:nvPr/>
          </p:nvSpPr>
          <p:spPr>
            <a:xfrm rot="10800000">
              <a:off x="4622760" y="4292640"/>
              <a:ext cx="216000" cy="487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10800000">
              <a:off x="4697280" y="4474800"/>
              <a:ext cx="85680" cy="745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10800000">
              <a:off x="4697280" y="4333680"/>
              <a:ext cx="85680" cy="745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10800000">
              <a:off x="4695840" y="4630320"/>
              <a:ext cx="77760" cy="74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3576600" y="3584520"/>
            <a:ext cx="216000" cy="487440"/>
            <a:chOff x="3576600" y="3584520"/>
            <a:chExt cx="216000" cy="487440"/>
          </a:xfrm>
        </p:grpSpPr>
        <p:sp>
          <p:nvSpPr>
            <p:cNvPr id="253" name=""/>
            <p:cNvSpPr/>
            <p:nvPr/>
          </p:nvSpPr>
          <p:spPr>
            <a:xfrm flipV="1" rot="10800000">
              <a:off x="3576600" y="3584520"/>
              <a:ext cx="216000" cy="487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 rot="10800000">
              <a:off x="3651120" y="3814920"/>
              <a:ext cx="85680" cy="745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 rot="10800000">
              <a:off x="3651120" y="3956040"/>
              <a:ext cx="85680" cy="745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10800000">
              <a:off x="3649680" y="3659400"/>
              <a:ext cx="77760" cy="74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3930480" y="3584520"/>
            <a:ext cx="216000" cy="487440"/>
            <a:chOff x="3930480" y="3584520"/>
            <a:chExt cx="216000" cy="487440"/>
          </a:xfrm>
        </p:grpSpPr>
        <p:sp>
          <p:nvSpPr>
            <p:cNvPr id="258" name=""/>
            <p:cNvSpPr/>
            <p:nvPr/>
          </p:nvSpPr>
          <p:spPr>
            <a:xfrm flipV="1" rot="10800000">
              <a:off x="3930480" y="3584520"/>
              <a:ext cx="216000" cy="487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10800000">
              <a:off x="4005000" y="3814920"/>
              <a:ext cx="85680" cy="745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10800000">
              <a:off x="4005000" y="3956040"/>
              <a:ext cx="85680" cy="745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10800000">
              <a:off x="4003560" y="3659400"/>
              <a:ext cx="77760" cy="74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618000" y="4146480"/>
            <a:ext cx="487440" cy="216000"/>
            <a:chOff x="3618000" y="4146480"/>
            <a:chExt cx="487440" cy="216000"/>
          </a:xfrm>
        </p:grpSpPr>
        <p:sp>
          <p:nvSpPr>
            <p:cNvPr id="263" name=""/>
            <p:cNvSpPr/>
            <p:nvPr/>
          </p:nvSpPr>
          <p:spPr>
            <a:xfrm flipH="1" flipV="1" rot="5400000">
              <a:off x="3753720" y="4010760"/>
              <a:ext cx="216000" cy="487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 flipV="1" rot="5400000">
              <a:off x="3842640" y="4226400"/>
              <a:ext cx="85680" cy="745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 flipV="1" rot="5400000">
              <a:off x="3983760" y="4226400"/>
              <a:ext cx="85680" cy="745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 flipV="1" rot="5400000">
              <a:off x="3691080" y="4221000"/>
              <a:ext cx="77760" cy="74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4294080" y="3587760"/>
            <a:ext cx="487440" cy="216000"/>
            <a:chOff x="4294080" y="3587760"/>
            <a:chExt cx="487440" cy="216000"/>
          </a:xfrm>
        </p:grpSpPr>
        <p:sp>
          <p:nvSpPr>
            <p:cNvPr id="268" name=""/>
            <p:cNvSpPr/>
            <p:nvPr/>
          </p:nvSpPr>
          <p:spPr>
            <a:xfrm flipV="1" rot="16200000">
              <a:off x="4429800" y="3452040"/>
              <a:ext cx="216000" cy="487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6200000">
              <a:off x="4470480" y="3667680"/>
              <a:ext cx="85680" cy="745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6200000">
              <a:off x="4329360" y="3667680"/>
              <a:ext cx="85680" cy="745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6200000">
              <a:off x="4629960" y="3662280"/>
              <a:ext cx="77760" cy="74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4294080" y="3897360"/>
            <a:ext cx="487440" cy="216000"/>
            <a:chOff x="4294080" y="3897360"/>
            <a:chExt cx="487440" cy="216000"/>
          </a:xfrm>
        </p:grpSpPr>
        <p:sp>
          <p:nvSpPr>
            <p:cNvPr id="273" name=""/>
            <p:cNvSpPr/>
            <p:nvPr/>
          </p:nvSpPr>
          <p:spPr>
            <a:xfrm flipV="1" rot="16200000">
              <a:off x="4429800" y="3761640"/>
              <a:ext cx="216000" cy="487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 rot="16200000">
              <a:off x="4470480" y="3977280"/>
              <a:ext cx="85680" cy="745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 rot="16200000">
              <a:off x="4329360" y="3977280"/>
              <a:ext cx="85680" cy="745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 rot="16200000">
              <a:off x="4629960" y="3971880"/>
              <a:ext cx="77760" cy="74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3618000" y="4441680"/>
            <a:ext cx="487440" cy="216000"/>
            <a:chOff x="3618000" y="4441680"/>
            <a:chExt cx="487440" cy="216000"/>
          </a:xfrm>
        </p:grpSpPr>
        <p:sp>
          <p:nvSpPr>
            <p:cNvPr id="278" name=""/>
            <p:cNvSpPr/>
            <p:nvPr/>
          </p:nvSpPr>
          <p:spPr>
            <a:xfrm flipH="1" flipV="1" rot="5400000">
              <a:off x="3753720" y="4305960"/>
              <a:ext cx="216000" cy="487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 flipV="1" rot="5400000">
              <a:off x="3842640" y="4521600"/>
              <a:ext cx="85680" cy="745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 flipV="1" rot="5400000">
              <a:off x="3983760" y="4521600"/>
              <a:ext cx="85680" cy="745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 flipV="1" rot="5400000">
              <a:off x="3691080" y="4516200"/>
              <a:ext cx="77760" cy="74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1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Z</a:t>
            </a:r>
            <a:r>
              <a:rPr b="1" lang="sk-SK" sz="4400" spc="-1" strike="noStrike">
                <a:solidFill>
                  <a:srgbClr val="221304"/>
                </a:solidFill>
                <a:latin typeface="Times New Roman"/>
              </a:rPr>
              <a:t>adanie </a:t>
            </a: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22</a:t>
            </a:r>
            <a:r>
              <a:rPr b="0" i="1" lang="sk-SK" sz="4400" spc="-1" strike="noStrike">
                <a:solidFill>
                  <a:srgbClr val="221304"/>
                </a:solidFill>
                <a:latin typeface="Times New Roman"/>
              </a:rPr>
              <a:t>:</a:t>
            </a:r>
            <a:r>
              <a:rPr b="1" i="1" lang="en-US" sz="4400" spc="-1" strike="noStrike">
                <a:solidFill>
                  <a:srgbClr val="221304"/>
                </a:solidFill>
                <a:latin typeface="Times New Roman"/>
              </a:rPr>
              <a:t>Mie</a:t>
            </a:r>
            <a:r>
              <a:rPr b="1" i="1" lang="sk-SK" sz="4400" spc="-1" strike="noStrike">
                <a:solidFill>
                  <a:srgbClr val="221304"/>
                </a:solidFill>
                <a:latin typeface="Times New Roman"/>
              </a:rPr>
              <a:t>šací tank 1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2813" name=""/>
          <p:cNvGrpSpPr/>
          <p:nvPr/>
        </p:nvGrpSpPr>
        <p:grpSpPr>
          <a:xfrm>
            <a:off x="1771560" y="1971720"/>
            <a:ext cx="6577200" cy="4200480"/>
            <a:chOff x="1771560" y="1971720"/>
            <a:chExt cx="6577200" cy="4200480"/>
          </a:xfrm>
        </p:grpSpPr>
        <p:sp>
          <p:nvSpPr>
            <p:cNvPr id="2814" name=""/>
            <p:cNvSpPr/>
            <p:nvPr/>
          </p:nvSpPr>
          <p:spPr>
            <a:xfrm>
              <a:off x="2571840" y="1971720"/>
              <a:ext cx="557280" cy="9064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 flipV="1">
              <a:off x="2571840" y="2877480"/>
              <a:ext cx="542880" cy="196920"/>
            </a:xfrm>
            <a:prstGeom prst="triangle">
              <a:avLst>
                <a:gd name="adj" fmla="val 50000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2843280" y="3075120"/>
              <a:ext cx="0" cy="13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17" name=""/>
            <p:cNvGrpSpPr/>
            <p:nvPr/>
          </p:nvGrpSpPr>
          <p:grpSpPr>
            <a:xfrm>
              <a:off x="2743200" y="3213000"/>
              <a:ext cx="200160" cy="187200"/>
              <a:chOff x="2743200" y="3213000"/>
              <a:chExt cx="200160" cy="187200"/>
            </a:xfrm>
          </p:grpSpPr>
          <p:sp>
            <p:nvSpPr>
              <p:cNvPr id="2818" name=""/>
              <p:cNvSpPr/>
              <p:nvPr/>
            </p:nvSpPr>
            <p:spPr>
              <a:xfrm>
                <a:off x="2743200" y="3311640"/>
                <a:ext cx="200160" cy="88560"/>
              </a:xfrm>
              <a:prstGeom prst="triangle">
                <a:avLst>
                  <a:gd name="adj" fmla="val 50000"/>
                </a:avLst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 flipV="1">
                <a:off x="2743200" y="3213000"/>
                <a:ext cx="200160" cy="88560"/>
              </a:xfrm>
              <a:prstGeom prst="triangle">
                <a:avLst>
                  <a:gd name="adj" fmla="val 50000"/>
                </a:avLst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20" name=""/>
            <p:cNvSpPr/>
            <p:nvPr/>
          </p:nvSpPr>
          <p:spPr>
            <a:xfrm>
              <a:off x="2843280" y="3419640"/>
              <a:ext cx="0" cy="13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2171880" y="3387600"/>
              <a:ext cx="58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 flipH="1">
              <a:off x="1900080" y="2749680"/>
              <a:ext cx="77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 flipH="1">
              <a:off x="1885680" y="2178000"/>
              <a:ext cx="77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4000680" y="1971720"/>
              <a:ext cx="556920" cy="9064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 flipV="1">
              <a:off x="4000680" y="2877480"/>
              <a:ext cx="542880" cy="196920"/>
            </a:xfrm>
            <a:prstGeom prst="triangle">
              <a:avLst>
                <a:gd name="adj" fmla="val 50000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4272120" y="3075120"/>
              <a:ext cx="0" cy="13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27" name=""/>
            <p:cNvGrpSpPr/>
            <p:nvPr/>
          </p:nvGrpSpPr>
          <p:grpSpPr>
            <a:xfrm>
              <a:off x="4172040" y="3213000"/>
              <a:ext cx="199800" cy="187200"/>
              <a:chOff x="4172040" y="3213000"/>
              <a:chExt cx="199800" cy="187200"/>
            </a:xfrm>
          </p:grpSpPr>
          <p:sp>
            <p:nvSpPr>
              <p:cNvPr id="2828" name=""/>
              <p:cNvSpPr/>
              <p:nvPr/>
            </p:nvSpPr>
            <p:spPr>
              <a:xfrm>
                <a:off x="4172040" y="3311640"/>
                <a:ext cx="199800" cy="88560"/>
              </a:xfrm>
              <a:prstGeom prst="triangle">
                <a:avLst>
                  <a:gd name="adj" fmla="val 50000"/>
                </a:avLst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 flipV="1">
                <a:off x="4172040" y="3213000"/>
                <a:ext cx="199800" cy="88560"/>
              </a:xfrm>
              <a:prstGeom prst="triangle">
                <a:avLst>
                  <a:gd name="adj" fmla="val 50000"/>
                </a:avLst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0" name=""/>
            <p:cNvSpPr/>
            <p:nvPr/>
          </p:nvSpPr>
          <p:spPr>
            <a:xfrm>
              <a:off x="4272120" y="3419640"/>
              <a:ext cx="0" cy="13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3600360" y="3373560"/>
              <a:ext cx="58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 flipH="1">
              <a:off x="3328560" y="2749680"/>
              <a:ext cx="77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 flipH="1">
              <a:off x="3314520" y="2178000"/>
              <a:ext cx="77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5386320" y="1971720"/>
              <a:ext cx="557280" cy="9064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 flipV="1">
              <a:off x="5386320" y="2877480"/>
              <a:ext cx="542880" cy="196920"/>
            </a:xfrm>
            <a:prstGeom prst="triangle">
              <a:avLst>
                <a:gd name="adj" fmla="val 50000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5657760" y="3075120"/>
              <a:ext cx="0" cy="13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37" name=""/>
            <p:cNvGrpSpPr/>
            <p:nvPr/>
          </p:nvGrpSpPr>
          <p:grpSpPr>
            <a:xfrm>
              <a:off x="5557680" y="3213000"/>
              <a:ext cx="200160" cy="187200"/>
              <a:chOff x="5557680" y="3213000"/>
              <a:chExt cx="200160" cy="187200"/>
            </a:xfrm>
          </p:grpSpPr>
          <p:sp>
            <p:nvSpPr>
              <p:cNvPr id="2838" name=""/>
              <p:cNvSpPr/>
              <p:nvPr/>
            </p:nvSpPr>
            <p:spPr>
              <a:xfrm>
                <a:off x="5557680" y="3311640"/>
                <a:ext cx="200160" cy="88560"/>
              </a:xfrm>
              <a:prstGeom prst="triangle">
                <a:avLst>
                  <a:gd name="adj" fmla="val 50000"/>
                </a:avLst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 flipV="1">
                <a:off x="5557680" y="3213000"/>
                <a:ext cx="200160" cy="88560"/>
              </a:xfrm>
              <a:prstGeom prst="triangle">
                <a:avLst>
                  <a:gd name="adj" fmla="val 50000"/>
                </a:avLst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40" name=""/>
            <p:cNvSpPr/>
            <p:nvPr/>
          </p:nvSpPr>
          <p:spPr>
            <a:xfrm>
              <a:off x="5657760" y="3419640"/>
              <a:ext cx="0" cy="13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4929120" y="3387600"/>
              <a:ext cx="58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 flipH="1">
              <a:off x="4714560" y="2749680"/>
              <a:ext cx="77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 flipH="1">
              <a:off x="4700160" y="2178000"/>
              <a:ext cx="77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44" name=""/>
            <p:cNvGrpSpPr/>
            <p:nvPr/>
          </p:nvGrpSpPr>
          <p:grpSpPr>
            <a:xfrm>
              <a:off x="2549520" y="3629160"/>
              <a:ext cx="3422160" cy="1103040"/>
              <a:chOff x="2549520" y="3629160"/>
              <a:chExt cx="3422160" cy="1103040"/>
            </a:xfrm>
          </p:grpSpPr>
          <p:sp>
            <p:nvSpPr>
              <p:cNvPr id="2845" name=""/>
              <p:cNvSpPr/>
              <p:nvPr/>
            </p:nvSpPr>
            <p:spPr>
              <a:xfrm>
                <a:off x="2549520" y="3629160"/>
                <a:ext cx="3422160" cy="9064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 flipV="1">
                <a:off x="2549520" y="4535640"/>
                <a:ext cx="3333960" cy="196560"/>
              </a:xfrm>
              <a:prstGeom prst="triangle">
                <a:avLst>
                  <a:gd name="adj" fmla="val 50000"/>
                </a:avLst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7" name=""/>
            <p:cNvGrpSpPr/>
            <p:nvPr/>
          </p:nvGrpSpPr>
          <p:grpSpPr>
            <a:xfrm>
              <a:off x="4062240" y="4746600"/>
              <a:ext cx="330120" cy="739440"/>
              <a:chOff x="4062240" y="4746600"/>
              <a:chExt cx="330120" cy="739440"/>
            </a:xfrm>
          </p:grpSpPr>
          <p:sp>
            <p:nvSpPr>
              <p:cNvPr id="2848" name=""/>
              <p:cNvSpPr/>
              <p:nvPr/>
            </p:nvSpPr>
            <p:spPr>
              <a:xfrm>
                <a:off x="4227480" y="4746600"/>
                <a:ext cx="0" cy="211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49" name=""/>
              <p:cNvGrpSpPr/>
              <p:nvPr/>
            </p:nvGrpSpPr>
            <p:grpSpPr>
              <a:xfrm>
                <a:off x="4062240" y="4958280"/>
                <a:ext cx="330120" cy="286200"/>
                <a:chOff x="4062240" y="4958280"/>
                <a:chExt cx="330120" cy="286200"/>
              </a:xfrm>
            </p:grpSpPr>
            <p:sp>
              <p:nvSpPr>
                <p:cNvPr id="2850" name=""/>
                <p:cNvSpPr/>
                <p:nvPr/>
              </p:nvSpPr>
              <p:spPr>
                <a:xfrm>
                  <a:off x="4062240" y="5109120"/>
                  <a:ext cx="330120" cy="1353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cc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1" name=""/>
                <p:cNvSpPr/>
                <p:nvPr/>
              </p:nvSpPr>
              <p:spPr>
                <a:xfrm flipV="1">
                  <a:off x="4062240" y="4958280"/>
                  <a:ext cx="330120" cy="1353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cc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52" name=""/>
              <p:cNvSpPr/>
              <p:nvPr/>
            </p:nvSpPr>
            <p:spPr>
              <a:xfrm>
                <a:off x="4227480" y="5274360"/>
                <a:ext cx="0" cy="211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53" name=""/>
            <p:cNvSpPr/>
            <p:nvPr/>
          </p:nvSpPr>
          <p:spPr>
            <a:xfrm>
              <a:off x="1911240" y="5173560"/>
              <a:ext cx="214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 flipH="1">
              <a:off x="1771560" y="3821040"/>
              <a:ext cx="890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 flipH="1">
              <a:off x="1785960" y="4392720"/>
              <a:ext cx="890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6715080" y="3843360"/>
              <a:ext cx="671400" cy="685800"/>
            </a:xfrm>
            <a:prstGeom prst="ellipse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 rot="5400000">
              <a:off x="4342320" y="4044240"/>
              <a:ext cx="485640" cy="299880"/>
            </a:xfrm>
            <a:prstGeom prst="flowChartPunchedTape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4686480" y="4157640"/>
              <a:ext cx="235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 flipH="1">
              <a:off x="7415280" y="4378320"/>
              <a:ext cx="890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 flipH="1">
              <a:off x="7386480" y="3992400"/>
              <a:ext cx="890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2143080" y="3244680"/>
              <a:ext cx="58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3571920" y="3216240"/>
              <a:ext cx="58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4943520" y="3230640"/>
              <a:ext cx="58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1911240" y="4987800"/>
              <a:ext cx="214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2171880" y="5786280"/>
              <a:ext cx="414000" cy="371520"/>
            </a:xfrm>
            <a:prstGeom prst="ellipse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6872400" y="5772240"/>
              <a:ext cx="414360" cy="371520"/>
            </a:xfrm>
            <a:prstGeom prst="ellipse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2386080" y="5772240"/>
              <a:ext cx="4700520" cy="0"/>
            </a:xfrm>
            <a:prstGeom prst="line">
              <a:avLst/>
            </a:prstGeom>
            <a:ln w="57240">
              <a:solidFill>
                <a:srgbClr val="a1bd6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2400480" y="6172200"/>
              <a:ext cx="4700520" cy="0"/>
            </a:xfrm>
            <a:prstGeom prst="line">
              <a:avLst/>
            </a:prstGeom>
            <a:ln w="57240">
              <a:solidFill>
                <a:srgbClr val="a1bd6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6729480" y="4772160"/>
              <a:ext cx="671400" cy="685800"/>
            </a:xfrm>
            <a:prstGeom prst="ellipse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0" name=""/>
            <p:cNvSpPr/>
            <p:nvPr/>
          </p:nvSpPr>
          <p:spPr>
            <a:xfrm flipH="1">
              <a:off x="7458120" y="4906800"/>
              <a:ext cx="890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 flipH="1">
              <a:off x="7415280" y="5278320"/>
              <a:ext cx="890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7072200" y="5086440"/>
              <a:ext cx="0" cy="84276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3" name=""/>
          <p:cNvGrpSpPr/>
          <p:nvPr/>
        </p:nvGrpSpPr>
        <p:grpSpPr>
          <a:xfrm>
            <a:off x="7410600" y="5686560"/>
            <a:ext cx="1190160" cy="428400"/>
            <a:chOff x="7410600" y="5686560"/>
            <a:chExt cx="1190160" cy="428400"/>
          </a:xfrm>
        </p:grpSpPr>
        <p:sp>
          <p:nvSpPr>
            <p:cNvPr id="2874" name="">
              <a:hlinkClick r:id="" action="ppaction://hlinkshowjump?jump=previousslide"/>
            </p:cNvPr>
            <p:cNvSpPr/>
            <p:nvPr/>
          </p:nvSpPr>
          <p:spPr>
            <a:xfrm>
              <a:off x="7410600" y="5686560"/>
              <a:ext cx="372600" cy="428400"/>
            </a:xfrm>
            <a:custGeom>
              <a:avLst/>
              <a:gdLst>
                <a:gd name="textAreaLeft" fmla="*/ 24120 w 372600"/>
                <a:gd name="textAreaRight" fmla="*/ 348480 w 372600"/>
                <a:gd name="textAreaTop" fmla="*/ 24120 h 428400"/>
                <a:gd name="textAreaBottom" fmla="*/ 404280 h 428400"/>
              </a:gdLst>
              <a:ahLst/>
              <a:rect l="textAreaLeft" t="textAreaTop" r="textAreaRight" b="textAreaBottom"/>
              <a:pathLst>
                <a:path w="21600" h="24832">
                  <a:moveTo>
                    <a:pt x="0" y="0"/>
                  </a:moveTo>
                  <a:lnTo>
                    <a:pt x="21600" y="0"/>
                  </a:lnTo>
                  <a:lnTo>
                    <a:pt x="21600" y="24832"/>
                  </a:lnTo>
                  <a:lnTo>
                    <a:pt x="0" y="24832"/>
                  </a:lnTo>
                  <a:close/>
                </a:path>
                <a:path fill="lightenLess" w="21600" h="24832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4832">
                  <a:moveTo>
                    <a:pt x="21600" y="0"/>
                  </a:moveTo>
                  <a:lnTo>
                    <a:pt x="21600" y="24832"/>
                  </a:lnTo>
                  <a:lnTo>
                    <a:pt x="20200" y="23432"/>
                  </a:lnTo>
                  <a:lnTo>
                    <a:pt x="20200" y="1400"/>
                  </a:lnTo>
                  <a:close/>
                </a:path>
                <a:path fill="darkenLess" w="21600" h="24832">
                  <a:moveTo>
                    <a:pt x="21600" y="24832"/>
                  </a:moveTo>
                  <a:lnTo>
                    <a:pt x="0" y="24832"/>
                  </a:lnTo>
                  <a:lnTo>
                    <a:pt x="1400" y="23432"/>
                  </a:lnTo>
                  <a:lnTo>
                    <a:pt x="20200" y="23432"/>
                  </a:lnTo>
                  <a:close/>
                </a:path>
                <a:path fill="lighten" w="21600" h="24832">
                  <a:moveTo>
                    <a:pt x="0" y="24832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3432"/>
                  </a:lnTo>
                  <a:close/>
                </a:path>
                <a:path fill="darken" w="21600" h="24832">
                  <a:moveTo>
                    <a:pt x="3794" y="12416"/>
                  </a:moveTo>
                  <a:lnTo>
                    <a:pt x="17806" y="5409"/>
                  </a:lnTo>
                  <a:lnTo>
                    <a:pt x="17806" y="19422"/>
                  </a:lnTo>
                  <a:close/>
                </a:path>
              </a:pathLst>
            </a:cu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5" name="">
              <a:hlinkClick r:id="" action="ppaction://hlinkshowjump?jump=nextslide"/>
            </p:cNvPr>
            <p:cNvSpPr/>
            <p:nvPr/>
          </p:nvSpPr>
          <p:spPr>
            <a:xfrm>
              <a:off x="7818840" y="5686560"/>
              <a:ext cx="373680" cy="428400"/>
            </a:xfrm>
            <a:custGeom>
              <a:avLst/>
              <a:gdLst>
                <a:gd name="textAreaLeft" fmla="*/ 24120 w 373680"/>
                <a:gd name="textAreaRight" fmla="*/ 349560 w 373680"/>
                <a:gd name="textAreaTop" fmla="*/ 24120 h 428400"/>
                <a:gd name="textAreaBottom" fmla="*/ 404280 h 428400"/>
              </a:gdLst>
              <a:ahLst/>
              <a:rect l="textAreaLeft" t="textAreaTop" r="textAreaRight" b="textAreaBottom"/>
              <a:pathLst>
                <a:path w="21600" h="24760">
                  <a:moveTo>
                    <a:pt x="0" y="0"/>
                  </a:moveTo>
                  <a:lnTo>
                    <a:pt x="21600" y="0"/>
                  </a:lnTo>
                  <a:lnTo>
                    <a:pt x="21600" y="24760"/>
                  </a:lnTo>
                  <a:lnTo>
                    <a:pt x="0" y="24760"/>
                  </a:lnTo>
                  <a:close/>
                </a:path>
                <a:path fill="lightenLess" w="21600" h="2476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4760">
                  <a:moveTo>
                    <a:pt x="21600" y="0"/>
                  </a:moveTo>
                  <a:lnTo>
                    <a:pt x="21600" y="24760"/>
                  </a:lnTo>
                  <a:lnTo>
                    <a:pt x="20200" y="23360"/>
                  </a:lnTo>
                  <a:lnTo>
                    <a:pt x="20200" y="1400"/>
                  </a:lnTo>
                  <a:close/>
                </a:path>
                <a:path fill="darkenLess" w="21600" h="24760">
                  <a:moveTo>
                    <a:pt x="21600" y="24760"/>
                  </a:moveTo>
                  <a:lnTo>
                    <a:pt x="0" y="24760"/>
                  </a:lnTo>
                  <a:lnTo>
                    <a:pt x="1400" y="23360"/>
                  </a:lnTo>
                  <a:lnTo>
                    <a:pt x="20200" y="23360"/>
                  </a:lnTo>
                  <a:close/>
                </a:path>
                <a:path fill="lighten" w="21600" h="24760">
                  <a:moveTo>
                    <a:pt x="0" y="2476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3360"/>
                  </a:lnTo>
                  <a:close/>
                </a:path>
                <a:path fill="darken" w="21600" h="24760">
                  <a:moveTo>
                    <a:pt x="3794" y="5373"/>
                  </a:moveTo>
                  <a:lnTo>
                    <a:pt x="17806" y="12380"/>
                  </a:lnTo>
                  <a:lnTo>
                    <a:pt x="3794" y="19386"/>
                  </a:lnTo>
                  <a:close/>
                </a:path>
              </a:pathLst>
            </a:cu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6" name="">
              <a:hlinkClick r:id="" action="ppaction://hlinkshowjump?jump=firstslide"/>
            </p:cNvPr>
            <p:cNvSpPr/>
            <p:nvPr/>
          </p:nvSpPr>
          <p:spPr>
            <a:xfrm>
              <a:off x="8228160" y="5686560"/>
              <a:ext cx="372600" cy="428400"/>
            </a:xfrm>
            <a:custGeom>
              <a:avLst/>
              <a:gdLst>
                <a:gd name="textAreaLeft" fmla="*/ 24120 w 372600"/>
                <a:gd name="textAreaRight" fmla="*/ 348480 w 372600"/>
                <a:gd name="textAreaTop" fmla="*/ 24120 h 428400"/>
                <a:gd name="textAreaBottom" fmla="*/ 404280 h 428400"/>
              </a:gdLst>
              <a:ahLst/>
              <a:rect l="textAreaLeft" t="textAreaTop" r="textAreaRight" b="textAreaBottom"/>
              <a:pathLst>
                <a:path w="21600" h="24832">
                  <a:moveTo>
                    <a:pt x="0" y="0"/>
                  </a:moveTo>
                  <a:lnTo>
                    <a:pt x="21600" y="0"/>
                  </a:lnTo>
                  <a:lnTo>
                    <a:pt x="21600" y="24832"/>
                  </a:lnTo>
                  <a:lnTo>
                    <a:pt x="0" y="24832"/>
                  </a:lnTo>
                  <a:close/>
                </a:path>
                <a:path fill="lightenLess" w="21600" h="24832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4832">
                  <a:moveTo>
                    <a:pt x="21600" y="0"/>
                  </a:moveTo>
                  <a:lnTo>
                    <a:pt x="21600" y="24832"/>
                  </a:lnTo>
                  <a:lnTo>
                    <a:pt x="20200" y="23432"/>
                  </a:lnTo>
                  <a:lnTo>
                    <a:pt x="20200" y="1400"/>
                  </a:lnTo>
                  <a:close/>
                </a:path>
                <a:path fill="darkenLess" w="21600" h="24832">
                  <a:moveTo>
                    <a:pt x="21600" y="24832"/>
                  </a:moveTo>
                  <a:lnTo>
                    <a:pt x="0" y="24832"/>
                  </a:lnTo>
                  <a:lnTo>
                    <a:pt x="1400" y="23432"/>
                  </a:lnTo>
                  <a:lnTo>
                    <a:pt x="20200" y="23432"/>
                  </a:lnTo>
                  <a:close/>
                </a:path>
                <a:path fill="lighten" w="21600" h="24832">
                  <a:moveTo>
                    <a:pt x="0" y="24832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3432"/>
                  </a:lnTo>
                  <a:close/>
                </a:path>
                <a:path fill="darken" w="21600" h="24832">
                  <a:moveTo>
                    <a:pt x="7301" y="12416"/>
                  </a:moveTo>
                  <a:lnTo>
                    <a:pt x="17806" y="5409"/>
                  </a:lnTo>
                  <a:lnTo>
                    <a:pt x="17806" y="19422"/>
                  </a:lnTo>
                  <a:close/>
                </a:path>
                <a:path fill="darken" w="21600" h="24832">
                  <a:moveTo>
                    <a:pt x="3794" y="5409"/>
                  </a:moveTo>
                  <a:lnTo>
                    <a:pt x="5456" y="5409"/>
                  </a:lnTo>
                  <a:lnTo>
                    <a:pt x="5456" y="19422"/>
                  </a:lnTo>
                  <a:lnTo>
                    <a:pt x="3794" y="19422"/>
                  </a:lnTo>
                  <a:close/>
                </a:path>
              </a:pathLst>
            </a:cu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Z</a:t>
            </a:r>
            <a:r>
              <a:rPr b="1" lang="sk-SK" sz="4400" spc="-1" strike="noStrike">
                <a:solidFill>
                  <a:srgbClr val="221304"/>
                </a:solidFill>
                <a:latin typeface="Times New Roman"/>
              </a:rPr>
              <a:t>adanie </a:t>
            </a: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2</a:t>
            </a:r>
            <a:r>
              <a:rPr b="1" lang="sk-SK" sz="4400" spc="-1" strike="noStrike">
                <a:solidFill>
                  <a:srgbClr val="221304"/>
                </a:solidFill>
                <a:latin typeface="Times New Roman"/>
              </a:rPr>
              <a:t>3</a:t>
            </a:r>
            <a:r>
              <a:rPr b="0" i="1" lang="sk-SK" sz="4400" spc="-1" strike="noStrike">
                <a:solidFill>
                  <a:srgbClr val="221304"/>
                </a:solidFill>
                <a:latin typeface="Times New Roman"/>
              </a:rPr>
              <a:t>:Pneumatický rozvod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2880" name=""/>
          <p:cNvGrpSpPr/>
          <p:nvPr/>
        </p:nvGrpSpPr>
        <p:grpSpPr>
          <a:xfrm>
            <a:off x="1108080" y="1736640"/>
            <a:ext cx="7121520" cy="4178160"/>
            <a:chOff x="1108080" y="1736640"/>
            <a:chExt cx="7121520" cy="4178160"/>
          </a:xfrm>
        </p:grpSpPr>
        <p:grpSp>
          <p:nvGrpSpPr>
            <p:cNvPr id="2881" name=""/>
            <p:cNvGrpSpPr/>
            <p:nvPr/>
          </p:nvGrpSpPr>
          <p:grpSpPr>
            <a:xfrm>
              <a:off x="6200640" y="1736640"/>
              <a:ext cx="1571760" cy="949320"/>
              <a:chOff x="6200640" y="1736640"/>
              <a:chExt cx="1571760" cy="949320"/>
            </a:xfrm>
          </p:grpSpPr>
          <p:sp>
            <p:nvSpPr>
              <p:cNvPr id="2882" name=""/>
              <p:cNvSpPr/>
              <p:nvPr/>
            </p:nvSpPr>
            <p:spPr>
              <a:xfrm>
                <a:off x="6200640" y="2085840"/>
                <a:ext cx="657360" cy="3430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 rot="19374600">
                <a:off x="6672240" y="1899720"/>
                <a:ext cx="657360" cy="3430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 rot="2620800">
                <a:off x="6643440" y="2157480"/>
                <a:ext cx="657000" cy="34272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7157880" y="1743120"/>
                <a:ext cx="614520" cy="34272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7086600" y="2343240"/>
                <a:ext cx="657360" cy="34272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7" name=""/>
            <p:cNvGrpSpPr/>
            <p:nvPr/>
          </p:nvGrpSpPr>
          <p:grpSpPr>
            <a:xfrm>
              <a:off x="6186600" y="2779200"/>
              <a:ext cx="1571040" cy="949680"/>
              <a:chOff x="6186600" y="2779200"/>
              <a:chExt cx="1571040" cy="949680"/>
            </a:xfrm>
          </p:grpSpPr>
          <p:sp>
            <p:nvSpPr>
              <p:cNvPr id="2888" name=""/>
              <p:cNvSpPr/>
              <p:nvPr/>
            </p:nvSpPr>
            <p:spPr>
              <a:xfrm>
                <a:off x="6186600" y="3128760"/>
                <a:ext cx="657000" cy="3430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 rot="19374600">
                <a:off x="6657480" y="2942640"/>
                <a:ext cx="657000" cy="3430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 rot="2620800">
                <a:off x="6629040" y="3200400"/>
                <a:ext cx="656640" cy="34272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7143480" y="2786040"/>
                <a:ext cx="614160" cy="34272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7072200" y="3386160"/>
                <a:ext cx="657000" cy="34272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93" name=""/>
            <p:cNvGrpSpPr/>
            <p:nvPr/>
          </p:nvGrpSpPr>
          <p:grpSpPr>
            <a:xfrm>
              <a:off x="6172200" y="3851280"/>
              <a:ext cx="1571760" cy="949320"/>
              <a:chOff x="6172200" y="3851280"/>
              <a:chExt cx="1571760" cy="949320"/>
            </a:xfrm>
          </p:grpSpPr>
          <p:sp>
            <p:nvSpPr>
              <p:cNvPr id="2894" name=""/>
              <p:cNvSpPr/>
              <p:nvPr/>
            </p:nvSpPr>
            <p:spPr>
              <a:xfrm>
                <a:off x="6172200" y="4200480"/>
                <a:ext cx="657360" cy="3430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 rot="19374600">
                <a:off x="6643800" y="4014360"/>
                <a:ext cx="657360" cy="3430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 rot="2620800">
                <a:off x="6615000" y="4272120"/>
                <a:ext cx="657000" cy="34272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7129440" y="3857760"/>
                <a:ext cx="614520" cy="34272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7058160" y="4457880"/>
                <a:ext cx="657360" cy="34272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99" name=""/>
            <p:cNvGrpSpPr/>
            <p:nvPr/>
          </p:nvGrpSpPr>
          <p:grpSpPr>
            <a:xfrm>
              <a:off x="6129360" y="4908600"/>
              <a:ext cx="1571760" cy="949320"/>
              <a:chOff x="6129360" y="4908600"/>
              <a:chExt cx="1571760" cy="949320"/>
            </a:xfrm>
          </p:grpSpPr>
          <p:sp>
            <p:nvSpPr>
              <p:cNvPr id="2900" name=""/>
              <p:cNvSpPr/>
              <p:nvPr/>
            </p:nvSpPr>
            <p:spPr>
              <a:xfrm>
                <a:off x="6129360" y="5257800"/>
                <a:ext cx="657360" cy="3430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 rot="19374600">
                <a:off x="6600960" y="5071680"/>
                <a:ext cx="657360" cy="3430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 rot="2620800">
                <a:off x="6572160" y="5329440"/>
                <a:ext cx="657000" cy="34272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7086600" y="4915080"/>
                <a:ext cx="614520" cy="34272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7015320" y="5515200"/>
                <a:ext cx="657360" cy="34272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05" name=""/>
            <p:cNvGrpSpPr/>
            <p:nvPr/>
          </p:nvGrpSpPr>
          <p:grpSpPr>
            <a:xfrm>
              <a:off x="4300560" y="2092320"/>
              <a:ext cx="1495440" cy="1369080"/>
              <a:chOff x="4300560" y="2092320"/>
              <a:chExt cx="1495440" cy="1369080"/>
            </a:xfrm>
          </p:grpSpPr>
          <p:sp>
            <p:nvSpPr>
              <p:cNvPr id="2906" name=""/>
              <p:cNvSpPr/>
              <p:nvPr/>
            </p:nvSpPr>
            <p:spPr>
              <a:xfrm>
                <a:off x="4300560" y="2629080"/>
                <a:ext cx="657360" cy="34272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 rot="19374600">
                <a:off x="4760640" y="2369880"/>
                <a:ext cx="1036440" cy="34272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 rot="2620800">
                <a:off x="4743000" y="2833560"/>
                <a:ext cx="962280" cy="3430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9" name=""/>
            <p:cNvSpPr/>
            <p:nvPr/>
          </p:nvSpPr>
          <p:spPr>
            <a:xfrm>
              <a:off x="5586480" y="2085840"/>
              <a:ext cx="614160" cy="3430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5472000" y="3129120"/>
              <a:ext cx="714600" cy="3427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11" name=""/>
            <p:cNvGrpSpPr/>
            <p:nvPr/>
          </p:nvGrpSpPr>
          <p:grpSpPr>
            <a:xfrm>
              <a:off x="4329000" y="4206600"/>
              <a:ext cx="1495440" cy="1369080"/>
              <a:chOff x="4329000" y="4206600"/>
              <a:chExt cx="1495440" cy="1369080"/>
            </a:xfrm>
          </p:grpSpPr>
          <p:sp>
            <p:nvSpPr>
              <p:cNvPr id="2912" name=""/>
              <p:cNvSpPr/>
              <p:nvPr/>
            </p:nvSpPr>
            <p:spPr>
              <a:xfrm>
                <a:off x="4329000" y="4743360"/>
                <a:ext cx="657360" cy="34272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 rot="19374600">
                <a:off x="4789080" y="4484160"/>
                <a:ext cx="1036440" cy="34272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 rot="2620800">
                <a:off x="4771440" y="4947840"/>
                <a:ext cx="962280" cy="3430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15" name=""/>
            <p:cNvSpPr/>
            <p:nvPr/>
          </p:nvSpPr>
          <p:spPr>
            <a:xfrm>
              <a:off x="5600880" y="4214880"/>
              <a:ext cx="614160" cy="3427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5529240" y="5272200"/>
              <a:ext cx="614520" cy="3427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1585800" y="3743280"/>
              <a:ext cx="657360" cy="3430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 rot="19374600">
              <a:off x="1946160" y="3193920"/>
              <a:ext cx="1986120" cy="3430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 rot="2620800">
              <a:off x="1926720" y="4199040"/>
              <a:ext cx="1689120" cy="3427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3629160" y="2629080"/>
              <a:ext cx="685800" cy="3427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3257640" y="4743360"/>
              <a:ext cx="1100160" cy="3430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2471760" y="3814920"/>
              <a:ext cx="171360" cy="174600"/>
            </a:xfrm>
            <a:prstGeom prst="ellipse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4900680" y="2629080"/>
              <a:ext cx="299880" cy="128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5214960" y="2728800"/>
              <a:ext cx="171360" cy="174600"/>
            </a:xfrm>
            <a:prstGeom prst="ellipse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2228760" y="3743280"/>
              <a:ext cx="300240" cy="128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5200560" y="4800600"/>
              <a:ext cx="171720" cy="174600"/>
            </a:xfrm>
            <a:prstGeom prst="ellipse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7000920" y="4243320"/>
              <a:ext cx="171360" cy="174600"/>
            </a:xfrm>
            <a:prstGeom prst="ellipse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7043760" y="3157560"/>
              <a:ext cx="171360" cy="174600"/>
            </a:xfrm>
            <a:prstGeom prst="ellipse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7058160" y="2114640"/>
              <a:ext cx="171360" cy="174600"/>
            </a:xfrm>
            <a:prstGeom prst="ellipse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6757920" y="2057400"/>
              <a:ext cx="300240" cy="128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6757920" y="3114720"/>
              <a:ext cx="300240" cy="128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6715080" y="4200480"/>
              <a:ext cx="300240" cy="128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6686640" y="5243400"/>
              <a:ext cx="299880" cy="128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6986520" y="5300640"/>
              <a:ext cx="171360" cy="174600"/>
            </a:xfrm>
            <a:prstGeom prst="ellipse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4929120" y="4743360"/>
              <a:ext cx="300240" cy="128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6" name=""/>
            <p:cNvSpPr/>
            <p:nvPr/>
          </p:nvSpPr>
          <p:spPr>
            <a:xfrm flipV="1">
              <a:off x="1171440" y="3814920"/>
              <a:ext cx="343080" cy="257040"/>
            </a:xfrm>
            <a:prstGeom prst="rightArrow">
              <a:avLst>
                <a:gd name="adj1" fmla="val 50000"/>
                <a:gd name="adj2" fmla="val 33368"/>
              </a:avLst>
            </a:prstGeom>
            <a:solidFill>
              <a:srgbClr val="3694b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7" name=""/>
            <p:cNvSpPr/>
            <p:nvPr/>
          </p:nvSpPr>
          <p:spPr>
            <a:xfrm flipV="1">
              <a:off x="4057560" y="3042360"/>
              <a:ext cx="343080" cy="257400"/>
            </a:xfrm>
            <a:prstGeom prst="rightArrow">
              <a:avLst>
                <a:gd name="adj1" fmla="val 50000"/>
                <a:gd name="adj2" fmla="val 33322"/>
              </a:avLst>
            </a:prstGeom>
            <a:solidFill>
              <a:srgbClr val="3694b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8" name=""/>
            <p:cNvSpPr/>
            <p:nvPr/>
          </p:nvSpPr>
          <p:spPr>
            <a:xfrm flipV="1">
              <a:off x="5943600" y="2428920"/>
              <a:ext cx="343080" cy="257040"/>
            </a:xfrm>
            <a:prstGeom prst="rightArrow">
              <a:avLst>
                <a:gd name="adj1" fmla="val 50000"/>
                <a:gd name="adj2" fmla="val 33368"/>
              </a:avLst>
            </a:prstGeom>
            <a:solidFill>
              <a:srgbClr val="3694b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 flipV="1">
              <a:off x="5972040" y="3499560"/>
              <a:ext cx="343080" cy="257400"/>
            </a:xfrm>
            <a:prstGeom prst="rightArrow">
              <a:avLst>
                <a:gd name="adj1" fmla="val 50000"/>
                <a:gd name="adj2" fmla="val 33322"/>
              </a:avLst>
            </a:prstGeom>
            <a:solidFill>
              <a:srgbClr val="3694b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0" name=""/>
            <p:cNvSpPr/>
            <p:nvPr/>
          </p:nvSpPr>
          <p:spPr>
            <a:xfrm flipV="1">
              <a:off x="6043680" y="4556880"/>
              <a:ext cx="342720" cy="257400"/>
            </a:xfrm>
            <a:prstGeom prst="rightArrow">
              <a:avLst>
                <a:gd name="adj1" fmla="val 50000"/>
                <a:gd name="adj2" fmla="val 33287"/>
              </a:avLst>
            </a:prstGeom>
            <a:solidFill>
              <a:srgbClr val="3694b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 flipV="1">
              <a:off x="5972040" y="5657040"/>
              <a:ext cx="343080" cy="257400"/>
            </a:xfrm>
            <a:prstGeom prst="rightArrow">
              <a:avLst>
                <a:gd name="adj1" fmla="val 50000"/>
                <a:gd name="adj2" fmla="val 33322"/>
              </a:avLst>
            </a:prstGeom>
            <a:solidFill>
              <a:srgbClr val="3694b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2" name=""/>
            <p:cNvSpPr/>
            <p:nvPr/>
          </p:nvSpPr>
          <p:spPr>
            <a:xfrm flipV="1">
              <a:off x="7843680" y="5556960"/>
              <a:ext cx="343080" cy="257400"/>
            </a:xfrm>
            <a:prstGeom prst="rightArrow">
              <a:avLst>
                <a:gd name="adj1" fmla="val 50000"/>
                <a:gd name="adj2" fmla="val 33322"/>
              </a:avLst>
            </a:prstGeom>
            <a:solidFill>
              <a:srgbClr val="3694b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3" name=""/>
            <p:cNvSpPr/>
            <p:nvPr/>
          </p:nvSpPr>
          <p:spPr>
            <a:xfrm flipV="1">
              <a:off x="7872480" y="4957920"/>
              <a:ext cx="342720" cy="257040"/>
            </a:xfrm>
            <a:prstGeom prst="rightArrow">
              <a:avLst>
                <a:gd name="adj1" fmla="val 50000"/>
                <a:gd name="adj2" fmla="val 33333"/>
              </a:avLst>
            </a:prstGeom>
            <a:solidFill>
              <a:srgbClr val="3694b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4" name=""/>
            <p:cNvSpPr/>
            <p:nvPr/>
          </p:nvSpPr>
          <p:spPr>
            <a:xfrm flipV="1">
              <a:off x="7858080" y="4500720"/>
              <a:ext cx="343080" cy="257040"/>
            </a:xfrm>
            <a:prstGeom prst="rightArrow">
              <a:avLst>
                <a:gd name="adj1" fmla="val 50000"/>
                <a:gd name="adj2" fmla="val 33368"/>
              </a:avLst>
            </a:prstGeom>
            <a:solidFill>
              <a:srgbClr val="3694b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 flipV="1">
              <a:off x="7858080" y="3871080"/>
              <a:ext cx="343080" cy="257400"/>
            </a:xfrm>
            <a:prstGeom prst="rightArrow">
              <a:avLst>
                <a:gd name="adj1" fmla="val 50000"/>
                <a:gd name="adj2" fmla="val 33322"/>
              </a:avLst>
            </a:prstGeom>
            <a:solidFill>
              <a:srgbClr val="3694b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6" name=""/>
            <p:cNvSpPr/>
            <p:nvPr/>
          </p:nvSpPr>
          <p:spPr>
            <a:xfrm flipV="1">
              <a:off x="7872480" y="3429000"/>
              <a:ext cx="342720" cy="257040"/>
            </a:xfrm>
            <a:prstGeom prst="rightArrow">
              <a:avLst>
                <a:gd name="adj1" fmla="val 50000"/>
                <a:gd name="adj2" fmla="val 33333"/>
              </a:avLst>
            </a:prstGeom>
            <a:solidFill>
              <a:srgbClr val="3694b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 flipV="1">
              <a:off x="7872480" y="2828160"/>
              <a:ext cx="342720" cy="257400"/>
            </a:xfrm>
            <a:prstGeom prst="rightArrow">
              <a:avLst>
                <a:gd name="adj1" fmla="val 50000"/>
                <a:gd name="adj2" fmla="val 33287"/>
              </a:avLst>
            </a:prstGeom>
            <a:solidFill>
              <a:srgbClr val="3694b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8" name=""/>
            <p:cNvSpPr/>
            <p:nvPr/>
          </p:nvSpPr>
          <p:spPr>
            <a:xfrm flipV="1">
              <a:off x="7872480" y="2356560"/>
              <a:ext cx="342720" cy="257400"/>
            </a:xfrm>
            <a:prstGeom prst="rightArrow">
              <a:avLst>
                <a:gd name="adj1" fmla="val 50000"/>
                <a:gd name="adj2" fmla="val 33287"/>
              </a:avLst>
            </a:prstGeom>
            <a:solidFill>
              <a:srgbClr val="3694b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9" name=""/>
            <p:cNvSpPr/>
            <p:nvPr/>
          </p:nvSpPr>
          <p:spPr>
            <a:xfrm flipV="1">
              <a:off x="7886880" y="1770840"/>
              <a:ext cx="342720" cy="257400"/>
            </a:xfrm>
            <a:prstGeom prst="rightArrow">
              <a:avLst>
                <a:gd name="adj1" fmla="val 50000"/>
                <a:gd name="adj2" fmla="val 33287"/>
              </a:avLst>
            </a:prstGeom>
            <a:solidFill>
              <a:srgbClr val="3694b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 flipV="1">
              <a:off x="4114800" y="4413960"/>
              <a:ext cx="343080" cy="257400"/>
            </a:xfrm>
            <a:prstGeom prst="rightArrow">
              <a:avLst>
                <a:gd name="adj1" fmla="val 50000"/>
                <a:gd name="adj2" fmla="val 33322"/>
              </a:avLst>
            </a:prstGeom>
            <a:solidFill>
              <a:srgbClr val="3694b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 flipV="1">
              <a:off x="1757520" y="2485800"/>
              <a:ext cx="0" cy="10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1685880" y="3486240"/>
              <a:ext cx="142920" cy="128520"/>
            </a:xfrm>
            <a:prstGeom prst="ellipse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2571840" y="2957400"/>
              <a:ext cx="0" cy="85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5272200" y="422928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 flipV="1">
              <a:off x="5329080" y="2928960"/>
              <a:ext cx="0" cy="62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 flipV="1">
              <a:off x="6757920" y="3328920"/>
              <a:ext cx="328680" cy="38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 flipV="1">
              <a:off x="6800760" y="2300400"/>
              <a:ext cx="27144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 flipV="1">
              <a:off x="6786720" y="4385880"/>
              <a:ext cx="271440" cy="34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 flipV="1">
              <a:off x="6743880" y="5443560"/>
              <a:ext cx="27144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1428840" y="5043600"/>
              <a:ext cx="799920" cy="41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1614600" y="4186080"/>
              <a:ext cx="399960" cy="828720"/>
            </a:xfrm>
            <a:prstGeom prst="downArrow">
              <a:avLst>
                <a:gd name="adj1" fmla="val 50000"/>
                <a:gd name="adj2" fmla="val 51800"/>
              </a:avLst>
            </a:prstGeom>
            <a:solidFill>
              <a:srgbClr val="3694b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1671480" y="4157640"/>
              <a:ext cx="328680" cy="0"/>
            </a:xfrm>
            <a:prstGeom prst="line">
              <a:avLst/>
            </a:prstGeom>
            <a:ln w="28440">
              <a:solidFill>
                <a:srgbClr val="3694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1108080" y="5118120"/>
              <a:ext cx="1312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400" spc="-1" strike="noStrike">
                  <a:solidFill>
                    <a:srgbClr val="000000"/>
                  </a:solidFill>
                  <a:latin typeface="Times New Roman"/>
                </a:rPr>
                <a:t>1...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7421400" y="5511960"/>
              <a:ext cx="21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7387920" y="48862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7402320" y="177156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7387920" y="44578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7402320" y="384336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7402320" y="337176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7416720" y="2757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7387920" y="23432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2" name=""/>
          <p:cNvGrpSpPr/>
          <p:nvPr/>
        </p:nvGrpSpPr>
        <p:grpSpPr>
          <a:xfrm>
            <a:off x="2610000" y="5857920"/>
            <a:ext cx="1804320" cy="585720"/>
            <a:chOff x="2610000" y="5857920"/>
            <a:chExt cx="1804320" cy="585720"/>
          </a:xfrm>
        </p:grpSpPr>
        <p:sp>
          <p:nvSpPr>
            <p:cNvPr id="2973" name="">
              <a:hlinkClick r:id="" action="ppaction://hlinkshowjump?jump=previousslide"/>
            </p:cNvPr>
            <p:cNvSpPr/>
            <p:nvPr/>
          </p:nvSpPr>
          <p:spPr>
            <a:xfrm>
              <a:off x="2610000" y="5857920"/>
              <a:ext cx="564840" cy="585720"/>
            </a:xfrm>
            <a:custGeom>
              <a:avLst/>
              <a:gdLst>
                <a:gd name="textAreaLeft" fmla="*/ 36360 w 564840"/>
                <a:gd name="textAreaRight" fmla="*/ 528480 w 564840"/>
                <a:gd name="textAreaTop" fmla="*/ 36360 h 585720"/>
                <a:gd name="textAreaBottom" fmla="*/ 549360 h 585720"/>
              </a:gdLst>
              <a:ahLst/>
              <a:rect l="textAreaLeft" t="textAreaTop" r="textAreaRight" b="textAreaBottom"/>
              <a:pathLst>
                <a:path w="21600" h="22398">
                  <a:moveTo>
                    <a:pt x="0" y="0"/>
                  </a:moveTo>
                  <a:lnTo>
                    <a:pt x="21600" y="0"/>
                  </a:lnTo>
                  <a:lnTo>
                    <a:pt x="21600" y="22398"/>
                  </a:lnTo>
                  <a:lnTo>
                    <a:pt x="0" y="22398"/>
                  </a:lnTo>
                  <a:close/>
                </a:path>
                <a:path fill="lightenLess" w="21600" h="22398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2398">
                  <a:moveTo>
                    <a:pt x="21600" y="0"/>
                  </a:moveTo>
                  <a:lnTo>
                    <a:pt x="21600" y="22398"/>
                  </a:lnTo>
                  <a:lnTo>
                    <a:pt x="20200" y="20998"/>
                  </a:lnTo>
                  <a:lnTo>
                    <a:pt x="20200" y="1400"/>
                  </a:lnTo>
                  <a:close/>
                </a:path>
                <a:path fill="darkenLess" w="21600" h="22398">
                  <a:moveTo>
                    <a:pt x="21600" y="22398"/>
                  </a:moveTo>
                  <a:lnTo>
                    <a:pt x="0" y="22398"/>
                  </a:lnTo>
                  <a:lnTo>
                    <a:pt x="1400" y="20998"/>
                  </a:lnTo>
                  <a:lnTo>
                    <a:pt x="20200" y="20998"/>
                  </a:lnTo>
                  <a:close/>
                </a:path>
                <a:path fill="lighten" w="21600" h="22398">
                  <a:moveTo>
                    <a:pt x="0" y="22398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998"/>
                  </a:lnTo>
                  <a:close/>
                </a:path>
                <a:path fill="darken" w="21600" h="22398">
                  <a:moveTo>
                    <a:pt x="3794" y="11199"/>
                  </a:moveTo>
                  <a:lnTo>
                    <a:pt x="17806" y="4192"/>
                  </a:lnTo>
                  <a:lnTo>
                    <a:pt x="17806" y="18205"/>
                  </a:lnTo>
                  <a:close/>
                </a:path>
              </a:pathLst>
            </a:cu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4" name="">
              <a:hlinkClick r:id="" action="ppaction://hlinkshowjump?jump=nextslide"/>
            </p:cNvPr>
            <p:cNvSpPr/>
            <p:nvPr/>
          </p:nvSpPr>
          <p:spPr>
            <a:xfrm>
              <a:off x="3228840" y="5857920"/>
              <a:ext cx="566280" cy="585720"/>
            </a:xfrm>
            <a:custGeom>
              <a:avLst/>
              <a:gdLst>
                <a:gd name="textAreaLeft" fmla="*/ 36720 w 566280"/>
                <a:gd name="textAreaRight" fmla="*/ 529560 w 566280"/>
                <a:gd name="textAreaTop" fmla="*/ 36720 h 585720"/>
                <a:gd name="textAreaBottom" fmla="*/ 549000 h 585720"/>
              </a:gdLst>
              <a:ahLst/>
              <a:rect l="textAreaLeft" t="textAreaTop" r="textAreaRight" b="textAreaBottom"/>
              <a:pathLst>
                <a:path w="21600" h="22341">
                  <a:moveTo>
                    <a:pt x="0" y="0"/>
                  </a:moveTo>
                  <a:lnTo>
                    <a:pt x="21600" y="0"/>
                  </a:lnTo>
                  <a:lnTo>
                    <a:pt x="21600" y="22341"/>
                  </a:lnTo>
                  <a:lnTo>
                    <a:pt x="0" y="22341"/>
                  </a:lnTo>
                  <a:close/>
                </a:path>
                <a:path fill="lightenLess" w="21600" h="22341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2341">
                  <a:moveTo>
                    <a:pt x="21600" y="0"/>
                  </a:moveTo>
                  <a:lnTo>
                    <a:pt x="21600" y="22341"/>
                  </a:lnTo>
                  <a:lnTo>
                    <a:pt x="20200" y="20941"/>
                  </a:lnTo>
                  <a:lnTo>
                    <a:pt x="20200" y="1400"/>
                  </a:lnTo>
                  <a:close/>
                </a:path>
                <a:path fill="darkenLess" w="21600" h="22341">
                  <a:moveTo>
                    <a:pt x="21600" y="22341"/>
                  </a:moveTo>
                  <a:lnTo>
                    <a:pt x="0" y="22341"/>
                  </a:lnTo>
                  <a:lnTo>
                    <a:pt x="1400" y="20941"/>
                  </a:lnTo>
                  <a:lnTo>
                    <a:pt x="20200" y="20941"/>
                  </a:lnTo>
                  <a:close/>
                </a:path>
                <a:path fill="lighten" w="21600" h="22341">
                  <a:moveTo>
                    <a:pt x="0" y="22341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941"/>
                  </a:lnTo>
                  <a:close/>
                </a:path>
                <a:path fill="darken" w="21600" h="22341">
                  <a:moveTo>
                    <a:pt x="3794" y="4164"/>
                  </a:moveTo>
                  <a:lnTo>
                    <a:pt x="17806" y="11171"/>
                  </a:lnTo>
                  <a:lnTo>
                    <a:pt x="3794" y="18177"/>
                  </a:lnTo>
                  <a:close/>
                </a:path>
              </a:pathLst>
            </a:cu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5" name="">
              <a:hlinkClick r:id="" action="ppaction://hlinkshowjump?jump=firstslide"/>
            </p:cNvPr>
            <p:cNvSpPr/>
            <p:nvPr/>
          </p:nvSpPr>
          <p:spPr>
            <a:xfrm>
              <a:off x="3849480" y="5857920"/>
              <a:ext cx="564840" cy="585720"/>
            </a:xfrm>
            <a:custGeom>
              <a:avLst/>
              <a:gdLst>
                <a:gd name="textAreaLeft" fmla="*/ 36360 w 564840"/>
                <a:gd name="textAreaRight" fmla="*/ 528480 w 564840"/>
                <a:gd name="textAreaTop" fmla="*/ 36360 h 585720"/>
                <a:gd name="textAreaBottom" fmla="*/ 549360 h 585720"/>
              </a:gdLst>
              <a:ahLst/>
              <a:rect l="textAreaLeft" t="textAreaTop" r="textAreaRight" b="textAreaBottom"/>
              <a:pathLst>
                <a:path w="21600" h="22398">
                  <a:moveTo>
                    <a:pt x="0" y="0"/>
                  </a:moveTo>
                  <a:lnTo>
                    <a:pt x="21600" y="0"/>
                  </a:lnTo>
                  <a:lnTo>
                    <a:pt x="21600" y="22398"/>
                  </a:lnTo>
                  <a:lnTo>
                    <a:pt x="0" y="22398"/>
                  </a:lnTo>
                  <a:close/>
                </a:path>
                <a:path fill="lightenLess" w="21600" h="22398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2398">
                  <a:moveTo>
                    <a:pt x="21600" y="0"/>
                  </a:moveTo>
                  <a:lnTo>
                    <a:pt x="21600" y="22398"/>
                  </a:lnTo>
                  <a:lnTo>
                    <a:pt x="20200" y="20998"/>
                  </a:lnTo>
                  <a:lnTo>
                    <a:pt x="20200" y="1400"/>
                  </a:lnTo>
                  <a:close/>
                </a:path>
                <a:path fill="darkenLess" w="21600" h="22398">
                  <a:moveTo>
                    <a:pt x="21600" y="22398"/>
                  </a:moveTo>
                  <a:lnTo>
                    <a:pt x="0" y="22398"/>
                  </a:lnTo>
                  <a:lnTo>
                    <a:pt x="1400" y="20998"/>
                  </a:lnTo>
                  <a:lnTo>
                    <a:pt x="20200" y="20998"/>
                  </a:lnTo>
                  <a:close/>
                </a:path>
                <a:path fill="lighten" w="21600" h="22398">
                  <a:moveTo>
                    <a:pt x="0" y="22398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998"/>
                  </a:lnTo>
                  <a:close/>
                </a:path>
                <a:path fill="darken" w="21600" h="22398">
                  <a:moveTo>
                    <a:pt x="7301" y="11199"/>
                  </a:moveTo>
                  <a:lnTo>
                    <a:pt x="17806" y="4192"/>
                  </a:lnTo>
                  <a:lnTo>
                    <a:pt x="17806" y="18205"/>
                  </a:lnTo>
                  <a:close/>
                </a:path>
                <a:path fill="darken" w="21600" h="22398">
                  <a:moveTo>
                    <a:pt x="3794" y="4192"/>
                  </a:moveTo>
                  <a:lnTo>
                    <a:pt x="5456" y="4192"/>
                  </a:lnTo>
                  <a:lnTo>
                    <a:pt x="5456" y="18205"/>
                  </a:lnTo>
                  <a:lnTo>
                    <a:pt x="3794" y="18205"/>
                  </a:lnTo>
                  <a:close/>
                </a:path>
              </a:pathLst>
            </a:cu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97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Z</a:t>
            </a:r>
            <a:r>
              <a:rPr b="1" lang="sk-SK" sz="4400" spc="-1" strike="noStrike">
                <a:solidFill>
                  <a:srgbClr val="221304"/>
                </a:solidFill>
                <a:latin typeface="Times New Roman"/>
              </a:rPr>
              <a:t>adanie </a:t>
            </a: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2</a:t>
            </a:r>
            <a:r>
              <a:rPr b="1" lang="sk-SK" sz="4400" spc="-1" strike="noStrike">
                <a:solidFill>
                  <a:srgbClr val="221304"/>
                </a:solidFill>
                <a:latin typeface="Times New Roman"/>
              </a:rPr>
              <a:t>4</a:t>
            </a:r>
            <a:r>
              <a:rPr b="0" i="1" lang="sk-SK" sz="4400" spc="-1" strike="noStrike">
                <a:solidFill>
                  <a:srgbClr val="221304"/>
                </a:solidFill>
                <a:latin typeface="Times New Roman"/>
              </a:rPr>
              <a:t>:</a:t>
            </a:r>
            <a:r>
              <a:rPr b="1" i="1" lang="sk-SK" sz="4400" spc="-1" strike="noStrike">
                <a:solidFill>
                  <a:srgbClr val="221304"/>
                </a:solidFill>
                <a:latin typeface="Times New Roman"/>
              </a:rPr>
              <a:t>Popisovacia hlav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2979" name=""/>
          <p:cNvGrpSpPr/>
          <p:nvPr/>
        </p:nvGrpSpPr>
        <p:grpSpPr>
          <a:xfrm>
            <a:off x="1843200" y="1971720"/>
            <a:ext cx="6414840" cy="3672000"/>
            <a:chOff x="1843200" y="1971720"/>
            <a:chExt cx="6414840" cy="3672000"/>
          </a:xfrm>
        </p:grpSpPr>
        <p:sp>
          <p:nvSpPr>
            <p:cNvPr id="2980" name=""/>
            <p:cNvSpPr/>
            <p:nvPr/>
          </p:nvSpPr>
          <p:spPr>
            <a:xfrm>
              <a:off x="3900600" y="1971720"/>
              <a:ext cx="428400" cy="210024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81" name=""/>
            <p:cNvGrpSpPr/>
            <p:nvPr/>
          </p:nvGrpSpPr>
          <p:grpSpPr>
            <a:xfrm>
              <a:off x="1843200" y="2000160"/>
              <a:ext cx="1285920" cy="1828800"/>
              <a:chOff x="1843200" y="2000160"/>
              <a:chExt cx="1285920" cy="1828800"/>
            </a:xfrm>
          </p:grpSpPr>
          <p:grpSp>
            <p:nvGrpSpPr>
              <p:cNvPr id="2982" name=""/>
              <p:cNvGrpSpPr/>
              <p:nvPr/>
            </p:nvGrpSpPr>
            <p:grpSpPr>
              <a:xfrm>
                <a:off x="1843200" y="2000160"/>
                <a:ext cx="1285920" cy="914400"/>
                <a:chOff x="1843200" y="2000160"/>
                <a:chExt cx="1285920" cy="914400"/>
              </a:xfrm>
            </p:grpSpPr>
            <p:grpSp>
              <p:nvGrpSpPr>
                <p:cNvPr id="2983" name=""/>
                <p:cNvGrpSpPr/>
                <p:nvPr/>
              </p:nvGrpSpPr>
              <p:grpSpPr>
                <a:xfrm>
                  <a:off x="1843200" y="2000160"/>
                  <a:ext cx="1285920" cy="457200"/>
                  <a:chOff x="1843200" y="2000160"/>
                  <a:chExt cx="1285920" cy="457200"/>
                </a:xfrm>
              </p:grpSpPr>
              <p:grpSp>
                <p:nvGrpSpPr>
                  <p:cNvPr id="2984" name=""/>
                  <p:cNvGrpSpPr/>
                  <p:nvPr/>
                </p:nvGrpSpPr>
                <p:grpSpPr>
                  <a:xfrm>
                    <a:off x="1843200" y="2000160"/>
                    <a:ext cx="1285920" cy="228600"/>
                    <a:chOff x="1843200" y="2000160"/>
                    <a:chExt cx="1285920" cy="228600"/>
                  </a:xfrm>
                </p:grpSpPr>
                <p:grpSp>
                  <p:nvGrpSpPr>
                    <p:cNvPr id="2985" name=""/>
                    <p:cNvGrpSpPr/>
                    <p:nvPr/>
                  </p:nvGrpSpPr>
                  <p:grpSpPr>
                    <a:xfrm>
                      <a:off x="1843200" y="2000160"/>
                      <a:ext cx="642960" cy="228600"/>
                      <a:chOff x="1843200" y="2000160"/>
                      <a:chExt cx="642960" cy="228600"/>
                    </a:xfrm>
                  </p:grpSpPr>
                  <p:sp>
                    <p:nvSpPr>
                      <p:cNvPr id="2986" name=""/>
                      <p:cNvSpPr/>
                      <p:nvPr/>
                    </p:nvSpPr>
                    <p:spPr>
                      <a:xfrm>
                        <a:off x="1843200" y="2000160"/>
                        <a:ext cx="214200" cy="228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87" name=""/>
                      <p:cNvSpPr/>
                      <p:nvPr/>
                    </p:nvSpPr>
                    <p:spPr>
                      <a:xfrm>
                        <a:off x="2057400" y="2000160"/>
                        <a:ext cx="214200" cy="228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88" name=""/>
                      <p:cNvSpPr/>
                      <p:nvPr/>
                    </p:nvSpPr>
                    <p:spPr>
                      <a:xfrm>
                        <a:off x="2271600" y="2000160"/>
                        <a:ext cx="214560" cy="228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989" name=""/>
                    <p:cNvGrpSpPr/>
                    <p:nvPr/>
                  </p:nvGrpSpPr>
                  <p:grpSpPr>
                    <a:xfrm>
                      <a:off x="2486160" y="2000160"/>
                      <a:ext cx="642960" cy="228600"/>
                      <a:chOff x="2486160" y="2000160"/>
                      <a:chExt cx="642960" cy="228600"/>
                    </a:xfrm>
                  </p:grpSpPr>
                  <p:sp>
                    <p:nvSpPr>
                      <p:cNvPr id="2990" name=""/>
                      <p:cNvSpPr/>
                      <p:nvPr/>
                    </p:nvSpPr>
                    <p:spPr>
                      <a:xfrm>
                        <a:off x="2486160" y="2000160"/>
                        <a:ext cx="214200" cy="228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91" name=""/>
                      <p:cNvSpPr/>
                      <p:nvPr/>
                    </p:nvSpPr>
                    <p:spPr>
                      <a:xfrm>
                        <a:off x="2700360" y="2000160"/>
                        <a:ext cx="214200" cy="228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92" name=""/>
                      <p:cNvSpPr/>
                      <p:nvPr/>
                    </p:nvSpPr>
                    <p:spPr>
                      <a:xfrm>
                        <a:off x="2914560" y="2000160"/>
                        <a:ext cx="214560" cy="228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993" name=""/>
                  <p:cNvGrpSpPr/>
                  <p:nvPr/>
                </p:nvGrpSpPr>
                <p:grpSpPr>
                  <a:xfrm>
                    <a:off x="1843200" y="2228760"/>
                    <a:ext cx="1285920" cy="228600"/>
                    <a:chOff x="1843200" y="2228760"/>
                    <a:chExt cx="1285920" cy="228600"/>
                  </a:xfrm>
                </p:grpSpPr>
                <p:grpSp>
                  <p:nvGrpSpPr>
                    <p:cNvPr id="2994" name=""/>
                    <p:cNvGrpSpPr/>
                    <p:nvPr/>
                  </p:nvGrpSpPr>
                  <p:grpSpPr>
                    <a:xfrm>
                      <a:off x="1843200" y="2228760"/>
                      <a:ext cx="642960" cy="228600"/>
                      <a:chOff x="1843200" y="2228760"/>
                      <a:chExt cx="642960" cy="228600"/>
                    </a:xfrm>
                  </p:grpSpPr>
                  <p:sp>
                    <p:nvSpPr>
                      <p:cNvPr id="2995" name=""/>
                      <p:cNvSpPr/>
                      <p:nvPr/>
                    </p:nvSpPr>
                    <p:spPr>
                      <a:xfrm>
                        <a:off x="1843200" y="2228760"/>
                        <a:ext cx="214200" cy="228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96" name=""/>
                      <p:cNvSpPr/>
                      <p:nvPr/>
                    </p:nvSpPr>
                    <p:spPr>
                      <a:xfrm>
                        <a:off x="2057400" y="2228760"/>
                        <a:ext cx="214200" cy="228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97" name=""/>
                      <p:cNvSpPr/>
                      <p:nvPr/>
                    </p:nvSpPr>
                    <p:spPr>
                      <a:xfrm>
                        <a:off x="2271600" y="2228760"/>
                        <a:ext cx="214560" cy="228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998" name=""/>
                    <p:cNvGrpSpPr/>
                    <p:nvPr/>
                  </p:nvGrpSpPr>
                  <p:grpSpPr>
                    <a:xfrm>
                      <a:off x="2486160" y="2228760"/>
                      <a:ext cx="642960" cy="228600"/>
                      <a:chOff x="2486160" y="2228760"/>
                      <a:chExt cx="642960" cy="228600"/>
                    </a:xfrm>
                  </p:grpSpPr>
                  <p:sp>
                    <p:nvSpPr>
                      <p:cNvPr id="2999" name=""/>
                      <p:cNvSpPr/>
                      <p:nvPr/>
                    </p:nvSpPr>
                    <p:spPr>
                      <a:xfrm>
                        <a:off x="2486160" y="2228760"/>
                        <a:ext cx="214200" cy="228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00" name=""/>
                      <p:cNvSpPr/>
                      <p:nvPr/>
                    </p:nvSpPr>
                    <p:spPr>
                      <a:xfrm>
                        <a:off x="2700360" y="2228760"/>
                        <a:ext cx="214200" cy="228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01" name=""/>
                      <p:cNvSpPr/>
                      <p:nvPr/>
                    </p:nvSpPr>
                    <p:spPr>
                      <a:xfrm>
                        <a:off x="2914560" y="2228760"/>
                        <a:ext cx="214560" cy="228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3002" name=""/>
                <p:cNvGrpSpPr/>
                <p:nvPr/>
              </p:nvGrpSpPr>
              <p:grpSpPr>
                <a:xfrm>
                  <a:off x="1843200" y="2457360"/>
                  <a:ext cx="1285920" cy="457200"/>
                  <a:chOff x="1843200" y="2457360"/>
                  <a:chExt cx="1285920" cy="457200"/>
                </a:xfrm>
              </p:grpSpPr>
              <p:grpSp>
                <p:nvGrpSpPr>
                  <p:cNvPr id="3003" name=""/>
                  <p:cNvGrpSpPr/>
                  <p:nvPr/>
                </p:nvGrpSpPr>
                <p:grpSpPr>
                  <a:xfrm>
                    <a:off x="1843200" y="2457360"/>
                    <a:ext cx="1285920" cy="228600"/>
                    <a:chOff x="1843200" y="2457360"/>
                    <a:chExt cx="1285920" cy="228600"/>
                  </a:xfrm>
                </p:grpSpPr>
                <p:grpSp>
                  <p:nvGrpSpPr>
                    <p:cNvPr id="3004" name=""/>
                    <p:cNvGrpSpPr/>
                    <p:nvPr/>
                  </p:nvGrpSpPr>
                  <p:grpSpPr>
                    <a:xfrm>
                      <a:off x="1843200" y="2457360"/>
                      <a:ext cx="642960" cy="228600"/>
                      <a:chOff x="1843200" y="2457360"/>
                      <a:chExt cx="642960" cy="228600"/>
                    </a:xfrm>
                  </p:grpSpPr>
                  <p:sp>
                    <p:nvSpPr>
                      <p:cNvPr id="3005" name=""/>
                      <p:cNvSpPr/>
                      <p:nvPr/>
                    </p:nvSpPr>
                    <p:spPr>
                      <a:xfrm>
                        <a:off x="1843200" y="2457360"/>
                        <a:ext cx="214200" cy="228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06" name=""/>
                      <p:cNvSpPr/>
                      <p:nvPr/>
                    </p:nvSpPr>
                    <p:spPr>
                      <a:xfrm>
                        <a:off x="2057400" y="2457360"/>
                        <a:ext cx="214200" cy="228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07" name=""/>
                      <p:cNvSpPr/>
                      <p:nvPr/>
                    </p:nvSpPr>
                    <p:spPr>
                      <a:xfrm>
                        <a:off x="2271600" y="2457360"/>
                        <a:ext cx="214560" cy="228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008" name=""/>
                    <p:cNvGrpSpPr/>
                    <p:nvPr/>
                  </p:nvGrpSpPr>
                  <p:grpSpPr>
                    <a:xfrm>
                      <a:off x="2486160" y="2457360"/>
                      <a:ext cx="642960" cy="228600"/>
                      <a:chOff x="2486160" y="2457360"/>
                      <a:chExt cx="642960" cy="228600"/>
                    </a:xfrm>
                  </p:grpSpPr>
                  <p:sp>
                    <p:nvSpPr>
                      <p:cNvPr id="3009" name=""/>
                      <p:cNvSpPr/>
                      <p:nvPr/>
                    </p:nvSpPr>
                    <p:spPr>
                      <a:xfrm>
                        <a:off x="2486160" y="2457360"/>
                        <a:ext cx="214200" cy="228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10" name=""/>
                      <p:cNvSpPr/>
                      <p:nvPr/>
                    </p:nvSpPr>
                    <p:spPr>
                      <a:xfrm>
                        <a:off x="2700360" y="2457360"/>
                        <a:ext cx="214200" cy="228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11" name=""/>
                      <p:cNvSpPr/>
                      <p:nvPr/>
                    </p:nvSpPr>
                    <p:spPr>
                      <a:xfrm>
                        <a:off x="2914560" y="2457360"/>
                        <a:ext cx="214560" cy="228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012" name=""/>
                  <p:cNvGrpSpPr/>
                  <p:nvPr/>
                </p:nvGrpSpPr>
                <p:grpSpPr>
                  <a:xfrm>
                    <a:off x="1843200" y="2685960"/>
                    <a:ext cx="1285920" cy="228600"/>
                    <a:chOff x="1843200" y="2685960"/>
                    <a:chExt cx="1285920" cy="228600"/>
                  </a:xfrm>
                </p:grpSpPr>
                <p:grpSp>
                  <p:nvGrpSpPr>
                    <p:cNvPr id="3013" name=""/>
                    <p:cNvGrpSpPr/>
                    <p:nvPr/>
                  </p:nvGrpSpPr>
                  <p:grpSpPr>
                    <a:xfrm>
                      <a:off x="1843200" y="2685960"/>
                      <a:ext cx="642960" cy="228600"/>
                      <a:chOff x="1843200" y="2685960"/>
                      <a:chExt cx="642960" cy="228600"/>
                    </a:xfrm>
                  </p:grpSpPr>
                  <p:sp>
                    <p:nvSpPr>
                      <p:cNvPr id="3014" name=""/>
                      <p:cNvSpPr/>
                      <p:nvPr/>
                    </p:nvSpPr>
                    <p:spPr>
                      <a:xfrm>
                        <a:off x="1843200" y="2685960"/>
                        <a:ext cx="214200" cy="228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15" name=""/>
                      <p:cNvSpPr/>
                      <p:nvPr/>
                    </p:nvSpPr>
                    <p:spPr>
                      <a:xfrm>
                        <a:off x="2057400" y="2685960"/>
                        <a:ext cx="214200" cy="228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16" name=""/>
                      <p:cNvSpPr/>
                      <p:nvPr/>
                    </p:nvSpPr>
                    <p:spPr>
                      <a:xfrm>
                        <a:off x="2271600" y="2685960"/>
                        <a:ext cx="214560" cy="228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017" name=""/>
                    <p:cNvGrpSpPr/>
                    <p:nvPr/>
                  </p:nvGrpSpPr>
                  <p:grpSpPr>
                    <a:xfrm>
                      <a:off x="2486160" y="2685960"/>
                      <a:ext cx="642960" cy="228600"/>
                      <a:chOff x="2486160" y="2685960"/>
                      <a:chExt cx="642960" cy="228600"/>
                    </a:xfrm>
                  </p:grpSpPr>
                  <p:sp>
                    <p:nvSpPr>
                      <p:cNvPr id="3018" name=""/>
                      <p:cNvSpPr/>
                      <p:nvPr/>
                    </p:nvSpPr>
                    <p:spPr>
                      <a:xfrm>
                        <a:off x="2486160" y="2685960"/>
                        <a:ext cx="214200" cy="228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19" name=""/>
                      <p:cNvSpPr/>
                      <p:nvPr/>
                    </p:nvSpPr>
                    <p:spPr>
                      <a:xfrm>
                        <a:off x="2700360" y="2685960"/>
                        <a:ext cx="214200" cy="228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20" name=""/>
                      <p:cNvSpPr/>
                      <p:nvPr/>
                    </p:nvSpPr>
                    <p:spPr>
                      <a:xfrm>
                        <a:off x="2914560" y="2685960"/>
                        <a:ext cx="214560" cy="228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3021" name=""/>
              <p:cNvGrpSpPr/>
              <p:nvPr/>
            </p:nvGrpSpPr>
            <p:grpSpPr>
              <a:xfrm>
                <a:off x="1843200" y="2914560"/>
                <a:ext cx="1285920" cy="914400"/>
                <a:chOff x="1843200" y="2914560"/>
                <a:chExt cx="1285920" cy="914400"/>
              </a:xfrm>
            </p:grpSpPr>
            <p:grpSp>
              <p:nvGrpSpPr>
                <p:cNvPr id="3022" name=""/>
                <p:cNvGrpSpPr/>
                <p:nvPr/>
              </p:nvGrpSpPr>
              <p:grpSpPr>
                <a:xfrm>
                  <a:off x="1843200" y="2914560"/>
                  <a:ext cx="1285920" cy="457200"/>
                  <a:chOff x="1843200" y="2914560"/>
                  <a:chExt cx="1285920" cy="457200"/>
                </a:xfrm>
              </p:grpSpPr>
              <p:grpSp>
                <p:nvGrpSpPr>
                  <p:cNvPr id="3023" name=""/>
                  <p:cNvGrpSpPr/>
                  <p:nvPr/>
                </p:nvGrpSpPr>
                <p:grpSpPr>
                  <a:xfrm>
                    <a:off x="1843200" y="2914560"/>
                    <a:ext cx="1285920" cy="228600"/>
                    <a:chOff x="1843200" y="2914560"/>
                    <a:chExt cx="1285920" cy="228600"/>
                  </a:xfrm>
                </p:grpSpPr>
                <p:grpSp>
                  <p:nvGrpSpPr>
                    <p:cNvPr id="3024" name=""/>
                    <p:cNvGrpSpPr/>
                    <p:nvPr/>
                  </p:nvGrpSpPr>
                  <p:grpSpPr>
                    <a:xfrm>
                      <a:off x="1843200" y="2914560"/>
                      <a:ext cx="642960" cy="228600"/>
                      <a:chOff x="1843200" y="2914560"/>
                      <a:chExt cx="642960" cy="228600"/>
                    </a:xfrm>
                  </p:grpSpPr>
                  <p:sp>
                    <p:nvSpPr>
                      <p:cNvPr id="3025" name=""/>
                      <p:cNvSpPr/>
                      <p:nvPr/>
                    </p:nvSpPr>
                    <p:spPr>
                      <a:xfrm>
                        <a:off x="1843200" y="2914560"/>
                        <a:ext cx="214200" cy="228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26" name=""/>
                      <p:cNvSpPr/>
                      <p:nvPr/>
                    </p:nvSpPr>
                    <p:spPr>
                      <a:xfrm>
                        <a:off x="2057400" y="2914560"/>
                        <a:ext cx="214200" cy="228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27" name=""/>
                      <p:cNvSpPr/>
                      <p:nvPr/>
                    </p:nvSpPr>
                    <p:spPr>
                      <a:xfrm>
                        <a:off x="2271600" y="2914560"/>
                        <a:ext cx="214560" cy="228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028" name=""/>
                    <p:cNvGrpSpPr/>
                    <p:nvPr/>
                  </p:nvGrpSpPr>
                  <p:grpSpPr>
                    <a:xfrm>
                      <a:off x="2486160" y="2914560"/>
                      <a:ext cx="642960" cy="228600"/>
                      <a:chOff x="2486160" y="2914560"/>
                      <a:chExt cx="642960" cy="228600"/>
                    </a:xfrm>
                  </p:grpSpPr>
                  <p:sp>
                    <p:nvSpPr>
                      <p:cNvPr id="3029" name=""/>
                      <p:cNvSpPr/>
                      <p:nvPr/>
                    </p:nvSpPr>
                    <p:spPr>
                      <a:xfrm>
                        <a:off x="2486160" y="2914560"/>
                        <a:ext cx="214200" cy="228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30" name=""/>
                      <p:cNvSpPr/>
                      <p:nvPr/>
                    </p:nvSpPr>
                    <p:spPr>
                      <a:xfrm>
                        <a:off x="2700360" y="2914560"/>
                        <a:ext cx="214200" cy="228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31" name=""/>
                      <p:cNvSpPr/>
                      <p:nvPr/>
                    </p:nvSpPr>
                    <p:spPr>
                      <a:xfrm>
                        <a:off x="2914560" y="2914560"/>
                        <a:ext cx="214560" cy="228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032" name=""/>
                  <p:cNvGrpSpPr/>
                  <p:nvPr/>
                </p:nvGrpSpPr>
                <p:grpSpPr>
                  <a:xfrm>
                    <a:off x="1843200" y="3143160"/>
                    <a:ext cx="1285920" cy="228600"/>
                    <a:chOff x="1843200" y="3143160"/>
                    <a:chExt cx="1285920" cy="228600"/>
                  </a:xfrm>
                </p:grpSpPr>
                <p:grpSp>
                  <p:nvGrpSpPr>
                    <p:cNvPr id="3033" name=""/>
                    <p:cNvGrpSpPr/>
                    <p:nvPr/>
                  </p:nvGrpSpPr>
                  <p:grpSpPr>
                    <a:xfrm>
                      <a:off x="1843200" y="3143160"/>
                      <a:ext cx="642960" cy="228600"/>
                      <a:chOff x="1843200" y="3143160"/>
                      <a:chExt cx="642960" cy="228600"/>
                    </a:xfrm>
                  </p:grpSpPr>
                  <p:sp>
                    <p:nvSpPr>
                      <p:cNvPr id="3034" name=""/>
                      <p:cNvSpPr/>
                      <p:nvPr/>
                    </p:nvSpPr>
                    <p:spPr>
                      <a:xfrm>
                        <a:off x="1843200" y="3143160"/>
                        <a:ext cx="214200" cy="228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35" name=""/>
                      <p:cNvSpPr/>
                      <p:nvPr/>
                    </p:nvSpPr>
                    <p:spPr>
                      <a:xfrm>
                        <a:off x="2057400" y="3143160"/>
                        <a:ext cx="214200" cy="228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36" name=""/>
                      <p:cNvSpPr/>
                      <p:nvPr/>
                    </p:nvSpPr>
                    <p:spPr>
                      <a:xfrm>
                        <a:off x="2271600" y="3143160"/>
                        <a:ext cx="214560" cy="228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037" name=""/>
                    <p:cNvGrpSpPr/>
                    <p:nvPr/>
                  </p:nvGrpSpPr>
                  <p:grpSpPr>
                    <a:xfrm>
                      <a:off x="2486160" y="3143160"/>
                      <a:ext cx="642960" cy="228600"/>
                      <a:chOff x="2486160" y="3143160"/>
                      <a:chExt cx="642960" cy="228600"/>
                    </a:xfrm>
                  </p:grpSpPr>
                  <p:sp>
                    <p:nvSpPr>
                      <p:cNvPr id="3038" name=""/>
                      <p:cNvSpPr/>
                      <p:nvPr/>
                    </p:nvSpPr>
                    <p:spPr>
                      <a:xfrm>
                        <a:off x="2486160" y="3143160"/>
                        <a:ext cx="214200" cy="228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39" name=""/>
                      <p:cNvSpPr/>
                      <p:nvPr/>
                    </p:nvSpPr>
                    <p:spPr>
                      <a:xfrm>
                        <a:off x="2700360" y="3143160"/>
                        <a:ext cx="214200" cy="228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40" name=""/>
                      <p:cNvSpPr/>
                      <p:nvPr/>
                    </p:nvSpPr>
                    <p:spPr>
                      <a:xfrm>
                        <a:off x="2914560" y="3143160"/>
                        <a:ext cx="214560" cy="228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3041" name=""/>
                <p:cNvGrpSpPr/>
                <p:nvPr/>
              </p:nvGrpSpPr>
              <p:grpSpPr>
                <a:xfrm>
                  <a:off x="1843200" y="3371760"/>
                  <a:ext cx="1285920" cy="457200"/>
                  <a:chOff x="1843200" y="3371760"/>
                  <a:chExt cx="1285920" cy="457200"/>
                </a:xfrm>
              </p:grpSpPr>
              <p:grpSp>
                <p:nvGrpSpPr>
                  <p:cNvPr id="3042" name=""/>
                  <p:cNvGrpSpPr/>
                  <p:nvPr/>
                </p:nvGrpSpPr>
                <p:grpSpPr>
                  <a:xfrm>
                    <a:off x="1843200" y="3371760"/>
                    <a:ext cx="1285920" cy="228600"/>
                    <a:chOff x="1843200" y="3371760"/>
                    <a:chExt cx="1285920" cy="228600"/>
                  </a:xfrm>
                </p:grpSpPr>
                <p:grpSp>
                  <p:nvGrpSpPr>
                    <p:cNvPr id="3043" name=""/>
                    <p:cNvGrpSpPr/>
                    <p:nvPr/>
                  </p:nvGrpSpPr>
                  <p:grpSpPr>
                    <a:xfrm>
                      <a:off x="1843200" y="3371760"/>
                      <a:ext cx="642960" cy="228600"/>
                      <a:chOff x="1843200" y="3371760"/>
                      <a:chExt cx="642960" cy="228600"/>
                    </a:xfrm>
                  </p:grpSpPr>
                  <p:sp>
                    <p:nvSpPr>
                      <p:cNvPr id="3044" name=""/>
                      <p:cNvSpPr/>
                      <p:nvPr/>
                    </p:nvSpPr>
                    <p:spPr>
                      <a:xfrm>
                        <a:off x="1843200" y="3371760"/>
                        <a:ext cx="214200" cy="228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45" name=""/>
                      <p:cNvSpPr/>
                      <p:nvPr/>
                    </p:nvSpPr>
                    <p:spPr>
                      <a:xfrm>
                        <a:off x="2057400" y="3371760"/>
                        <a:ext cx="214200" cy="228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46" name=""/>
                      <p:cNvSpPr/>
                      <p:nvPr/>
                    </p:nvSpPr>
                    <p:spPr>
                      <a:xfrm>
                        <a:off x="2271600" y="3371760"/>
                        <a:ext cx="214560" cy="228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047" name=""/>
                    <p:cNvGrpSpPr/>
                    <p:nvPr/>
                  </p:nvGrpSpPr>
                  <p:grpSpPr>
                    <a:xfrm>
                      <a:off x="2486160" y="3371760"/>
                      <a:ext cx="642960" cy="228600"/>
                      <a:chOff x="2486160" y="3371760"/>
                      <a:chExt cx="642960" cy="228600"/>
                    </a:xfrm>
                  </p:grpSpPr>
                  <p:sp>
                    <p:nvSpPr>
                      <p:cNvPr id="3048" name=""/>
                      <p:cNvSpPr/>
                      <p:nvPr/>
                    </p:nvSpPr>
                    <p:spPr>
                      <a:xfrm>
                        <a:off x="2486160" y="3371760"/>
                        <a:ext cx="214200" cy="228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49" name=""/>
                      <p:cNvSpPr/>
                      <p:nvPr/>
                    </p:nvSpPr>
                    <p:spPr>
                      <a:xfrm>
                        <a:off x="2700360" y="3371760"/>
                        <a:ext cx="214200" cy="228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50" name=""/>
                      <p:cNvSpPr/>
                      <p:nvPr/>
                    </p:nvSpPr>
                    <p:spPr>
                      <a:xfrm>
                        <a:off x="2914560" y="3371760"/>
                        <a:ext cx="214560" cy="228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051" name=""/>
                  <p:cNvGrpSpPr/>
                  <p:nvPr/>
                </p:nvGrpSpPr>
                <p:grpSpPr>
                  <a:xfrm>
                    <a:off x="1843200" y="3600360"/>
                    <a:ext cx="1285920" cy="228600"/>
                    <a:chOff x="1843200" y="3600360"/>
                    <a:chExt cx="1285920" cy="228600"/>
                  </a:xfrm>
                </p:grpSpPr>
                <p:grpSp>
                  <p:nvGrpSpPr>
                    <p:cNvPr id="3052" name=""/>
                    <p:cNvGrpSpPr/>
                    <p:nvPr/>
                  </p:nvGrpSpPr>
                  <p:grpSpPr>
                    <a:xfrm>
                      <a:off x="1843200" y="3600360"/>
                      <a:ext cx="642960" cy="228600"/>
                      <a:chOff x="1843200" y="3600360"/>
                      <a:chExt cx="642960" cy="228600"/>
                    </a:xfrm>
                  </p:grpSpPr>
                  <p:sp>
                    <p:nvSpPr>
                      <p:cNvPr id="3053" name=""/>
                      <p:cNvSpPr/>
                      <p:nvPr/>
                    </p:nvSpPr>
                    <p:spPr>
                      <a:xfrm>
                        <a:off x="1843200" y="3600360"/>
                        <a:ext cx="214200" cy="228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54" name=""/>
                      <p:cNvSpPr/>
                      <p:nvPr/>
                    </p:nvSpPr>
                    <p:spPr>
                      <a:xfrm>
                        <a:off x="2057400" y="3600360"/>
                        <a:ext cx="214200" cy="228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55" name=""/>
                      <p:cNvSpPr/>
                      <p:nvPr/>
                    </p:nvSpPr>
                    <p:spPr>
                      <a:xfrm>
                        <a:off x="2271600" y="3600360"/>
                        <a:ext cx="214560" cy="228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056" name=""/>
                    <p:cNvGrpSpPr/>
                    <p:nvPr/>
                  </p:nvGrpSpPr>
                  <p:grpSpPr>
                    <a:xfrm>
                      <a:off x="2486160" y="3600360"/>
                      <a:ext cx="642960" cy="228600"/>
                      <a:chOff x="2486160" y="3600360"/>
                      <a:chExt cx="642960" cy="228600"/>
                    </a:xfrm>
                  </p:grpSpPr>
                  <p:sp>
                    <p:nvSpPr>
                      <p:cNvPr id="3057" name=""/>
                      <p:cNvSpPr/>
                      <p:nvPr/>
                    </p:nvSpPr>
                    <p:spPr>
                      <a:xfrm>
                        <a:off x="2486160" y="3600360"/>
                        <a:ext cx="214200" cy="228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58" name=""/>
                      <p:cNvSpPr/>
                      <p:nvPr/>
                    </p:nvSpPr>
                    <p:spPr>
                      <a:xfrm>
                        <a:off x="2700360" y="3600360"/>
                        <a:ext cx="214200" cy="228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59" name=""/>
                      <p:cNvSpPr/>
                      <p:nvPr/>
                    </p:nvSpPr>
                    <p:spPr>
                      <a:xfrm>
                        <a:off x="2914560" y="3600360"/>
                        <a:ext cx="214560" cy="228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  <p:grpSp>
          <p:nvGrpSpPr>
            <p:cNvPr id="3060" name=""/>
            <p:cNvGrpSpPr/>
            <p:nvPr/>
          </p:nvGrpSpPr>
          <p:grpSpPr>
            <a:xfrm>
              <a:off x="4029120" y="2043000"/>
              <a:ext cx="185760" cy="1785960"/>
              <a:chOff x="4029120" y="2043000"/>
              <a:chExt cx="185760" cy="1785960"/>
            </a:xfrm>
          </p:grpSpPr>
          <p:sp>
            <p:nvSpPr>
              <p:cNvPr id="3061" name=""/>
              <p:cNvSpPr/>
              <p:nvPr/>
            </p:nvSpPr>
            <p:spPr>
              <a:xfrm>
                <a:off x="4029120" y="2286000"/>
                <a:ext cx="171360" cy="156960"/>
              </a:xfrm>
              <a:prstGeom prst="ellipse">
                <a:avLst/>
              </a:prstGeom>
              <a:solidFill>
                <a:srgbClr val="ffcc66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4043520" y="2043000"/>
                <a:ext cx="171360" cy="157320"/>
              </a:xfrm>
              <a:prstGeom prst="ellipse">
                <a:avLst/>
              </a:prstGeom>
              <a:solidFill>
                <a:srgbClr val="ffcc66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4029120" y="2528640"/>
                <a:ext cx="171360" cy="157320"/>
              </a:xfrm>
              <a:prstGeom prst="ellipse">
                <a:avLst/>
              </a:prstGeom>
              <a:solidFill>
                <a:srgbClr val="ffcc66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4043520" y="2771640"/>
                <a:ext cx="171360" cy="157320"/>
              </a:xfrm>
              <a:prstGeom prst="ellipse">
                <a:avLst/>
              </a:prstGeom>
              <a:solidFill>
                <a:srgbClr val="ffcc66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4043520" y="3000240"/>
                <a:ext cx="171360" cy="157320"/>
              </a:xfrm>
              <a:prstGeom prst="ellipse">
                <a:avLst/>
              </a:prstGeom>
              <a:solidFill>
                <a:srgbClr val="ffcc66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4043520" y="3228840"/>
                <a:ext cx="171360" cy="157320"/>
              </a:xfrm>
              <a:prstGeom prst="ellipse">
                <a:avLst/>
              </a:prstGeom>
              <a:solidFill>
                <a:srgbClr val="ffcc66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4043520" y="3443040"/>
                <a:ext cx="171360" cy="157320"/>
              </a:xfrm>
              <a:prstGeom prst="ellipse">
                <a:avLst/>
              </a:prstGeom>
              <a:solidFill>
                <a:srgbClr val="ffcc66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4043520" y="3671640"/>
                <a:ext cx="171360" cy="157320"/>
              </a:xfrm>
              <a:prstGeom prst="ellipse">
                <a:avLst/>
              </a:prstGeom>
              <a:solidFill>
                <a:srgbClr val="ffcc66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69" name=""/>
            <p:cNvSpPr/>
            <p:nvPr/>
          </p:nvSpPr>
          <p:spPr>
            <a:xfrm>
              <a:off x="3828960" y="4414680"/>
              <a:ext cx="442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70" name=""/>
            <p:cNvGrpSpPr/>
            <p:nvPr/>
          </p:nvGrpSpPr>
          <p:grpSpPr>
            <a:xfrm>
              <a:off x="4043520" y="4429080"/>
              <a:ext cx="1131840" cy="185760"/>
              <a:chOff x="4043520" y="4429080"/>
              <a:chExt cx="1131840" cy="185760"/>
            </a:xfrm>
          </p:grpSpPr>
          <p:sp>
            <p:nvSpPr>
              <p:cNvPr id="3071" name=""/>
              <p:cNvSpPr/>
              <p:nvPr/>
            </p:nvSpPr>
            <p:spPr>
              <a:xfrm>
                <a:off x="4043520" y="4429080"/>
                <a:ext cx="88920" cy="1857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4257720" y="4429080"/>
                <a:ext cx="88920" cy="1857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4471920" y="4429080"/>
                <a:ext cx="88920" cy="1857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4686480" y="4429080"/>
                <a:ext cx="88560" cy="1857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4886280" y="4429080"/>
                <a:ext cx="88920" cy="1857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5086440" y="4429080"/>
                <a:ext cx="88920" cy="1857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7" name=""/>
            <p:cNvGrpSpPr/>
            <p:nvPr/>
          </p:nvGrpSpPr>
          <p:grpSpPr>
            <a:xfrm>
              <a:off x="5300640" y="4429080"/>
              <a:ext cx="1131840" cy="185760"/>
              <a:chOff x="5300640" y="4429080"/>
              <a:chExt cx="1131840" cy="185760"/>
            </a:xfrm>
          </p:grpSpPr>
          <p:sp>
            <p:nvSpPr>
              <p:cNvPr id="3078" name=""/>
              <p:cNvSpPr/>
              <p:nvPr/>
            </p:nvSpPr>
            <p:spPr>
              <a:xfrm>
                <a:off x="5300640" y="4429080"/>
                <a:ext cx="88920" cy="1857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5514840" y="4429080"/>
                <a:ext cx="88920" cy="1857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5729040" y="4429080"/>
                <a:ext cx="88920" cy="1857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5943600" y="4429080"/>
                <a:ext cx="88560" cy="1857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6143400" y="4429080"/>
                <a:ext cx="88920" cy="1857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6343560" y="4429080"/>
                <a:ext cx="88920" cy="1857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4" name=""/>
            <p:cNvGrpSpPr/>
            <p:nvPr/>
          </p:nvGrpSpPr>
          <p:grpSpPr>
            <a:xfrm>
              <a:off x="6543720" y="4414680"/>
              <a:ext cx="1131840" cy="185760"/>
              <a:chOff x="6543720" y="4414680"/>
              <a:chExt cx="1131840" cy="185760"/>
            </a:xfrm>
          </p:grpSpPr>
          <p:sp>
            <p:nvSpPr>
              <p:cNvPr id="3085" name=""/>
              <p:cNvSpPr/>
              <p:nvPr/>
            </p:nvSpPr>
            <p:spPr>
              <a:xfrm>
                <a:off x="6543720" y="4414680"/>
                <a:ext cx="88920" cy="1857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6757920" y="4414680"/>
                <a:ext cx="88920" cy="1857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6972120" y="4414680"/>
                <a:ext cx="88920" cy="1857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7186680" y="4414680"/>
                <a:ext cx="88560" cy="1857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7386480" y="4414680"/>
                <a:ext cx="88920" cy="1857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7586640" y="4414680"/>
                <a:ext cx="88920" cy="1857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91" name=""/>
            <p:cNvSpPr/>
            <p:nvPr/>
          </p:nvSpPr>
          <p:spPr>
            <a:xfrm>
              <a:off x="5557680" y="4743360"/>
              <a:ext cx="0" cy="9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5486400" y="4700520"/>
              <a:ext cx="171360" cy="157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93" name=""/>
            <p:cNvGrpSpPr/>
            <p:nvPr/>
          </p:nvGrpSpPr>
          <p:grpSpPr>
            <a:xfrm>
              <a:off x="4815000" y="2143080"/>
              <a:ext cx="399960" cy="271440"/>
              <a:chOff x="4815000" y="2143080"/>
              <a:chExt cx="399960" cy="271440"/>
            </a:xfrm>
          </p:grpSpPr>
          <p:sp>
            <p:nvSpPr>
              <p:cNvPr id="3094" name=""/>
              <p:cNvSpPr/>
              <p:nvPr/>
            </p:nvSpPr>
            <p:spPr>
              <a:xfrm rot="5400000">
                <a:off x="4772160" y="2185920"/>
                <a:ext cx="271440" cy="185760"/>
              </a:xfrm>
              <a:prstGeom prst="triangle">
                <a:avLst>
                  <a:gd name="adj" fmla="val 50000"/>
                </a:avLst>
              </a:prstGeom>
              <a:solidFill>
                <a:srgbClr val="ffcc66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 rot="16200000">
                <a:off x="4986360" y="2185920"/>
                <a:ext cx="271440" cy="185760"/>
              </a:xfrm>
              <a:prstGeom prst="triangle">
                <a:avLst>
                  <a:gd name="adj" fmla="val 50000"/>
                </a:avLst>
              </a:prstGeom>
              <a:solidFill>
                <a:srgbClr val="ffcc66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96" name=""/>
            <p:cNvSpPr/>
            <p:nvPr/>
          </p:nvSpPr>
          <p:spPr>
            <a:xfrm>
              <a:off x="4357800" y="2271600"/>
              <a:ext cx="4572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5229360" y="2286000"/>
              <a:ext cx="4572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8" name=""/>
            <p:cNvSpPr/>
            <p:nvPr/>
          </p:nvSpPr>
          <p:spPr>
            <a:xfrm flipV="1">
              <a:off x="5029200" y="2400480"/>
              <a:ext cx="0" cy="900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9" name=""/>
          <p:cNvGrpSpPr/>
          <p:nvPr/>
        </p:nvGrpSpPr>
        <p:grpSpPr>
          <a:xfrm>
            <a:off x="6796080" y="5686560"/>
            <a:ext cx="1805040" cy="585720"/>
            <a:chOff x="6796080" y="5686560"/>
            <a:chExt cx="1805040" cy="585720"/>
          </a:xfrm>
        </p:grpSpPr>
        <p:sp>
          <p:nvSpPr>
            <p:cNvPr id="3100" name="">
              <a:hlinkClick r:id="" action="ppaction://hlinkshowjump?jump=previousslide"/>
            </p:cNvPr>
            <p:cNvSpPr/>
            <p:nvPr/>
          </p:nvSpPr>
          <p:spPr>
            <a:xfrm>
              <a:off x="6796080" y="5686560"/>
              <a:ext cx="565200" cy="585720"/>
            </a:xfrm>
            <a:custGeom>
              <a:avLst/>
              <a:gdLst>
                <a:gd name="textAreaLeft" fmla="*/ 36360 w 565200"/>
                <a:gd name="textAreaRight" fmla="*/ 528840 w 565200"/>
                <a:gd name="textAreaTop" fmla="*/ 36360 h 585720"/>
                <a:gd name="textAreaBottom" fmla="*/ 549360 h 585720"/>
              </a:gdLst>
              <a:ahLst/>
              <a:rect l="textAreaLeft" t="textAreaTop" r="textAreaRight" b="textAreaBottom"/>
              <a:pathLst>
                <a:path w="21600" h="22384">
                  <a:moveTo>
                    <a:pt x="0" y="0"/>
                  </a:moveTo>
                  <a:lnTo>
                    <a:pt x="21600" y="0"/>
                  </a:lnTo>
                  <a:lnTo>
                    <a:pt x="21600" y="22384"/>
                  </a:lnTo>
                  <a:lnTo>
                    <a:pt x="0" y="22384"/>
                  </a:lnTo>
                  <a:close/>
                </a:path>
                <a:path fill="lightenLess" w="21600" h="22384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2384">
                  <a:moveTo>
                    <a:pt x="21600" y="0"/>
                  </a:moveTo>
                  <a:lnTo>
                    <a:pt x="21600" y="22384"/>
                  </a:lnTo>
                  <a:lnTo>
                    <a:pt x="20200" y="20984"/>
                  </a:lnTo>
                  <a:lnTo>
                    <a:pt x="20200" y="1400"/>
                  </a:lnTo>
                  <a:close/>
                </a:path>
                <a:path fill="darkenLess" w="21600" h="22384">
                  <a:moveTo>
                    <a:pt x="21600" y="22384"/>
                  </a:moveTo>
                  <a:lnTo>
                    <a:pt x="0" y="22384"/>
                  </a:lnTo>
                  <a:lnTo>
                    <a:pt x="1400" y="20984"/>
                  </a:lnTo>
                  <a:lnTo>
                    <a:pt x="20200" y="20984"/>
                  </a:lnTo>
                  <a:close/>
                </a:path>
                <a:path fill="lighten" w="21600" h="22384">
                  <a:moveTo>
                    <a:pt x="0" y="22384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984"/>
                  </a:lnTo>
                  <a:close/>
                </a:path>
                <a:path fill="darken" w="21600" h="22384">
                  <a:moveTo>
                    <a:pt x="3794" y="11192"/>
                  </a:moveTo>
                  <a:lnTo>
                    <a:pt x="17806" y="4185"/>
                  </a:lnTo>
                  <a:lnTo>
                    <a:pt x="17806" y="18198"/>
                  </a:lnTo>
                  <a:close/>
                </a:path>
              </a:pathLst>
            </a:cu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1" name="">
              <a:hlinkClick r:id="" action="ppaction://hlinkshowjump?jump=nextslide"/>
            </p:cNvPr>
            <p:cNvSpPr/>
            <p:nvPr/>
          </p:nvSpPr>
          <p:spPr>
            <a:xfrm>
              <a:off x="7415280" y="5686560"/>
              <a:ext cx="566640" cy="585720"/>
            </a:xfrm>
            <a:custGeom>
              <a:avLst/>
              <a:gdLst>
                <a:gd name="textAreaLeft" fmla="*/ 36720 w 566640"/>
                <a:gd name="textAreaRight" fmla="*/ 529920 w 566640"/>
                <a:gd name="textAreaTop" fmla="*/ 36720 h 585720"/>
                <a:gd name="textAreaBottom" fmla="*/ 549000 h 585720"/>
              </a:gdLst>
              <a:ahLst/>
              <a:rect l="textAreaLeft" t="textAreaTop" r="textAreaRight" b="textAreaBottom"/>
              <a:pathLst>
                <a:path w="21600" h="22327">
                  <a:moveTo>
                    <a:pt x="0" y="0"/>
                  </a:moveTo>
                  <a:lnTo>
                    <a:pt x="21600" y="0"/>
                  </a:lnTo>
                  <a:lnTo>
                    <a:pt x="21600" y="22327"/>
                  </a:lnTo>
                  <a:lnTo>
                    <a:pt x="0" y="22327"/>
                  </a:lnTo>
                  <a:close/>
                </a:path>
                <a:path fill="lightenLess" w="21600" h="22327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2327">
                  <a:moveTo>
                    <a:pt x="21600" y="0"/>
                  </a:moveTo>
                  <a:lnTo>
                    <a:pt x="21600" y="22327"/>
                  </a:lnTo>
                  <a:lnTo>
                    <a:pt x="20200" y="20927"/>
                  </a:lnTo>
                  <a:lnTo>
                    <a:pt x="20200" y="1400"/>
                  </a:lnTo>
                  <a:close/>
                </a:path>
                <a:path fill="darkenLess" w="21600" h="22327">
                  <a:moveTo>
                    <a:pt x="21600" y="22327"/>
                  </a:moveTo>
                  <a:lnTo>
                    <a:pt x="0" y="22327"/>
                  </a:lnTo>
                  <a:lnTo>
                    <a:pt x="1400" y="20927"/>
                  </a:lnTo>
                  <a:lnTo>
                    <a:pt x="20200" y="20927"/>
                  </a:lnTo>
                  <a:close/>
                </a:path>
                <a:path fill="lighten" w="21600" h="22327">
                  <a:moveTo>
                    <a:pt x="0" y="22327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927"/>
                  </a:lnTo>
                  <a:close/>
                </a:path>
                <a:path fill="darken" w="21600" h="22327">
                  <a:moveTo>
                    <a:pt x="3794" y="4157"/>
                  </a:moveTo>
                  <a:lnTo>
                    <a:pt x="17806" y="11163"/>
                  </a:lnTo>
                  <a:lnTo>
                    <a:pt x="3794" y="18170"/>
                  </a:lnTo>
                  <a:close/>
                </a:path>
              </a:pathLst>
            </a:cu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2" name="">
              <a:hlinkClick r:id="" action="ppaction://hlinkshowjump?jump=firstslide"/>
            </p:cNvPr>
            <p:cNvSpPr/>
            <p:nvPr/>
          </p:nvSpPr>
          <p:spPr>
            <a:xfrm>
              <a:off x="8035920" y="5686560"/>
              <a:ext cx="565200" cy="585720"/>
            </a:xfrm>
            <a:custGeom>
              <a:avLst/>
              <a:gdLst>
                <a:gd name="textAreaLeft" fmla="*/ 36360 w 565200"/>
                <a:gd name="textAreaRight" fmla="*/ 528840 w 565200"/>
                <a:gd name="textAreaTop" fmla="*/ 36360 h 585720"/>
                <a:gd name="textAreaBottom" fmla="*/ 549360 h 585720"/>
              </a:gdLst>
              <a:ahLst/>
              <a:rect l="textAreaLeft" t="textAreaTop" r="textAreaRight" b="textAreaBottom"/>
              <a:pathLst>
                <a:path w="21600" h="22384">
                  <a:moveTo>
                    <a:pt x="0" y="0"/>
                  </a:moveTo>
                  <a:lnTo>
                    <a:pt x="21600" y="0"/>
                  </a:lnTo>
                  <a:lnTo>
                    <a:pt x="21600" y="22384"/>
                  </a:lnTo>
                  <a:lnTo>
                    <a:pt x="0" y="22384"/>
                  </a:lnTo>
                  <a:close/>
                </a:path>
                <a:path fill="lightenLess" w="21600" h="22384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2384">
                  <a:moveTo>
                    <a:pt x="21600" y="0"/>
                  </a:moveTo>
                  <a:lnTo>
                    <a:pt x="21600" y="22384"/>
                  </a:lnTo>
                  <a:lnTo>
                    <a:pt x="20200" y="20984"/>
                  </a:lnTo>
                  <a:lnTo>
                    <a:pt x="20200" y="1400"/>
                  </a:lnTo>
                  <a:close/>
                </a:path>
                <a:path fill="darkenLess" w="21600" h="22384">
                  <a:moveTo>
                    <a:pt x="21600" y="22384"/>
                  </a:moveTo>
                  <a:lnTo>
                    <a:pt x="0" y="22384"/>
                  </a:lnTo>
                  <a:lnTo>
                    <a:pt x="1400" y="20984"/>
                  </a:lnTo>
                  <a:lnTo>
                    <a:pt x="20200" y="20984"/>
                  </a:lnTo>
                  <a:close/>
                </a:path>
                <a:path fill="lighten" w="21600" h="22384">
                  <a:moveTo>
                    <a:pt x="0" y="22384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984"/>
                  </a:lnTo>
                  <a:close/>
                </a:path>
                <a:path fill="darken" w="21600" h="22384">
                  <a:moveTo>
                    <a:pt x="7301" y="11192"/>
                  </a:moveTo>
                  <a:lnTo>
                    <a:pt x="17806" y="4185"/>
                  </a:lnTo>
                  <a:lnTo>
                    <a:pt x="17806" y="18198"/>
                  </a:lnTo>
                  <a:close/>
                </a:path>
                <a:path fill="darken" w="21600" h="22384">
                  <a:moveTo>
                    <a:pt x="3794" y="4185"/>
                  </a:moveTo>
                  <a:lnTo>
                    <a:pt x="5456" y="4185"/>
                  </a:lnTo>
                  <a:lnTo>
                    <a:pt x="5456" y="18198"/>
                  </a:lnTo>
                  <a:lnTo>
                    <a:pt x="3794" y="18198"/>
                  </a:lnTo>
                  <a:close/>
                </a:path>
              </a:pathLst>
            </a:cu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Z</a:t>
            </a:r>
            <a:r>
              <a:rPr b="1" lang="sk-SK" sz="4400" spc="-1" strike="noStrike">
                <a:solidFill>
                  <a:srgbClr val="221304"/>
                </a:solidFill>
                <a:latin typeface="Times New Roman"/>
              </a:rPr>
              <a:t>adanie 25 :</a:t>
            </a:r>
            <a:r>
              <a:rPr b="1" i="1" lang="sk-SK" sz="4400" spc="-1" strike="noStrike">
                <a:solidFill>
                  <a:srgbClr val="221304"/>
                </a:solidFill>
                <a:latin typeface="Times New Roman"/>
              </a:rPr>
              <a:t>Čítacia hlav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3106" name=""/>
          <p:cNvGrpSpPr/>
          <p:nvPr/>
        </p:nvGrpSpPr>
        <p:grpSpPr>
          <a:xfrm>
            <a:off x="1843200" y="1971720"/>
            <a:ext cx="6414840" cy="3672000"/>
            <a:chOff x="1843200" y="1971720"/>
            <a:chExt cx="6414840" cy="3672000"/>
          </a:xfrm>
        </p:grpSpPr>
        <p:sp>
          <p:nvSpPr>
            <p:cNvPr id="3107" name=""/>
            <p:cNvSpPr/>
            <p:nvPr/>
          </p:nvSpPr>
          <p:spPr>
            <a:xfrm>
              <a:off x="3900600" y="1971720"/>
              <a:ext cx="428400" cy="210024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8" name=""/>
            <p:cNvGrpSpPr/>
            <p:nvPr/>
          </p:nvGrpSpPr>
          <p:grpSpPr>
            <a:xfrm>
              <a:off x="1843200" y="2000160"/>
              <a:ext cx="1285920" cy="1828800"/>
              <a:chOff x="1843200" y="2000160"/>
              <a:chExt cx="1285920" cy="1828800"/>
            </a:xfrm>
          </p:grpSpPr>
          <p:grpSp>
            <p:nvGrpSpPr>
              <p:cNvPr id="3109" name=""/>
              <p:cNvGrpSpPr/>
              <p:nvPr/>
            </p:nvGrpSpPr>
            <p:grpSpPr>
              <a:xfrm>
                <a:off x="1843200" y="2000160"/>
                <a:ext cx="1285920" cy="914400"/>
                <a:chOff x="1843200" y="2000160"/>
                <a:chExt cx="1285920" cy="914400"/>
              </a:xfrm>
            </p:grpSpPr>
            <p:grpSp>
              <p:nvGrpSpPr>
                <p:cNvPr id="3110" name=""/>
                <p:cNvGrpSpPr/>
                <p:nvPr/>
              </p:nvGrpSpPr>
              <p:grpSpPr>
                <a:xfrm>
                  <a:off x="1843200" y="2000160"/>
                  <a:ext cx="1285920" cy="457200"/>
                  <a:chOff x="1843200" y="2000160"/>
                  <a:chExt cx="1285920" cy="457200"/>
                </a:xfrm>
              </p:grpSpPr>
              <p:grpSp>
                <p:nvGrpSpPr>
                  <p:cNvPr id="3111" name=""/>
                  <p:cNvGrpSpPr/>
                  <p:nvPr/>
                </p:nvGrpSpPr>
                <p:grpSpPr>
                  <a:xfrm>
                    <a:off x="1843200" y="2000160"/>
                    <a:ext cx="1285920" cy="228600"/>
                    <a:chOff x="1843200" y="2000160"/>
                    <a:chExt cx="1285920" cy="228600"/>
                  </a:xfrm>
                </p:grpSpPr>
                <p:grpSp>
                  <p:nvGrpSpPr>
                    <p:cNvPr id="3112" name=""/>
                    <p:cNvGrpSpPr/>
                    <p:nvPr/>
                  </p:nvGrpSpPr>
                  <p:grpSpPr>
                    <a:xfrm>
                      <a:off x="1843200" y="2000160"/>
                      <a:ext cx="642960" cy="228600"/>
                      <a:chOff x="1843200" y="2000160"/>
                      <a:chExt cx="642960" cy="228600"/>
                    </a:xfrm>
                  </p:grpSpPr>
                  <p:sp>
                    <p:nvSpPr>
                      <p:cNvPr id="3113" name=""/>
                      <p:cNvSpPr/>
                      <p:nvPr/>
                    </p:nvSpPr>
                    <p:spPr>
                      <a:xfrm>
                        <a:off x="1843200" y="2000160"/>
                        <a:ext cx="214200" cy="228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14" name=""/>
                      <p:cNvSpPr/>
                      <p:nvPr/>
                    </p:nvSpPr>
                    <p:spPr>
                      <a:xfrm>
                        <a:off x="2057400" y="2000160"/>
                        <a:ext cx="214200" cy="228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15" name=""/>
                      <p:cNvSpPr/>
                      <p:nvPr/>
                    </p:nvSpPr>
                    <p:spPr>
                      <a:xfrm>
                        <a:off x="2271600" y="2000160"/>
                        <a:ext cx="214560" cy="228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116" name=""/>
                    <p:cNvGrpSpPr/>
                    <p:nvPr/>
                  </p:nvGrpSpPr>
                  <p:grpSpPr>
                    <a:xfrm>
                      <a:off x="2486160" y="2000160"/>
                      <a:ext cx="642960" cy="228600"/>
                      <a:chOff x="2486160" y="2000160"/>
                      <a:chExt cx="642960" cy="228600"/>
                    </a:xfrm>
                  </p:grpSpPr>
                  <p:sp>
                    <p:nvSpPr>
                      <p:cNvPr id="3117" name=""/>
                      <p:cNvSpPr/>
                      <p:nvPr/>
                    </p:nvSpPr>
                    <p:spPr>
                      <a:xfrm>
                        <a:off x="2486160" y="2000160"/>
                        <a:ext cx="214200" cy="228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18" name=""/>
                      <p:cNvSpPr/>
                      <p:nvPr/>
                    </p:nvSpPr>
                    <p:spPr>
                      <a:xfrm>
                        <a:off x="2700360" y="2000160"/>
                        <a:ext cx="214200" cy="228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19" name=""/>
                      <p:cNvSpPr/>
                      <p:nvPr/>
                    </p:nvSpPr>
                    <p:spPr>
                      <a:xfrm>
                        <a:off x="2914560" y="2000160"/>
                        <a:ext cx="214560" cy="228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120" name=""/>
                  <p:cNvGrpSpPr/>
                  <p:nvPr/>
                </p:nvGrpSpPr>
                <p:grpSpPr>
                  <a:xfrm>
                    <a:off x="1843200" y="2228760"/>
                    <a:ext cx="1285920" cy="228600"/>
                    <a:chOff x="1843200" y="2228760"/>
                    <a:chExt cx="1285920" cy="228600"/>
                  </a:xfrm>
                </p:grpSpPr>
                <p:grpSp>
                  <p:nvGrpSpPr>
                    <p:cNvPr id="3121" name=""/>
                    <p:cNvGrpSpPr/>
                    <p:nvPr/>
                  </p:nvGrpSpPr>
                  <p:grpSpPr>
                    <a:xfrm>
                      <a:off x="1843200" y="2228760"/>
                      <a:ext cx="642960" cy="228600"/>
                      <a:chOff x="1843200" y="2228760"/>
                      <a:chExt cx="642960" cy="228600"/>
                    </a:xfrm>
                  </p:grpSpPr>
                  <p:sp>
                    <p:nvSpPr>
                      <p:cNvPr id="3122" name=""/>
                      <p:cNvSpPr/>
                      <p:nvPr/>
                    </p:nvSpPr>
                    <p:spPr>
                      <a:xfrm>
                        <a:off x="1843200" y="2228760"/>
                        <a:ext cx="214200" cy="228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23" name=""/>
                      <p:cNvSpPr/>
                      <p:nvPr/>
                    </p:nvSpPr>
                    <p:spPr>
                      <a:xfrm>
                        <a:off x="2057400" y="2228760"/>
                        <a:ext cx="214200" cy="228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24" name=""/>
                      <p:cNvSpPr/>
                      <p:nvPr/>
                    </p:nvSpPr>
                    <p:spPr>
                      <a:xfrm>
                        <a:off x="2271600" y="2228760"/>
                        <a:ext cx="214560" cy="228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125" name=""/>
                    <p:cNvGrpSpPr/>
                    <p:nvPr/>
                  </p:nvGrpSpPr>
                  <p:grpSpPr>
                    <a:xfrm>
                      <a:off x="2486160" y="2228760"/>
                      <a:ext cx="642960" cy="228600"/>
                      <a:chOff x="2486160" y="2228760"/>
                      <a:chExt cx="642960" cy="228600"/>
                    </a:xfrm>
                  </p:grpSpPr>
                  <p:sp>
                    <p:nvSpPr>
                      <p:cNvPr id="3126" name=""/>
                      <p:cNvSpPr/>
                      <p:nvPr/>
                    </p:nvSpPr>
                    <p:spPr>
                      <a:xfrm>
                        <a:off x="2486160" y="2228760"/>
                        <a:ext cx="214200" cy="228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27" name=""/>
                      <p:cNvSpPr/>
                      <p:nvPr/>
                    </p:nvSpPr>
                    <p:spPr>
                      <a:xfrm>
                        <a:off x="2700360" y="2228760"/>
                        <a:ext cx="214200" cy="228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28" name=""/>
                      <p:cNvSpPr/>
                      <p:nvPr/>
                    </p:nvSpPr>
                    <p:spPr>
                      <a:xfrm>
                        <a:off x="2914560" y="2228760"/>
                        <a:ext cx="214560" cy="228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3129" name=""/>
                <p:cNvGrpSpPr/>
                <p:nvPr/>
              </p:nvGrpSpPr>
              <p:grpSpPr>
                <a:xfrm>
                  <a:off x="1843200" y="2457360"/>
                  <a:ext cx="1285920" cy="457200"/>
                  <a:chOff x="1843200" y="2457360"/>
                  <a:chExt cx="1285920" cy="457200"/>
                </a:xfrm>
              </p:grpSpPr>
              <p:grpSp>
                <p:nvGrpSpPr>
                  <p:cNvPr id="3130" name=""/>
                  <p:cNvGrpSpPr/>
                  <p:nvPr/>
                </p:nvGrpSpPr>
                <p:grpSpPr>
                  <a:xfrm>
                    <a:off x="1843200" y="2457360"/>
                    <a:ext cx="1285920" cy="228600"/>
                    <a:chOff x="1843200" y="2457360"/>
                    <a:chExt cx="1285920" cy="228600"/>
                  </a:xfrm>
                </p:grpSpPr>
                <p:grpSp>
                  <p:nvGrpSpPr>
                    <p:cNvPr id="3131" name=""/>
                    <p:cNvGrpSpPr/>
                    <p:nvPr/>
                  </p:nvGrpSpPr>
                  <p:grpSpPr>
                    <a:xfrm>
                      <a:off x="1843200" y="2457360"/>
                      <a:ext cx="642960" cy="228600"/>
                      <a:chOff x="1843200" y="2457360"/>
                      <a:chExt cx="642960" cy="228600"/>
                    </a:xfrm>
                  </p:grpSpPr>
                  <p:sp>
                    <p:nvSpPr>
                      <p:cNvPr id="3132" name=""/>
                      <p:cNvSpPr/>
                      <p:nvPr/>
                    </p:nvSpPr>
                    <p:spPr>
                      <a:xfrm>
                        <a:off x="1843200" y="2457360"/>
                        <a:ext cx="214200" cy="228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33" name=""/>
                      <p:cNvSpPr/>
                      <p:nvPr/>
                    </p:nvSpPr>
                    <p:spPr>
                      <a:xfrm>
                        <a:off x="2057400" y="2457360"/>
                        <a:ext cx="214200" cy="228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34" name=""/>
                      <p:cNvSpPr/>
                      <p:nvPr/>
                    </p:nvSpPr>
                    <p:spPr>
                      <a:xfrm>
                        <a:off x="2271600" y="2457360"/>
                        <a:ext cx="214560" cy="228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135" name=""/>
                    <p:cNvGrpSpPr/>
                    <p:nvPr/>
                  </p:nvGrpSpPr>
                  <p:grpSpPr>
                    <a:xfrm>
                      <a:off x="2486160" y="2457360"/>
                      <a:ext cx="642960" cy="228600"/>
                      <a:chOff x="2486160" y="2457360"/>
                      <a:chExt cx="642960" cy="228600"/>
                    </a:xfrm>
                  </p:grpSpPr>
                  <p:sp>
                    <p:nvSpPr>
                      <p:cNvPr id="3136" name=""/>
                      <p:cNvSpPr/>
                      <p:nvPr/>
                    </p:nvSpPr>
                    <p:spPr>
                      <a:xfrm>
                        <a:off x="2486160" y="2457360"/>
                        <a:ext cx="214200" cy="228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37" name=""/>
                      <p:cNvSpPr/>
                      <p:nvPr/>
                    </p:nvSpPr>
                    <p:spPr>
                      <a:xfrm>
                        <a:off x="2700360" y="2457360"/>
                        <a:ext cx="214200" cy="228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38" name=""/>
                      <p:cNvSpPr/>
                      <p:nvPr/>
                    </p:nvSpPr>
                    <p:spPr>
                      <a:xfrm>
                        <a:off x="2914560" y="2457360"/>
                        <a:ext cx="214560" cy="228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139" name=""/>
                  <p:cNvGrpSpPr/>
                  <p:nvPr/>
                </p:nvGrpSpPr>
                <p:grpSpPr>
                  <a:xfrm>
                    <a:off x="1843200" y="2685960"/>
                    <a:ext cx="1285920" cy="228600"/>
                    <a:chOff x="1843200" y="2685960"/>
                    <a:chExt cx="1285920" cy="228600"/>
                  </a:xfrm>
                </p:grpSpPr>
                <p:grpSp>
                  <p:nvGrpSpPr>
                    <p:cNvPr id="3140" name=""/>
                    <p:cNvGrpSpPr/>
                    <p:nvPr/>
                  </p:nvGrpSpPr>
                  <p:grpSpPr>
                    <a:xfrm>
                      <a:off x="1843200" y="2685960"/>
                      <a:ext cx="642960" cy="228600"/>
                      <a:chOff x="1843200" y="2685960"/>
                      <a:chExt cx="642960" cy="228600"/>
                    </a:xfrm>
                  </p:grpSpPr>
                  <p:sp>
                    <p:nvSpPr>
                      <p:cNvPr id="3141" name=""/>
                      <p:cNvSpPr/>
                      <p:nvPr/>
                    </p:nvSpPr>
                    <p:spPr>
                      <a:xfrm>
                        <a:off x="1843200" y="2685960"/>
                        <a:ext cx="214200" cy="228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42" name=""/>
                      <p:cNvSpPr/>
                      <p:nvPr/>
                    </p:nvSpPr>
                    <p:spPr>
                      <a:xfrm>
                        <a:off x="2057400" y="2685960"/>
                        <a:ext cx="214200" cy="228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43" name=""/>
                      <p:cNvSpPr/>
                      <p:nvPr/>
                    </p:nvSpPr>
                    <p:spPr>
                      <a:xfrm>
                        <a:off x="2271600" y="2685960"/>
                        <a:ext cx="214560" cy="228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144" name=""/>
                    <p:cNvGrpSpPr/>
                    <p:nvPr/>
                  </p:nvGrpSpPr>
                  <p:grpSpPr>
                    <a:xfrm>
                      <a:off x="2486160" y="2685960"/>
                      <a:ext cx="642960" cy="228600"/>
                      <a:chOff x="2486160" y="2685960"/>
                      <a:chExt cx="642960" cy="228600"/>
                    </a:xfrm>
                  </p:grpSpPr>
                  <p:sp>
                    <p:nvSpPr>
                      <p:cNvPr id="3145" name=""/>
                      <p:cNvSpPr/>
                      <p:nvPr/>
                    </p:nvSpPr>
                    <p:spPr>
                      <a:xfrm>
                        <a:off x="2486160" y="2685960"/>
                        <a:ext cx="214200" cy="228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46" name=""/>
                      <p:cNvSpPr/>
                      <p:nvPr/>
                    </p:nvSpPr>
                    <p:spPr>
                      <a:xfrm>
                        <a:off x="2700360" y="2685960"/>
                        <a:ext cx="214200" cy="228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47" name=""/>
                      <p:cNvSpPr/>
                      <p:nvPr/>
                    </p:nvSpPr>
                    <p:spPr>
                      <a:xfrm>
                        <a:off x="2914560" y="2685960"/>
                        <a:ext cx="214560" cy="228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3148" name=""/>
              <p:cNvGrpSpPr/>
              <p:nvPr/>
            </p:nvGrpSpPr>
            <p:grpSpPr>
              <a:xfrm>
                <a:off x="1843200" y="2914560"/>
                <a:ext cx="1285920" cy="914400"/>
                <a:chOff x="1843200" y="2914560"/>
                <a:chExt cx="1285920" cy="914400"/>
              </a:xfrm>
            </p:grpSpPr>
            <p:grpSp>
              <p:nvGrpSpPr>
                <p:cNvPr id="3149" name=""/>
                <p:cNvGrpSpPr/>
                <p:nvPr/>
              </p:nvGrpSpPr>
              <p:grpSpPr>
                <a:xfrm>
                  <a:off x="1843200" y="2914560"/>
                  <a:ext cx="1285920" cy="457200"/>
                  <a:chOff x="1843200" y="2914560"/>
                  <a:chExt cx="1285920" cy="457200"/>
                </a:xfrm>
              </p:grpSpPr>
              <p:grpSp>
                <p:nvGrpSpPr>
                  <p:cNvPr id="3150" name=""/>
                  <p:cNvGrpSpPr/>
                  <p:nvPr/>
                </p:nvGrpSpPr>
                <p:grpSpPr>
                  <a:xfrm>
                    <a:off x="1843200" y="2914560"/>
                    <a:ext cx="1285920" cy="228600"/>
                    <a:chOff x="1843200" y="2914560"/>
                    <a:chExt cx="1285920" cy="228600"/>
                  </a:xfrm>
                </p:grpSpPr>
                <p:grpSp>
                  <p:nvGrpSpPr>
                    <p:cNvPr id="3151" name=""/>
                    <p:cNvGrpSpPr/>
                    <p:nvPr/>
                  </p:nvGrpSpPr>
                  <p:grpSpPr>
                    <a:xfrm>
                      <a:off x="1843200" y="2914560"/>
                      <a:ext cx="642960" cy="228600"/>
                      <a:chOff x="1843200" y="2914560"/>
                      <a:chExt cx="642960" cy="228600"/>
                    </a:xfrm>
                  </p:grpSpPr>
                  <p:sp>
                    <p:nvSpPr>
                      <p:cNvPr id="3152" name=""/>
                      <p:cNvSpPr/>
                      <p:nvPr/>
                    </p:nvSpPr>
                    <p:spPr>
                      <a:xfrm>
                        <a:off x="1843200" y="2914560"/>
                        <a:ext cx="214200" cy="228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53" name=""/>
                      <p:cNvSpPr/>
                      <p:nvPr/>
                    </p:nvSpPr>
                    <p:spPr>
                      <a:xfrm>
                        <a:off x="2057400" y="2914560"/>
                        <a:ext cx="214200" cy="228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54" name=""/>
                      <p:cNvSpPr/>
                      <p:nvPr/>
                    </p:nvSpPr>
                    <p:spPr>
                      <a:xfrm>
                        <a:off x="2271600" y="2914560"/>
                        <a:ext cx="214560" cy="228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155" name=""/>
                    <p:cNvGrpSpPr/>
                    <p:nvPr/>
                  </p:nvGrpSpPr>
                  <p:grpSpPr>
                    <a:xfrm>
                      <a:off x="2486160" y="2914560"/>
                      <a:ext cx="642960" cy="228600"/>
                      <a:chOff x="2486160" y="2914560"/>
                      <a:chExt cx="642960" cy="228600"/>
                    </a:xfrm>
                  </p:grpSpPr>
                  <p:sp>
                    <p:nvSpPr>
                      <p:cNvPr id="3156" name=""/>
                      <p:cNvSpPr/>
                      <p:nvPr/>
                    </p:nvSpPr>
                    <p:spPr>
                      <a:xfrm>
                        <a:off x="2486160" y="2914560"/>
                        <a:ext cx="214200" cy="228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57" name=""/>
                      <p:cNvSpPr/>
                      <p:nvPr/>
                    </p:nvSpPr>
                    <p:spPr>
                      <a:xfrm>
                        <a:off x="2700360" y="2914560"/>
                        <a:ext cx="214200" cy="228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58" name=""/>
                      <p:cNvSpPr/>
                      <p:nvPr/>
                    </p:nvSpPr>
                    <p:spPr>
                      <a:xfrm>
                        <a:off x="2914560" y="2914560"/>
                        <a:ext cx="214560" cy="228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159" name=""/>
                  <p:cNvGrpSpPr/>
                  <p:nvPr/>
                </p:nvGrpSpPr>
                <p:grpSpPr>
                  <a:xfrm>
                    <a:off x="1843200" y="3143160"/>
                    <a:ext cx="1285920" cy="228600"/>
                    <a:chOff x="1843200" y="3143160"/>
                    <a:chExt cx="1285920" cy="228600"/>
                  </a:xfrm>
                </p:grpSpPr>
                <p:grpSp>
                  <p:nvGrpSpPr>
                    <p:cNvPr id="3160" name=""/>
                    <p:cNvGrpSpPr/>
                    <p:nvPr/>
                  </p:nvGrpSpPr>
                  <p:grpSpPr>
                    <a:xfrm>
                      <a:off x="1843200" y="3143160"/>
                      <a:ext cx="642960" cy="228600"/>
                      <a:chOff x="1843200" y="3143160"/>
                      <a:chExt cx="642960" cy="228600"/>
                    </a:xfrm>
                  </p:grpSpPr>
                  <p:sp>
                    <p:nvSpPr>
                      <p:cNvPr id="3161" name=""/>
                      <p:cNvSpPr/>
                      <p:nvPr/>
                    </p:nvSpPr>
                    <p:spPr>
                      <a:xfrm>
                        <a:off x="1843200" y="3143160"/>
                        <a:ext cx="214200" cy="228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62" name=""/>
                      <p:cNvSpPr/>
                      <p:nvPr/>
                    </p:nvSpPr>
                    <p:spPr>
                      <a:xfrm>
                        <a:off x="2057400" y="3143160"/>
                        <a:ext cx="214200" cy="228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63" name=""/>
                      <p:cNvSpPr/>
                      <p:nvPr/>
                    </p:nvSpPr>
                    <p:spPr>
                      <a:xfrm>
                        <a:off x="2271600" y="3143160"/>
                        <a:ext cx="214560" cy="228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164" name=""/>
                    <p:cNvGrpSpPr/>
                    <p:nvPr/>
                  </p:nvGrpSpPr>
                  <p:grpSpPr>
                    <a:xfrm>
                      <a:off x="2486160" y="3143160"/>
                      <a:ext cx="642960" cy="228600"/>
                      <a:chOff x="2486160" y="3143160"/>
                      <a:chExt cx="642960" cy="228600"/>
                    </a:xfrm>
                  </p:grpSpPr>
                  <p:sp>
                    <p:nvSpPr>
                      <p:cNvPr id="3165" name=""/>
                      <p:cNvSpPr/>
                      <p:nvPr/>
                    </p:nvSpPr>
                    <p:spPr>
                      <a:xfrm>
                        <a:off x="2486160" y="3143160"/>
                        <a:ext cx="214200" cy="228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66" name=""/>
                      <p:cNvSpPr/>
                      <p:nvPr/>
                    </p:nvSpPr>
                    <p:spPr>
                      <a:xfrm>
                        <a:off x="2700360" y="3143160"/>
                        <a:ext cx="214200" cy="228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67" name=""/>
                      <p:cNvSpPr/>
                      <p:nvPr/>
                    </p:nvSpPr>
                    <p:spPr>
                      <a:xfrm>
                        <a:off x="2914560" y="3143160"/>
                        <a:ext cx="214560" cy="228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3168" name=""/>
                <p:cNvGrpSpPr/>
                <p:nvPr/>
              </p:nvGrpSpPr>
              <p:grpSpPr>
                <a:xfrm>
                  <a:off x="1843200" y="3371760"/>
                  <a:ext cx="1285920" cy="457200"/>
                  <a:chOff x="1843200" y="3371760"/>
                  <a:chExt cx="1285920" cy="457200"/>
                </a:xfrm>
              </p:grpSpPr>
              <p:grpSp>
                <p:nvGrpSpPr>
                  <p:cNvPr id="3169" name=""/>
                  <p:cNvGrpSpPr/>
                  <p:nvPr/>
                </p:nvGrpSpPr>
                <p:grpSpPr>
                  <a:xfrm>
                    <a:off x="1843200" y="3371760"/>
                    <a:ext cx="1285920" cy="228600"/>
                    <a:chOff x="1843200" y="3371760"/>
                    <a:chExt cx="1285920" cy="228600"/>
                  </a:xfrm>
                </p:grpSpPr>
                <p:grpSp>
                  <p:nvGrpSpPr>
                    <p:cNvPr id="3170" name=""/>
                    <p:cNvGrpSpPr/>
                    <p:nvPr/>
                  </p:nvGrpSpPr>
                  <p:grpSpPr>
                    <a:xfrm>
                      <a:off x="1843200" y="3371760"/>
                      <a:ext cx="642960" cy="228600"/>
                      <a:chOff x="1843200" y="3371760"/>
                      <a:chExt cx="642960" cy="228600"/>
                    </a:xfrm>
                  </p:grpSpPr>
                  <p:sp>
                    <p:nvSpPr>
                      <p:cNvPr id="3171" name=""/>
                      <p:cNvSpPr/>
                      <p:nvPr/>
                    </p:nvSpPr>
                    <p:spPr>
                      <a:xfrm>
                        <a:off x="1843200" y="3371760"/>
                        <a:ext cx="214200" cy="228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72" name=""/>
                      <p:cNvSpPr/>
                      <p:nvPr/>
                    </p:nvSpPr>
                    <p:spPr>
                      <a:xfrm>
                        <a:off x="2057400" y="3371760"/>
                        <a:ext cx="214200" cy="228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73" name=""/>
                      <p:cNvSpPr/>
                      <p:nvPr/>
                    </p:nvSpPr>
                    <p:spPr>
                      <a:xfrm>
                        <a:off x="2271600" y="3371760"/>
                        <a:ext cx="214560" cy="228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174" name=""/>
                    <p:cNvGrpSpPr/>
                    <p:nvPr/>
                  </p:nvGrpSpPr>
                  <p:grpSpPr>
                    <a:xfrm>
                      <a:off x="2486160" y="3371760"/>
                      <a:ext cx="642960" cy="228600"/>
                      <a:chOff x="2486160" y="3371760"/>
                      <a:chExt cx="642960" cy="228600"/>
                    </a:xfrm>
                  </p:grpSpPr>
                  <p:sp>
                    <p:nvSpPr>
                      <p:cNvPr id="3175" name=""/>
                      <p:cNvSpPr/>
                      <p:nvPr/>
                    </p:nvSpPr>
                    <p:spPr>
                      <a:xfrm>
                        <a:off x="2486160" y="3371760"/>
                        <a:ext cx="214200" cy="228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76" name=""/>
                      <p:cNvSpPr/>
                      <p:nvPr/>
                    </p:nvSpPr>
                    <p:spPr>
                      <a:xfrm>
                        <a:off x="2700360" y="3371760"/>
                        <a:ext cx="214200" cy="228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77" name=""/>
                      <p:cNvSpPr/>
                      <p:nvPr/>
                    </p:nvSpPr>
                    <p:spPr>
                      <a:xfrm>
                        <a:off x="2914560" y="3371760"/>
                        <a:ext cx="214560" cy="228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178" name=""/>
                  <p:cNvGrpSpPr/>
                  <p:nvPr/>
                </p:nvGrpSpPr>
                <p:grpSpPr>
                  <a:xfrm>
                    <a:off x="1843200" y="3600360"/>
                    <a:ext cx="1285920" cy="228600"/>
                    <a:chOff x="1843200" y="3600360"/>
                    <a:chExt cx="1285920" cy="228600"/>
                  </a:xfrm>
                </p:grpSpPr>
                <p:grpSp>
                  <p:nvGrpSpPr>
                    <p:cNvPr id="3179" name=""/>
                    <p:cNvGrpSpPr/>
                    <p:nvPr/>
                  </p:nvGrpSpPr>
                  <p:grpSpPr>
                    <a:xfrm>
                      <a:off x="1843200" y="3600360"/>
                      <a:ext cx="642960" cy="228600"/>
                      <a:chOff x="1843200" y="3600360"/>
                      <a:chExt cx="642960" cy="228600"/>
                    </a:xfrm>
                  </p:grpSpPr>
                  <p:sp>
                    <p:nvSpPr>
                      <p:cNvPr id="3180" name=""/>
                      <p:cNvSpPr/>
                      <p:nvPr/>
                    </p:nvSpPr>
                    <p:spPr>
                      <a:xfrm>
                        <a:off x="1843200" y="3600360"/>
                        <a:ext cx="214200" cy="228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81" name=""/>
                      <p:cNvSpPr/>
                      <p:nvPr/>
                    </p:nvSpPr>
                    <p:spPr>
                      <a:xfrm>
                        <a:off x="2057400" y="3600360"/>
                        <a:ext cx="214200" cy="228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82" name=""/>
                      <p:cNvSpPr/>
                      <p:nvPr/>
                    </p:nvSpPr>
                    <p:spPr>
                      <a:xfrm>
                        <a:off x="2271600" y="3600360"/>
                        <a:ext cx="214560" cy="228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183" name=""/>
                    <p:cNvGrpSpPr/>
                    <p:nvPr/>
                  </p:nvGrpSpPr>
                  <p:grpSpPr>
                    <a:xfrm>
                      <a:off x="2486160" y="3600360"/>
                      <a:ext cx="642960" cy="228600"/>
                      <a:chOff x="2486160" y="3600360"/>
                      <a:chExt cx="642960" cy="228600"/>
                    </a:xfrm>
                  </p:grpSpPr>
                  <p:sp>
                    <p:nvSpPr>
                      <p:cNvPr id="3184" name=""/>
                      <p:cNvSpPr/>
                      <p:nvPr/>
                    </p:nvSpPr>
                    <p:spPr>
                      <a:xfrm>
                        <a:off x="2486160" y="3600360"/>
                        <a:ext cx="214200" cy="228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85" name=""/>
                      <p:cNvSpPr/>
                      <p:nvPr/>
                    </p:nvSpPr>
                    <p:spPr>
                      <a:xfrm>
                        <a:off x="2700360" y="3600360"/>
                        <a:ext cx="214200" cy="228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86" name=""/>
                      <p:cNvSpPr/>
                      <p:nvPr/>
                    </p:nvSpPr>
                    <p:spPr>
                      <a:xfrm>
                        <a:off x="2914560" y="3600360"/>
                        <a:ext cx="214560" cy="228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  <p:grpSp>
          <p:nvGrpSpPr>
            <p:cNvPr id="3187" name=""/>
            <p:cNvGrpSpPr/>
            <p:nvPr/>
          </p:nvGrpSpPr>
          <p:grpSpPr>
            <a:xfrm>
              <a:off x="4029120" y="2043000"/>
              <a:ext cx="185760" cy="1785960"/>
              <a:chOff x="4029120" y="2043000"/>
              <a:chExt cx="185760" cy="1785960"/>
            </a:xfrm>
          </p:grpSpPr>
          <p:sp>
            <p:nvSpPr>
              <p:cNvPr id="3188" name=""/>
              <p:cNvSpPr/>
              <p:nvPr/>
            </p:nvSpPr>
            <p:spPr>
              <a:xfrm>
                <a:off x="4029120" y="2286000"/>
                <a:ext cx="171360" cy="156960"/>
              </a:xfrm>
              <a:prstGeom prst="ellipse">
                <a:avLst/>
              </a:prstGeom>
              <a:solidFill>
                <a:srgbClr val="ffcc66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4043520" y="2043000"/>
                <a:ext cx="171360" cy="157320"/>
              </a:xfrm>
              <a:prstGeom prst="ellipse">
                <a:avLst/>
              </a:prstGeom>
              <a:solidFill>
                <a:srgbClr val="ffcc66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4029120" y="2528640"/>
                <a:ext cx="171360" cy="157320"/>
              </a:xfrm>
              <a:prstGeom prst="ellipse">
                <a:avLst/>
              </a:prstGeom>
              <a:solidFill>
                <a:srgbClr val="ffcc66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4043520" y="2771640"/>
                <a:ext cx="171360" cy="157320"/>
              </a:xfrm>
              <a:prstGeom prst="ellipse">
                <a:avLst/>
              </a:prstGeom>
              <a:solidFill>
                <a:srgbClr val="ffcc66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4043520" y="3000240"/>
                <a:ext cx="171360" cy="157320"/>
              </a:xfrm>
              <a:prstGeom prst="ellipse">
                <a:avLst/>
              </a:prstGeom>
              <a:solidFill>
                <a:srgbClr val="ffcc66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4043520" y="3228840"/>
                <a:ext cx="171360" cy="157320"/>
              </a:xfrm>
              <a:prstGeom prst="ellipse">
                <a:avLst/>
              </a:prstGeom>
              <a:solidFill>
                <a:srgbClr val="ffcc66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4043520" y="3443040"/>
                <a:ext cx="171360" cy="157320"/>
              </a:xfrm>
              <a:prstGeom prst="ellipse">
                <a:avLst/>
              </a:prstGeom>
              <a:solidFill>
                <a:srgbClr val="ffcc66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4043520" y="3671640"/>
                <a:ext cx="171360" cy="157320"/>
              </a:xfrm>
              <a:prstGeom prst="ellipse">
                <a:avLst/>
              </a:prstGeom>
              <a:solidFill>
                <a:srgbClr val="ffcc66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6" name=""/>
            <p:cNvSpPr/>
            <p:nvPr/>
          </p:nvSpPr>
          <p:spPr>
            <a:xfrm>
              <a:off x="3828960" y="4414680"/>
              <a:ext cx="442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97" name=""/>
            <p:cNvGrpSpPr/>
            <p:nvPr/>
          </p:nvGrpSpPr>
          <p:grpSpPr>
            <a:xfrm>
              <a:off x="4043520" y="4429080"/>
              <a:ext cx="1131840" cy="185760"/>
              <a:chOff x="4043520" y="4429080"/>
              <a:chExt cx="1131840" cy="185760"/>
            </a:xfrm>
          </p:grpSpPr>
          <p:sp>
            <p:nvSpPr>
              <p:cNvPr id="3198" name=""/>
              <p:cNvSpPr/>
              <p:nvPr/>
            </p:nvSpPr>
            <p:spPr>
              <a:xfrm>
                <a:off x="4043520" y="4429080"/>
                <a:ext cx="88920" cy="1857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4257720" y="4429080"/>
                <a:ext cx="88920" cy="1857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4471920" y="4429080"/>
                <a:ext cx="88920" cy="1857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4686480" y="4429080"/>
                <a:ext cx="88560" cy="1857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4886280" y="4429080"/>
                <a:ext cx="88920" cy="1857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5086440" y="4429080"/>
                <a:ext cx="88920" cy="1857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4" name=""/>
            <p:cNvGrpSpPr/>
            <p:nvPr/>
          </p:nvGrpSpPr>
          <p:grpSpPr>
            <a:xfrm>
              <a:off x="5300640" y="4429080"/>
              <a:ext cx="1131840" cy="185760"/>
              <a:chOff x="5300640" y="4429080"/>
              <a:chExt cx="1131840" cy="185760"/>
            </a:xfrm>
          </p:grpSpPr>
          <p:sp>
            <p:nvSpPr>
              <p:cNvPr id="3205" name=""/>
              <p:cNvSpPr/>
              <p:nvPr/>
            </p:nvSpPr>
            <p:spPr>
              <a:xfrm>
                <a:off x="5300640" y="4429080"/>
                <a:ext cx="88920" cy="1857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>
                <a:off x="5514840" y="4429080"/>
                <a:ext cx="88920" cy="1857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>
                <a:off x="5729040" y="4429080"/>
                <a:ext cx="88920" cy="1857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>
                <a:off x="5943600" y="4429080"/>
                <a:ext cx="88560" cy="1857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6143400" y="4429080"/>
                <a:ext cx="88920" cy="1857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6343560" y="4429080"/>
                <a:ext cx="88920" cy="1857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11" name=""/>
            <p:cNvGrpSpPr/>
            <p:nvPr/>
          </p:nvGrpSpPr>
          <p:grpSpPr>
            <a:xfrm>
              <a:off x="6543720" y="4414680"/>
              <a:ext cx="1131840" cy="185760"/>
              <a:chOff x="6543720" y="4414680"/>
              <a:chExt cx="1131840" cy="185760"/>
            </a:xfrm>
          </p:grpSpPr>
          <p:sp>
            <p:nvSpPr>
              <p:cNvPr id="3212" name=""/>
              <p:cNvSpPr/>
              <p:nvPr/>
            </p:nvSpPr>
            <p:spPr>
              <a:xfrm>
                <a:off x="6543720" y="4414680"/>
                <a:ext cx="88920" cy="1857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>
                <a:off x="6757920" y="4414680"/>
                <a:ext cx="88920" cy="1857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>
                <a:off x="6972120" y="4414680"/>
                <a:ext cx="88920" cy="1857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7186680" y="4414680"/>
                <a:ext cx="88560" cy="1857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>
                <a:off x="7386480" y="4414680"/>
                <a:ext cx="88920" cy="1857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7" name=""/>
              <p:cNvSpPr/>
              <p:nvPr/>
            </p:nvSpPr>
            <p:spPr>
              <a:xfrm>
                <a:off x="7586640" y="4414680"/>
                <a:ext cx="88920" cy="1857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8" name=""/>
            <p:cNvSpPr/>
            <p:nvPr/>
          </p:nvSpPr>
          <p:spPr>
            <a:xfrm>
              <a:off x="5557680" y="4743360"/>
              <a:ext cx="0" cy="9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5486400" y="4700520"/>
              <a:ext cx="171360" cy="157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4400640" y="2100240"/>
              <a:ext cx="7570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4400640" y="2371680"/>
              <a:ext cx="7570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4414680" y="2600280"/>
              <a:ext cx="7574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4400640" y="2843280"/>
              <a:ext cx="7570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4414680" y="3071880"/>
              <a:ext cx="7574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4386240" y="3300480"/>
              <a:ext cx="7574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4386240" y="3514680"/>
              <a:ext cx="7574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4400640" y="3757680"/>
              <a:ext cx="7570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8" name=""/>
          <p:cNvGrpSpPr/>
          <p:nvPr/>
        </p:nvGrpSpPr>
        <p:grpSpPr>
          <a:xfrm>
            <a:off x="6796080" y="5686560"/>
            <a:ext cx="1805040" cy="585720"/>
            <a:chOff x="6796080" y="5686560"/>
            <a:chExt cx="1805040" cy="585720"/>
          </a:xfrm>
        </p:grpSpPr>
        <p:sp>
          <p:nvSpPr>
            <p:cNvPr id="3229" name="">
              <a:hlinkClick r:id="" action="ppaction://hlinkshowjump?jump=previousslide"/>
            </p:cNvPr>
            <p:cNvSpPr/>
            <p:nvPr/>
          </p:nvSpPr>
          <p:spPr>
            <a:xfrm>
              <a:off x="6796080" y="5686560"/>
              <a:ext cx="565200" cy="585720"/>
            </a:xfrm>
            <a:custGeom>
              <a:avLst/>
              <a:gdLst>
                <a:gd name="textAreaLeft" fmla="*/ 36360 w 565200"/>
                <a:gd name="textAreaRight" fmla="*/ 528840 w 565200"/>
                <a:gd name="textAreaTop" fmla="*/ 36360 h 585720"/>
                <a:gd name="textAreaBottom" fmla="*/ 549360 h 585720"/>
              </a:gdLst>
              <a:ahLst/>
              <a:rect l="textAreaLeft" t="textAreaTop" r="textAreaRight" b="textAreaBottom"/>
              <a:pathLst>
                <a:path w="21600" h="22384">
                  <a:moveTo>
                    <a:pt x="0" y="0"/>
                  </a:moveTo>
                  <a:lnTo>
                    <a:pt x="21600" y="0"/>
                  </a:lnTo>
                  <a:lnTo>
                    <a:pt x="21600" y="22384"/>
                  </a:lnTo>
                  <a:lnTo>
                    <a:pt x="0" y="22384"/>
                  </a:lnTo>
                  <a:close/>
                </a:path>
                <a:path fill="lightenLess" w="21600" h="22384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2384">
                  <a:moveTo>
                    <a:pt x="21600" y="0"/>
                  </a:moveTo>
                  <a:lnTo>
                    <a:pt x="21600" y="22384"/>
                  </a:lnTo>
                  <a:lnTo>
                    <a:pt x="20200" y="20984"/>
                  </a:lnTo>
                  <a:lnTo>
                    <a:pt x="20200" y="1400"/>
                  </a:lnTo>
                  <a:close/>
                </a:path>
                <a:path fill="darkenLess" w="21600" h="22384">
                  <a:moveTo>
                    <a:pt x="21600" y="22384"/>
                  </a:moveTo>
                  <a:lnTo>
                    <a:pt x="0" y="22384"/>
                  </a:lnTo>
                  <a:lnTo>
                    <a:pt x="1400" y="20984"/>
                  </a:lnTo>
                  <a:lnTo>
                    <a:pt x="20200" y="20984"/>
                  </a:lnTo>
                  <a:close/>
                </a:path>
                <a:path fill="lighten" w="21600" h="22384">
                  <a:moveTo>
                    <a:pt x="0" y="22384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984"/>
                  </a:lnTo>
                  <a:close/>
                </a:path>
                <a:path fill="darken" w="21600" h="22384">
                  <a:moveTo>
                    <a:pt x="3794" y="11192"/>
                  </a:moveTo>
                  <a:lnTo>
                    <a:pt x="17806" y="4185"/>
                  </a:lnTo>
                  <a:lnTo>
                    <a:pt x="17806" y="18198"/>
                  </a:lnTo>
                  <a:close/>
                </a:path>
              </a:pathLst>
            </a:cu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0" name="">
              <a:hlinkClick r:id="" action="ppaction://hlinkshowjump?jump=nextslide"/>
            </p:cNvPr>
            <p:cNvSpPr/>
            <p:nvPr/>
          </p:nvSpPr>
          <p:spPr>
            <a:xfrm>
              <a:off x="7415280" y="5686560"/>
              <a:ext cx="566640" cy="585720"/>
            </a:xfrm>
            <a:custGeom>
              <a:avLst/>
              <a:gdLst>
                <a:gd name="textAreaLeft" fmla="*/ 36720 w 566640"/>
                <a:gd name="textAreaRight" fmla="*/ 529920 w 566640"/>
                <a:gd name="textAreaTop" fmla="*/ 36720 h 585720"/>
                <a:gd name="textAreaBottom" fmla="*/ 549000 h 585720"/>
              </a:gdLst>
              <a:ahLst/>
              <a:rect l="textAreaLeft" t="textAreaTop" r="textAreaRight" b="textAreaBottom"/>
              <a:pathLst>
                <a:path w="21600" h="22327">
                  <a:moveTo>
                    <a:pt x="0" y="0"/>
                  </a:moveTo>
                  <a:lnTo>
                    <a:pt x="21600" y="0"/>
                  </a:lnTo>
                  <a:lnTo>
                    <a:pt x="21600" y="22327"/>
                  </a:lnTo>
                  <a:lnTo>
                    <a:pt x="0" y="22327"/>
                  </a:lnTo>
                  <a:close/>
                </a:path>
                <a:path fill="lightenLess" w="21600" h="22327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2327">
                  <a:moveTo>
                    <a:pt x="21600" y="0"/>
                  </a:moveTo>
                  <a:lnTo>
                    <a:pt x="21600" y="22327"/>
                  </a:lnTo>
                  <a:lnTo>
                    <a:pt x="20200" y="20927"/>
                  </a:lnTo>
                  <a:lnTo>
                    <a:pt x="20200" y="1400"/>
                  </a:lnTo>
                  <a:close/>
                </a:path>
                <a:path fill="darkenLess" w="21600" h="22327">
                  <a:moveTo>
                    <a:pt x="21600" y="22327"/>
                  </a:moveTo>
                  <a:lnTo>
                    <a:pt x="0" y="22327"/>
                  </a:lnTo>
                  <a:lnTo>
                    <a:pt x="1400" y="20927"/>
                  </a:lnTo>
                  <a:lnTo>
                    <a:pt x="20200" y="20927"/>
                  </a:lnTo>
                  <a:close/>
                </a:path>
                <a:path fill="lighten" w="21600" h="22327">
                  <a:moveTo>
                    <a:pt x="0" y="22327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927"/>
                  </a:lnTo>
                  <a:close/>
                </a:path>
                <a:path fill="darken" w="21600" h="22327">
                  <a:moveTo>
                    <a:pt x="3794" y="4157"/>
                  </a:moveTo>
                  <a:lnTo>
                    <a:pt x="17806" y="11163"/>
                  </a:lnTo>
                  <a:lnTo>
                    <a:pt x="3794" y="18170"/>
                  </a:lnTo>
                  <a:close/>
                </a:path>
              </a:pathLst>
            </a:cu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1" name="">
              <a:hlinkClick r:id="" action="ppaction://hlinkshowjump?jump=firstslide"/>
            </p:cNvPr>
            <p:cNvSpPr/>
            <p:nvPr/>
          </p:nvSpPr>
          <p:spPr>
            <a:xfrm>
              <a:off x="8035920" y="5686560"/>
              <a:ext cx="565200" cy="585720"/>
            </a:xfrm>
            <a:custGeom>
              <a:avLst/>
              <a:gdLst>
                <a:gd name="textAreaLeft" fmla="*/ 36360 w 565200"/>
                <a:gd name="textAreaRight" fmla="*/ 528840 w 565200"/>
                <a:gd name="textAreaTop" fmla="*/ 36360 h 585720"/>
                <a:gd name="textAreaBottom" fmla="*/ 549360 h 585720"/>
              </a:gdLst>
              <a:ahLst/>
              <a:rect l="textAreaLeft" t="textAreaTop" r="textAreaRight" b="textAreaBottom"/>
              <a:pathLst>
                <a:path w="21600" h="22384">
                  <a:moveTo>
                    <a:pt x="0" y="0"/>
                  </a:moveTo>
                  <a:lnTo>
                    <a:pt x="21600" y="0"/>
                  </a:lnTo>
                  <a:lnTo>
                    <a:pt x="21600" y="22384"/>
                  </a:lnTo>
                  <a:lnTo>
                    <a:pt x="0" y="22384"/>
                  </a:lnTo>
                  <a:close/>
                </a:path>
                <a:path fill="lightenLess" w="21600" h="22384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2384">
                  <a:moveTo>
                    <a:pt x="21600" y="0"/>
                  </a:moveTo>
                  <a:lnTo>
                    <a:pt x="21600" y="22384"/>
                  </a:lnTo>
                  <a:lnTo>
                    <a:pt x="20200" y="20984"/>
                  </a:lnTo>
                  <a:lnTo>
                    <a:pt x="20200" y="1400"/>
                  </a:lnTo>
                  <a:close/>
                </a:path>
                <a:path fill="darkenLess" w="21600" h="22384">
                  <a:moveTo>
                    <a:pt x="21600" y="22384"/>
                  </a:moveTo>
                  <a:lnTo>
                    <a:pt x="0" y="22384"/>
                  </a:lnTo>
                  <a:lnTo>
                    <a:pt x="1400" y="20984"/>
                  </a:lnTo>
                  <a:lnTo>
                    <a:pt x="20200" y="20984"/>
                  </a:lnTo>
                  <a:close/>
                </a:path>
                <a:path fill="lighten" w="21600" h="22384">
                  <a:moveTo>
                    <a:pt x="0" y="22384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984"/>
                  </a:lnTo>
                  <a:close/>
                </a:path>
                <a:path fill="darken" w="21600" h="22384">
                  <a:moveTo>
                    <a:pt x="7301" y="11192"/>
                  </a:moveTo>
                  <a:lnTo>
                    <a:pt x="17806" y="4185"/>
                  </a:lnTo>
                  <a:lnTo>
                    <a:pt x="17806" y="18198"/>
                  </a:lnTo>
                  <a:close/>
                </a:path>
                <a:path fill="darken" w="21600" h="22384">
                  <a:moveTo>
                    <a:pt x="3794" y="4185"/>
                  </a:moveTo>
                  <a:lnTo>
                    <a:pt x="5456" y="4185"/>
                  </a:lnTo>
                  <a:lnTo>
                    <a:pt x="5456" y="18198"/>
                  </a:lnTo>
                  <a:lnTo>
                    <a:pt x="3794" y="18198"/>
                  </a:lnTo>
                  <a:close/>
                </a:path>
              </a:pathLst>
            </a:cu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23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Z</a:t>
            </a:r>
            <a:r>
              <a:rPr b="1" lang="sk-SK" sz="4400" spc="-1" strike="noStrike">
                <a:solidFill>
                  <a:srgbClr val="221304"/>
                </a:solidFill>
                <a:latin typeface="Times New Roman"/>
              </a:rPr>
              <a:t>adanie </a:t>
            </a: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2</a:t>
            </a:r>
            <a:r>
              <a:rPr b="1" lang="sk-SK" sz="4400" spc="-1" strike="noStrike">
                <a:solidFill>
                  <a:srgbClr val="221304"/>
                </a:solidFill>
                <a:latin typeface="Times New Roman"/>
              </a:rPr>
              <a:t>6</a:t>
            </a:r>
            <a:r>
              <a:rPr b="0" i="1" lang="sk-SK" sz="4400" spc="-1" strike="noStrike">
                <a:solidFill>
                  <a:srgbClr val="221304"/>
                </a:solidFill>
                <a:latin typeface="Times New Roman"/>
              </a:rPr>
              <a:t>:</a:t>
            </a:r>
            <a:r>
              <a:rPr b="1" i="1" lang="en-US" sz="4400" spc="-1" strike="noStrike">
                <a:solidFill>
                  <a:srgbClr val="221304"/>
                </a:solidFill>
                <a:latin typeface="Times New Roman"/>
              </a:rPr>
              <a:t>Mie</a:t>
            </a:r>
            <a:r>
              <a:rPr b="1" i="1" lang="sk-SK" sz="4400" spc="-1" strike="noStrike">
                <a:solidFill>
                  <a:srgbClr val="221304"/>
                </a:solidFill>
                <a:latin typeface="Times New Roman"/>
              </a:rPr>
              <a:t>šací tank 2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235" name=""/>
          <p:cNvSpPr/>
          <p:nvPr/>
        </p:nvSpPr>
        <p:spPr>
          <a:xfrm>
            <a:off x="6375240" y="4592520"/>
            <a:ext cx="0" cy="225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6" name=""/>
          <p:cNvSpPr/>
          <p:nvPr/>
        </p:nvSpPr>
        <p:spPr>
          <a:xfrm>
            <a:off x="5884920" y="3948120"/>
            <a:ext cx="20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7" name=""/>
          <p:cNvSpPr/>
          <p:nvPr/>
        </p:nvSpPr>
        <p:spPr>
          <a:xfrm flipV="1">
            <a:off x="6205680" y="4317840"/>
            <a:ext cx="142560" cy="90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8" name=""/>
          <p:cNvSpPr/>
          <p:nvPr/>
        </p:nvSpPr>
        <p:spPr>
          <a:xfrm flipH="1" flipV="1">
            <a:off x="2910960" y="2532240"/>
            <a:ext cx="166680" cy="13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9" name=""/>
          <p:cNvSpPr/>
          <p:nvPr/>
        </p:nvSpPr>
        <p:spPr>
          <a:xfrm>
            <a:off x="3341520" y="3498840"/>
            <a:ext cx="7128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A 5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0" name=""/>
          <p:cNvSpPr/>
          <p:nvPr/>
        </p:nvSpPr>
        <p:spPr>
          <a:xfrm>
            <a:off x="6402240" y="5929200"/>
            <a:ext cx="0" cy="225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1" name=""/>
          <p:cNvSpPr/>
          <p:nvPr/>
        </p:nvSpPr>
        <p:spPr>
          <a:xfrm>
            <a:off x="5703840" y="1689120"/>
            <a:ext cx="2314800" cy="3354480"/>
          </a:xfrm>
          <a:prstGeom prst="rect">
            <a:avLst/>
          </a:prstGeom>
          <a:solidFill>
            <a:srgbClr val="ffff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2" name=""/>
          <p:cNvSpPr/>
          <p:nvPr/>
        </p:nvSpPr>
        <p:spPr>
          <a:xfrm>
            <a:off x="5751360" y="5060880"/>
            <a:ext cx="2243160" cy="1311480"/>
          </a:xfrm>
          <a:prstGeom prst="rect">
            <a:avLst/>
          </a:prstGeom>
          <a:solidFill>
            <a:srgbClr val="ffff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3" name=""/>
          <p:cNvSpPr/>
          <p:nvPr/>
        </p:nvSpPr>
        <p:spPr>
          <a:xfrm>
            <a:off x="1320840" y="3390840"/>
            <a:ext cx="4325760" cy="1652760"/>
          </a:xfrm>
          <a:prstGeom prst="rect">
            <a:avLst/>
          </a:prstGeom>
          <a:solidFill>
            <a:srgbClr val="ffff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4" name=""/>
          <p:cNvSpPr/>
          <p:nvPr/>
        </p:nvSpPr>
        <p:spPr>
          <a:xfrm>
            <a:off x="1298520" y="1671480"/>
            <a:ext cx="4349880" cy="1654200"/>
          </a:xfrm>
          <a:prstGeom prst="rect">
            <a:avLst/>
          </a:prstGeom>
          <a:solidFill>
            <a:srgbClr val="ffff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5" name=""/>
          <p:cNvSpPr/>
          <p:nvPr/>
        </p:nvSpPr>
        <p:spPr>
          <a:xfrm>
            <a:off x="5962680" y="3016080"/>
            <a:ext cx="1166760" cy="157032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6" name=""/>
          <p:cNvGrpSpPr/>
          <p:nvPr/>
        </p:nvGrpSpPr>
        <p:grpSpPr>
          <a:xfrm>
            <a:off x="2215800" y="1901880"/>
            <a:ext cx="401760" cy="722160"/>
            <a:chOff x="2215800" y="1901880"/>
            <a:chExt cx="401760" cy="722160"/>
          </a:xfrm>
        </p:grpSpPr>
        <p:sp>
          <p:nvSpPr>
            <p:cNvPr id="3247" name=""/>
            <p:cNvSpPr/>
            <p:nvPr/>
          </p:nvSpPr>
          <p:spPr>
            <a:xfrm rot="16200000">
              <a:off x="2415600" y="2421360"/>
              <a:ext cx="203040" cy="200880"/>
            </a:xfrm>
            <a:prstGeom prst="flowChartExtra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8" name=""/>
            <p:cNvSpPr/>
            <p:nvPr/>
          </p:nvSpPr>
          <p:spPr>
            <a:xfrm rot="5400000">
              <a:off x="2214720" y="2421720"/>
              <a:ext cx="203040" cy="201240"/>
            </a:xfrm>
            <a:prstGeom prst="flowChartExtra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2277720" y="1901880"/>
              <a:ext cx="226080" cy="383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0" name=""/>
            <p:cNvSpPr/>
            <p:nvPr/>
          </p:nvSpPr>
          <p:spPr>
            <a:xfrm flipV="1">
              <a:off x="2454840" y="2284560"/>
              <a:ext cx="0" cy="200520"/>
            </a:xfrm>
            <a:prstGeom prst="line">
              <a:avLst/>
            </a:prstGeom>
            <a:ln w="19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1" name=""/>
          <p:cNvGrpSpPr/>
          <p:nvPr/>
        </p:nvGrpSpPr>
        <p:grpSpPr>
          <a:xfrm>
            <a:off x="6408720" y="5526000"/>
            <a:ext cx="757080" cy="373320"/>
            <a:chOff x="6408720" y="5526000"/>
            <a:chExt cx="757080" cy="373320"/>
          </a:xfrm>
        </p:grpSpPr>
        <p:sp>
          <p:nvSpPr>
            <p:cNvPr id="3252" name=""/>
            <p:cNvSpPr/>
            <p:nvPr/>
          </p:nvSpPr>
          <p:spPr>
            <a:xfrm>
              <a:off x="6408720" y="5718240"/>
              <a:ext cx="203040" cy="181080"/>
            </a:xfrm>
            <a:prstGeom prst="flowChartExtra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3" name=""/>
            <p:cNvSpPr/>
            <p:nvPr/>
          </p:nvSpPr>
          <p:spPr>
            <a:xfrm rot="10800000">
              <a:off x="6419520" y="5526000"/>
              <a:ext cx="203040" cy="180720"/>
            </a:xfrm>
            <a:prstGeom prst="flowChartExtra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4" name=""/>
            <p:cNvSpPr/>
            <p:nvPr/>
          </p:nvSpPr>
          <p:spPr>
            <a:xfrm rot="5400000">
              <a:off x="6872040" y="5514840"/>
              <a:ext cx="203760" cy="38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6567120" y="5706720"/>
              <a:ext cx="214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6" name=""/>
          <p:cNvGrpSpPr/>
          <p:nvPr/>
        </p:nvGrpSpPr>
        <p:grpSpPr>
          <a:xfrm>
            <a:off x="4960800" y="2298240"/>
            <a:ext cx="389160" cy="414360"/>
            <a:chOff x="4960800" y="2298240"/>
            <a:chExt cx="389160" cy="414360"/>
          </a:xfrm>
        </p:grpSpPr>
        <p:sp>
          <p:nvSpPr>
            <p:cNvPr id="3257" name=""/>
            <p:cNvSpPr/>
            <p:nvPr/>
          </p:nvSpPr>
          <p:spPr>
            <a:xfrm>
              <a:off x="4960800" y="2319480"/>
              <a:ext cx="389160" cy="349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58" name=""/>
            <p:cNvGrpSpPr/>
            <p:nvPr/>
          </p:nvGrpSpPr>
          <p:grpSpPr>
            <a:xfrm>
              <a:off x="4997520" y="2533680"/>
              <a:ext cx="313200" cy="178920"/>
              <a:chOff x="4997520" y="2533680"/>
              <a:chExt cx="313200" cy="178920"/>
            </a:xfrm>
          </p:grpSpPr>
          <p:sp>
            <p:nvSpPr>
              <p:cNvPr id="3259" name=""/>
              <p:cNvSpPr/>
              <p:nvPr/>
            </p:nvSpPr>
            <p:spPr>
              <a:xfrm>
                <a:off x="5010480" y="2533680"/>
                <a:ext cx="300240" cy="178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 flipH="1">
                <a:off x="4997520" y="2534400"/>
                <a:ext cx="300240" cy="178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1" name=""/>
            <p:cNvGrpSpPr/>
            <p:nvPr/>
          </p:nvGrpSpPr>
          <p:grpSpPr>
            <a:xfrm>
              <a:off x="4997520" y="2298240"/>
              <a:ext cx="313200" cy="178920"/>
              <a:chOff x="4997520" y="2298240"/>
              <a:chExt cx="313200" cy="178920"/>
            </a:xfrm>
          </p:grpSpPr>
          <p:sp>
            <p:nvSpPr>
              <p:cNvPr id="3262" name=""/>
              <p:cNvSpPr/>
              <p:nvPr/>
            </p:nvSpPr>
            <p:spPr>
              <a:xfrm flipV="1">
                <a:off x="5010480" y="2298600"/>
                <a:ext cx="300240" cy="178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 flipH="1" flipV="1">
                <a:off x="4997520" y="2297880"/>
                <a:ext cx="300240" cy="178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64" name=""/>
          <p:cNvSpPr/>
          <p:nvPr/>
        </p:nvSpPr>
        <p:spPr>
          <a:xfrm flipH="1">
            <a:off x="1827360" y="2522520"/>
            <a:ext cx="365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5" name=""/>
          <p:cNvSpPr/>
          <p:nvPr/>
        </p:nvSpPr>
        <p:spPr>
          <a:xfrm flipH="1">
            <a:off x="2655720" y="2522520"/>
            <a:ext cx="438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6" name=""/>
          <p:cNvSpPr/>
          <p:nvPr/>
        </p:nvSpPr>
        <p:spPr>
          <a:xfrm flipH="1">
            <a:off x="3583080" y="2511360"/>
            <a:ext cx="474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7" name=""/>
          <p:cNvSpPr/>
          <p:nvPr/>
        </p:nvSpPr>
        <p:spPr>
          <a:xfrm flipH="1">
            <a:off x="4486320" y="2511360"/>
            <a:ext cx="474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8" name=""/>
          <p:cNvSpPr/>
          <p:nvPr/>
        </p:nvSpPr>
        <p:spPr>
          <a:xfrm flipH="1">
            <a:off x="5349960" y="2492280"/>
            <a:ext cx="11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9" name=""/>
          <p:cNvSpPr/>
          <p:nvPr/>
        </p:nvSpPr>
        <p:spPr>
          <a:xfrm>
            <a:off x="6465960" y="2487600"/>
            <a:ext cx="0" cy="84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0" name=""/>
          <p:cNvSpPr/>
          <p:nvPr/>
        </p:nvSpPr>
        <p:spPr>
          <a:xfrm flipH="1">
            <a:off x="1827360" y="4430880"/>
            <a:ext cx="426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1" name=""/>
          <p:cNvSpPr/>
          <p:nvPr/>
        </p:nvSpPr>
        <p:spPr>
          <a:xfrm flipH="1">
            <a:off x="2679480" y="4430880"/>
            <a:ext cx="477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2" name=""/>
          <p:cNvSpPr/>
          <p:nvPr/>
        </p:nvSpPr>
        <p:spPr>
          <a:xfrm flipH="1">
            <a:off x="3595320" y="4419720"/>
            <a:ext cx="474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3" name=""/>
          <p:cNvSpPr/>
          <p:nvPr/>
        </p:nvSpPr>
        <p:spPr>
          <a:xfrm flipH="1">
            <a:off x="4486320" y="4408560"/>
            <a:ext cx="474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4" name=""/>
          <p:cNvSpPr/>
          <p:nvPr/>
        </p:nvSpPr>
        <p:spPr>
          <a:xfrm flipH="1">
            <a:off x="5362200" y="4408560"/>
            <a:ext cx="474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5" name=""/>
          <p:cNvSpPr/>
          <p:nvPr/>
        </p:nvSpPr>
        <p:spPr>
          <a:xfrm>
            <a:off x="5861160" y="2855880"/>
            <a:ext cx="0" cy="1568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6" name=""/>
          <p:cNvSpPr/>
          <p:nvPr/>
        </p:nvSpPr>
        <p:spPr>
          <a:xfrm>
            <a:off x="6127920" y="2849400"/>
            <a:ext cx="0" cy="484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7" name=""/>
          <p:cNvSpPr/>
          <p:nvPr/>
        </p:nvSpPr>
        <p:spPr>
          <a:xfrm>
            <a:off x="5859360" y="2867040"/>
            <a:ext cx="298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8" name=""/>
          <p:cNvSpPr/>
          <p:nvPr/>
        </p:nvSpPr>
        <p:spPr>
          <a:xfrm>
            <a:off x="7015320" y="5829480"/>
            <a:ext cx="0" cy="599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9" name=""/>
          <p:cNvSpPr/>
          <p:nvPr/>
        </p:nvSpPr>
        <p:spPr>
          <a:xfrm flipH="1">
            <a:off x="1973160" y="4011480"/>
            <a:ext cx="34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0" name=""/>
          <p:cNvSpPr/>
          <p:nvPr/>
        </p:nvSpPr>
        <p:spPr>
          <a:xfrm flipH="1">
            <a:off x="3970080" y="3956040"/>
            <a:ext cx="1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1" name=""/>
          <p:cNvSpPr/>
          <p:nvPr/>
        </p:nvSpPr>
        <p:spPr>
          <a:xfrm>
            <a:off x="1996920" y="4011480"/>
            <a:ext cx="0" cy="183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"/>
          <p:cNvSpPr/>
          <p:nvPr/>
        </p:nvSpPr>
        <p:spPr>
          <a:xfrm>
            <a:off x="3981600" y="3957480"/>
            <a:ext cx="0" cy="191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"/>
          <p:cNvSpPr/>
          <p:nvPr/>
        </p:nvSpPr>
        <p:spPr>
          <a:xfrm>
            <a:off x="5148360" y="4611600"/>
            <a:ext cx="0" cy="128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4" name=""/>
          <p:cNvSpPr/>
          <p:nvPr/>
        </p:nvSpPr>
        <p:spPr>
          <a:xfrm>
            <a:off x="3392640" y="4871880"/>
            <a:ext cx="0" cy="99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5" name=""/>
          <p:cNvSpPr/>
          <p:nvPr/>
        </p:nvSpPr>
        <p:spPr>
          <a:xfrm flipH="1">
            <a:off x="2553840" y="211608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6" name=""/>
          <p:cNvSpPr/>
          <p:nvPr/>
        </p:nvSpPr>
        <p:spPr>
          <a:xfrm flipH="1">
            <a:off x="4361040" y="2082960"/>
            <a:ext cx="25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"/>
          <p:cNvSpPr/>
          <p:nvPr/>
        </p:nvSpPr>
        <p:spPr>
          <a:xfrm>
            <a:off x="2900520" y="2116080"/>
            <a:ext cx="0" cy="3772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8" name=""/>
          <p:cNvSpPr/>
          <p:nvPr/>
        </p:nvSpPr>
        <p:spPr>
          <a:xfrm>
            <a:off x="4611600" y="2093760"/>
            <a:ext cx="0" cy="380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9" name=""/>
          <p:cNvSpPr/>
          <p:nvPr/>
        </p:nvSpPr>
        <p:spPr>
          <a:xfrm>
            <a:off x="3720960" y="2662200"/>
            <a:ext cx="0" cy="324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0" name=""/>
          <p:cNvSpPr/>
          <p:nvPr/>
        </p:nvSpPr>
        <p:spPr>
          <a:xfrm>
            <a:off x="4861080" y="2662200"/>
            <a:ext cx="0" cy="324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1" name=""/>
          <p:cNvSpPr/>
          <p:nvPr/>
        </p:nvSpPr>
        <p:spPr>
          <a:xfrm>
            <a:off x="6442200" y="1989000"/>
            <a:ext cx="404640" cy="347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2" name=""/>
          <p:cNvSpPr/>
          <p:nvPr/>
        </p:nvSpPr>
        <p:spPr>
          <a:xfrm>
            <a:off x="6667560" y="2355840"/>
            <a:ext cx="0" cy="160344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3" name=""/>
          <p:cNvSpPr/>
          <p:nvPr/>
        </p:nvSpPr>
        <p:spPr>
          <a:xfrm>
            <a:off x="6478560" y="3902040"/>
            <a:ext cx="380880" cy="258840"/>
          </a:xfrm>
          <a:custGeom>
            <a:avLst/>
            <a:gdLst>
              <a:gd name="textAreaLeft" fmla="*/ 0 w 380880"/>
              <a:gd name="textAreaRight" fmla="*/ 381240 w 380880"/>
              <a:gd name="textAreaTop" fmla="*/ 33480 h 258840"/>
              <a:gd name="textAreaBottom" fmla="*/ 225360 h 2588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4" name=""/>
          <p:cNvSpPr/>
          <p:nvPr/>
        </p:nvSpPr>
        <p:spPr>
          <a:xfrm>
            <a:off x="5778360" y="2157480"/>
            <a:ext cx="0" cy="377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5" name=""/>
          <p:cNvSpPr/>
          <p:nvPr/>
        </p:nvSpPr>
        <p:spPr>
          <a:xfrm flipH="1">
            <a:off x="5776560" y="2157480"/>
            <a:ext cx="67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6" name=""/>
          <p:cNvSpPr/>
          <p:nvPr/>
        </p:nvSpPr>
        <p:spPr>
          <a:xfrm>
            <a:off x="6027840" y="353376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7" name=""/>
          <p:cNvSpPr/>
          <p:nvPr/>
        </p:nvSpPr>
        <p:spPr>
          <a:xfrm>
            <a:off x="6253200" y="4363920"/>
            <a:ext cx="15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8" name=""/>
          <p:cNvSpPr/>
          <p:nvPr/>
        </p:nvSpPr>
        <p:spPr>
          <a:xfrm flipV="1">
            <a:off x="6095880" y="3935160"/>
            <a:ext cx="0" cy="2041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9" name=""/>
          <p:cNvSpPr/>
          <p:nvPr/>
        </p:nvSpPr>
        <p:spPr>
          <a:xfrm flipV="1">
            <a:off x="6037200" y="3521160"/>
            <a:ext cx="0" cy="240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0" name=""/>
          <p:cNvSpPr/>
          <p:nvPr/>
        </p:nvSpPr>
        <p:spPr>
          <a:xfrm flipV="1">
            <a:off x="6242040" y="4352760"/>
            <a:ext cx="0" cy="151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1" name=""/>
          <p:cNvSpPr/>
          <p:nvPr/>
        </p:nvSpPr>
        <p:spPr>
          <a:xfrm flipV="1">
            <a:off x="6242040" y="3486240"/>
            <a:ext cx="119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2" name=""/>
          <p:cNvSpPr/>
          <p:nvPr/>
        </p:nvSpPr>
        <p:spPr>
          <a:xfrm flipV="1">
            <a:off x="6286680" y="3922560"/>
            <a:ext cx="1206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3" name=""/>
          <p:cNvSpPr/>
          <p:nvPr/>
        </p:nvSpPr>
        <p:spPr>
          <a:xfrm flipH="1">
            <a:off x="4851360" y="2562120"/>
            <a:ext cx="117360" cy="11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4" name=""/>
          <p:cNvSpPr/>
          <p:nvPr/>
        </p:nvSpPr>
        <p:spPr>
          <a:xfrm>
            <a:off x="4400640" y="1789200"/>
            <a:ext cx="60624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A 4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5" name=""/>
          <p:cNvSpPr/>
          <p:nvPr/>
        </p:nvSpPr>
        <p:spPr>
          <a:xfrm>
            <a:off x="2589120" y="1779480"/>
            <a:ext cx="6066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A 4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6" name=""/>
          <p:cNvSpPr/>
          <p:nvPr/>
        </p:nvSpPr>
        <p:spPr>
          <a:xfrm>
            <a:off x="5789520" y="1836720"/>
            <a:ext cx="60984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A 8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7" name=""/>
          <p:cNvSpPr/>
          <p:nvPr/>
        </p:nvSpPr>
        <p:spPr>
          <a:xfrm>
            <a:off x="1792440" y="3587760"/>
            <a:ext cx="60624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A 5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8" name=""/>
          <p:cNvSpPr/>
          <p:nvPr/>
        </p:nvSpPr>
        <p:spPr>
          <a:xfrm>
            <a:off x="2878200" y="4737240"/>
            <a:ext cx="60624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A 5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9" name=""/>
          <p:cNvSpPr/>
          <p:nvPr/>
        </p:nvSpPr>
        <p:spPr>
          <a:xfrm>
            <a:off x="6708600" y="5162400"/>
            <a:ext cx="6066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A 9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0" name=""/>
          <p:cNvSpPr/>
          <p:nvPr/>
        </p:nvSpPr>
        <p:spPr>
          <a:xfrm>
            <a:off x="4923000" y="2879640"/>
            <a:ext cx="60624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E 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1" name=""/>
          <p:cNvSpPr/>
          <p:nvPr/>
        </p:nvSpPr>
        <p:spPr>
          <a:xfrm>
            <a:off x="3687840" y="2662200"/>
            <a:ext cx="60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A 4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2" name=""/>
          <p:cNvSpPr/>
          <p:nvPr/>
        </p:nvSpPr>
        <p:spPr>
          <a:xfrm>
            <a:off x="5076720" y="4608360"/>
            <a:ext cx="6066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E 0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3" name=""/>
          <p:cNvSpPr/>
          <p:nvPr/>
        </p:nvSpPr>
        <p:spPr>
          <a:xfrm>
            <a:off x="6800760" y="1812960"/>
            <a:ext cx="6066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E 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4" name=""/>
          <p:cNvSpPr/>
          <p:nvPr/>
        </p:nvSpPr>
        <p:spPr>
          <a:xfrm>
            <a:off x="6908760" y="2146320"/>
            <a:ext cx="39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5" name=""/>
          <p:cNvSpPr/>
          <p:nvPr/>
        </p:nvSpPr>
        <p:spPr>
          <a:xfrm>
            <a:off x="7288200" y="2147760"/>
            <a:ext cx="0" cy="429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6" name=""/>
          <p:cNvSpPr/>
          <p:nvPr/>
        </p:nvSpPr>
        <p:spPr>
          <a:xfrm>
            <a:off x="6060960" y="3701880"/>
            <a:ext cx="6066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E 1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7" name=""/>
          <p:cNvSpPr/>
          <p:nvPr/>
        </p:nvSpPr>
        <p:spPr>
          <a:xfrm>
            <a:off x="6257880" y="3395520"/>
            <a:ext cx="6066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E 1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8" name=""/>
          <p:cNvSpPr/>
          <p:nvPr/>
        </p:nvSpPr>
        <p:spPr>
          <a:xfrm>
            <a:off x="6456240" y="4243320"/>
            <a:ext cx="6066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E 1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9" name=""/>
          <p:cNvGrpSpPr/>
          <p:nvPr/>
        </p:nvGrpSpPr>
        <p:grpSpPr>
          <a:xfrm>
            <a:off x="4044960" y="1914480"/>
            <a:ext cx="399960" cy="722520"/>
            <a:chOff x="4044960" y="1914480"/>
            <a:chExt cx="399960" cy="722520"/>
          </a:xfrm>
        </p:grpSpPr>
        <p:sp>
          <p:nvSpPr>
            <p:cNvPr id="3320" name=""/>
            <p:cNvSpPr/>
            <p:nvPr/>
          </p:nvSpPr>
          <p:spPr>
            <a:xfrm rot="16200000">
              <a:off x="4243320" y="2434680"/>
              <a:ext cx="203040" cy="200160"/>
            </a:xfrm>
            <a:prstGeom prst="flowChartExtra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1" name=""/>
            <p:cNvSpPr/>
            <p:nvPr/>
          </p:nvSpPr>
          <p:spPr>
            <a:xfrm rot="5400000">
              <a:off x="4043520" y="2435400"/>
              <a:ext cx="203040" cy="200160"/>
            </a:xfrm>
            <a:prstGeom prst="flowChartExtra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4106160" y="1914480"/>
              <a:ext cx="225000" cy="38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3" name=""/>
            <p:cNvSpPr/>
            <p:nvPr/>
          </p:nvSpPr>
          <p:spPr>
            <a:xfrm flipV="1">
              <a:off x="4282560" y="2297520"/>
              <a:ext cx="0" cy="200520"/>
            </a:xfrm>
            <a:prstGeom prst="line">
              <a:avLst/>
            </a:prstGeom>
            <a:ln w="19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4" name=""/>
          <p:cNvGrpSpPr/>
          <p:nvPr/>
        </p:nvGrpSpPr>
        <p:grpSpPr>
          <a:xfrm>
            <a:off x="4070520" y="3814920"/>
            <a:ext cx="399960" cy="722160"/>
            <a:chOff x="4070520" y="3814920"/>
            <a:chExt cx="399960" cy="722160"/>
          </a:xfrm>
        </p:grpSpPr>
        <p:sp>
          <p:nvSpPr>
            <p:cNvPr id="3325" name=""/>
            <p:cNvSpPr/>
            <p:nvPr/>
          </p:nvSpPr>
          <p:spPr>
            <a:xfrm rot="16200000">
              <a:off x="4268880" y="4334760"/>
              <a:ext cx="203040" cy="200160"/>
            </a:xfrm>
            <a:prstGeom prst="flowChartExtra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6" name=""/>
            <p:cNvSpPr/>
            <p:nvPr/>
          </p:nvSpPr>
          <p:spPr>
            <a:xfrm rot="5400000">
              <a:off x="4069080" y="4335480"/>
              <a:ext cx="203040" cy="200160"/>
            </a:xfrm>
            <a:prstGeom prst="flowChartExtra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4131720" y="3814920"/>
              <a:ext cx="225000" cy="383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8" name=""/>
            <p:cNvSpPr/>
            <p:nvPr/>
          </p:nvSpPr>
          <p:spPr>
            <a:xfrm flipV="1">
              <a:off x="4308120" y="4197600"/>
              <a:ext cx="0" cy="200520"/>
            </a:xfrm>
            <a:prstGeom prst="line">
              <a:avLst/>
            </a:prstGeom>
            <a:ln w="19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9" name=""/>
          <p:cNvGrpSpPr/>
          <p:nvPr/>
        </p:nvGrpSpPr>
        <p:grpSpPr>
          <a:xfrm>
            <a:off x="2241720" y="3827520"/>
            <a:ext cx="401400" cy="722160"/>
            <a:chOff x="2241720" y="3827520"/>
            <a:chExt cx="401400" cy="722160"/>
          </a:xfrm>
        </p:grpSpPr>
        <p:sp>
          <p:nvSpPr>
            <p:cNvPr id="3330" name=""/>
            <p:cNvSpPr/>
            <p:nvPr/>
          </p:nvSpPr>
          <p:spPr>
            <a:xfrm rot="16200000">
              <a:off x="2441160" y="4347000"/>
              <a:ext cx="203040" cy="200880"/>
            </a:xfrm>
            <a:prstGeom prst="flowChartExtra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1" name=""/>
            <p:cNvSpPr/>
            <p:nvPr/>
          </p:nvSpPr>
          <p:spPr>
            <a:xfrm rot="5400000">
              <a:off x="2240640" y="4347720"/>
              <a:ext cx="203040" cy="200880"/>
            </a:xfrm>
            <a:prstGeom prst="flowChartExtra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2303280" y="3827520"/>
              <a:ext cx="225720" cy="383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3" name=""/>
            <p:cNvSpPr/>
            <p:nvPr/>
          </p:nvSpPr>
          <p:spPr>
            <a:xfrm flipV="1">
              <a:off x="2480400" y="4210200"/>
              <a:ext cx="0" cy="200520"/>
            </a:xfrm>
            <a:prstGeom prst="line">
              <a:avLst/>
            </a:prstGeom>
            <a:ln w="19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4" name=""/>
          <p:cNvGrpSpPr/>
          <p:nvPr/>
        </p:nvGrpSpPr>
        <p:grpSpPr>
          <a:xfrm>
            <a:off x="3094200" y="2330280"/>
            <a:ext cx="563400" cy="463680"/>
            <a:chOff x="3094200" y="2330280"/>
            <a:chExt cx="563400" cy="463680"/>
          </a:xfrm>
        </p:grpSpPr>
        <p:sp>
          <p:nvSpPr>
            <p:cNvPr id="3335" name=""/>
            <p:cNvSpPr/>
            <p:nvPr/>
          </p:nvSpPr>
          <p:spPr>
            <a:xfrm flipV="1">
              <a:off x="3094200" y="2703240"/>
              <a:ext cx="563400" cy="90720"/>
            </a:xfrm>
            <a:custGeom>
              <a:avLst/>
              <a:gdLst>
                <a:gd name="textAreaLeft" fmla="*/ 123840 w 563400"/>
                <a:gd name="textAreaRight" fmla="*/ 439560 w 563400"/>
                <a:gd name="textAreaTop" fmla="*/ 19800 h 90720"/>
                <a:gd name="textAreaBottom" fmla="*/ 70920 h 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3143520" y="2330280"/>
              <a:ext cx="437760" cy="372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7" name=""/>
          <p:cNvGrpSpPr/>
          <p:nvPr/>
        </p:nvGrpSpPr>
        <p:grpSpPr>
          <a:xfrm>
            <a:off x="3044880" y="4243320"/>
            <a:ext cx="563400" cy="463680"/>
            <a:chOff x="3044880" y="4243320"/>
            <a:chExt cx="563400" cy="463680"/>
          </a:xfrm>
        </p:grpSpPr>
        <p:sp>
          <p:nvSpPr>
            <p:cNvPr id="3338" name=""/>
            <p:cNvSpPr/>
            <p:nvPr/>
          </p:nvSpPr>
          <p:spPr>
            <a:xfrm flipV="1">
              <a:off x="3044880" y="4616280"/>
              <a:ext cx="563400" cy="90720"/>
            </a:xfrm>
            <a:custGeom>
              <a:avLst/>
              <a:gdLst>
                <a:gd name="textAreaLeft" fmla="*/ 123840 w 563400"/>
                <a:gd name="textAreaRight" fmla="*/ 439560 w 563400"/>
                <a:gd name="textAreaTop" fmla="*/ 19800 h 90720"/>
                <a:gd name="textAreaBottom" fmla="*/ 70920 h 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3094200" y="4243320"/>
              <a:ext cx="437760" cy="372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0" name=""/>
          <p:cNvGrpSpPr/>
          <p:nvPr/>
        </p:nvGrpSpPr>
        <p:grpSpPr>
          <a:xfrm>
            <a:off x="4960800" y="4209120"/>
            <a:ext cx="389160" cy="416160"/>
            <a:chOff x="4960800" y="4209120"/>
            <a:chExt cx="389160" cy="416160"/>
          </a:xfrm>
        </p:grpSpPr>
        <p:sp>
          <p:nvSpPr>
            <p:cNvPr id="3341" name=""/>
            <p:cNvSpPr/>
            <p:nvPr/>
          </p:nvSpPr>
          <p:spPr>
            <a:xfrm>
              <a:off x="4960800" y="4230720"/>
              <a:ext cx="389160" cy="350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42" name=""/>
            <p:cNvGrpSpPr/>
            <p:nvPr/>
          </p:nvGrpSpPr>
          <p:grpSpPr>
            <a:xfrm>
              <a:off x="4997520" y="4445640"/>
              <a:ext cx="313200" cy="179640"/>
              <a:chOff x="4997520" y="4445640"/>
              <a:chExt cx="313200" cy="179640"/>
            </a:xfrm>
          </p:grpSpPr>
          <p:sp>
            <p:nvSpPr>
              <p:cNvPr id="3343" name=""/>
              <p:cNvSpPr/>
              <p:nvPr/>
            </p:nvSpPr>
            <p:spPr>
              <a:xfrm>
                <a:off x="5010480" y="4445640"/>
                <a:ext cx="300240" cy="178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4" name=""/>
              <p:cNvSpPr/>
              <p:nvPr/>
            </p:nvSpPr>
            <p:spPr>
              <a:xfrm flipH="1">
                <a:off x="4997520" y="4446360"/>
                <a:ext cx="300240" cy="178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5" name=""/>
            <p:cNvGrpSpPr/>
            <p:nvPr/>
          </p:nvGrpSpPr>
          <p:grpSpPr>
            <a:xfrm>
              <a:off x="4997520" y="4209120"/>
              <a:ext cx="313200" cy="179640"/>
              <a:chOff x="4997520" y="4209120"/>
              <a:chExt cx="313200" cy="179640"/>
            </a:xfrm>
          </p:grpSpPr>
          <p:sp>
            <p:nvSpPr>
              <p:cNvPr id="3346" name=""/>
              <p:cNvSpPr/>
              <p:nvPr/>
            </p:nvSpPr>
            <p:spPr>
              <a:xfrm flipV="1">
                <a:off x="5010480" y="4209480"/>
                <a:ext cx="300240" cy="178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 flipH="1" flipV="1">
                <a:off x="4997520" y="4208760"/>
                <a:ext cx="300240" cy="178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48" name=""/>
          <p:cNvSpPr/>
          <p:nvPr/>
        </p:nvSpPr>
        <p:spPr>
          <a:xfrm>
            <a:off x="6111720" y="3944880"/>
            <a:ext cx="15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9" name=""/>
          <p:cNvSpPr/>
          <p:nvPr/>
        </p:nvSpPr>
        <p:spPr>
          <a:xfrm flipV="1">
            <a:off x="6394320" y="4314240"/>
            <a:ext cx="12096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0" name=""/>
          <p:cNvSpPr/>
          <p:nvPr/>
        </p:nvSpPr>
        <p:spPr>
          <a:xfrm>
            <a:off x="6540480" y="4610160"/>
            <a:ext cx="0" cy="871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1" name=""/>
          <p:cNvSpPr/>
          <p:nvPr/>
        </p:nvSpPr>
        <p:spPr>
          <a:xfrm>
            <a:off x="6527880" y="592452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2" name=""/>
          <p:cNvGrpSpPr/>
          <p:nvPr/>
        </p:nvGrpSpPr>
        <p:grpSpPr>
          <a:xfrm>
            <a:off x="3781440" y="6114960"/>
            <a:ext cx="1433160" cy="400320"/>
            <a:chOff x="3781440" y="6114960"/>
            <a:chExt cx="1433160" cy="400320"/>
          </a:xfrm>
        </p:grpSpPr>
        <p:sp>
          <p:nvSpPr>
            <p:cNvPr id="3353" name="">
              <a:hlinkClick r:id="" action="ppaction://hlinkshowjump?jump=previousslide"/>
            </p:cNvPr>
            <p:cNvSpPr/>
            <p:nvPr/>
          </p:nvSpPr>
          <p:spPr>
            <a:xfrm>
              <a:off x="3781440" y="6114960"/>
              <a:ext cx="448560" cy="400320"/>
            </a:xfrm>
            <a:custGeom>
              <a:avLst/>
              <a:gdLst>
                <a:gd name="textAreaLeft" fmla="*/ 25920 w 448560"/>
                <a:gd name="textAreaRight" fmla="*/ 422640 w 448560"/>
                <a:gd name="textAreaTop" fmla="*/ 25920 h 400320"/>
                <a:gd name="textAreaBottom" fmla="*/ 374400 h 400320"/>
              </a:gdLst>
              <a:ahLst/>
              <a:rect l="textAreaLeft" t="textAreaTop" r="textAreaRight" b="textAreaBottom"/>
              <a:pathLst>
                <a:path w="24201" h="21600">
                  <a:moveTo>
                    <a:pt x="0" y="0"/>
                  </a:moveTo>
                  <a:lnTo>
                    <a:pt x="24201" y="0"/>
                  </a:lnTo>
                  <a:lnTo>
                    <a:pt x="24201" y="21600"/>
                  </a:lnTo>
                  <a:lnTo>
                    <a:pt x="0" y="21600"/>
                  </a:lnTo>
                  <a:close/>
                </a:path>
                <a:path fill="lightenLess" w="24201" h="21600">
                  <a:moveTo>
                    <a:pt x="0" y="0"/>
                  </a:moveTo>
                  <a:lnTo>
                    <a:pt x="24201" y="0"/>
                  </a:lnTo>
                  <a:lnTo>
                    <a:pt x="22801" y="1400"/>
                  </a:lnTo>
                  <a:lnTo>
                    <a:pt x="1400" y="1400"/>
                  </a:lnTo>
                  <a:close/>
                </a:path>
                <a:path fill="darken" w="24201" h="21600">
                  <a:moveTo>
                    <a:pt x="24201" y="0"/>
                  </a:moveTo>
                  <a:lnTo>
                    <a:pt x="24201" y="21600"/>
                  </a:lnTo>
                  <a:lnTo>
                    <a:pt x="22801" y="20200"/>
                  </a:lnTo>
                  <a:lnTo>
                    <a:pt x="22801" y="1400"/>
                  </a:lnTo>
                  <a:close/>
                </a:path>
                <a:path fill="darkenLess" w="24201" h="21600">
                  <a:moveTo>
                    <a:pt x="2420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2801" y="20200"/>
                  </a:lnTo>
                  <a:close/>
                </a:path>
                <a:path fill="lighten" w="2420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4201" h="21600">
                  <a:moveTo>
                    <a:pt x="5094" y="10800"/>
                  </a:moveTo>
                  <a:lnTo>
                    <a:pt x="19107" y="3794"/>
                  </a:lnTo>
                  <a:lnTo>
                    <a:pt x="19107" y="17806"/>
                  </a:lnTo>
                  <a:close/>
                </a:path>
              </a:pathLst>
            </a:cu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4" name="">
              <a:hlinkClick r:id="" action="ppaction://hlinkshowjump?jump=nextslide"/>
            </p:cNvPr>
            <p:cNvSpPr/>
            <p:nvPr/>
          </p:nvSpPr>
          <p:spPr>
            <a:xfrm>
              <a:off x="4273200" y="6114960"/>
              <a:ext cx="450000" cy="400320"/>
            </a:xfrm>
            <a:custGeom>
              <a:avLst/>
              <a:gdLst>
                <a:gd name="textAreaLeft" fmla="*/ 25920 w 450000"/>
                <a:gd name="textAreaRight" fmla="*/ 424080 w 450000"/>
                <a:gd name="textAreaTop" fmla="*/ 25920 h 400320"/>
                <a:gd name="textAreaBottom" fmla="*/ 374400 h 400320"/>
              </a:gdLst>
              <a:ahLst/>
              <a:rect l="textAreaLeft" t="textAreaTop" r="textAreaRight" b="textAreaBottom"/>
              <a:pathLst>
                <a:path w="24278" h="21600">
                  <a:moveTo>
                    <a:pt x="0" y="0"/>
                  </a:moveTo>
                  <a:lnTo>
                    <a:pt x="24278" y="0"/>
                  </a:lnTo>
                  <a:lnTo>
                    <a:pt x="24278" y="21600"/>
                  </a:lnTo>
                  <a:lnTo>
                    <a:pt x="0" y="21600"/>
                  </a:lnTo>
                  <a:close/>
                </a:path>
                <a:path fill="lightenLess" w="24278" h="21600">
                  <a:moveTo>
                    <a:pt x="0" y="0"/>
                  </a:moveTo>
                  <a:lnTo>
                    <a:pt x="24278" y="0"/>
                  </a:lnTo>
                  <a:lnTo>
                    <a:pt x="22878" y="1400"/>
                  </a:lnTo>
                  <a:lnTo>
                    <a:pt x="1400" y="1400"/>
                  </a:lnTo>
                  <a:close/>
                </a:path>
                <a:path fill="darken" w="24278" h="21600">
                  <a:moveTo>
                    <a:pt x="24278" y="0"/>
                  </a:moveTo>
                  <a:lnTo>
                    <a:pt x="24278" y="21600"/>
                  </a:lnTo>
                  <a:lnTo>
                    <a:pt x="22878" y="20200"/>
                  </a:lnTo>
                  <a:lnTo>
                    <a:pt x="22878" y="1400"/>
                  </a:lnTo>
                  <a:close/>
                </a:path>
                <a:path fill="darkenLess" w="24278" h="21600">
                  <a:moveTo>
                    <a:pt x="2427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2878" y="20200"/>
                  </a:lnTo>
                  <a:close/>
                </a:path>
                <a:path fill="lighten" w="2427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4278" h="21600">
                  <a:moveTo>
                    <a:pt x="5133" y="3794"/>
                  </a:moveTo>
                  <a:lnTo>
                    <a:pt x="19146" y="10800"/>
                  </a:lnTo>
                  <a:lnTo>
                    <a:pt x="5133" y="17806"/>
                  </a:lnTo>
                  <a:close/>
                </a:path>
              </a:pathLst>
            </a:cu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5" name="">
              <a:hlinkClick r:id="" action="ppaction://hlinkshowjump?jump=firstslide"/>
            </p:cNvPr>
            <p:cNvSpPr/>
            <p:nvPr/>
          </p:nvSpPr>
          <p:spPr>
            <a:xfrm>
              <a:off x="4766040" y="6114960"/>
              <a:ext cx="448560" cy="400320"/>
            </a:xfrm>
            <a:custGeom>
              <a:avLst/>
              <a:gdLst>
                <a:gd name="textAreaLeft" fmla="*/ 25920 w 448560"/>
                <a:gd name="textAreaRight" fmla="*/ 422640 w 448560"/>
                <a:gd name="textAreaTop" fmla="*/ 25920 h 400320"/>
                <a:gd name="textAreaBottom" fmla="*/ 374400 h 400320"/>
              </a:gdLst>
              <a:ahLst/>
              <a:rect l="textAreaLeft" t="textAreaTop" r="textAreaRight" b="textAreaBottom"/>
              <a:pathLst>
                <a:path w="24201" h="21600">
                  <a:moveTo>
                    <a:pt x="0" y="0"/>
                  </a:moveTo>
                  <a:lnTo>
                    <a:pt x="24201" y="0"/>
                  </a:lnTo>
                  <a:lnTo>
                    <a:pt x="24201" y="21600"/>
                  </a:lnTo>
                  <a:lnTo>
                    <a:pt x="0" y="21600"/>
                  </a:lnTo>
                  <a:close/>
                </a:path>
                <a:path fill="lightenLess" w="24201" h="21600">
                  <a:moveTo>
                    <a:pt x="0" y="0"/>
                  </a:moveTo>
                  <a:lnTo>
                    <a:pt x="24201" y="0"/>
                  </a:lnTo>
                  <a:lnTo>
                    <a:pt x="22801" y="1400"/>
                  </a:lnTo>
                  <a:lnTo>
                    <a:pt x="1400" y="1400"/>
                  </a:lnTo>
                  <a:close/>
                </a:path>
                <a:path fill="darken" w="24201" h="21600">
                  <a:moveTo>
                    <a:pt x="24201" y="0"/>
                  </a:moveTo>
                  <a:lnTo>
                    <a:pt x="24201" y="21600"/>
                  </a:lnTo>
                  <a:lnTo>
                    <a:pt x="22801" y="20200"/>
                  </a:lnTo>
                  <a:lnTo>
                    <a:pt x="22801" y="1400"/>
                  </a:lnTo>
                  <a:close/>
                </a:path>
                <a:path fill="darkenLess" w="24201" h="21600">
                  <a:moveTo>
                    <a:pt x="2420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2801" y="20200"/>
                  </a:lnTo>
                  <a:close/>
                </a:path>
                <a:path fill="lighten" w="2420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4201" h="21600">
                  <a:moveTo>
                    <a:pt x="8601" y="10800"/>
                  </a:moveTo>
                  <a:lnTo>
                    <a:pt x="19107" y="3794"/>
                  </a:lnTo>
                  <a:lnTo>
                    <a:pt x="19107" y="17806"/>
                  </a:lnTo>
                  <a:close/>
                </a:path>
                <a:path fill="darken" w="24201" h="21600">
                  <a:moveTo>
                    <a:pt x="5094" y="3794"/>
                  </a:moveTo>
                  <a:lnTo>
                    <a:pt x="6756" y="3794"/>
                  </a:lnTo>
                  <a:lnTo>
                    <a:pt x="6756" y="17806"/>
                  </a:lnTo>
                  <a:lnTo>
                    <a:pt x="5094" y="17806"/>
                  </a:lnTo>
                  <a:close/>
                </a:path>
              </a:pathLst>
            </a:cu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600" spc="-1" strike="noStrike">
                <a:solidFill>
                  <a:srgbClr val="221304"/>
                </a:solidFill>
                <a:latin typeface="Times New Roman"/>
              </a:rPr>
              <a:t>Pokračovanie zadania kr</a:t>
            </a:r>
            <a:r>
              <a:rPr b="1" i="1" lang="en-US" sz="1600" spc="-1" strike="noStrike">
                <a:solidFill>
                  <a:srgbClr val="221304"/>
                </a:solidFill>
                <a:latin typeface="Times New Roman"/>
              </a:rPr>
              <a:t>i</a:t>
            </a:r>
            <a:r>
              <a:rPr b="1" i="1" lang="sk-SK" sz="1600" spc="-1" strike="noStrike">
                <a:solidFill>
                  <a:srgbClr val="221304"/>
                </a:solidFill>
                <a:latin typeface="Times New Roman"/>
              </a:rPr>
              <a:t>žovatka</a:t>
            </a:r>
            <a:endParaRPr b="0" lang="en-US" sz="1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338120" y="1711440"/>
            <a:ext cx="735336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Režim činnost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Po zapnutí szstému začne na všetkých svetlách blikať po dobu 5 min oranžové svetlo.po tomto čase nasleduje červené svetlo pre všetky smery na dobu 1 min.Potom začne normálna prevádzka od dominantného smeru,ktorý si môžete zvoliť.pri ukončení činnosti zariadenie vykoná obidva kroky v obrátenom poradí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Prevádzka bez priority prechodu pre chodcov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Režimy svetiel sa cyklicky striedajú vždy rovnako pre protisebestojace vozidlá  v poradí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Ľavý odbočovací pru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Priamy a pravý pru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Prechody pre chodcov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353960" y="4654440"/>
            <a:ext cx="7345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Doplňte zadanie podľa bodu a) s tým, že vhodne doplníte uvoľnenie prechodu pre  chodcov aj  počas  voľných smerov pre autá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993600" y="5405400"/>
            <a:ext cx="725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Doplňte zadanie podľa bodu b) tak,aby vždy po stlačení žiadosti chodco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sa do režimu vložilo uvoľnenie požadovaného prechodu na dobu 30 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3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Z</a:t>
            </a:r>
            <a:r>
              <a:rPr b="1" lang="sk-SK" sz="4400" spc="-1" strike="noStrike">
                <a:solidFill>
                  <a:srgbClr val="221304"/>
                </a:solidFill>
                <a:latin typeface="Times New Roman"/>
              </a:rPr>
              <a:t>adanie </a:t>
            </a: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2</a:t>
            </a:r>
            <a:r>
              <a:rPr b="1" lang="sk-SK" sz="4400" spc="-1" strike="noStrike">
                <a:solidFill>
                  <a:srgbClr val="221304"/>
                </a:solidFill>
                <a:latin typeface="Times New Roman"/>
              </a:rPr>
              <a:t>7</a:t>
            </a:r>
            <a:r>
              <a:rPr b="0" i="1" lang="sk-SK" sz="4400" spc="-1" strike="noStrike">
                <a:solidFill>
                  <a:srgbClr val="221304"/>
                </a:solidFill>
                <a:latin typeface="Times New Roman"/>
              </a:rPr>
              <a:t>:Rýchlovýťah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3359" name=""/>
          <p:cNvGrpSpPr/>
          <p:nvPr/>
        </p:nvGrpSpPr>
        <p:grpSpPr>
          <a:xfrm>
            <a:off x="1528920" y="1857240"/>
            <a:ext cx="7086600" cy="4343040"/>
            <a:chOff x="1528920" y="1857240"/>
            <a:chExt cx="7086600" cy="4343040"/>
          </a:xfrm>
        </p:grpSpPr>
        <p:grpSp>
          <p:nvGrpSpPr>
            <p:cNvPr id="3360" name=""/>
            <p:cNvGrpSpPr/>
            <p:nvPr/>
          </p:nvGrpSpPr>
          <p:grpSpPr>
            <a:xfrm>
              <a:off x="6929640" y="1871640"/>
              <a:ext cx="1685880" cy="4086000"/>
              <a:chOff x="6929640" y="1871640"/>
              <a:chExt cx="1685880" cy="4086000"/>
            </a:xfrm>
          </p:grpSpPr>
          <p:sp>
            <p:nvSpPr>
              <p:cNvPr id="3361" name=""/>
              <p:cNvSpPr/>
              <p:nvPr/>
            </p:nvSpPr>
            <p:spPr>
              <a:xfrm>
                <a:off x="7701120" y="1871640"/>
                <a:ext cx="0" cy="4086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 flipH="1">
                <a:off x="7729560" y="2442960"/>
                <a:ext cx="88596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 flipH="1">
                <a:off x="7715520" y="3071880"/>
                <a:ext cx="88560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 flipH="1">
                <a:off x="7701120" y="3628800"/>
                <a:ext cx="88596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5" name=""/>
              <p:cNvSpPr/>
              <p:nvPr/>
            </p:nvSpPr>
            <p:spPr>
              <a:xfrm flipH="1">
                <a:off x="7686720" y="4243320"/>
                <a:ext cx="88596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6" name=""/>
              <p:cNvSpPr/>
              <p:nvPr/>
            </p:nvSpPr>
            <p:spPr>
              <a:xfrm flipH="1">
                <a:off x="7715520" y="4843440"/>
                <a:ext cx="88560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 flipH="1">
                <a:off x="7715520" y="5414760"/>
                <a:ext cx="88560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8" name=""/>
              <p:cNvSpPr/>
              <p:nvPr/>
            </p:nvSpPr>
            <p:spPr>
              <a:xfrm flipH="1">
                <a:off x="7701120" y="5957640"/>
                <a:ext cx="88596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 flipH="1">
                <a:off x="7344000" y="2043000"/>
                <a:ext cx="242640" cy="271440"/>
              </a:xfrm>
              <a:prstGeom prst="rect">
                <a:avLst/>
              </a:prstGeom>
              <a:solidFill>
                <a:srgbClr val="fefde3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 flipH="1">
                <a:off x="7374240" y="2090520"/>
                <a:ext cx="164880" cy="168480"/>
              </a:xfrm>
              <a:prstGeom prst="ellipse">
                <a:avLst/>
              </a:prstGeom>
              <a:solidFill>
                <a:srgbClr val="ffcc66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1" name=""/>
              <p:cNvSpPr/>
              <p:nvPr/>
            </p:nvSpPr>
            <p:spPr>
              <a:xfrm flipH="1" flipV="1">
                <a:off x="7380360" y="2112840"/>
                <a:ext cx="123840" cy="101520"/>
              </a:xfrm>
              <a:prstGeom prst="upArrow">
                <a:avLst>
                  <a:gd name="adj1" fmla="val 50000"/>
                  <a:gd name="adj2" fmla="val 25000"/>
                </a:avLst>
              </a:prstGeom>
              <a:solidFill>
                <a:srgbClr val="ff330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72" name=""/>
              <p:cNvGrpSpPr/>
              <p:nvPr/>
            </p:nvGrpSpPr>
            <p:grpSpPr>
              <a:xfrm>
                <a:off x="7315200" y="2457360"/>
                <a:ext cx="271440" cy="442800"/>
                <a:chOff x="7315200" y="2457360"/>
                <a:chExt cx="271440" cy="442800"/>
              </a:xfrm>
            </p:grpSpPr>
            <p:sp>
              <p:nvSpPr>
                <p:cNvPr id="3373" name=""/>
                <p:cNvSpPr/>
                <p:nvPr/>
              </p:nvSpPr>
              <p:spPr>
                <a:xfrm flipH="1">
                  <a:off x="7315200" y="2457360"/>
                  <a:ext cx="271440" cy="442800"/>
                </a:xfrm>
                <a:prstGeom prst="rect">
                  <a:avLst/>
                </a:prstGeom>
                <a:solidFill>
                  <a:srgbClr val="fefd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4" name=""/>
                <p:cNvSpPr/>
                <p:nvPr/>
              </p:nvSpPr>
              <p:spPr>
                <a:xfrm flipH="1">
                  <a:off x="7368120" y="2483640"/>
                  <a:ext cx="166320" cy="168120"/>
                </a:xfrm>
                <a:prstGeom prst="ellipse">
                  <a:avLst/>
                </a:prstGeom>
                <a:solidFill>
                  <a:srgbClr val="ffcc66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5" name=""/>
                <p:cNvSpPr/>
                <p:nvPr/>
              </p:nvSpPr>
              <p:spPr>
                <a:xfrm flipH="1">
                  <a:off x="7402680" y="2519280"/>
                  <a:ext cx="96120" cy="88560"/>
                </a:xfrm>
                <a:prstGeom prst="upArrow">
                  <a:avLst>
                    <a:gd name="adj1" fmla="val 50000"/>
                    <a:gd name="adj2" fmla="val 25000"/>
                  </a:avLst>
                </a:prstGeom>
                <a:solidFill>
                  <a:srgbClr val="ff330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6" name=""/>
                <p:cNvSpPr/>
                <p:nvPr/>
              </p:nvSpPr>
              <p:spPr>
                <a:xfrm flipH="1">
                  <a:off x="7359120" y="2705040"/>
                  <a:ext cx="166320" cy="168120"/>
                </a:xfrm>
                <a:prstGeom prst="ellipse">
                  <a:avLst/>
                </a:prstGeom>
                <a:solidFill>
                  <a:srgbClr val="ffcc66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7" name=""/>
                <p:cNvSpPr/>
                <p:nvPr/>
              </p:nvSpPr>
              <p:spPr>
                <a:xfrm flipH="1" flipV="1">
                  <a:off x="7394040" y="2740680"/>
                  <a:ext cx="96120" cy="88560"/>
                </a:xfrm>
                <a:prstGeom prst="upArrow">
                  <a:avLst>
                    <a:gd name="adj1" fmla="val 50000"/>
                    <a:gd name="adj2" fmla="val 25000"/>
                  </a:avLst>
                </a:prstGeom>
                <a:solidFill>
                  <a:srgbClr val="ff330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8" name=""/>
              <p:cNvGrpSpPr/>
              <p:nvPr/>
            </p:nvGrpSpPr>
            <p:grpSpPr>
              <a:xfrm>
                <a:off x="7315200" y="3657600"/>
                <a:ext cx="271440" cy="442800"/>
                <a:chOff x="7315200" y="3657600"/>
                <a:chExt cx="271440" cy="442800"/>
              </a:xfrm>
            </p:grpSpPr>
            <p:sp>
              <p:nvSpPr>
                <p:cNvPr id="3379" name=""/>
                <p:cNvSpPr/>
                <p:nvPr/>
              </p:nvSpPr>
              <p:spPr>
                <a:xfrm flipH="1">
                  <a:off x="7315200" y="3657600"/>
                  <a:ext cx="271440" cy="442800"/>
                </a:xfrm>
                <a:prstGeom prst="rect">
                  <a:avLst/>
                </a:prstGeom>
                <a:solidFill>
                  <a:srgbClr val="fefd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0" name=""/>
                <p:cNvSpPr/>
                <p:nvPr/>
              </p:nvSpPr>
              <p:spPr>
                <a:xfrm flipH="1">
                  <a:off x="7368120" y="3683880"/>
                  <a:ext cx="166320" cy="168120"/>
                </a:xfrm>
                <a:prstGeom prst="ellipse">
                  <a:avLst/>
                </a:prstGeom>
                <a:solidFill>
                  <a:srgbClr val="ffcc66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1" name=""/>
                <p:cNvSpPr/>
                <p:nvPr/>
              </p:nvSpPr>
              <p:spPr>
                <a:xfrm flipH="1">
                  <a:off x="7402680" y="3719520"/>
                  <a:ext cx="96120" cy="88560"/>
                </a:xfrm>
                <a:prstGeom prst="upArrow">
                  <a:avLst>
                    <a:gd name="adj1" fmla="val 50000"/>
                    <a:gd name="adj2" fmla="val 25000"/>
                  </a:avLst>
                </a:prstGeom>
                <a:solidFill>
                  <a:srgbClr val="ff330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2" name=""/>
                <p:cNvSpPr/>
                <p:nvPr/>
              </p:nvSpPr>
              <p:spPr>
                <a:xfrm flipH="1">
                  <a:off x="7359120" y="3905280"/>
                  <a:ext cx="166320" cy="168120"/>
                </a:xfrm>
                <a:prstGeom prst="ellipse">
                  <a:avLst/>
                </a:prstGeom>
                <a:solidFill>
                  <a:srgbClr val="ffcc66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3" name=""/>
                <p:cNvSpPr/>
                <p:nvPr/>
              </p:nvSpPr>
              <p:spPr>
                <a:xfrm flipH="1" flipV="1">
                  <a:off x="7394040" y="3940920"/>
                  <a:ext cx="96120" cy="88560"/>
                </a:xfrm>
                <a:prstGeom prst="upArrow">
                  <a:avLst>
                    <a:gd name="adj1" fmla="val 50000"/>
                    <a:gd name="adj2" fmla="val 25000"/>
                  </a:avLst>
                </a:prstGeom>
                <a:solidFill>
                  <a:srgbClr val="ff330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4" name=""/>
              <p:cNvGrpSpPr/>
              <p:nvPr/>
            </p:nvGrpSpPr>
            <p:grpSpPr>
              <a:xfrm>
                <a:off x="7315200" y="3057480"/>
                <a:ext cx="271440" cy="442800"/>
                <a:chOff x="7315200" y="3057480"/>
                <a:chExt cx="271440" cy="442800"/>
              </a:xfrm>
            </p:grpSpPr>
            <p:sp>
              <p:nvSpPr>
                <p:cNvPr id="3385" name=""/>
                <p:cNvSpPr/>
                <p:nvPr/>
              </p:nvSpPr>
              <p:spPr>
                <a:xfrm flipH="1">
                  <a:off x="7315200" y="3057480"/>
                  <a:ext cx="271440" cy="442800"/>
                </a:xfrm>
                <a:prstGeom prst="rect">
                  <a:avLst/>
                </a:prstGeom>
                <a:solidFill>
                  <a:srgbClr val="fefd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6" name=""/>
                <p:cNvSpPr/>
                <p:nvPr/>
              </p:nvSpPr>
              <p:spPr>
                <a:xfrm flipH="1">
                  <a:off x="7368120" y="3083760"/>
                  <a:ext cx="166320" cy="168120"/>
                </a:xfrm>
                <a:prstGeom prst="ellipse">
                  <a:avLst/>
                </a:prstGeom>
                <a:solidFill>
                  <a:srgbClr val="ffcc66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7" name=""/>
                <p:cNvSpPr/>
                <p:nvPr/>
              </p:nvSpPr>
              <p:spPr>
                <a:xfrm flipH="1">
                  <a:off x="7402680" y="3119400"/>
                  <a:ext cx="96120" cy="88560"/>
                </a:xfrm>
                <a:prstGeom prst="upArrow">
                  <a:avLst>
                    <a:gd name="adj1" fmla="val 50000"/>
                    <a:gd name="adj2" fmla="val 25000"/>
                  </a:avLst>
                </a:prstGeom>
                <a:solidFill>
                  <a:srgbClr val="ff330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8" name=""/>
                <p:cNvSpPr/>
                <p:nvPr/>
              </p:nvSpPr>
              <p:spPr>
                <a:xfrm flipH="1">
                  <a:off x="7359120" y="3305160"/>
                  <a:ext cx="166320" cy="168120"/>
                </a:xfrm>
                <a:prstGeom prst="ellipse">
                  <a:avLst/>
                </a:prstGeom>
                <a:solidFill>
                  <a:srgbClr val="ffcc66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9" name=""/>
                <p:cNvSpPr/>
                <p:nvPr/>
              </p:nvSpPr>
              <p:spPr>
                <a:xfrm flipH="1" flipV="1">
                  <a:off x="7394040" y="3340800"/>
                  <a:ext cx="96120" cy="88560"/>
                </a:xfrm>
                <a:prstGeom prst="upArrow">
                  <a:avLst>
                    <a:gd name="adj1" fmla="val 50000"/>
                    <a:gd name="adj2" fmla="val 25000"/>
                  </a:avLst>
                </a:prstGeom>
                <a:solidFill>
                  <a:srgbClr val="ff330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0" name=""/>
              <p:cNvGrpSpPr/>
              <p:nvPr/>
            </p:nvGrpSpPr>
            <p:grpSpPr>
              <a:xfrm>
                <a:off x="7315200" y="4286160"/>
                <a:ext cx="271440" cy="442800"/>
                <a:chOff x="7315200" y="4286160"/>
                <a:chExt cx="271440" cy="442800"/>
              </a:xfrm>
            </p:grpSpPr>
            <p:sp>
              <p:nvSpPr>
                <p:cNvPr id="3391" name=""/>
                <p:cNvSpPr/>
                <p:nvPr/>
              </p:nvSpPr>
              <p:spPr>
                <a:xfrm flipH="1">
                  <a:off x="7315200" y="4286160"/>
                  <a:ext cx="271440" cy="442800"/>
                </a:xfrm>
                <a:prstGeom prst="rect">
                  <a:avLst/>
                </a:prstGeom>
                <a:solidFill>
                  <a:srgbClr val="fefd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2" name=""/>
                <p:cNvSpPr/>
                <p:nvPr/>
              </p:nvSpPr>
              <p:spPr>
                <a:xfrm flipH="1">
                  <a:off x="7368120" y="4312440"/>
                  <a:ext cx="166320" cy="168120"/>
                </a:xfrm>
                <a:prstGeom prst="ellipse">
                  <a:avLst/>
                </a:prstGeom>
                <a:solidFill>
                  <a:srgbClr val="ffcc66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3" name=""/>
                <p:cNvSpPr/>
                <p:nvPr/>
              </p:nvSpPr>
              <p:spPr>
                <a:xfrm flipH="1">
                  <a:off x="7402680" y="4348080"/>
                  <a:ext cx="96120" cy="88560"/>
                </a:xfrm>
                <a:prstGeom prst="upArrow">
                  <a:avLst>
                    <a:gd name="adj1" fmla="val 50000"/>
                    <a:gd name="adj2" fmla="val 25000"/>
                  </a:avLst>
                </a:prstGeom>
                <a:solidFill>
                  <a:srgbClr val="ff330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4" name=""/>
                <p:cNvSpPr/>
                <p:nvPr/>
              </p:nvSpPr>
              <p:spPr>
                <a:xfrm flipH="1">
                  <a:off x="7359120" y="4533840"/>
                  <a:ext cx="166320" cy="168120"/>
                </a:xfrm>
                <a:prstGeom prst="ellipse">
                  <a:avLst/>
                </a:prstGeom>
                <a:solidFill>
                  <a:srgbClr val="ffcc66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5" name=""/>
                <p:cNvSpPr/>
                <p:nvPr/>
              </p:nvSpPr>
              <p:spPr>
                <a:xfrm flipH="1" flipV="1">
                  <a:off x="7394040" y="4569480"/>
                  <a:ext cx="96120" cy="88560"/>
                </a:xfrm>
                <a:prstGeom prst="upArrow">
                  <a:avLst>
                    <a:gd name="adj1" fmla="val 50000"/>
                    <a:gd name="adj2" fmla="val 25000"/>
                  </a:avLst>
                </a:prstGeom>
                <a:solidFill>
                  <a:srgbClr val="ff330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6" name=""/>
              <p:cNvGrpSpPr/>
              <p:nvPr/>
            </p:nvGrpSpPr>
            <p:grpSpPr>
              <a:xfrm>
                <a:off x="7315200" y="4829040"/>
                <a:ext cx="271440" cy="442800"/>
                <a:chOff x="7315200" y="4829040"/>
                <a:chExt cx="271440" cy="442800"/>
              </a:xfrm>
            </p:grpSpPr>
            <p:sp>
              <p:nvSpPr>
                <p:cNvPr id="3397" name=""/>
                <p:cNvSpPr/>
                <p:nvPr/>
              </p:nvSpPr>
              <p:spPr>
                <a:xfrm flipH="1">
                  <a:off x="7315200" y="4829040"/>
                  <a:ext cx="271440" cy="442800"/>
                </a:xfrm>
                <a:prstGeom prst="rect">
                  <a:avLst/>
                </a:prstGeom>
                <a:solidFill>
                  <a:srgbClr val="fefd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8" name=""/>
                <p:cNvSpPr/>
                <p:nvPr/>
              </p:nvSpPr>
              <p:spPr>
                <a:xfrm flipH="1">
                  <a:off x="7368120" y="4855320"/>
                  <a:ext cx="166320" cy="168120"/>
                </a:xfrm>
                <a:prstGeom prst="ellipse">
                  <a:avLst/>
                </a:prstGeom>
                <a:solidFill>
                  <a:srgbClr val="ffcc66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9" name=""/>
                <p:cNvSpPr/>
                <p:nvPr/>
              </p:nvSpPr>
              <p:spPr>
                <a:xfrm flipH="1">
                  <a:off x="7402680" y="4890960"/>
                  <a:ext cx="96120" cy="88560"/>
                </a:xfrm>
                <a:prstGeom prst="upArrow">
                  <a:avLst>
                    <a:gd name="adj1" fmla="val 50000"/>
                    <a:gd name="adj2" fmla="val 25000"/>
                  </a:avLst>
                </a:prstGeom>
                <a:solidFill>
                  <a:srgbClr val="ff330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0" name=""/>
                <p:cNvSpPr/>
                <p:nvPr/>
              </p:nvSpPr>
              <p:spPr>
                <a:xfrm flipH="1">
                  <a:off x="7359120" y="5076720"/>
                  <a:ext cx="166320" cy="168120"/>
                </a:xfrm>
                <a:prstGeom prst="ellipse">
                  <a:avLst/>
                </a:prstGeom>
                <a:solidFill>
                  <a:srgbClr val="ffcc66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1" name=""/>
                <p:cNvSpPr/>
                <p:nvPr/>
              </p:nvSpPr>
              <p:spPr>
                <a:xfrm flipH="1" flipV="1">
                  <a:off x="7394040" y="5112360"/>
                  <a:ext cx="96120" cy="88560"/>
                </a:xfrm>
                <a:prstGeom prst="upArrow">
                  <a:avLst>
                    <a:gd name="adj1" fmla="val 50000"/>
                    <a:gd name="adj2" fmla="val 25000"/>
                  </a:avLst>
                </a:prstGeom>
                <a:solidFill>
                  <a:srgbClr val="ff330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02" name=""/>
              <p:cNvSpPr/>
              <p:nvPr/>
            </p:nvSpPr>
            <p:spPr>
              <a:xfrm flipH="1">
                <a:off x="7272360" y="5472000"/>
                <a:ext cx="285840" cy="243000"/>
              </a:xfrm>
              <a:prstGeom prst="rect">
                <a:avLst/>
              </a:prstGeom>
              <a:solidFill>
                <a:srgbClr val="fefde3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3" name=""/>
              <p:cNvSpPr/>
              <p:nvPr/>
            </p:nvSpPr>
            <p:spPr>
              <a:xfrm flipH="1">
                <a:off x="7338960" y="5499000"/>
                <a:ext cx="166680" cy="168120"/>
              </a:xfrm>
              <a:prstGeom prst="ellipse">
                <a:avLst/>
              </a:prstGeom>
              <a:solidFill>
                <a:srgbClr val="ffcc66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 flipH="1">
                <a:off x="7373880" y="5533920"/>
                <a:ext cx="96840" cy="88920"/>
              </a:xfrm>
              <a:prstGeom prst="upArrow">
                <a:avLst>
                  <a:gd name="adj1" fmla="val 50000"/>
                  <a:gd name="adj2" fmla="val 25000"/>
                </a:avLst>
              </a:prstGeom>
              <a:solidFill>
                <a:srgbClr val="ff330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5" name=""/>
              <p:cNvSpPr/>
              <p:nvPr/>
            </p:nvSpPr>
            <p:spPr>
              <a:xfrm flipH="1">
                <a:off x="7058160" y="2371680"/>
                <a:ext cx="828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6" name=""/>
              <p:cNvSpPr/>
              <p:nvPr/>
            </p:nvSpPr>
            <p:spPr>
              <a:xfrm flipH="1">
                <a:off x="7758000" y="2886120"/>
                <a:ext cx="114120" cy="145800"/>
              </a:xfrm>
              <a:prstGeom prst="ellipse">
                <a:avLst/>
              </a:prstGeom>
              <a:solidFill>
                <a:srgbClr val="221304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 flipH="1">
                <a:off x="7772400" y="2300040"/>
                <a:ext cx="114480" cy="146160"/>
              </a:xfrm>
              <a:prstGeom prst="ellipse">
                <a:avLst/>
              </a:prstGeom>
              <a:solidFill>
                <a:srgbClr val="221304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8" name=""/>
              <p:cNvSpPr/>
              <p:nvPr/>
            </p:nvSpPr>
            <p:spPr>
              <a:xfrm flipH="1">
                <a:off x="7758000" y="4100400"/>
                <a:ext cx="114120" cy="146160"/>
              </a:xfrm>
              <a:prstGeom prst="ellipse">
                <a:avLst/>
              </a:prstGeom>
              <a:solidFill>
                <a:srgbClr val="221304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 flipH="1">
                <a:off x="7772400" y="4686120"/>
                <a:ext cx="114480" cy="146160"/>
              </a:xfrm>
              <a:prstGeom prst="ellipse">
                <a:avLst/>
              </a:prstGeom>
              <a:solidFill>
                <a:srgbClr val="221304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0" name=""/>
              <p:cNvSpPr/>
              <p:nvPr/>
            </p:nvSpPr>
            <p:spPr>
              <a:xfrm flipH="1">
                <a:off x="7715160" y="3500280"/>
                <a:ext cx="114120" cy="146160"/>
              </a:xfrm>
              <a:prstGeom prst="ellipse">
                <a:avLst/>
              </a:prstGeom>
              <a:solidFill>
                <a:srgbClr val="221304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 flipH="1">
                <a:off x="7743600" y="5243400"/>
                <a:ext cx="114120" cy="146160"/>
              </a:xfrm>
              <a:prstGeom prst="ellipse">
                <a:avLst/>
              </a:prstGeom>
              <a:solidFill>
                <a:srgbClr val="221304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 flipH="1">
                <a:off x="7743600" y="5786280"/>
                <a:ext cx="114120" cy="146160"/>
              </a:xfrm>
              <a:prstGeom prst="ellipse">
                <a:avLst/>
              </a:prstGeom>
              <a:solidFill>
                <a:srgbClr val="221304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 flipH="1">
                <a:off x="6929640" y="2971800"/>
                <a:ext cx="828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 flipH="1">
                <a:off x="6943680" y="3585960"/>
                <a:ext cx="828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5" name=""/>
              <p:cNvSpPr/>
              <p:nvPr/>
            </p:nvSpPr>
            <p:spPr>
              <a:xfrm flipH="1">
                <a:off x="6943680" y="4186080"/>
                <a:ext cx="828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6" name=""/>
              <p:cNvSpPr/>
              <p:nvPr/>
            </p:nvSpPr>
            <p:spPr>
              <a:xfrm flipH="1">
                <a:off x="6958080" y="4786200"/>
                <a:ext cx="828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7" name=""/>
              <p:cNvSpPr/>
              <p:nvPr/>
            </p:nvSpPr>
            <p:spPr>
              <a:xfrm flipH="1">
                <a:off x="6943680" y="5357880"/>
                <a:ext cx="828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8" name=""/>
              <p:cNvSpPr/>
              <p:nvPr/>
            </p:nvSpPr>
            <p:spPr>
              <a:xfrm flipH="1">
                <a:off x="6958080" y="5857920"/>
                <a:ext cx="828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9" name=""/>
            <p:cNvGrpSpPr/>
            <p:nvPr/>
          </p:nvGrpSpPr>
          <p:grpSpPr>
            <a:xfrm>
              <a:off x="1528920" y="1857240"/>
              <a:ext cx="1685880" cy="4086000"/>
              <a:chOff x="1528920" y="1857240"/>
              <a:chExt cx="1685880" cy="4086000"/>
            </a:xfrm>
          </p:grpSpPr>
          <p:sp>
            <p:nvSpPr>
              <p:cNvPr id="3420" name=""/>
              <p:cNvSpPr/>
              <p:nvPr/>
            </p:nvSpPr>
            <p:spPr>
              <a:xfrm>
                <a:off x="2443320" y="1857240"/>
                <a:ext cx="0" cy="4086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1" name=""/>
              <p:cNvSpPr/>
              <p:nvPr/>
            </p:nvSpPr>
            <p:spPr>
              <a:xfrm>
                <a:off x="1528920" y="2428560"/>
                <a:ext cx="88596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2" name=""/>
              <p:cNvSpPr/>
              <p:nvPr/>
            </p:nvSpPr>
            <p:spPr>
              <a:xfrm>
                <a:off x="1543320" y="3057480"/>
                <a:ext cx="88560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3" name=""/>
              <p:cNvSpPr/>
              <p:nvPr/>
            </p:nvSpPr>
            <p:spPr>
              <a:xfrm>
                <a:off x="1557360" y="3614400"/>
                <a:ext cx="88596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4" name=""/>
              <p:cNvSpPr/>
              <p:nvPr/>
            </p:nvSpPr>
            <p:spPr>
              <a:xfrm>
                <a:off x="1571760" y="4228920"/>
                <a:ext cx="88596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5" name=""/>
              <p:cNvSpPr/>
              <p:nvPr/>
            </p:nvSpPr>
            <p:spPr>
              <a:xfrm>
                <a:off x="1543320" y="4829040"/>
                <a:ext cx="88560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6" name=""/>
              <p:cNvSpPr/>
              <p:nvPr/>
            </p:nvSpPr>
            <p:spPr>
              <a:xfrm>
                <a:off x="1543320" y="5400360"/>
                <a:ext cx="88560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7" name=""/>
              <p:cNvSpPr/>
              <p:nvPr/>
            </p:nvSpPr>
            <p:spPr>
              <a:xfrm>
                <a:off x="1557360" y="5943240"/>
                <a:ext cx="88596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8" name=""/>
              <p:cNvSpPr/>
              <p:nvPr/>
            </p:nvSpPr>
            <p:spPr>
              <a:xfrm>
                <a:off x="2557800" y="2028600"/>
                <a:ext cx="242640" cy="271440"/>
              </a:xfrm>
              <a:prstGeom prst="rect">
                <a:avLst/>
              </a:prstGeom>
              <a:solidFill>
                <a:srgbClr val="fefde3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9" name=""/>
              <p:cNvSpPr/>
              <p:nvPr/>
            </p:nvSpPr>
            <p:spPr>
              <a:xfrm>
                <a:off x="2605320" y="2076120"/>
                <a:ext cx="164880" cy="168480"/>
              </a:xfrm>
              <a:prstGeom prst="ellipse">
                <a:avLst/>
              </a:prstGeom>
              <a:solidFill>
                <a:srgbClr val="ffcc66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0" name=""/>
              <p:cNvSpPr/>
              <p:nvPr/>
            </p:nvSpPr>
            <p:spPr>
              <a:xfrm flipV="1">
                <a:off x="2640240" y="2098440"/>
                <a:ext cx="123840" cy="101520"/>
              </a:xfrm>
              <a:prstGeom prst="upArrow">
                <a:avLst>
                  <a:gd name="adj1" fmla="val 50000"/>
                  <a:gd name="adj2" fmla="val 25000"/>
                </a:avLst>
              </a:prstGeom>
              <a:solidFill>
                <a:srgbClr val="ff330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31" name=""/>
              <p:cNvGrpSpPr/>
              <p:nvPr/>
            </p:nvGrpSpPr>
            <p:grpSpPr>
              <a:xfrm>
                <a:off x="2557800" y="2442960"/>
                <a:ext cx="271440" cy="442800"/>
                <a:chOff x="2557800" y="2442960"/>
                <a:chExt cx="271440" cy="442800"/>
              </a:xfrm>
            </p:grpSpPr>
            <p:sp>
              <p:nvSpPr>
                <p:cNvPr id="3432" name=""/>
                <p:cNvSpPr/>
                <p:nvPr/>
              </p:nvSpPr>
              <p:spPr>
                <a:xfrm>
                  <a:off x="2557800" y="2442960"/>
                  <a:ext cx="271440" cy="442800"/>
                </a:xfrm>
                <a:prstGeom prst="rect">
                  <a:avLst/>
                </a:prstGeom>
                <a:solidFill>
                  <a:srgbClr val="fefd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3" name=""/>
                <p:cNvSpPr/>
                <p:nvPr/>
              </p:nvSpPr>
              <p:spPr>
                <a:xfrm>
                  <a:off x="2610000" y="2469240"/>
                  <a:ext cx="166320" cy="168120"/>
                </a:xfrm>
                <a:prstGeom prst="ellipse">
                  <a:avLst/>
                </a:prstGeom>
                <a:solidFill>
                  <a:srgbClr val="ffcc66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4" name=""/>
                <p:cNvSpPr/>
                <p:nvPr/>
              </p:nvSpPr>
              <p:spPr>
                <a:xfrm>
                  <a:off x="2645280" y="2504880"/>
                  <a:ext cx="96120" cy="88560"/>
                </a:xfrm>
                <a:prstGeom prst="upArrow">
                  <a:avLst>
                    <a:gd name="adj1" fmla="val 50000"/>
                    <a:gd name="adj2" fmla="val 25000"/>
                  </a:avLst>
                </a:prstGeom>
                <a:solidFill>
                  <a:srgbClr val="ff330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5" name=""/>
                <p:cNvSpPr/>
                <p:nvPr/>
              </p:nvSpPr>
              <p:spPr>
                <a:xfrm>
                  <a:off x="2619000" y="2690640"/>
                  <a:ext cx="166320" cy="168120"/>
                </a:xfrm>
                <a:prstGeom prst="ellipse">
                  <a:avLst/>
                </a:prstGeom>
                <a:solidFill>
                  <a:srgbClr val="ffcc66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6" name=""/>
                <p:cNvSpPr/>
                <p:nvPr/>
              </p:nvSpPr>
              <p:spPr>
                <a:xfrm flipV="1">
                  <a:off x="2653920" y="2726280"/>
                  <a:ext cx="96120" cy="88560"/>
                </a:xfrm>
                <a:prstGeom prst="upArrow">
                  <a:avLst>
                    <a:gd name="adj1" fmla="val 50000"/>
                    <a:gd name="adj2" fmla="val 25000"/>
                  </a:avLst>
                </a:prstGeom>
                <a:solidFill>
                  <a:srgbClr val="ff330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7" name=""/>
              <p:cNvGrpSpPr/>
              <p:nvPr/>
            </p:nvGrpSpPr>
            <p:grpSpPr>
              <a:xfrm>
                <a:off x="2557800" y="3643200"/>
                <a:ext cx="271440" cy="442800"/>
                <a:chOff x="2557800" y="3643200"/>
                <a:chExt cx="271440" cy="442800"/>
              </a:xfrm>
            </p:grpSpPr>
            <p:sp>
              <p:nvSpPr>
                <p:cNvPr id="3438" name=""/>
                <p:cNvSpPr/>
                <p:nvPr/>
              </p:nvSpPr>
              <p:spPr>
                <a:xfrm>
                  <a:off x="2557800" y="3643200"/>
                  <a:ext cx="271440" cy="442800"/>
                </a:xfrm>
                <a:prstGeom prst="rect">
                  <a:avLst/>
                </a:prstGeom>
                <a:solidFill>
                  <a:srgbClr val="fefd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9" name=""/>
                <p:cNvSpPr/>
                <p:nvPr/>
              </p:nvSpPr>
              <p:spPr>
                <a:xfrm>
                  <a:off x="2610000" y="3669480"/>
                  <a:ext cx="166320" cy="168120"/>
                </a:xfrm>
                <a:prstGeom prst="ellipse">
                  <a:avLst/>
                </a:prstGeom>
                <a:solidFill>
                  <a:srgbClr val="ffcc66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0" name=""/>
                <p:cNvSpPr/>
                <p:nvPr/>
              </p:nvSpPr>
              <p:spPr>
                <a:xfrm>
                  <a:off x="2645280" y="3705120"/>
                  <a:ext cx="96120" cy="88560"/>
                </a:xfrm>
                <a:prstGeom prst="upArrow">
                  <a:avLst>
                    <a:gd name="adj1" fmla="val 50000"/>
                    <a:gd name="adj2" fmla="val 25000"/>
                  </a:avLst>
                </a:prstGeom>
                <a:solidFill>
                  <a:srgbClr val="ff330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1" name=""/>
                <p:cNvSpPr/>
                <p:nvPr/>
              </p:nvSpPr>
              <p:spPr>
                <a:xfrm>
                  <a:off x="2619000" y="3890880"/>
                  <a:ext cx="166320" cy="168120"/>
                </a:xfrm>
                <a:prstGeom prst="ellipse">
                  <a:avLst/>
                </a:prstGeom>
                <a:solidFill>
                  <a:srgbClr val="ffcc66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2" name=""/>
                <p:cNvSpPr/>
                <p:nvPr/>
              </p:nvSpPr>
              <p:spPr>
                <a:xfrm flipV="1">
                  <a:off x="2653920" y="3926520"/>
                  <a:ext cx="96120" cy="88560"/>
                </a:xfrm>
                <a:prstGeom prst="upArrow">
                  <a:avLst>
                    <a:gd name="adj1" fmla="val 50000"/>
                    <a:gd name="adj2" fmla="val 25000"/>
                  </a:avLst>
                </a:prstGeom>
                <a:solidFill>
                  <a:srgbClr val="ff330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43" name=""/>
              <p:cNvGrpSpPr/>
              <p:nvPr/>
            </p:nvGrpSpPr>
            <p:grpSpPr>
              <a:xfrm>
                <a:off x="2557800" y="3043080"/>
                <a:ext cx="271440" cy="442800"/>
                <a:chOff x="2557800" y="3043080"/>
                <a:chExt cx="271440" cy="442800"/>
              </a:xfrm>
            </p:grpSpPr>
            <p:sp>
              <p:nvSpPr>
                <p:cNvPr id="3444" name=""/>
                <p:cNvSpPr/>
                <p:nvPr/>
              </p:nvSpPr>
              <p:spPr>
                <a:xfrm>
                  <a:off x="2557800" y="3043080"/>
                  <a:ext cx="271440" cy="442800"/>
                </a:xfrm>
                <a:prstGeom prst="rect">
                  <a:avLst/>
                </a:prstGeom>
                <a:solidFill>
                  <a:srgbClr val="fefd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5" name=""/>
                <p:cNvSpPr/>
                <p:nvPr/>
              </p:nvSpPr>
              <p:spPr>
                <a:xfrm>
                  <a:off x="2610000" y="3069360"/>
                  <a:ext cx="166320" cy="168120"/>
                </a:xfrm>
                <a:prstGeom prst="ellipse">
                  <a:avLst/>
                </a:prstGeom>
                <a:solidFill>
                  <a:srgbClr val="ffcc66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6" name=""/>
                <p:cNvSpPr/>
                <p:nvPr/>
              </p:nvSpPr>
              <p:spPr>
                <a:xfrm>
                  <a:off x="2645280" y="3105000"/>
                  <a:ext cx="96120" cy="88560"/>
                </a:xfrm>
                <a:prstGeom prst="upArrow">
                  <a:avLst>
                    <a:gd name="adj1" fmla="val 50000"/>
                    <a:gd name="adj2" fmla="val 25000"/>
                  </a:avLst>
                </a:prstGeom>
                <a:solidFill>
                  <a:srgbClr val="ff330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7" name=""/>
                <p:cNvSpPr/>
                <p:nvPr/>
              </p:nvSpPr>
              <p:spPr>
                <a:xfrm>
                  <a:off x="2619000" y="3290760"/>
                  <a:ext cx="166320" cy="168120"/>
                </a:xfrm>
                <a:prstGeom prst="ellipse">
                  <a:avLst/>
                </a:prstGeom>
                <a:solidFill>
                  <a:srgbClr val="ffcc66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8" name=""/>
                <p:cNvSpPr/>
                <p:nvPr/>
              </p:nvSpPr>
              <p:spPr>
                <a:xfrm flipV="1">
                  <a:off x="2653920" y="3326400"/>
                  <a:ext cx="96120" cy="88560"/>
                </a:xfrm>
                <a:prstGeom prst="upArrow">
                  <a:avLst>
                    <a:gd name="adj1" fmla="val 50000"/>
                    <a:gd name="adj2" fmla="val 25000"/>
                  </a:avLst>
                </a:prstGeom>
                <a:solidFill>
                  <a:srgbClr val="ff330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49" name=""/>
              <p:cNvGrpSpPr/>
              <p:nvPr/>
            </p:nvGrpSpPr>
            <p:grpSpPr>
              <a:xfrm>
                <a:off x="2557800" y="4271760"/>
                <a:ext cx="271440" cy="442800"/>
                <a:chOff x="2557800" y="4271760"/>
                <a:chExt cx="271440" cy="442800"/>
              </a:xfrm>
            </p:grpSpPr>
            <p:sp>
              <p:nvSpPr>
                <p:cNvPr id="3450" name=""/>
                <p:cNvSpPr/>
                <p:nvPr/>
              </p:nvSpPr>
              <p:spPr>
                <a:xfrm>
                  <a:off x="2557800" y="4271760"/>
                  <a:ext cx="271440" cy="442800"/>
                </a:xfrm>
                <a:prstGeom prst="rect">
                  <a:avLst/>
                </a:prstGeom>
                <a:solidFill>
                  <a:srgbClr val="fefd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1" name=""/>
                <p:cNvSpPr/>
                <p:nvPr/>
              </p:nvSpPr>
              <p:spPr>
                <a:xfrm>
                  <a:off x="2610000" y="4298040"/>
                  <a:ext cx="166320" cy="168120"/>
                </a:xfrm>
                <a:prstGeom prst="ellipse">
                  <a:avLst/>
                </a:prstGeom>
                <a:solidFill>
                  <a:srgbClr val="ffcc66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2" name=""/>
                <p:cNvSpPr/>
                <p:nvPr/>
              </p:nvSpPr>
              <p:spPr>
                <a:xfrm>
                  <a:off x="2645280" y="4333680"/>
                  <a:ext cx="96120" cy="88560"/>
                </a:xfrm>
                <a:prstGeom prst="upArrow">
                  <a:avLst>
                    <a:gd name="adj1" fmla="val 50000"/>
                    <a:gd name="adj2" fmla="val 25000"/>
                  </a:avLst>
                </a:prstGeom>
                <a:solidFill>
                  <a:srgbClr val="ff330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3" name=""/>
                <p:cNvSpPr/>
                <p:nvPr/>
              </p:nvSpPr>
              <p:spPr>
                <a:xfrm>
                  <a:off x="2619000" y="4519440"/>
                  <a:ext cx="166320" cy="168120"/>
                </a:xfrm>
                <a:prstGeom prst="ellipse">
                  <a:avLst/>
                </a:prstGeom>
                <a:solidFill>
                  <a:srgbClr val="ffcc66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4" name=""/>
                <p:cNvSpPr/>
                <p:nvPr/>
              </p:nvSpPr>
              <p:spPr>
                <a:xfrm flipV="1">
                  <a:off x="2653920" y="4555080"/>
                  <a:ext cx="96120" cy="88560"/>
                </a:xfrm>
                <a:prstGeom prst="upArrow">
                  <a:avLst>
                    <a:gd name="adj1" fmla="val 50000"/>
                    <a:gd name="adj2" fmla="val 25000"/>
                  </a:avLst>
                </a:prstGeom>
                <a:solidFill>
                  <a:srgbClr val="ff330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5" name=""/>
              <p:cNvGrpSpPr/>
              <p:nvPr/>
            </p:nvGrpSpPr>
            <p:grpSpPr>
              <a:xfrm>
                <a:off x="2557800" y="4814640"/>
                <a:ext cx="271440" cy="442800"/>
                <a:chOff x="2557800" y="4814640"/>
                <a:chExt cx="271440" cy="442800"/>
              </a:xfrm>
            </p:grpSpPr>
            <p:sp>
              <p:nvSpPr>
                <p:cNvPr id="3456" name=""/>
                <p:cNvSpPr/>
                <p:nvPr/>
              </p:nvSpPr>
              <p:spPr>
                <a:xfrm>
                  <a:off x="2557800" y="4814640"/>
                  <a:ext cx="271440" cy="442800"/>
                </a:xfrm>
                <a:prstGeom prst="rect">
                  <a:avLst/>
                </a:prstGeom>
                <a:solidFill>
                  <a:srgbClr val="fefd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7" name=""/>
                <p:cNvSpPr/>
                <p:nvPr/>
              </p:nvSpPr>
              <p:spPr>
                <a:xfrm>
                  <a:off x="2610000" y="4840920"/>
                  <a:ext cx="166320" cy="168120"/>
                </a:xfrm>
                <a:prstGeom prst="ellipse">
                  <a:avLst/>
                </a:prstGeom>
                <a:solidFill>
                  <a:srgbClr val="ffcc66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8" name=""/>
                <p:cNvSpPr/>
                <p:nvPr/>
              </p:nvSpPr>
              <p:spPr>
                <a:xfrm>
                  <a:off x="2645280" y="4876560"/>
                  <a:ext cx="96120" cy="88560"/>
                </a:xfrm>
                <a:prstGeom prst="upArrow">
                  <a:avLst>
                    <a:gd name="adj1" fmla="val 50000"/>
                    <a:gd name="adj2" fmla="val 25000"/>
                  </a:avLst>
                </a:prstGeom>
                <a:solidFill>
                  <a:srgbClr val="ff330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9" name=""/>
                <p:cNvSpPr/>
                <p:nvPr/>
              </p:nvSpPr>
              <p:spPr>
                <a:xfrm>
                  <a:off x="2619000" y="5062320"/>
                  <a:ext cx="166320" cy="168120"/>
                </a:xfrm>
                <a:prstGeom prst="ellipse">
                  <a:avLst/>
                </a:prstGeom>
                <a:solidFill>
                  <a:srgbClr val="ffcc66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0" name=""/>
                <p:cNvSpPr/>
                <p:nvPr/>
              </p:nvSpPr>
              <p:spPr>
                <a:xfrm flipV="1">
                  <a:off x="2653920" y="5097960"/>
                  <a:ext cx="96120" cy="88560"/>
                </a:xfrm>
                <a:prstGeom prst="upArrow">
                  <a:avLst>
                    <a:gd name="adj1" fmla="val 50000"/>
                    <a:gd name="adj2" fmla="val 25000"/>
                  </a:avLst>
                </a:prstGeom>
                <a:solidFill>
                  <a:srgbClr val="ff330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61" name=""/>
              <p:cNvSpPr/>
              <p:nvPr/>
            </p:nvSpPr>
            <p:spPr>
              <a:xfrm>
                <a:off x="2586240" y="5457600"/>
                <a:ext cx="285840" cy="243000"/>
              </a:xfrm>
              <a:prstGeom prst="rect">
                <a:avLst/>
              </a:prstGeom>
              <a:solidFill>
                <a:srgbClr val="fefde3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2" name=""/>
              <p:cNvSpPr/>
              <p:nvPr/>
            </p:nvSpPr>
            <p:spPr>
              <a:xfrm>
                <a:off x="2638440" y="5484600"/>
                <a:ext cx="166680" cy="168120"/>
              </a:xfrm>
              <a:prstGeom prst="ellipse">
                <a:avLst/>
              </a:prstGeom>
              <a:solidFill>
                <a:srgbClr val="ffcc66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3" name=""/>
              <p:cNvSpPr/>
              <p:nvPr/>
            </p:nvSpPr>
            <p:spPr>
              <a:xfrm>
                <a:off x="2673360" y="5519520"/>
                <a:ext cx="96840" cy="88920"/>
              </a:xfrm>
              <a:prstGeom prst="upArrow">
                <a:avLst>
                  <a:gd name="adj1" fmla="val 50000"/>
                  <a:gd name="adj2" fmla="val 25000"/>
                </a:avLst>
              </a:prstGeom>
              <a:solidFill>
                <a:srgbClr val="ff330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4" name=""/>
              <p:cNvSpPr/>
              <p:nvPr/>
            </p:nvSpPr>
            <p:spPr>
              <a:xfrm>
                <a:off x="2257560" y="2357280"/>
                <a:ext cx="828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5" name=""/>
              <p:cNvSpPr/>
              <p:nvPr/>
            </p:nvSpPr>
            <p:spPr>
              <a:xfrm>
                <a:off x="2271960" y="2871720"/>
                <a:ext cx="114120" cy="145800"/>
              </a:xfrm>
              <a:prstGeom prst="ellipse">
                <a:avLst/>
              </a:prstGeom>
              <a:solidFill>
                <a:srgbClr val="221304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>
                <a:off x="2257560" y="2285640"/>
                <a:ext cx="114480" cy="146160"/>
              </a:xfrm>
              <a:prstGeom prst="ellipse">
                <a:avLst/>
              </a:prstGeom>
              <a:solidFill>
                <a:srgbClr val="221304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7" name=""/>
              <p:cNvSpPr/>
              <p:nvPr/>
            </p:nvSpPr>
            <p:spPr>
              <a:xfrm>
                <a:off x="2271960" y="4086000"/>
                <a:ext cx="114120" cy="146160"/>
              </a:xfrm>
              <a:prstGeom prst="ellipse">
                <a:avLst/>
              </a:prstGeom>
              <a:solidFill>
                <a:srgbClr val="221304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8" name=""/>
              <p:cNvSpPr/>
              <p:nvPr/>
            </p:nvSpPr>
            <p:spPr>
              <a:xfrm>
                <a:off x="2257560" y="4671720"/>
                <a:ext cx="114480" cy="146160"/>
              </a:xfrm>
              <a:prstGeom prst="ellipse">
                <a:avLst/>
              </a:prstGeom>
              <a:solidFill>
                <a:srgbClr val="221304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9" name=""/>
              <p:cNvSpPr/>
              <p:nvPr/>
            </p:nvSpPr>
            <p:spPr>
              <a:xfrm>
                <a:off x="2314800" y="3485880"/>
                <a:ext cx="114120" cy="146160"/>
              </a:xfrm>
              <a:prstGeom prst="ellipse">
                <a:avLst/>
              </a:prstGeom>
              <a:solidFill>
                <a:srgbClr val="221304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0" name=""/>
              <p:cNvSpPr/>
              <p:nvPr/>
            </p:nvSpPr>
            <p:spPr>
              <a:xfrm>
                <a:off x="2286360" y="5229000"/>
                <a:ext cx="114120" cy="146160"/>
              </a:xfrm>
              <a:prstGeom prst="ellipse">
                <a:avLst/>
              </a:prstGeom>
              <a:solidFill>
                <a:srgbClr val="221304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1" name=""/>
              <p:cNvSpPr/>
              <p:nvPr/>
            </p:nvSpPr>
            <p:spPr>
              <a:xfrm>
                <a:off x="2286360" y="5771880"/>
                <a:ext cx="114120" cy="146160"/>
              </a:xfrm>
              <a:prstGeom prst="ellipse">
                <a:avLst/>
              </a:prstGeom>
              <a:solidFill>
                <a:srgbClr val="221304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2" name=""/>
              <p:cNvSpPr/>
              <p:nvPr/>
            </p:nvSpPr>
            <p:spPr>
              <a:xfrm>
                <a:off x="2386080" y="2957400"/>
                <a:ext cx="828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3" name=""/>
              <p:cNvSpPr/>
              <p:nvPr/>
            </p:nvSpPr>
            <p:spPr>
              <a:xfrm>
                <a:off x="2372040" y="3571560"/>
                <a:ext cx="828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4" name=""/>
              <p:cNvSpPr/>
              <p:nvPr/>
            </p:nvSpPr>
            <p:spPr>
              <a:xfrm>
                <a:off x="2372040" y="4171680"/>
                <a:ext cx="828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5" name=""/>
              <p:cNvSpPr/>
              <p:nvPr/>
            </p:nvSpPr>
            <p:spPr>
              <a:xfrm>
                <a:off x="2357640" y="4771800"/>
                <a:ext cx="828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6" name=""/>
              <p:cNvSpPr/>
              <p:nvPr/>
            </p:nvSpPr>
            <p:spPr>
              <a:xfrm>
                <a:off x="2372040" y="5343480"/>
                <a:ext cx="828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7" name=""/>
              <p:cNvSpPr/>
              <p:nvPr/>
            </p:nvSpPr>
            <p:spPr>
              <a:xfrm>
                <a:off x="2357640" y="5843520"/>
                <a:ext cx="828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78" name=""/>
            <p:cNvSpPr/>
            <p:nvPr/>
          </p:nvSpPr>
          <p:spPr>
            <a:xfrm>
              <a:off x="4029120" y="2743200"/>
              <a:ext cx="1557360" cy="2857680"/>
            </a:xfrm>
            <a:prstGeom prst="rect">
              <a:avLst/>
            </a:prstGeom>
            <a:solidFill>
              <a:srgbClr val="fefde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9" name=""/>
            <p:cNvSpPr/>
            <p:nvPr/>
          </p:nvSpPr>
          <p:spPr>
            <a:xfrm>
              <a:off x="4629240" y="3100320"/>
              <a:ext cx="214200" cy="2001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4214880" y="3386160"/>
              <a:ext cx="214200" cy="20016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4214880" y="3657600"/>
              <a:ext cx="214200" cy="20016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4229280" y="3914640"/>
              <a:ext cx="214200" cy="20016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4229280" y="4172040"/>
              <a:ext cx="214200" cy="19980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4243320" y="4457880"/>
              <a:ext cx="214560" cy="19980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4229280" y="4714920"/>
              <a:ext cx="214200" cy="20016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4214880" y="3100320"/>
              <a:ext cx="214200" cy="20016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4209480" y="3645000"/>
              <a:ext cx="238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9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4241160" y="4441680"/>
              <a:ext cx="232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4221000" y="4699080"/>
              <a:ext cx="289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9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4238280" y="4159080"/>
              <a:ext cx="238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1" name=""/>
            <p:cNvSpPr/>
            <p:nvPr/>
          </p:nvSpPr>
          <p:spPr>
            <a:xfrm>
              <a:off x="4223880" y="3902040"/>
              <a:ext cx="238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9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4195440" y="3087720"/>
              <a:ext cx="238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9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3" name=""/>
            <p:cNvSpPr/>
            <p:nvPr/>
          </p:nvSpPr>
          <p:spPr>
            <a:xfrm>
              <a:off x="4195440" y="3359160"/>
              <a:ext cx="238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9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4" name=""/>
            <p:cNvSpPr/>
            <p:nvPr/>
          </p:nvSpPr>
          <p:spPr>
            <a:xfrm>
              <a:off x="6000840" y="5043600"/>
              <a:ext cx="0" cy="10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4757760" y="5429160"/>
              <a:ext cx="142920" cy="128520"/>
            </a:xfrm>
            <a:prstGeom prst="ellipse">
              <a:avLst/>
            </a:prstGeom>
            <a:solidFill>
              <a:srgbClr val="221304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6" name=""/>
            <p:cNvSpPr/>
            <p:nvPr/>
          </p:nvSpPr>
          <p:spPr>
            <a:xfrm>
              <a:off x="4829040" y="5557680"/>
              <a:ext cx="0" cy="41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7" name=""/>
            <p:cNvSpPr/>
            <p:nvPr/>
          </p:nvSpPr>
          <p:spPr>
            <a:xfrm>
              <a:off x="5915160" y="4943520"/>
              <a:ext cx="142920" cy="128520"/>
            </a:xfrm>
            <a:prstGeom prst="ellipse">
              <a:avLst/>
            </a:prstGeom>
            <a:solidFill>
              <a:srgbClr val="221304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5029200" y="2314440"/>
              <a:ext cx="343080" cy="185760"/>
            </a:xfrm>
            <a:prstGeom prst="donut">
              <a:avLst>
                <a:gd name="adj" fmla="val 25000"/>
              </a:avLst>
            </a:prstGeom>
            <a:solidFill>
              <a:srgbClr val="ffcc6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9" name=""/>
            <p:cNvSpPr/>
            <p:nvPr/>
          </p:nvSpPr>
          <p:spPr>
            <a:xfrm>
              <a:off x="3943440" y="2386080"/>
              <a:ext cx="110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0" name=""/>
            <p:cNvSpPr/>
            <p:nvPr/>
          </p:nvSpPr>
          <p:spPr>
            <a:xfrm>
              <a:off x="4157640" y="3014640"/>
              <a:ext cx="757440" cy="1971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1" name=""/>
            <p:cNvSpPr/>
            <p:nvPr/>
          </p:nvSpPr>
          <p:spPr>
            <a:xfrm flipV="1">
              <a:off x="4414680" y="5457600"/>
              <a:ext cx="0" cy="74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2" name=""/>
          <p:cNvGrpSpPr/>
          <p:nvPr/>
        </p:nvGrpSpPr>
        <p:grpSpPr>
          <a:xfrm>
            <a:off x="7296120" y="6143760"/>
            <a:ext cx="1276200" cy="385560"/>
            <a:chOff x="7296120" y="6143760"/>
            <a:chExt cx="1276200" cy="385560"/>
          </a:xfrm>
        </p:grpSpPr>
        <p:sp>
          <p:nvSpPr>
            <p:cNvPr id="3503" name="">
              <a:hlinkClick r:id="" action="ppaction://hlinkshowjump?jump=previousslide"/>
            </p:cNvPr>
            <p:cNvSpPr/>
            <p:nvPr/>
          </p:nvSpPr>
          <p:spPr>
            <a:xfrm>
              <a:off x="7296120" y="6143760"/>
              <a:ext cx="399600" cy="385560"/>
            </a:xfrm>
            <a:custGeom>
              <a:avLst/>
              <a:gdLst>
                <a:gd name="textAreaLeft" fmla="*/ 24840 w 399600"/>
                <a:gd name="textAreaRight" fmla="*/ 374760 w 399600"/>
                <a:gd name="textAreaTop" fmla="*/ 24840 h 385560"/>
                <a:gd name="textAreaBottom" fmla="*/ 360720 h 385560"/>
              </a:gdLst>
              <a:ahLst/>
              <a:rect l="textAreaLeft" t="textAreaTop" r="textAreaRight" b="textAreaBottom"/>
              <a:pathLst>
                <a:path w="22386" h="21600">
                  <a:moveTo>
                    <a:pt x="0" y="0"/>
                  </a:moveTo>
                  <a:lnTo>
                    <a:pt x="22386" y="0"/>
                  </a:lnTo>
                  <a:lnTo>
                    <a:pt x="22386" y="21600"/>
                  </a:lnTo>
                  <a:lnTo>
                    <a:pt x="0" y="21600"/>
                  </a:lnTo>
                  <a:close/>
                </a:path>
                <a:path fill="lightenLess" w="22386" h="21600">
                  <a:moveTo>
                    <a:pt x="0" y="0"/>
                  </a:moveTo>
                  <a:lnTo>
                    <a:pt x="22386" y="0"/>
                  </a:lnTo>
                  <a:lnTo>
                    <a:pt x="20986" y="1400"/>
                  </a:lnTo>
                  <a:lnTo>
                    <a:pt x="1400" y="1400"/>
                  </a:lnTo>
                  <a:close/>
                </a:path>
                <a:path fill="darken" w="22386" h="21600">
                  <a:moveTo>
                    <a:pt x="22386" y="0"/>
                  </a:moveTo>
                  <a:lnTo>
                    <a:pt x="22386" y="21600"/>
                  </a:lnTo>
                  <a:lnTo>
                    <a:pt x="20986" y="20200"/>
                  </a:lnTo>
                  <a:lnTo>
                    <a:pt x="20986" y="1400"/>
                  </a:lnTo>
                  <a:close/>
                </a:path>
                <a:path fill="darkenLess" w="22386" h="21600">
                  <a:moveTo>
                    <a:pt x="223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986" y="20200"/>
                  </a:lnTo>
                  <a:close/>
                </a:path>
                <a:path fill="lighten" w="223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386" h="21600">
                  <a:moveTo>
                    <a:pt x="4186" y="10800"/>
                  </a:moveTo>
                  <a:lnTo>
                    <a:pt x="18199" y="3794"/>
                  </a:lnTo>
                  <a:lnTo>
                    <a:pt x="18199" y="17806"/>
                  </a:lnTo>
                  <a:close/>
                </a:path>
              </a:pathLst>
            </a:cu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4" name="">
              <a:hlinkClick r:id="" action="ppaction://hlinkshowjump?jump=nextslide"/>
            </p:cNvPr>
            <p:cNvSpPr/>
            <p:nvPr/>
          </p:nvSpPr>
          <p:spPr>
            <a:xfrm>
              <a:off x="7733880" y="6143760"/>
              <a:ext cx="400680" cy="385560"/>
            </a:xfrm>
            <a:custGeom>
              <a:avLst/>
              <a:gdLst>
                <a:gd name="textAreaLeft" fmla="*/ 24840 w 400680"/>
                <a:gd name="textAreaRight" fmla="*/ 375840 w 400680"/>
                <a:gd name="textAreaTop" fmla="*/ 24840 h 385560"/>
                <a:gd name="textAreaBottom" fmla="*/ 360720 h 385560"/>
              </a:gdLst>
              <a:ahLst/>
              <a:rect l="textAreaLeft" t="textAreaTop" r="textAreaRight" b="textAreaBottom"/>
              <a:pathLst>
                <a:path w="22446" h="21600">
                  <a:moveTo>
                    <a:pt x="0" y="0"/>
                  </a:moveTo>
                  <a:lnTo>
                    <a:pt x="22446" y="0"/>
                  </a:lnTo>
                  <a:lnTo>
                    <a:pt x="22446" y="21600"/>
                  </a:lnTo>
                  <a:lnTo>
                    <a:pt x="0" y="21600"/>
                  </a:lnTo>
                  <a:close/>
                </a:path>
                <a:path fill="lightenLess" w="22446" h="21600">
                  <a:moveTo>
                    <a:pt x="0" y="0"/>
                  </a:moveTo>
                  <a:lnTo>
                    <a:pt x="22446" y="0"/>
                  </a:lnTo>
                  <a:lnTo>
                    <a:pt x="21046" y="1400"/>
                  </a:lnTo>
                  <a:lnTo>
                    <a:pt x="1400" y="1400"/>
                  </a:lnTo>
                  <a:close/>
                </a:path>
                <a:path fill="darken" w="22446" h="21600">
                  <a:moveTo>
                    <a:pt x="22446" y="0"/>
                  </a:moveTo>
                  <a:lnTo>
                    <a:pt x="22446" y="21600"/>
                  </a:lnTo>
                  <a:lnTo>
                    <a:pt x="21046" y="20200"/>
                  </a:lnTo>
                  <a:lnTo>
                    <a:pt x="21046" y="1400"/>
                  </a:lnTo>
                  <a:close/>
                </a:path>
                <a:path fill="darkenLess" w="22446" h="21600">
                  <a:moveTo>
                    <a:pt x="2244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1046" y="20200"/>
                  </a:lnTo>
                  <a:close/>
                </a:path>
                <a:path fill="lighten" w="2244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446" h="21600">
                  <a:moveTo>
                    <a:pt x="4217" y="3794"/>
                  </a:moveTo>
                  <a:lnTo>
                    <a:pt x="18230" y="10800"/>
                  </a:lnTo>
                  <a:lnTo>
                    <a:pt x="4217" y="17806"/>
                  </a:lnTo>
                  <a:close/>
                </a:path>
              </a:pathLst>
            </a:cu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5" name="">
              <a:hlinkClick r:id="" action="ppaction://hlinkshowjump?jump=firstslide"/>
            </p:cNvPr>
            <p:cNvSpPr/>
            <p:nvPr/>
          </p:nvSpPr>
          <p:spPr>
            <a:xfrm>
              <a:off x="8172720" y="6143760"/>
              <a:ext cx="399600" cy="385560"/>
            </a:xfrm>
            <a:custGeom>
              <a:avLst/>
              <a:gdLst>
                <a:gd name="textAreaLeft" fmla="*/ 24840 w 399600"/>
                <a:gd name="textAreaRight" fmla="*/ 374760 w 399600"/>
                <a:gd name="textAreaTop" fmla="*/ 24840 h 385560"/>
                <a:gd name="textAreaBottom" fmla="*/ 360720 h 385560"/>
              </a:gdLst>
              <a:ahLst/>
              <a:rect l="textAreaLeft" t="textAreaTop" r="textAreaRight" b="textAreaBottom"/>
              <a:pathLst>
                <a:path w="22386" h="21600">
                  <a:moveTo>
                    <a:pt x="0" y="0"/>
                  </a:moveTo>
                  <a:lnTo>
                    <a:pt x="22386" y="0"/>
                  </a:lnTo>
                  <a:lnTo>
                    <a:pt x="22386" y="21600"/>
                  </a:lnTo>
                  <a:lnTo>
                    <a:pt x="0" y="21600"/>
                  </a:lnTo>
                  <a:close/>
                </a:path>
                <a:path fill="lightenLess" w="22386" h="21600">
                  <a:moveTo>
                    <a:pt x="0" y="0"/>
                  </a:moveTo>
                  <a:lnTo>
                    <a:pt x="22386" y="0"/>
                  </a:lnTo>
                  <a:lnTo>
                    <a:pt x="20986" y="1400"/>
                  </a:lnTo>
                  <a:lnTo>
                    <a:pt x="1400" y="1400"/>
                  </a:lnTo>
                  <a:close/>
                </a:path>
                <a:path fill="darken" w="22386" h="21600">
                  <a:moveTo>
                    <a:pt x="22386" y="0"/>
                  </a:moveTo>
                  <a:lnTo>
                    <a:pt x="22386" y="21600"/>
                  </a:lnTo>
                  <a:lnTo>
                    <a:pt x="20986" y="20200"/>
                  </a:lnTo>
                  <a:lnTo>
                    <a:pt x="20986" y="1400"/>
                  </a:lnTo>
                  <a:close/>
                </a:path>
                <a:path fill="darkenLess" w="22386" h="21600">
                  <a:moveTo>
                    <a:pt x="223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986" y="20200"/>
                  </a:lnTo>
                  <a:close/>
                </a:path>
                <a:path fill="lighten" w="223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386" h="21600">
                  <a:moveTo>
                    <a:pt x="7694" y="10800"/>
                  </a:moveTo>
                  <a:lnTo>
                    <a:pt x="18199" y="3794"/>
                  </a:lnTo>
                  <a:lnTo>
                    <a:pt x="18199" y="17806"/>
                  </a:lnTo>
                  <a:close/>
                </a:path>
                <a:path fill="darken" w="22386" h="21600">
                  <a:moveTo>
                    <a:pt x="4186" y="3794"/>
                  </a:moveTo>
                  <a:lnTo>
                    <a:pt x="5849" y="3794"/>
                  </a:lnTo>
                  <a:lnTo>
                    <a:pt x="5849" y="17806"/>
                  </a:lnTo>
                  <a:lnTo>
                    <a:pt x="4186" y="17806"/>
                  </a:lnTo>
                  <a:close/>
                </a:path>
              </a:pathLst>
            </a:cu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0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Z</a:t>
            </a:r>
            <a:r>
              <a:rPr b="1" lang="sk-SK" sz="4400" spc="-1" strike="noStrike">
                <a:solidFill>
                  <a:srgbClr val="221304"/>
                </a:solidFill>
                <a:latin typeface="Times New Roman"/>
              </a:rPr>
              <a:t>adanie </a:t>
            </a: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2</a:t>
            </a:r>
            <a:r>
              <a:rPr b="1" lang="sk-SK" sz="4400" spc="-1" strike="noStrike">
                <a:solidFill>
                  <a:srgbClr val="221304"/>
                </a:solidFill>
                <a:latin typeface="Times New Roman"/>
              </a:rPr>
              <a:t>8</a:t>
            </a:r>
            <a:r>
              <a:rPr b="0" i="1" lang="sk-SK" sz="4400" spc="-1" strike="noStrike">
                <a:solidFill>
                  <a:srgbClr val="221304"/>
                </a:solidFill>
                <a:latin typeface="Times New Roman"/>
              </a:rPr>
              <a:t>:Montážne pracovisko </a:t>
            </a:r>
            <a:r>
              <a:rPr b="0" i="1" lang="sk-SK" sz="2000" spc="-1" strike="noStrike">
                <a:solidFill>
                  <a:srgbClr val="221304"/>
                </a:solidFill>
                <a:latin typeface="Times New Roman"/>
              </a:rPr>
              <a:t>( FESTO )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Z</a:t>
            </a:r>
            <a:r>
              <a:rPr b="1" lang="sk-SK" sz="4400" spc="-1" strike="noStrike">
                <a:solidFill>
                  <a:srgbClr val="221304"/>
                </a:solidFill>
                <a:latin typeface="Times New Roman"/>
              </a:rPr>
              <a:t>adanie </a:t>
            </a: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2</a:t>
            </a:r>
            <a:r>
              <a:rPr b="1" lang="sk-SK" sz="4400" spc="-1" strike="noStrike">
                <a:solidFill>
                  <a:srgbClr val="221304"/>
                </a:solidFill>
                <a:latin typeface="Times New Roman"/>
              </a:rPr>
              <a:t>9</a:t>
            </a:r>
            <a:r>
              <a:rPr b="0" i="1" lang="sk-SK" sz="4400" spc="-1" strike="noStrike">
                <a:solidFill>
                  <a:srgbClr val="221304"/>
                </a:solidFill>
                <a:latin typeface="Times New Roman"/>
              </a:rPr>
              <a:t>:Vrtačk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3512" name=""/>
          <p:cNvGrpSpPr/>
          <p:nvPr/>
        </p:nvGrpSpPr>
        <p:grpSpPr>
          <a:xfrm>
            <a:off x="1728720" y="1878120"/>
            <a:ext cx="6615000" cy="3908160"/>
            <a:chOff x="1728720" y="1878120"/>
            <a:chExt cx="6615000" cy="3908160"/>
          </a:xfrm>
        </p:grpSpPr>
        <p:grpSp>
          <p:nvGrpSpPr>
            <p:cNvPr id="3513" name=""/>
            <p:cNvGrpSpPr/>
            <p:nvPr/>
          </p:nvGrpSpPr>
          <p:grpSpPr>
            <a:xfrm>
              <a:off x="3243240" y="3900600"/>
              <a:ext cx="942840" cy="1014480"/>
              <a:chOff x="3243240" y="3900600"/>
              <a:chExt cx="942840" cy="1014480"/>
            </a:xfrm>
          </p:grpSpPr>
          <p:grpSp>
            <p:nvGrpSpPr>
              <p:cNvPr id="3514" name=""/>
              <p:cNvGrpSpPr/>
              <p:nvPr/>
            </p:nvGrpSpPr>
            <p:grpSpPr>
              <a:xfrm>
                <a:off x="3243240" y="4414680"/>
                <a:ext cx="942840" cy="500400"/>
                <a:chOff x="3243240" y="4414680"/>
                <a:chExt cx="942840" cy="500400"/>
              </a:xfrm>
            </p:grpSpPr>
            <p:sp>
              <p:nvSpPr>
                <p:cNvPr id="3515" name=""/>
                <p:cNvSpPr/>
                <p:nvPr/>
              </p:nvSpPr>
              <p:spPr>
                <a:xfrm>
                  <a:off x="3243240" y="4672080"/>
                  <a:ext cx="942840" cy="243000"/>
                </a:xfrm>
                <a:prstGeom prst="rect">
                  <a:avLst/>
                </a:prstGeom>
                <a:solidFill>
                  <a:srgbClr val="ffcc66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6" name=""/>
                <p:cNvSpPr/>
                <p:nvPr/>
              </p:nvSpPr>
              <p:spPr>
                <a:xfrm>
                  <a:off x="3243240" y="4414680"/>
                  <a:ext cx="942840" cy="243000"/>
                </a:xfrm>
                <a:prstGeom prst="rect">
                  <a:avLst/>
                </a:prstGeom>
                <a:solidFill>
                  <a:srgbClr val="ffcc66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7" name=""/>
              <p:cNvGrpSpPr/>
              <p:nvPr/>
            </p:nvGrpSpPr>
            <p:grpSpPr>
              <a:xfrm>
                <a:off x="3243240" y="3900600"/>
                <a:ext cx="942840" cy="499680"/>
                <a:chOff x="3243240" y="3900600"/>
                <a:chExt cx="942840" cy="499680"/>
              </a:xfrm>
            </p:grpSpPr>
            <p:sp>
              <p:nvSpPr>
                <p:cNvPr id="3518" name=""/>
                <p:cNvSpPr/>
                <p:nvPr/>
              </p:nvSpPr>
              <p:spPr>
                <a:xfrm>
                  <a:off x="3243240" y="4157640"/>
                  <a:ext cx="942840" cy="242640"/>
                </a:xfrm>
                <a:prstGeom prst="rect">
                  <a:avLst/>
                </a:prstGeom>
                <a:solidFill>
                  <a:srgbClr val="ffcc66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9" name=""/>
                <p:cNvSpPr/>
                <p:nvPr/>
              </p:nvSpPr>
              <p:spPr>
                <a:xfrm>
                  <a:off x="3243240" y="3900600"/>
                  <a:ext cx="942840" cy="242640"/>
                </a:xfrm>
                <a:prstGeom prst="rect">
                  <a:avLst/>
                </a:prstGeom>
                <a:solidFill>
                  <a:srgbClr val="ffcc66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20" name=""/>
            <p:cNvGrpSpPr/>
            <p:nvPr/>
          </p:nvGrpSpPr>
          <p:grpSpPr>
            <a:xfrm>
              <a:off x="3243240" y="2871720"/>
              <a:ext cx="942840" cy="1014480"/>
              <a:chOff x="3243240" y="2871720"/>
              <a:chExt cx="942840" cy="1014480"/>
            </a:xfrm>
          </p:grpSpPr>
          <p:grpSp>
            <p:nvGrpSpPr>
              <p:cNvPr id="3521" name=""/>
              <p:cNvGrpSpPr/>
              <p:nvPr/>
            </p:nvGrpSpPr>
            <p:grpSpPr>
              <a:xfrm>
                <a:off x="3243240" y="3385800"/>
                <a:ext cx="942840" cy="500400"/>
                <a:chOff x="3243240" y="3385800"/>
                <a:chExt cx="942840" cy="500400"/>
              </a:xfrm>
            </p:grpSpPr>
            <p:sp>
              <p:nvSpPr>
                <p:cNvPr id="3522" name=""/>
                <p:cNvSpPr/>
                <p:nvPr/>
              </p:nvSpPr>
              <p:spPr>
                <a:xfrm>
                  <a:off x="3243240" y="3643200"/>
                  <a:ext cx="942840" cy="243000"/>
                </a:xfrm>
                <a:prstGeom prst="rect">
                  <a:avLst/>
                </a:prstGeom>
                <a:solidFill>
                  <a:srgbClr val="ffcc66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3" name=""/>
                <p:cNvSpPr/>
                <p:nvPr/>
              </p:nvSpPr>
              <p:spPr>
                <a:xfrm>
                  <a:off x="3243240" y="3385800"/>
                  <a:ext cx="942840" cy="243000"/>
                </a:xfrm>
                <a:prstGeom prst="rect">
                  <a:avLst/>
                </a:prstGeom>
                <a:solidFill>
                  <a:srgbClr val="ffcc66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24" name=""/>
              <p:cNvGrpSpPr/>
              <p:nvPr/>
            </p:nvGrpSpPr>
            <p:grpSpPr>
              <a:xfrm>
                <a:off x="3243240" y="2871720"/>
                <a:ext cx="942840" cy="499680"/>
                <a:chOff x="3243240" y="2871720"/>
                <a:chExt cx="942840" cy="499680"/>
              </a:xfrm>
            </p:grpSpPr>
            <p:sp>
              <p:nvSpPr>
                <p:cNvPr id="3525" name=""/>
                <p:cNvSpPr/>
                <p:nvPr/>
              </p:nvSpPr>
              <p:spPr>
                <a:xfrm>
                  <a:off x="3243240" y="3128760"/>
                  <a:ext cx="942840" cy="242640"/>
                </a:xfrm>
                <a:prstGeom prst="rect">
                  <a:avLst/>
                </a:prstGeom>
                <a:solidFill>
                  <a:srgbClr val="ffcc66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6" name=""/>
                <p:cNvSpPr/>
                <p:nvPr/>
              </p:nvSpPr>
              <p:spPr>
                <a:xfrm>
                  <a:off x="3243240" y="2871720"/>
                  <a:ext cx="942840" cy="242640"/>
                </a:xfrm>
                <a:prstGeom prst="rect">
                  <a:avLst/>
                </a:prstGeom>
                <a:solidFill>
                  <a:srgbClr val="ffcc66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527" name=""/>
            <p:cNvSpPr/>
            <p:nvPr/>
          </p:nvSpPr>
          <p:spPr>
            <a:xfrm>
              <a:off x="4300560" y="2743200"/>
              <a:ext cx="0" cy="19573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3114720" y="2757600"/>
              <a:ext cx="0" cy="19573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3086280" y="4943520"/>
              <a:ext cx="420048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30" name=""/>
            <p:cNvGrpSpPr/>
            <p:nvPr/>
          </p:nvGrpSpPr>
          <p:grpSpPr>
            <a:xfrm>
              <a:off x="1728720" y="4700520"/>
              <a:ext cx="1503360" cy="828720"/>
              <a:chOff x="1728720" y="4700520"/>
              <a:chExt cx="1503360" cy="828720"/>
            </a:xfrm>
          </p:grpSpPr>
          <p:sp>
            <p:nvSpPr>
              <p:cNvPr id="3531" name=""/>
              <p:cNvSpPr/>
              <p:nvPr/>
            </p:nvSpPr>
            <p:spPr>
              <a:xfrm>
                <a:off x="3143160" y="4729320"/>
                <a:ext cx="88920" cy="156960"/>
              </a:xfrm>
              <a:prstGeom prst="rect">
                <a:avLst/>
              </a:prstGeom>
              <a:solidFill>
                <a:srgbClr val="fefde3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2" name=""/>
              <p:cNvSpPr/>
              <p:nvPr/>
            </p:nvSpPr>
            <p:spPr>
              <a:xfrm>
                <a:off x="1871640" y="4829040"/>
                <a:ext cx="128592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33" name=""/>
              <p:cNvGrpSpPr/>
              <p:nvPr/>
            </p:nvGrpSpPr>
            <p:grpSpPr>
              <a:xfrm>
                <a:off x="1728720" y="4700520"/>
                <a:ext cx="843120" cy="828720"/>
                <a:chOff x="1728720" y="4700520"/>
                <a:chExt cx="843120" cy="828720"/>
              </a:xfrm>
            </p:grpSpPr>
            <p:sp>
              <p:nvSpPr>
                <p:cNvPr id="3534" name=""/>
                <p:cNvSpPr/>
                <p:nvPr/>
              </p:nvSpPr>
              <p:spPr>
                <a:xfrm>
                  <a:off x="1728720" y="4700520"/>
                  <a:ext cx="843120" cy="257400"/>
                </a:xfrm>
                <a:prstGeom prst="rect">
                  <a:avLst/>
                </a:prstGeom>
                <a:solidFill>
                  <a:srgbClr val="fefd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5" name=""/>
                <p:cNvSpPr/>
                <p:nvPr/>
              </p:nvSpPr>
              <p:spPr>
                <a:xfrm>
                  <a:off x="1771560" y="4757760"/>
                  <a:ext cx="88920" cy="157320"/>
                </a:xfrm>
                <a:prstGeom prst="rect">
                  <a:avLst/>
                </a:prstGeom>
                <a:solidFill>
                  <a:srgbClr val="cbbd8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6" name=""/>
                <p:cNvSpPr/>
                <p:nvPr/>
              </p:nvSpPr>
              <p:spPr>
                <a:xfrm flipV="1">
                  <a:off x="1828800" y="4986360"/>
                  <a:ext cx="0" cy="528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7" name=""/>
                <p:cNvSpPr/>
                <p:nvPr/>
              </p:nvSpPr>
              <p:spPr>
                <a:xfrm flipV="1">
                  <a:off x="2471760" y="5000760"/>
                  <a:ext cx="0" cy="528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538" name=""/>
            <p:cNvSpPr/>
            <p:nvPr/>
          </p:nvSpPr>
          <p:spPr>
            <a:xfrm>
              <a:off x="4957920" y="4657680"/>
              <a:ext cx="914400" cy="22860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5143680" y="3029040"/>
              <a:ext cx="371160" cy="1028520"/>
            </a:xfrm>
            <a:prstGeom prst="rect">
              <a:avLst/>
            </a:prstGeom>
            <a:solidFill>
              <a:srgbClr val="3694b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5300640" y="4086360"/>
              <a:ext cx="0" cy="4143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41" name=""/>
            <p:cNvGrpSpPr/>
            <p:nvPr/>
          </p:nvGrpSpPr>
          <p:grpSpPr>
            <a:xfrm>
              <a:off x="4986360" y="5014800"/>
              <a:ext cx="88920" cy="771480"/>
              <a:chOff x="4986360" y="5014800"/>
              <a:chExt cx="88920" cy="771480"/>
            </a:xfrm>
          </p:grpSpPr>
          <p:sp>
            <p:nvSpPr>
              <p:cNvPr id="3542" name=""/>
              <p:cNvSpPr/>
              <p:nvPr/>
            </p:nvSpPr>
            <p:spPr>
              <a:xfrm>
                <a:off x="5043600" y="5014800"/>
                <a:ext cx="0" cy="77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3" name=""/>
              <p:cNvSpPr/>
              <p:nvPr/>
            </p:nvSpPr>
            <p:spPr>
              <a:xfrm>
                <a:off x="4986360" y="5014800"/>
                <a:ext cx="88920" cy="88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4" name=""/>
            <p:cNvGrpSpPr/>
            <p:nvPr/>
          </p:nvGrpSpPr>
          <p:grpSpPr>
            <a:xfrm>
              <a:off x="5859360" y="3970080"/>
              <a:ext cx="771480" cy="88920"/>
              <a:chOff x="5859360" y="3970080"/>
              <a:chExt cx="771480" cy="88920"/>
            </a:xfrm>
          </p:grpSpPr>
          <p:sp>
            <p:nvSpPr>
              <p:cNvPr id="3545" name=""/>
              <p:cNvSpPr/>
              <p:nvPr/>
            </p:nvSpPr>
            <p:spPr>
              <a:xfrm>
                <a:off x="5859360" y="4001760"/>
                <a:ext cx="771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6" name=""/>
              <p:cNvSpPr/>
              <p:nvPr/>
            </p:nvSpPr>
            <p:spPr>
              <a:xfrm rot="16200000">
                <a:off x="5859000" y="3970080"/>
                <a:ext cx="88920" cy="88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7" name=""/>
            <p:cNvGrpSpPr/>
            <p:nvPr/>
          </p:nvGrpSpPr>
          <p:grpSpPr>
            <a:xfrm>
              <a:off x="5859360" y="3341160"/>
              <a:ext cx="771480" cy="88920"/>
              <a:chOff x="5859360" y="3341160"/>
              <a:chExt cx="771480" cy="88920"/>
            </a:xfrm>
          </p:grpSpPr>
          <p:sp>
            <p:nvSpPr>
              <p:cNvPr id="3548" name=""/>
              <p:cNvSpPr/>
              <p:nvPr/>
            </p:nvSpPr>
            <p:spPr>
              <a:xfrm>
                <a:off x="5859360" y="3372840"/>
                <a:ext cx="771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9" name=""/>
              <p:cNvSpPr/>
              <p:nvPr/>
            </p:nvSpPr>
            <p:spPr>
              <a:xfrm rot="16200000">
                <a:off x="5859000" y="3341160"/>
                <a:ext cx="88920" cy="88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50" name=""/>
            <p:cNvSpPr/>
            <p:nvPr/>
          </p:nvSpPr>
          <p:spPr>
            <a:xfrm>
              <a:off x="7029360" y="1914480"/>
              <a:ext cx="585720" cy="614520"/>
            </a:xfrm>
            <a:prstGeom prst="ellipse">
              <a:avLst/>
            </a:prstGeom>
            <a:solidFill>
              <a:srgbClr val="3694b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 flipH="1">
              <a:off x="5357880" y="2185920"/>
              <a:ext cx="1928880" cy="1100160"/>
            </a:xfrm>
            <a:prstGeom prst="line">
              <a:avLst/>
            </a:prstGeom>
            <a:ln w="9360">
              <a:solidFill>
                <a:srgbClr val="80808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2" name=""/>
            <p:cNvSpPr/>
            <p:nvPr/>
          </p:nvSpPr>
          <p:spPr>
            <a:xfrm flipH="1">
              <a:off x="7643520" y="202896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3" name=""/>
            <p:cNvSpPr/>
            <p:nvPr/>
          </p:nvSpPr>
          <p:spPr>
            <a:xfrm flipH="1">
              <a:off x="7657920" y="23432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54" name=""/>
            <p:cNvGrpSpPr/>
            <p:nvPr/>
          </p:nvGrpSpPr>
          <p:grpSpPr>
            <a:xfrm>
              <a:off x="4594320" y="1878120"/>
              <a:ext cx="828720" cy="842760"/>
              <a:chOff x="4594320" y="1878120"/>
              <a:chExt cx="828720" cy="842760"/>
            </a:xfrm>
          </p:grpSpPr>
          <p:sp>
            <p:nvSpPr>
              <p:cNvPr id="3555" name=""/>
              <p:cNvSpPr/>
              <p:nvPr/>
            </p:nvSpPr>
            <p:spPr>
              <a:xfrm rot="5400000">
                <a:off x="4872960" y="2170800"/>
                <a:ext cx="842760" cy="257400"/>
              </a:xfrm>
              <a:prstGeom prst="rect">
                <a:avLst/>
              </a:prstGeom>
              <a:solidFill>
                <a:srgbClr val="fefde3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6" name=""/>
              <p:cNvSpPr/>
              <p:nvPr/>
            </p:nvSpPr>
            <p:spPr>
              <a:xfrm rot="5400000">
                <a:off x="5242680" y="1886040"/>
                <a:ext cx="88560" cy="157320"/>
              </a:xfrm>
              <a:prstGeom prst="rect">
                <a:avLst/>
              </a:prstGeom>
              <a:solidFill>
                <a:srgbClr val="cbbd83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7" name=""/>
              <p:cNvSpPr/>
              <p:nvPr/>
            </p:nvSpPr>
            <p:spPr>
              <a:xfrm>
                <a:off x="4608720" y="1977840"/>
                <a:ext cx="528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8" name=""/>
              <p:cNvSpPr/>
              <p:nvPr/>
            </p:nvSpPr>
            <p:spPr>
              <a:xfrm>
                <a:off x="4594320" y="2620800"/>
                <a:ext cx="528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59" name=""/>
            <p:cNvSpPr/>
            <p:nvPr/>
          </p:nvSpPr>
          <p:spPr>
            <a:xfrm>
              <a:off x="5300640" y="2728800"/>
              <a:ext cx="0" cy="300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0" name=""/>
            <p:cNvSpPr/>
            <p:nvPr/>
          </p:nvSpPr>
          <p:spPr>
            <a:xfrm flipH="1" rot="19635600">
              <a:off x="5960160" y="4659120"/>
              <a:ext cx="88560" cy="156960"/>
            </a:xfrm>
            <a:prstGeom prst="rect">
              <a:avLst/>
            </a:prstGeom>
            <a:solidFill>
              <a:srgbClr val="fefde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1" name=""/>
            <p:cNvSpPr/>
            <p:nvPr/>
          </p:nvSpPr>
          <p:spPr>
            <a:xfrm flipH="1" rot="19635600">
              <a:off x="7193520" y="3579840"/>
              <a:ext cx="842760" cy="257040"/>
            </a:xfrm>
            <a:prstGeom prst="rect">
              <a:avLst/>
            </a:prstGeom>
            <a:solidFill>
              <a:srgbClr val="fefde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2" name=""/>
            <p:cNvSpPr/>
            <p:nvPr/>
          </p:nvSpPr>
          <p:spPr>
            <a:xfrm flipH="1" rot="19635600">
              <a:off x="7784280" y="3498840"/>
              <a:ext cx="88920" cy="157320"/>
            </a:xfrm>
            <a:prstGeom prst="rect">
              <a:avLst/>
            </a:prstGeom>
            <a:solidFill>
              <a:srgbClr val="cbbd8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3" name=""/>
            <p:cNvSpPr/>
            <p:nvPr/>
          </p:nvSpPr>
          <p:spPr>
            <a:xfrm flipH="1" flipV="1">
              <a:off x="7972560" y="3668040"/>
              <a:ext cx="285840" cy="44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4" name=""/>
            <p:cNvSpPr/>
            <p:nvPr/>
          </p:nvSpPr>
          <p:spPr>
            <a:xfrm flipH="1" flipV="1">
              <a:off x="7438680" y="4026240"/>
              <a:ext cx="286200" cy="44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5" name=""/>
            <p:cNvSpPr/>
            <p:nvPr/>
          </p:nvSpPr>
          <p:spPr>
            <a:xfrm flipH="1">
              <a:off x="6013800" y="3544200"/>
              <a:ext cx="1808640" cy="11667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6" name=""/>
          <p:cNvGrpSpPr/>
          <p:nvPr/>
        </p:nvGrpSpPr>
        <p:grpSpPr>
          <a:xfrm>
            <a:off x="7296120" y="5886360"/>
            <a:ext cx="1276200" cy="385920"/>
            <a:chOff x="7296120" y="5886360"/>
            <a:chExt cx="1276200" cy="385920"/>
          </a:xfrm>
        </p:grpSpPr>
        <p:sp>
          <p:nvSpPr>
            <p:cNvPr id="3567" name="">
              <a:hlinkClick r:id="" action="ppaction://hlinkshowjump?jump=previousslide"/>
            </p:cNvPr>
            <p:cNvSpPr/>
            <p:nvPr/>
          </p:nvSpPr>
          <p:spPr>
            <a:xfrm>
              <a:off x="7296120" y="5886360"/>
              <a:ext cx="399600" cy="385920"/>
            </a:xfrm>
            <a:custGeom>
              <a:avLst/>
              <a:gdLst>
                <a:gd name="textAreaLeft" fmla="*/ 24840 w 399600"/>
                <a:gd name="textAreaRight" fmla="*/ 374760 w 399600"/>
                <a:gd name="textAreaTop" fmla="*/ 24840 h 385920"/>
                <a:gd name="textAreaBottom" fmla="*/ 361080 h 385920"/>
              </a:gdLst>
              <a:ahLst/>
              <a:rect l="textAreaLeft" t="textAreaTop" r="textAreaRight" b="textAreaBottom"/>
              <a:pathLst>
                <a:path w="22365" h="21600">
                  <a:moveTo>
                    <a:pt x="0" y="0"/>
                  </a:moveTo>
                  <a:lnTo>
                    <a:pt x="22365" y="0"/>
                  </a:lnTo>
                  <a:lnTo>
                    <a:pt x="22365" y="21600"/>
                  </a:lnTo>
                  <a:lnTo>
                    <a:pt x="0" y="21600"/>
                  </a:lnTo>
                  <a:close/>
                </a:path>
                <a:path fill="lightenLess" w="22365" h="21600">
                  <a:moveTo>
                    <a:pt x="0" y="0"/>
                  </a:moveTo>
                  <a:lnTo>
                    <a:pt x="22365" y="0"/>
                  </a:lnTo>
                  <a:lnTo>
                    <a:pt x="20965" y="1400"/>
                  </a:lnTo>
                  <a:lnTo>
                    <a:pt x="1400" y="1400"/>
                  </a:lnTo>
                  <a:close/>
                </a:path>
                <a:path fill="darken" w="22365" h="21600">
                  <a:moveTo>
                    <a:pt x="22365" y="0"/>
                  </a:moveTo>
                  <a:lnTo>
                    <a:pt x="22365" y="21600"/>
                  </a:lnTo>
                  <a:lnTo>
                    <a:pt x="20965" y="20200"/>
                  </a:lnTo>
                  <a:lnTo>
                    <a:pt x="20965" y="1400"/>
                  </a:lnTo>
                  <a:close/>
                </a:path>
                <a:path fill="darkenLess" w="22365" h="21600">
                  <a:moveTo>
                    <a:pt x="223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965" y="20200"/>
                  </a:lnTo>
                  <a:close/>
                </a:path>
                <a:path fill="lighten" w="223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365" h="21600">
                  <a:moveTo>
                    <a:pt x="4176" y="10800"/>
                  </a:moveTo>
                  <a:lnTo>
                    <a:pt x="18189" y="3794"/>
                  </a:lnTo>
                  <a:lnTo>
                    <a:pt x="18189" y="17806"/>
                  </a:lnTo>
                  <a:close/>
                </a:path>
              </a:pathLst>
            </a:cu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8" name="">
              <a:hlinkClick r:id="" action="ppaction://hlinkshowjump?jump=nextslide"/>
            </p:cNvPr>
            <p:cNvSpPr/>
            <p:nvPr/>
          </p:nvSpPr>
          <p:spPr>
            <a:xfrm>
              <a:off x="7733880" y="5886360"/>
              <a:ext cx="400680" cy="385920"/>
            </a:xfrm>
            <a:custGeom>
              <a:avLst/>
              <a:gdLst>
                <a:gd name="textAreaLeft" fmla="*/ 24840 w 400680"/>
                <a:gd name="textAreaRight" fmla="*/ 375840 w 400680"/>
                <a:gd name="textAreaTop" fmla="*/ 24840 h 385920"/>
                <a:gd name="textAreaBottom" fmla="*/ 361080 h 385920"/>
              </a:gdLst>
              <a:ahLst/>
              <a:rect l="textAreaLeft" t="textAreaTop" r="textAreaRight" b="textAreaBottom"/>
              <a:pathLst>
                <a:path w="22425" h="21600">
                  <a:moveTo>
                    <a:pt x="0" y="0"/>
                  </a:moveTo>
                  <a:lnTo>
                    <a:pt x="22425" y="0"/>
                  </a:lnTo>
                  <a:lnTo>
                    <a:pt x="22425" y="21600"/>
                  </a:lnTo>
                  <a:lnTo>
                    <a:pt x="0" y="21600"/>
                  </a:lnTo>
                  <a:close/>
                </a:path>
                <a:path fill="lightenLess" w="22425" h="21600">
                  <a:moveTo>
                    <a:pt x="0" y="0"/>
                  </a:moveTo>
                  <a:lnTo>
                    <a:pt x="22425" y="0"/>
                  </a:lnTo>
                  <a:lnTo>
                    <a:pt x="21025" y="1400"/>
                  </a:lnTo>
                  <a:lnTo>
                    <a:pt x="1400" y="1400"/>
                  </a:lnTo>
                  <a:close/>
                </a:path>
                <a:path fill="darken" w="22425" h="21600">
                  <a:moveTo>
                    <a:pt x="22425" y="0"/>
                  </a:moveTo>
                  <a:lnTo>
                    <a:pt x="22425" y="21600"/>
                  </a:lnTo>
                  <a:lnTo>
                    <a:pt x="21025" y="20200"/>
                  </a:lnTo>
                  <a:lnTo>
                    <a:pt x="21025" y="1400"/>
                  </a:lnTo>
                  <a:close/>
                </a:path>
                <a:path fill="darkenLess" w="22425" h="21600">
                  <a:moveTo>
                    <a:pt x="2242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1025" y="20200"/>
                  </a:lnTo>
                  <a:close/>
                </a:path>
                <a:path fill="lighten" w="2242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425" h="21600">
                  <a:moveTo>
                    <a:pt x="4206" y="3794"/>
                  </a:moveTo>
                  <a:lnTo>
                    <a:pt x="18219" y="10800"/>
                  </a:lnTo>
                  <a:lnTo>
                    <a:pt x="4206" y="17806"/>
                  </a:lnTo>
                  <a:close/>
                </a:path>
              </a:pathLst>
            </a:cu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9" name="">
              <a:hlinkClick r:id="" action="ppaction://hlinkshowjump?jump=firstslide"/>
            </p:cNvPr>
            <p:cNvSpPr/>
            <p:nvPr/>
          </p:nvSpPr>
          <p:spPr>
            <a:xfrm>
              <a:off x="8172720" y="5886360"/>
              <a:ext cx="399600" cy="385920"/>
            </a:xfrm>
            <a:custGeom>
              <a:avLst/>
              <a:gdLst>
                <a:gd name="textAreaLeft" fmla="*/ 24840 w 399600"/>
                <a:gd name="textAreaRight" fmla="*/ 374760 w 399600"/>
                <a:gd name="textAreaTop" fmla="*/ 24840 h 385920"/>
                <a:gd name="textAreaBottom" fmla="*/ 361080 h 385920"/>
              </a:gdLst>
              <a:ahLst/>
              <a:rect l="textAreaLeft" t="textAreaTop" r="textAreaRight" b="textAreaBottom"/>
              <a:pathLst>
                <a:path w="22365" h="21600">
                  <a:moveTo>
                    <a:pt x="0" y="0"/>
                  </a:moveTo>
                  <a:lnTo>
                    <a:pt x="22365" y="0"/>
                  </a:lnTo>
                  <a:lnTo>
                    <a:pt x="22365" y="21600"/>
                  </a:lnTo>
                  <a:lnTo>
                    <a:pt x="0" y="21600"/>
                  </a:lnTo>
                  <a:close/>
                </a:path>
                <a:path fill="lightenLess" w="22365" h="21600">
                  <a:moveTo>
                    <a:pt x="0" y="0"/>
                  </a:moveTo>
                  <a:lnTo>
                    <a:pt x="22365" y="0"/>
                  </a:lnTo>
                  <a:lnTo>
                    <a:pt x="20965" y="1400"/>
                  </a:lnTo>
                  <a:lnTo>
                    <a:pt x="1400" y="1400"/>
                  </a:lnTo>
                  <a:close/>
                </a:path>
                <a:path fill="darken" w="22365" h="21600">
                  <a:moveTo>
                    <a:pt x="22365" y="0"/>
                  </a:moveTo>
                  <a:lnTo>
                    <a:pt x="22365" y="21600"/>
                  </a:lnTo>
                  <a:lnTo>
                    <a:pt x="20965" y="20200"/>
                  </a:lnTo>
                  <a:lnTo>
                    <a:pt x="20965" y="1400"/>
                  </a:lnTo>
                  <a:close/>
                </a:path>
                <a:path fill="darkenLess" w="22365" h="21600">
                  <a:moveTo>
                    <a:pt x="223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965" y="20200"/>
                  </a:lnTo>
                  <a:close/>
                </a:path>
                <a:path fill="lighten" w="223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365" h="21600">
                  <a:moveTo>
                    <a:pt x="7684" y="10800"/>
                  </a:moveTo>
                  <a:lnTo>
                    <a:pt x="18189" y="3794"/>
                  </a:lnTo>
                  <a:lnTo>
                    <a:pt x="18189" y="17806"/>
                  </a:lnTo>
                  <a:close/>
                </a:path>
                <a:path fill="darken" w="22365" h="21600">
                  <a:moveTo>
                    <a:pt x="4176" y="3794"/>
                  </a:moveTo>
                  <a:lnTo>
                    <a:pt x="5838" y="3794"/>
                  </a:lnTo>
                  <a:lnTo>
                    <a:pt x="5838" y="17806"/>
                  </a:lnTo>
                  <a:lnTo>
                    <a:pt x="4176" y="17806"/>
                  </a:lnTo>
                  <a:close/>
                </a:path>
              </a:pathLst>
            </a:cu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Z</a:t>
            </a:r>
            <a:r>
              <a:rPr b="1" lang="sk-SK" sz="4400" spc="-1" strike="noStrike">
                <a:solidFill>
                  <a:srgbClr val="221304"/>
                </a:solidFill>
                <a:latin typeface="Times New Roman"/>
              </a:rPr>
              <a:t>adanie 30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3573" name=""/>
          <p:cNvGrpSpPr/>
          <p:nvPr/>
        </p:nvGrpSpPr>
        <p:grpSpPr>
          <a:xfrm>
            <a:off x="7296120" y="6143760"/>
            <a:ext cx="1276200" cy="385560"/>
            <a:chOff x="7296120" y="6143760"/>
            <a:chExt cx="1276200" cy="385560"/>
          </a:xfrm>
        </p:grpSpPr>
        <p:sp>
          <p:nvSpPr>
            <p:cNvPr id="3574" name="">
              <a:hlinkClick r:id="" action="ppaction://hlinkshowjump?jump=previousslide"/>
            </p:cNvPr>
            <p:cNvSpPr/>
            <p:nvPr/>
          </p:nvSpPr>
          <p:spPr>
            <a:xfrm>
              <a:off x="7296120" y="6143760"/>
              <a:ext cx="399600" cy="385560"/>
            </a:xfrm>
            <a:custGeom>
              <a:avLst/>
              <a:gdLst>
                <a:gd name="textAreaLeft" fmla="*/ 24840 w 399600"/>
                <a:gd name="textAreaRight" fmla="*/ 374760 w 399600"/>
                <a:gd name="textAreaTop" fmla="*/ 24840 h 385560"/>
                <a:gd name="textAreaBottom" fmla="*/ 360720 h 385560"/>
              </a:gdLst>
              <a:ahLst/>
              <a:rect l="textAreaLeft" t="textAreaTop" r="textAreaRight" b="textAreaBottom"/>
              <a:pathLst>
                <a:path w="22386" h="21600">
                  <a:moveTo>
                    <a:pt x="0" y="0"/>
                  </a:moveTo>
                  <a:lnTo>
                    <a:pt x="22386" y="0"/>
                  </a:lnTo>
                  <a:lnTo>
                    <a:pt x="22386" y="21600"/>
                  </a:lnTo>
                  <a:lnTo>
                    <a:pt x="0" y="21600"/>
                  </a:lnTo>
                  <a:close/>
                </a:path>
                <a:path fill="lightenLess" w="22386" h="21600">
                  <a:moveTo>
                    <a:pt x="0" y="0"/>
                  </a:moveTo>
                  <a:lnTo>
                    <a:pt x="22386" y="0"/>
                  </a:lnTo>
                  <a:lnTo>
                    <a:pt x="20986" y="1400"/>
                  </a:lnTo>
                  <a:lnTo>
                    <a:pt x="1400" y="1400"/>
                  </a:lnTo>
                  <a:close/>
                </a:path>
                <a:path fill="darken" w="22386" h="21600">
                  <a:moveTo>
                    <a:pt x="22386" y="0"/>
                  </a:moveTo>
                  <a:lnTo>
                    <a:pt x="22386" y="21600"/>
                  </a:lnTo>
                  <a:lnTo>
                    <a:pt x="20986" y="20200"/>
                  </a:lnTo>
                  <a:lnTo>
                    <a:pt x="20986" y="1400"/>
                  </a:lnTo>
                  <a:close/>
                </a:path>
                <a:path fill="darkenLess" w="22386" h="21600">
                  <a:moveTo>
                    <a:pt x="223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986" y="20200"/>
                  </a:lnTo>
                  <a:close/>
                </a:path>
                <a:path fill="lighten" w="223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386" h="21600">
                  <a:moveTo>
                    <a:pt x="4186" y="10800"/>
                  </a:moveTo>
                  <a:lnTo>
                    <a:pt x="18199" y="3794"/>
                  </a:lnTo>
                  <a:lnTo>
                    <a:pt x="18199" y="17806"/>
                  </a:lnTo>
                  <a:close/>
                </a:path>
              </a:pathLst>
            </a:cu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5" name="">
              <a:hlinkClick r:id="" action="ppaction://hlinkshowjump?jump=nextslide"/>
            </p:cNvPr>
            <p:cNvSpPr/>
            <p:nvPr/>
          </p:nvSpPr>
          <p:spPr>
            <a:xfrm>
              <a:off x="7733880" y="6143760"/>
              <a:ext cx="400680" cy="385560"/>
            </a:xfrm>
            <a:custGeom>
              <a:avLst/>
              <a:gdLst>
                <a:gd name="textAreaLeft" fmla="*/ 24840 w 400680"/>
                <a:gd name="textAreaRight" fmla="*/ 375840 w 400680"/>
                <a:gd name="textAreaTop" fmla="*/ 24840 h 385560"/>
                <a:gd name="textAreaBottom" fmla="*/ 360720 h 385560"/>
              </a:gdLst>
              <a:ahLst/>
              <a:rect l="textAreaLeft" t="textAreaTop" r="textAreaRight" b="textAreaBottom"/>
              <a:pathLst>
                <a:path w="22446" h="21600">
                  <a:moveTo>
                    <a:pt x="0" y="0"/>
                  </a:moveTo>
                  <a:lnTo>
                    <a:pt x="22446" y="0"/>
                  </a:lnTo>
                  <a:lnTo>
                    <a:pt x="22446" y="21600"/>
                  </a:lnTo>
                  <a:lnTo>
                    <a:pt x="0" y="21600"/>
                  </a:lnTo>
                  <a:close/>
                </a:path>
                <a:path fill="lightenLess" w="22446" h="21600">
                  <a:moveTo>
                    <a:pt x="0" y="0"/>
                  </a:moveTo>
                  <a:lnTo>
                    <a:pt x="22446" y="0"/>
                  </a:lnTo>
                  <a:lnTo>
                    <a:pt x="21046" y="1400"/>
                  </a:lnTo>
                  <a:lnTo>
                    <a:pt x="1400" y="1400"/>
                  </a:lnTo>
                  <a:close/>
                </a:path>
                <a:path fill="darken" w="22446" h="21600">
                  <a:moveTo>
                    <a:pt x="22446" y="0"/>
                  </a:moveTo>
                  <a:lnTo>
                    <a:pt x="22446" y="21600"/>
                  </a:lnTo>
                  <a:lnTo>
                    <a:pt x="21046" y="20200"/>
                  </a:lnTo>
                  <a:lnTo>
                    <a:pt x="21046" y="1400"/>
                  </a:lnTo>
                  <a:close/>
                </a:path>
                <a:path fill="darkenLess" w="22446" h="21600">
                  <a:moveTo>
                    <a:pt x="2244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1046" y="20200"/>
                  </a:lnTo>
                  <a:close/>
                </a:path>
                <a:path fill="lighten" w="2244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446" h="21600">
                  <a:moveTo>
                    <a:pt x="4217" y="3794"/>
                  </a:moveTo>
                  <a:lnTo>
                    <a:pt x="18230" y="10800"/>
                  </a:lnTo>
                  <a:lnTo>
                    <a:pt x="4217" y="17806"/>
                  </a:lnTo>
                  <a:close/>
                </a:path>
              </a:pathLst>
            </a:cu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6" name="">
              <a:hlinkClick r:id="" action="ppaction://hlinkshowjump?jump=firstslide"/>
            </p:cNvPr>
            <p:cNvSpPr/>
            <p:nvPr/>
          </p:nvSpPr>
          <p:spPr>
            <a:xfrm>
              <a:off x="8172720" y="6143760"/>
              <a:ext cx="399600" cy="385560"/>
            </a:xfrm>
            <a:custGeom>
              <a:avLst/>
              <a:gdLst>
                <a:gd name="textAreaLeft" fmla="*/ 24840 w 399600"/>
                <a:gd name="textAreaRight" fmla="*/ 374760 w 399600"/>
                <a:gd name="textAreaTop" fmla="*/ 24840 h 385560"/>
                <a:gd name="textAreaBottom" fmla="*/ 360720 h 385560"/>
              </a:gdLst>
              <a:ahLst/>
              <a:rect l="textAreaLeft" t="textAreaTop" r="textAreaRight" b="textAreaBottom"/>
              <a:pathLst>
                <a:path w="22386" h="21600">
                  <a:moveTo>
                    <a:pt x="0" y="0"/>
                  </a:moveTo>
                  <a:lnTo>
                    <a:pt x="22386" y="0"/>
                  </a:lnTo>
                  <a:lnTo>
                    <a:pt x="22386" y="21600"/>
                  </a:lnTo>
                  <a:lnTo>
                    <a:pt x="0" y="21600"/>
                  </a:lnTo>
                  <a:close/>
                </a:path>
                <a:path fill="lightenLess" w="22386" h="21600">
                  <a:moveTo>
                    <a:pt x="0" y="0"/>
                  </a:moveTo>
                  <a:lnTo>
                    <a:pt x="22386" y="0"/>
                  </a:lnTo>
                  <a:lnTo>
                    <a:pt x="20986" y="1400"/>
                  </a:lnTo>
                  <a:lnTo>
                    <a:pt x="1400" y="1400"/>
                  </a:lnTo>
                  <a:close/>
                </a:path>
                <a:path fill="darken" w="22386" h="21600">
                  <a:moveTo>
                    <a:pt x="22386" y="0"/>
                  </a:moveTo>
                  <a:lnTo>
                    <a:pt x="22386" y="21600"/>
                  </a:lnTo>
                  <a:lnTo>
                    <a:pt x="20986" y="20200"/>
                  </a:lnTo>
                  <a:lnTo>
                    <a:pt x="20986" y="1400"/>
                  </a:lnTo>
                  <a:close/>
                </a:path>
                <a:path fill="darkenLess" w="22386" h="21600">
                  <a:moveTo>
                    <a:pt x="223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986" y="20200"/>
                  </a:lnTo>
                  <a:close/>
                </a:path>
                <a:path fill="lighten" w="223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386" h="21600">
                  <a:moveTo>
                    <a:pt x="7694" y="10800"/>
                  </a:moveTo>
                  <a:lnTo>
                    <a:pt x="18199" y="3794"/>
                  </a:lnTo>
                  <a:lnTo>
                    <a:pt x="18199" y="17806"/>
                  </a:lnTo>
                  <a:close/>
                </a:path>
                <a:path fill="darken" w="22386" h="21600">
                  <a:moveTo>
                    <a:pt x="4186" y="3794"/>
                  </a:moveTo>
                  <a:lnTo>
                    <a:pt x="5849" y="3794"/>
                  </a:lnTo>
                  <a:lnTo>
                    <a:pt x="5849" y="17806"/>
                  </a:lnTo>
                  <a:lnTo>
                    <a:pt x="4186" y="17806"/>
                  </a:lnTo>
                  <a:close/>
                </a:path>
              </a:pathLst>
            </a:cu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7" name=""/>
          <p:cNvGrpSpPr/>
          <p:nvPr/>
        </p:nvGrpSpPr>
        <p:grpSpPr>
          <a:xfrm>
            <a:off x="1357200" y="2286000"/>
            <a:ext cx="6943680" cy="3957480"/>
            <a:chOff x="1357200" y="2286000"/>
            <a:chExt cx="6943680" cy="3957480"/>
          </a:xfrm>
        </p:grpSpPr>
        <p:sp>
          <p:nvSpPr>
            <p:cNvPr id="3578" name=""/>
            <p:cNvSpPr/>
            <p:nvPr/>
          </p:nvSpPr>
          <p:spPr>
            <a:xfrm>
              <a:off x="4886280" y="2286000"/>
              <a:ext cx="1914480" cy="19144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5829480" y="2286000"/>
              <a:ext cx="2471400" cy="9856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1357200" y="2886120"/>
              <a:ext cx="3814920" cy="8859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5700600" y="4729320"/>
              <a:ext cx="757440" cy="742680"/>
            </a:xfrm>
            <a:prstGeom prst="ellipse">
              <a:avLst/>
            </a:prstGeom>
            <a:solidFill>
              <a:srgbClr val="3694b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5900760" y="3086280"/>
              <a:ext cx="200160" cy="2085840"/>
            </a:xfrm>
            <a:prstGeom prst="line">
              <a:avLst/>
            </a:prstGeom>
            <a:ln w="9360">
              <a:solidFill>
                <a:srgbClr val="80808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1771560" y="3614760"/>
              <a:ext cx="0" cy="141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4" name=""/>
            <p:cNvGrpSpPr/>
            <p:nvPr/>
          </p:nvGrpSpPr>
          <p:grpSpPr>
            <a:xfrm>
              <a:off x="3943440" y="2928960"/>
              <a:ext cx="285840" cy="843120"/>
              <a:chOff x="3943440" y="2928960"/>
              <a:chExt cx="285840" cy="843120"/>
            </a:xfrm>
          </p:grpSpPr>
          <p:sp>
            <p:nvSpPr>
              <p:cNvPr id="3585" name=""/>
              <p:cNvSpPr/>
              <p:nvPr/>
            </p:nvSpPr>
            <p:spPr>
              <a:xfrm flipH="1">
                <a:off x="3943440" y="2928960"/>
                <a:ext cx="271440" cy="17136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6" name=""/>
              <p:cNvSpPr/>
              <p:nvPr/>
            </p:nvSpPr>
            <p:spPr>
              <a:xfrm flipH="1">
                <a:off x="3957840" y="3371760"/>
                <a:ext cx="271440" cy="17172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7" name=""/>
              <p:cNvSpPr/>
              <p:nvPr/>
            </p:nvSpPr>
            <p:spPr>
              <a:xfrm flipH="1">
                <a:off x="3943440" y="3171960"/>
                <a:ext cx="271440" cy="17136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8" name=""/>
              <p:cNvSpPr/>
              <p:nvPr/>
            </p:nvSpPr>
            <p:spPr>
              <a:xfrm flipH="1">
                <a:off x="3943440" y="3600360"/>
                <a:ext cx="271440" cy="17172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89" name=""/>
            <p:cNvSpPr/>
            <p:nvPr/>
          </p:nvSpPr>
          <p:spPr>
            <a:xfrm>
              <a:off x="4086360" y="3000240"/>
              <a:ext cx="0" cy="1743120"/>
            </a:xfrm>
            <a:prstGeom prst="line">
              <a:avLst/>
            </a:prstGeom>
            <a:ln w="9360">
              <a:solidFill>
                <a:srgbClr val="80808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3871800" y="4786200"/>
              <a:ext cx="557280" cy="443160"/>
            </a:xfrm>
            <a:prstGeom prst="rect">
              <a:avLst/>
            </a:prstGeom>
            <a:solidFill>
              <a:srgbClr val="3694b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3114720" y="5500800"/>
              <a:ext cx="757080" cy="742680"/>
            </a:xfrm>
            <a:prstGeom prst="ellipse">
              <a:avLst/>
            </a:prstGeom>
            <a:solidFill>
              <a:srgbClr val="3694b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2" name=""/>
            <p:cNvSpPr/>
            <p:nvPr/>
          </p:nvSpPr>
          <p:spPr>
            <a:xfrm flipH="1">
              <a:off x="3499920" y="5229360"/>
              <a:ext cx="628920" cy="65700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2500200" y="5729400"/>
              <a:ext cx="62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2486160" y="6058080"/>
              <a:ext cx="62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5014800" y="5072040"/>
              <a:ext cx="62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5043600" y="5329080"/>
              <a:ext cx="62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1700280" y="36003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3728880" y="38289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4343400" y="38289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3772080" y="3914640"/>
              <a:ext cx="0" cy="44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4371840" y="3929040"/>
              <a:ext cx="0" cy="44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221304"/>
                </a:solidFill>
                <a:latin typeface="Times New Roman"/>
              </a:rPr>
              <a:t>Zadanie 2:</a:t>
            </a:r>
            <a:r>
              <a:rPr b="1" i="1" lang="sk-SK" sz="4400" spc="-1" strike="noStrike">
                <a:solidFill>
                  <a:srgbClr val="221304"/>
                </a:solidFill>
                <a:latin typeface="Times New Roman"/>
              </a:rPr>
              <a:t>  Vstrekoli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828800" y="1819440"/>
            <a:ext cx="6400800" cy="473364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22760" y="2550960"/>
            <a:ext cx="860400" cy="606600"/>
          </a:xfrm>
          <a:custGeom>
            <a:avLst/>
            <a:gdLst>
              <a:gd name="textAreaLeft" fmla="*/ 189000 w 860400"/>
              <a:gd name="textAreaRight" fmla="*/ 671400 w 860400"/>
              <a:gd name="textAreaTop" fmla="*/ 133200 h 606600"/>
              <a:gd name="textAreaBottom" fmla="*/ 473400 h 606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622760" y="2336760"/>
            <a:ext cx="860400" cy="20160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259080" y="3197160"/>
            <a:ext cx="2297160" cy="53964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rot="5400000">
            <a:off x="2845440" y="3323160"/>
            <a:ext cx="539640" cy="287280"/>
          </a:xfrm>
          <a:custGeom>
            <a:avLst/>
            <a:gdLst>
              <a:gd name="textAreaLeft" fmla="*/ 148320 w 539640"/>
              <a:gd name="textAreaRight" fmla="*/ 391320 w 539640"/>
              <a:gd name="textAreaTop" fmla="*/ 78840 h 287280"/>
              <a:gd name="textAreaBottom" fmla="*/ 2084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050" y="21600"/>
                </a:lnTo>
                <a:lnTo>
                  <a:pt x="7550" y="216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556240" y="2838600"/>
            <a:ext cx="1219320" cy="121428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330720" y="3054240"/>
            <a:ext cx="144360" cy="7488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762360" y="3054240"/>
            <a:ext cx="142920" cy="7488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546360" y="3054240"/>
            <a:ext cx="142920" cy="7488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976560" y="3054240"/>
            <a:ext cx="144720" cy="7488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192560" y="3054240"/>
            <a:ext cx="142920" cy="7488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406760" y="3054240"/>
            <a:ext cx="144720" cy="7488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406760" y="3843360"/>
            <a:ext cx="144720" cy="7452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192560" y="3843360"/>
            <a:ext cx="142920" cy="7452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330720" y="3843360"/>
            <a:ext cx="144360" cy="7452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46360" y="3843360"/>
            <a:ext cx="142920" cy="7452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762360" y="3843360"/>
            <a:ext cx="142920" cy="7452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76560" y="3843360"/>
            <a:ext cx="144720" cy="7452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22760" y="3054240"/>
            <a:ext cx="142920" cy="7488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622760" y="3843360"/>
            <a:ext cx="142920" cy="7452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838760" y="3843360"/>
            <a:ext cx="142920" cy="7452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052960" y="3843360"/>
            <a:ext cx="144360" cy="7452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2981160" y="3044880"/>
            <a:ext cx="268560" cy="287280"/>
          </a:xfrm>
          <a:prstGeom prst="rtTriangle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 rot="16200000">
            <a:off x="2980440" y="3618720"/>
            <a:ext cx="270000" cy="287280"/>
          </a:xfrm>
          <a:prstGeom prst="rtTriangle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327400" y="3197160"/>
            <a:ext cx="644400" cy="539640"/>
          </a:xfrm>
          <a:prstGeom prst="rect">
            <a:avLst/>
          </a:prstGeom>
          <a:solidFill>
            <a:srgbClr val="3694b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111400" y="3054240"/>
            <a:ext cx="216000" cy="8082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612880" y="3197160"/>
            <a:ext cx="1800" cy="53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470320" y="3268800"/>
            <a:ext cx="287280" cy="4046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757600" y="3484440"/>
            <a:ext cx="287280" cy="180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259080" y="3340080"/>
            <a:ext cx="2440080" cy="270000"/>
          </a:xfrm>
          <a:prstGeom prst="rect">
            <a:avLst/>
          </a:prstGeom>
          <a:gradFill rotWithShape="0">
            <a:gsLst>
              <a:gs pos="0">
                <a:srgbClr val="751746"/>
              </a:gs>
              <a:gs pos="100000">
                <a:srgbClr val="ff3399"/>
              </a:gs>
            </a:gsLst>
            <a:lin ang="108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016800" y="3367800"/>
            <a:ext cx="270000" cy="214200"/>
          </a:xfrm>
          <a:prstGeom prst="triangle">
            <a:avLst>
              <a:gd name="adj" fmla="val 50000"/>
            </a:avLst>
          </a:prstGeom>
          <a:solidFill>
            <a:srgbClr val="ff3399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765680" y="2336760"/>
            <a:ext cx="574560" cy="2016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765680" y="2550960"/>
            <a:ext cx="574560" cy="606600"/>
          </a:xfrm>
          <a:custGeom>
            <a:avLst/>
            <a:gdLst>
              <a:gd name="textAreaLeft" fmla="*/ 126360 w 574560"/>
              <a:gd name="textAreaRight" fmla="*/ 448200 w 574560"/>
              <a:gd name="textAreaTop" fmla="*/ 133200 h 606600"/>
              <a:gd name="textAreaBottom" fmla="*/ 473400 h 606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910040" y="3197160"/>
            <a:ext cx="287280" cy="1350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910040" y="1905120"/>
            <a:ext cx="214560" cy="269640"/>
          </a:xfrm>
          <a:prstGeom prst="downArrow">
            <a:avLst>
              <a:gd name="adj1" fmla="val 50000"/>
              <a:gd name="adj2" fmla="val 31418"/>
            </a:avLst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039760" y="2909880"/>
            <a:ext cx="430560" cy="1440"/>
          </a:xfrm>
          <a:prstGeom prst="line">
            <a:avLst/>
          </a:prstGeom>
          <a:ln w="9360">
            <a:solidFill>
              <a:srgbClr val="c0c0c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5520" y="2867040"/>
            <a:ext cx="73080" cy="74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438280" y="3700440"/>
            <a:ext cx="619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71760" y="3776760"/>
            <a:ext cx="619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010040" y="3776760"/>
            <a:ext cx="619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714920" y="3776760"/>
            <a:ext cx="619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9720" y="3862440"/>
            <a:ext cx="619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512040" y="3933720"/>
            <a:ext cx="6336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828880" y="3125880"/>
            <a:ext cx="142920" cy="74520"/>
          </a:xfrm>
          <a:prstGeom prst="rect">
            <a:avLst/>
          </a:prstGeom>
          <a:solidFill>
            <a:srgbClr val="969696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828880" y="3772080"/>
            <a:ext cx="142920" cy="74520"/>
          </a:xfrm>
          <a:prstGeom prst="rect">
            <a:avLst/>
          </a:prstGeom>
          <a:solidFill>
            <a:srgbClr val="969696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220840" y="3914640"/>
            <a:ext cx="6192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699160" y="2981160"/>
            <a:ext cx="142920" cy="944640"/>
          </a:xfrm>
          <a:prstGeom prst="rect">
            <a:avLst/>
          </a:prstGeom>
          <a:solidFill>
            <a:srgbClr val="0000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15160" y="2981160"/>
            <a:ext cx="142920" cy="944640"/>
          </a:xfrm>
          <a:prstGeom prst="rect">
            <a:avLst/>
          </a:prstGeom>
          <a:solidFill>
            <a:srgbClr val="0000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129360" y="2981160"/>
            <a:ext cx="144360" cy="944640"/>
          </a:xfrm>
          <a:prstGeom prst="rect">
            <a:avLst/>
          </a:prstGeom>
          <a:solidFill>
            <a:srgbClr val="0000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345360" y="2981160"/>
            <a:ext cx="142920" cy="944640"/>
          </a:xfrm>
          <a:prstGeom prst="rect">
            <a:avLst/>
          </a:prstGeom>
          <a:solidFill>
            <a:srgbClr val="0000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627520" y="2133720"/>
            <a:ext cx="501840" cy="6825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846840" y="3340080"/>
            <a:ext cx="503280" cy="20340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703920" y="3413160"/>
            <a:ext cx="214560" cy="7452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7277040" y="3556080"/>
            <a:ext cx="1800" cy="148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6991200" y="3556080"/>
            <a:ext cx="1800" cy="148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559560" y="3986280"/>
            <a:ext cx="1440" cy="10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627520" y="3914640"/>
            <a:ext cx="1800" cy="1146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470320" y="3772080"/>
            <a:ext cx="1440" cy="127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254320" y="3986280"/>
            <a:ext cx="1440" cy="10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403440" y="3843360"/>
            <a:ext cx="1800" cy="121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48200" y="3843360"/>
            <a:ext cx="1440" cy="121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765680" y="3843360"/>
            <a:ext cx="1440" cy="121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4467240" y="3876480"/>
            <a:ext cx="1440" cy="11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3838680" y="3885840"/>
            <a:ext cx="1440" cy="11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476520" y="3876840"/>
            <a:ext cx="314280" cy="14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095720" y="3876840"/>
            <a:ext cx="380880" cy="14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695840" y="3867120"/>
            <a:ext cx="428760" cy="14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5124600" y="3876480"/>
            <a:ext cx="1440" cy="11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448080" y="3086280"/>
            <a:ext cx="314280" cy="14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105440" y="3086280"/>
            <a:ext cx="314280" cy="14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>
            <a:hlinkClick r:id="" action="ppaction://hlinkshowjump?jump=previousslide"/>
          </p:cNvPr>
          <p:cNvSpPr/>
          <p:nvPr/>
        </p:nvSpPr>
        <p:spPr>
          <a:xfrm>
            <a:off x="6781680" y="5943600"/>
            <a:ext cx="565200" cy="585720"/>
          </a:xfrm>
          <a:custGeom>
            <a:avLst/>
            <a:gdLst>
              <a:gd name="textAreaLeft" fmla="*/ 36360 w 565200"/>
              <a:gd name="textAreaRight" fmla="*/ 528840 w 565200"/>
              <a:gd name="textAreaTop" fmla="*/ 36360 h 585720"/>
              <a:gd name="textAreaBottom" fmla="*/ 549360 h 585720"/>
            </a:gdLst>
            <a:ahLst/>
            <a:rect l="textAreaLeft" t="textAreaTop" r="textAreaRight" b="textAreaBottom"/>
            <a:pathLst>
              <a:path w="21600" h="22384">
                <a:moveTo>
                  <a:pt x="0" y="0"/>
                </a:moveTo>
                <a:lnTo>
                  <a:pt x="21600" y="0"/>
                </a:lnTo>
                <a:lnTo>
                  <a:pt x="21600" y="22384"/>
                </a:lnTo>
                <a:lnTo>
                  <a:pt x="0" y="22384"/>
                </a:lnTo>
                <a:close/>
              </a:path>
              <a:path fill="lightenLess" w="21600" h="2238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84">
                <a:moveTo>
                  <a:pt x="21600" y="0"/>
                </a:moveTo>
                <a:lnTo>
                  <a:pt x="21600" y="22384"/>
                </a:lnTo>
                <a:lnTo>
                  <a:pt x="20200" y="20984"/>
                </a:lnTo>
                <a:lnTo>
                  <a:pt x="20200" y="1400"/>
                </a:lnTo>
                <a:close/>
              </a:path>
              <a:path fill="darkenLess" w="21600" h="22384">
                <a:moveTo>
                  <a:pt x="21600" y="22384"/>
                </a:moveTo>
                <a:lnTo>
                  <a:pt x="0" y="22384"/>
                </a:lnTo>
                <a:lnTo>
                  <a:pt x="1400" y="20984"/>
                </a:lnTo>
                <a:lnTo>
                  <a:pt x="20200" y="20984"/>
                </a:lnTo>
                <a:close/>
              </a:path>
              <a:path fill="lighten" w="21600" h="22384">
                <a:moveTo>
                  <a:pt x="0" y="2238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84"/>
                </a:lnTo>
                <a:close/>
              </a:path>
              <a:path fill="darken" w="21600" h="22384">
                <a:moveTo>
                  <a:pt x="3794" y="11192"/>
                </a:moveTo>
                <a:lnTo>
                  <a:pt x="17806" y="4185"/>
                </a:lnTo>
                <a:lnTo>
                  <a:pt x="17806" y="18198"/>
                </a:lnTo>
                <a:close/>
              </a:path>
            </a:pathLst>
          </a:cu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>
            <a:hlinkClick r:id="" action="ppaction://hlinkshowjump?jump=nextslide"/>
          </p:cNvPr>
          <p:cNvSpPr/>
          <p:nvPr/>
        </p:nvSpPr>
        <p:spPr>
          <a:xfrm>
            <a:off x="7400880" y="5943600"/>
            <a:ext cx="566640" cy="585720"/>
          </a:xfrm>
          <a:custGeom>
            <a:avLst/>
            <a:gdLst>
              <a:gd name="textAreaLeft" fmla="*/ 36720 w 566640"/>
              <a:gd name="textAreaRight" fmla="*/ 529920 w 566640"/>
              <a:gd name="textAreaTop" fmla="*/ 36720 h 585720"/>
              <a:gd name="textAreaBottom" fmla="*/ 549000 h 585720"/>
            </a:gdLst>
            <a:ahLst/>
            <a:rect l="textAreaLeft" t="textAreaTop" r="textAreaRight" b="textAreaBottom"/>
            <a:pathLst>
              <a:path w="21600" h="22327">
                <a:moveTo>
                  <a:pt x="0" y="0"/>
                </a:moveTo>
                <a:lnTo>
                  <a:pt x="21600" y="0"/>
                </a:lnTo>
                <a:lnTo>
                  <a:pt x="21600" y="22327"/>
                </a:lnTo>
                <a:lnTo>
                  <a:pt x="0" y="22327"/>
                </a:lnTo>
                <a:close/>
              </a:path>
              <a:path fill="lightenLess" w="21600" h="223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27">
                <a:moveTo>
                  <a:pt x="21600" y="0"/>
                </a:moveTo>
                <a:lnTo>
                  <a:pt x="21600" y="22327"/>
                </a:lnTo>
                <a:lnTo>
                  <a:pt x="20200" y="20927"/>
                </a:lnTo>
                <a:lnTo>
                  <a:pt x="20200" y="1400"/>
                </a:lnTo>
                <a:close/>
              </a:path>
              <a:path fill="darkenLess" w="21600" h="22327">
                <a:moveTo>
                  <a:pt x="21600" y="22327"/>
                </a:moveTo>
                <a:lnTo>
                  <a:pt x="0" y="22327"/>
                </a:lnTo>
                <a:lnTo>
                  <a:pt x="1400" y="20927"/>
                </a:lnTo>
                <a:lnTo>
                  <a:pt x="20200" y="20927"/>
                </a:lnTo>
                <a:close/>
              </a:path>
              <a:path fill="lighten" w="21600" h="22327">
                <a:moveTo>
                  <a:pt x="0" y="223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27"/>
                </a:lnTo>
                <a:close/>
              </a:path>
              <a:path fill="darken" w="21600" h="22327">
                <a:moveTo>
                  <a:pt x="3794" y="4157"/>
                </a:moveTo>
                <a:lnTo>
                  <a:pt x="17806" y="11163"/>
                </a:lnTo>
                <a:lnTo>
                  <a:pt x="3794" y="18170"/>
                </a:lnTo>
                <a:close/>
              </a:path>
            </a:pathLst>
          </a:cu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>
            <a:hlinkClick r:id="" action="ppaction://hlinkshowjump?jump=firstslide"/>
          </p:cNvPr>
          <p:cNvSpPr/>
          <p:nvPr/>
        </p:nvSpPr>
        <p:spPr>
          <a:xfrm>
            <a:off x="8021520" y="5943600"/>
            <a:ext cx="565200" cy="585720"/>
          </a:xfrm>
          <a:custGeom>
            <a:avLst/>
            <a:gdLst>
              <a:gd name="textAreaLeft" fmla="*/ 36360 w 565200"/>
              <a:gd name="textAreaRight" fmla="*/ 528840 w 565200"/>
              <a:gd name="textAreaTop" fmla="*/ 36360 h 585720"/>
              <a:gd name="textAreaBottom" fmla="*/ 549360 h 585720"/>
            </a:gdLst>
            <a:ahLst/>
            <a:rect l="textAreaLeft" t="textAreaTop" r="textAreaRight" b="textAreaBottom"/>
            <a:pathLst>
              <a:path w="21600" h="22384">
                <a:moveTo>
                  <a:pt x="0" y="0"/>
                </a:moveTo>
                <a:lnTo>
                  <a:pt x="21600" y="0"/>
                </a:lnTo>
                <a:lnTo>
                  <a:pt x="21600" y="22384"/>
                </a:lnTo>
                <a:lnTo>
                  <a:pt x="0" y="22384"/>
                </a:lnTo>
                <a:close/>
              </a:path>
              <a:path fill="lightenLess" w="21600" h="2238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84">
                <a:moveTo>
                  <a:pt x="21600" y="0"/>
                </a:moveTo>
                <a:lnTo>
                  <a:pt x="21600" y="22384"/>
                </a:lnTo>
                <a:lnTo>
                  <a:pt x="20200" y="20984"/>
                </a:lnTo>
                <a:lnTo>
                  <a:pt x="20200" y="1400"/>
                </a:lnTo>
                <a:close/>
              </a:path>
              <a:path fill="darkenLess" w="21600" h="22384">
                <a:moveTo>
                  <a:pt x="21600" y="22384"/>
                </a:moveTo>
                <a:lnTo>
                  <a:pt x="0" y="22384"/>
                </a:lnTo>
                <a:lnTo>
                  <a:pt x="1400" y="20984"/>
                </a:lnTo>
                <a:lnTo>
                  <a:pt x="20200" y="20984"/>
                </a:lnTo>
                <a:close/>
              </a:path>
              <a:path fill="lighten" w="21600" h="22384">
                <a:moveTo>
                  <a:pt x="0" y="2238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84"/>
                </a:lnTo>
                <a:close/>
              </a:path>
              <a:path fill="darken" w="21600" h="22384">
                <a:moveTo>
                  <a:pt x="7301" y="11192"/>
                </a:moveTo>
                <a:lnTo>
                  <a:pt x="17806" y="4185"/>
                </a:lnTo>
                <a:lnTo>
                  <a:pt x="17806" y="18198"/>
                </a:lnTo>
                <a:close/>
              </a:path>
              <a:path fill="darken" w="21600" h="22384">
                <a:moveTo>
                  <a:pt x="3794" y="4185"/>
                </a:moveTo>
                <a:lnTo>
                  <a:pt x="5456" y="4185"/>
                </a:lnTo>
                <a:lnTo>
                  <a:pt x="5456" y="18198"/>
                </a:lnTo>
                <a:lnTo>
                  <a:pt x="3794" y="18198"/>
                </a:lnTo>
                <a:close/>
              </a:path>
            </a:pathLst>
          </a:cu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rot="16200000">
            <a:off x="2646360" y="4896720"/>
            <a:ext cx="10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PLOTA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rot="16200000">
            <a:off x="4093920" y="4896720"/>
            <a:ext cx="10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PLOTA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rot="16200000">
            <a:off x="3408480" y="482112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PLOTA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rot="16200000">
            <a:off x="4475160" y="4896720"/>
            <a:ext cx="10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HREV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rot="16200000">
            <a:off x="3789360" y="4744440"/>
            <a:ext cx="10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HRE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rot="16200000">
            <a:off x="3179520" y="4744440"/>
            <a:ext cx="10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HREV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rot="16200000">
            <a:off x="1503720" y="482112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ZA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248520" y="1981080"/>
            <a:ext cx="123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NEK_C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248520" y="2362320"/>
            <a:ext cx="123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NEK_S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rot="16200000">
            <a:off x="5695200" y="4972680"/>
            <a:ext cx="123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NEk_VZA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rot="16200000">
            <a:off x="2189520" y="482112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L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6171840" y="2286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6171840" y="2286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6095880" y="26668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rot="16200000">
            <a:off x="6494760" y="4627440"/>
            <a:ext cx="130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SUV_C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rot="16200000">
            <a:off x="6191280" y="4628520"/>
            <a:ext cx="130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SUV_S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rot="16200000">
            <a:off x="4780080" y="4894200"/>
            <a:ext cx="138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NEk_VPRE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600" spc="-1" strike="noStrike">
                <a:solidFill>
                  <a:srgbClr val="221304"/>
                </a:solidFill>
                <a:latin typeface="Times New Roman"/>
              </a:rPr>
              <a:t>p</a:t>
            </a:r>
            <a:r>
              <a:rPr b="1" i="1" lang="en-US" sz="1600" spc="-1" strike="noStrike">
                <a:solidFill>
                  <a:srgbClr val="221304"/>
                </a:solidFill>
                <a:latin typeface="Times New Roman"/>
              </a:rPr>
              <a:t>okra</a:t>
            </a:r>
            <a:r>
              <a:rPr b="1" i="1" lang="sk-SK" sz="1600" spc="-1" strike="noStrike">
                <a:solidFill>
                  <a:srgbClr val="221304"/>
                </a:solidFill>
                <a:latin typeface="Times New Roman"/>
              </a:rPr>
              <a:t>čovanie zadania vstrekolis</a:t>
            </a:r>
            <a:endParaRPr b="0" lang="en-US" sz="16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1143000" y="1828800"/>
            <a:ext cx="7620120" cy="45720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221304"/>
                </a:solidFill>
                <a:latin typeface="Times New Roman"/>
              </a:rPr>
              <a:t>Zadanie 3:</a:t>
            </a:r>
            <a:r>
              <a:rPr b="1" i="1" lang="sk-SK" sz="4400" spc="-1" strike="noStrike">
                <a:solidFill>
                  <a:srgbClr val="221304"/>
                </a:solidFill>
                <a:latin typeface="Times New Roman"/>
              </a:rPr>
              <a:t>   Metalizačný voz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648320" y="1851120"/>
            <a:ext cx="430200" cy="430200"/>
          </a:xfrm>
          <a:prstGeom prst="ellipse">
            <a:avLst/>
          </a:prstGeom>
          <a:solidFill>
            <a:srgbClr val="ff3399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648320" y="4146480"/>
            <a:ext cx="430200" cy="430200"/>
          </a:xfrm>
          <a:prstGeom prst="ellipse">
            <a:avLst/>
          </a:prstGeom>
          <a:solidFill>
            <a:srgbClr val="ff3399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078520" y="2136600"/>
            <a:ext cx="0" cy="2152800"/>
          </a:xfrm>
          <a:prstGeom prst="line">
            <a:avLst/>
          </a:prstGeom>
          <a:ln w="381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648320" y="2209680"/>
            <a:ext cx="0" cy="2152800"/>
          </a:xfrm>
          <a:prstGeom prst="line">
            <a:avLst/>
          </a:prstGeom>
          <a:ln w="381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4862520" y="3141360"/>
            <a:ext cx="1147320" cy="430560"/>
            <a:chOff x="4862520" y="3141360"/>
            <a:chExt cx="1147320" cy="430560"/>
          </a:xfrm>
        </p:grpSpPr>
        <p:sp>
          <p:nvSpPr>
            <p:cNvPr id="385" name=""/>
            <p:cNvSpPr/>
            <p:nvPr/>
          </p:nvSpPr>
          <p:spPr>
            <a:xfrm rot="16200000">
              <a:off x="5579640" y="3141360"/>
              <a:ext cx="430200" cy="430200"/>
            </a:xfrm>
            <a:custGeom>
              <a:avLst/>
              <a:gdLst>
                <a:gd name="textAreaLeft" fmla="*/ 94680 w 430200"/>
                <a:gd name="textAreaRight" fmla="*/ 335520 w 430200"/>
                <a:gd name="textAreaTop" fmla="*/ 94680 h 430200"/>
                <a:gd name="textAreaBottom" fmla="*/ 335520 h 43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62520" y="3141720"/>
              <a:ext cx="717120" cy="430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4073400" y="4648320"/>
            <a:ext cx="1722600" cy="215640"/>
          </a:xfrm>
          <a:prstGeom prst="rect">
            <a:avLst/>
          </a:prstGeom>
          <a:solidFill>
            <a:srgbClr val="3694b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4575240" y="4361760"/>
            <a:ext cx="574560" cy="358920"/>
          </a:xfrm>
          <a:custGeom>
            <a:avLst/>
            <a:gdLst>
              <a:gd name="textAreaLeft" fmla="*/ 126360 w 574560"/>
              <a:gd name="textAreaRight" fmla="*/ 448200 w 574560"/>
              <a:gd name="textAreaTop" fmla="*/ 78840 h 358920"/>
              <a:gd name="textAreaBottom" fmla="*/ 2800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216320" y="4863960"/>
            <a:ext cx="216000" cy="216000"/>
          </a:xfrm>
          <a:prstGeom prst="ellipse">
            <a:avLst/>
          </a:prstGeom>
          <a:solidFill>
            <a:srgbClr val="3694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437080" y="4863960"/>
            <a:ext cx="214560" cy="216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279520" y="5079960"/>
            <a:ext cx="5238720" cy="142920"/>
          </a:xfrm>
          <a:prstGeom prst="rect">
            <a:avLst/>
          </a:prstGeom>
          <a:solidFill>
            <a:srgbClr val="ffff99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193920" y="5546880"/>
            <a:ext cx="358920" cy="358560"/>
          </a:xfrm>
          <a:prstGeom prst="ellipse">
            <a:avLst/>
          </a:prstGeom>
          <a:solidFill>
            <a:srgbClr val="3694b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154560" y="5572080"/>
            <a:ext cx="358920" cy="358920"/>
          </a:xfrm>
          <a:prstGeom prst="ellipse">
            <a:avLst/>
          </a:prstGeom>
          <a:solidFill>
            <a:srgbClr val="ff3399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943600"/>
            <a:ext cx="287280" cy="287280"/>
          </a:xfrm>
          <a:prstGeom prst="ellipse">
            <a:avLst/>
          </a:prstGeom>
          <a:solidFill>
            <a:srgbClr val="3694b6"/>
          </a:solidFill>
          <a:ln w="2844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365800" y="5724360"/>
            <a:ext cx="285840" cy="287640"/>
          </a:xfrm>
          <a:prstGeom prst="ellipse">
            <a:avLst/>
          </a:prstGeom>
          <a:solidFill>
            <a:srgbClr val="ff3399"/>
          </a:solidFill>
          <a:ln w="2844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2743200" y="5724360"/>
            <a:ext cx="612720" cy="371520"/>
          </a:xfrm>
          <a:prstGeom prst="line">
            <a:avLst/>
          </a:prstGeom>
          <a:ln w="28440">
            <a:solidFill>
              <a:srgbClr val="96969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5508720" y="5724360"/>
            <a:ext cx="860400" cy="144720"/>
          </a:xfrm>
          <a:prstGeom prst="line">
            <a:avLst/>
          </a:prstGeom>
          <a:ln w="28440">
            <a:solidFill>
              <a:srgbClr val="96969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3355560" y="5006880"/>
            <a:ext cx="933480" cy="717480"/>
          </a:xfrm>
          <a:prstGeom prst="line">
            <a:avLst/>
          </a:prstGeom>
          <a:ln w="19080">
            <a:solidFill>
              <a:srgbClr val="96969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952880" y="4343400"/>
            <a:ext cx="1344600" cy="1380960"/>
          </a:xfrm>
          <a:prstGeom prst="line">
            <a:avLst/>
          </a:prstGeom>
          <a:ln w="19080">
            <a:solidFill>
              <a:srgbClr val="96969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498840" y="2998800"/>
            <a:ext cx="287280" cy="287280"/>
          </a:xfrm>
          <a:prstGeom prst="ellipse">
            <a:avLst/>
          </a:prstGeom>
          <a:solidFill>
            <a:srgbClr val="666699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643200" y="3286080"/>
            <a:ext cx="1219320" cy="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567160" y="3357720"/>
            <a:ext cx="645840" cy="430200"/>
          </a:xfrm>
          <a:prstGeom prst="rect">
            <a:avLst/>
          </a:prstGeom>
          <a:solidFill>
            <a:srgbClr val="ff33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709720" y="3429000"/>
            <a:ext cx="144720" cy="216000"/>
          </a:xfrm>
          <a:prstGeom prst="rect">
            <a:avLst/>
          </a:prstGeom>
          <a:solidFill>
            <a:srgbClr val="ffff99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5720" y="3429000"/>
            <a:ext cx="142920" cy="216000"/>
          </a:xfrm>
          <a:prstGeom prst="rect">
            <a:avLst/>
          </a:prstGeom>
          <a:solidFill>
            <a:srgbClr val="ffff99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894040" y="3406680"/>
            <a:ext cx="0" cy="28728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228840" y="3419640"/>
            <a:ext cx="164160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3415680" y="3643200"/>
            <a:ext cx="344520" cy="344520"/>
          </a:xfrm>
          <a:prstGeom prst="flowChartDelay">
            <a:avLst/>
          </a:prstGeom>
          <a:solidFill>
            <a:srgbClr val="cc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786120" y="3787920"/>
            <a:ext cx="28728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4073400" y="3499920"/>
            <a:ext cx="0" cy="28764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073400" y="3500280"/>
            <a:ext cx="78912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781360" y="2136600"/>
            <a:ext cx="431640" cy="4320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997360" y="2352600"/>
            <a:ext cx="645840" cy="789120"/>
          </a:xfrm>
          <a:prstGeom prst="line">
            <a:avLst/>
          </a:prstGeom>
          <a:ln w="19080">
            <a:solidFill>
              <a:srgbClr val="96969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>
            <a:hlinkClick r:id="" action="ppaction://hlinkshowjump?jump=previousslide"/>
          </p:cNvPr>
          <p:cNvSpPr/>
          <p:nvPr/>
        </p:nvSpPr>
        <p:spPr>
          <a:xfrm>
            <a:off x="6781680" y="5943600"/>
            <a:ext cx="565200" cy="585720"/>
          </a:xfrm>
          <a:custGeom>
            <a:avLst/>
            <a:gdLst>
              <a:gd name="textAreaLeft" fmla="*/ 36360 w 565200"/>
              <a:gd name="textAreaRight" fmla="*/ 528840 w 565200"/>
              <a:gd name="textAreaTop" fmla="*/ 36360 h 585720"/>
              <a:gd name="textAreaBottom" fmla="*/ 549360 h 585720"/>
            </a:gdLst>
            <a:ahLst/>
            <a:rect l="textAreaLeft" t="textAreaTop" r="textAreaRight" b="textAreaBottom"/>
            <a:pathLst>
              <a:path w="21600" h="22384">
                <a:moveTo>
                  <a:pt x="0" y="0"/>
                </a:moveTo>
                <a:lnTo>
                  <a:pt x="21600" y="0"/>
                </a:lnTo>
                <a:lnTo>
                  <a:pt x="21600" y="22384"/>
                </a:lnTo>
                <a:lnTo>
                  <a:pt x="0" y="22384"/>
                </a:lnTo>
                <a:close/>
              </a:path>
              <a:path fill="lightenLess" w="21600" h="2238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84">
                <a:moveTo>
                  <a:pt x="21600" y="0"/>
                </a:moveTo>
                <a:lnTo>
                  <a:pt x="21600" y="22384"/>
                </a:lnTo>
                <a:lnTo>
                  <a:pt x="20200" y="20984"/>
                </a:lnTo>
                <a:lnTo>
                  <a:pt x="20200" y="1400"/>
                </a:lnTo>
                <a:close/>
              </a:path>
              <a:path fill="darkenLess" w="21600" h="22384">
                <a:moveTo>
                  <a:pt x="21600" y="22384"/>
                </a:moveTo>
                <a:lnTo>
                  <a:pt x="0" y="22384"/>
                </a:lnTo>
                <a:lnTo>
                  <a:pt x="1400" y="20984"/>
                </a:lnTo>
                <a:lnTo>
                  <a:pt x="20200" y="20984"/>
                </a:lnTo>
                <a:close/>
              </a:path>
              <a:path fill="lighten" w="21600" h="22384">
                <a:moveTo>
                  <a:pt x="0" y="2238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84"/>
                </a:lnTo>
                <a:close/>
              </a:path>
              <a:path fill="darken" w="21600" h="22384">
                <a:moveTo>
                  <a:pt x="3794" y="11192"/>
                </a:moveTo>
                <a:lnTo>
                  <a:pt x="17806" y="4185"/>
                </a:lnTo>
                <a:lnTo>
                  <a:pt x="17806" y="18198"/>
                </a:lnTo>
                <a:close/>
              </a:path>
            </a:pathLst>
          </a:cu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>
            <a:hlinkClick r:id="" action="ppaction://hlinkshowjump?jump=nextslide"/>
          </p:cNvPr>
          <p:cNvSpPr/>
          <p:nvPr/>
        </p:nvSpPr>
        <p:spPr>
          <a:xfrm>
            <a:off x="7400880" y="5943600"/>
            <a:ext cx="566640" cy="585720"/>
          </a:xfrm>
          <a:custGeom>
            <a:avLst/>
            <a:gdLst>
              <a:gd name="textAreaLeft" fmla="*/ 36720 w 566640"/>
              <a:gd name="textAreaRight" fmla="*/ 529920 w 566640"/>
              <a:gd name="textAreaTop" fmla="*/ 36720 h 585720"/>
              <a:gd name="textAreaBottom" fmla="*/ 549000 h 585720"/>
            </a:gdLst>
            <a:ahLst/>
            <a:rect l="textAreaLeft" t="textAreaTop" r="textAreaRight" b="textAreaBottom"/>
            <a:pathLst>
              <a:path w="21600" h="22327">
                <a:moveTo>
                  <a:pt x="0" y="0"/>
                </a:moveTo>
                <a:lnTo>
                  <a:pt x="21600" y="0"/>
                </a:lnTo>
                <a:lnTo>
                  <a:pt x="21600" y="22327"/>
                </a:lnTo>
                <a:lnTo>
                  <a:pt x="0" y="22327"/>
                </a:lnTo>
                <a:close/>
              </a:path>
              <a:path fill="lightenLess" w="21600" h="223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27">
                <a:moveTo>
                  <a:pt x="21600" y="0"/>
                </a:moveTo>
                <a:lnTo>
                  <a:pt x="21600" y="22327"/>
                </a:lnTo>
                <a:lnTo>
                  <a:pt x="20200" y="20927"/>
                </a:lnTo>
                <a:lnTo>
                  <a:pt x="20200" y="1400"/>
                </a:lnTo>
                <a:close/>
              </a:path>
              <a:path fill="darkenLess" w="21600" h="22327">
                <a:moveTo>
                  <a:pt x="21600" y="22327"/>
                </a:moveTo>
                <a:lnTo>
                  <a:pt x="0" y="22327"/>
                </a:lnTo>
                <a:lnTo>
                  <a:pt x="1400" y="20927"/>
                </a:lnTo>
                <a:lnTo>
                  <a:pt x="20200" y="20927"/>
                </a:lnTo>
                <a:close/>
              </a:path>
              <a:path fill="lighten" w="21600" h="22327">
                <a:moveTo>
                  <a:pt x="0" y="223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27"/>
                </a:lnTo>
                <a:close/>
              </a:path>
              <a:path fill="darken" w="21600" h="22327">
                <a:moveTo>
                  <a:pt x="3794" y="4157"/>
                </a:moveTo>
                <a:lnTo>
                  <a:pt x="17806" y="11163"/>
                </a:lnTo>
                <a:lnTo>
                  <a:pt x="3794" y="18170"/>
                </a:lnTo>
                <a:close/>
              </a:path>
            </a:pathLst>
          </a:cu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>
            <a:hlinkClick r:id="" action="ppaction://hlinkshowjump?jump=firstslide"/>
          </p:cNvPr>
          <p:cNvSpPr/>
          <p:nvPr/>
        </p:nvSpPr>
        <p:spPr>
          <a:xfrm>
            <a:off x="8021520" y="5943600"/>
            <a:ext cx="565200" cy="585720"/>
          </a:xfrm>
          <a:custGeom>
            <a:avLst/>
            <a:gdLst>
              <a:gd name="textAreaLeft" fmla="*/ 36360 w 565200"/>
              <a:gd name="textAreaRight" fmla="*/ 528840 w 565200"/>
              <a:gd name="textAreaTop" fmla="*/ 36360 h 585720"/>
              <a:gd name="textAreaBottom" fmla="*/ 549360 h 585720"/>
            </a:gdLst>
            <a:ahLst/>
            <a:rect l="textAreaLeft" t="textAreaTop" r="textAreaRight" b="textAreaBottom"/>
            <a:pathLst>
              <a:path w="21600" h="22384">
                <a:moveTo>
                  <a:pt x="0" y="0"/>
                </a:moveTo>
                <a:lnTo>
                  <a:pt x="21600" y="0"/>
                </a:lnTo>
                <a:lnTo>
                  <a:pt x="21600" y="22384"/>
                </a:lnTo>
                <a:lnTo>
                  <a:pt x="0" y="22384"/>
                </a:lnTo>
                <a:close/>
              </a:path>
              <a:path fill="lightenLess" w="21600" h="2238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84">
                <a:moveTo>
                  <a:pt x="21600" y="0"/>
                </a:moveTo>
                <a:lnTo>
                  <a:pt x="21600" y="22384"/>
                </a:lnTo>
                <a:lnTo>
                  <a:pt x="20200" y="20984"/>
                </a:lnTo>
                <a:lnTo>
                  <a:pt x="20200" y="1400"/>
                </a:lnTo>
                <a:close/>
              </a:path>
              <a:path fill="darkenLess" w="21600" h="22384">
                <a:moveTo>
                  <a:pt x="21600" y="22384"/>
                </a:moveTo>
                <a:lnTo>
                  <a:pt x="0" y="22384"/>
                </a:lnTo>
                <a:lnTo>
                  <a:pt x="1400" y="20984"/>
                </a:lnTo>
                <a:lnTo>
                  <a:pt x="20200" y="20984"/>
                </a:lnTo>
                <a:close/>
              </a:path>
              <a:path fill="lighten" w="21600" h="22384">
                <a:moveTo>
                  <a:pt x="0" y="2238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84"/>
                </a:lnTo>
                <a:close/>
              </a:path>
              <a:path fill="darken" w="21600" h="22384">
                <a:moveTo>
                  <a:pt x="7301" y="11192"/>
                </a:moveTo>
                <a:lnTo>
                  <a:pt x="17806" y="4185"/>
                </a:lnTo>
                <a:lnTo>
                  <a:pt x="17806" y="18198"/>
                </a:lnTo>
                <a:close/>
              </a:path>
              <a:path fill="darken" w="21600" h="22384">
                <a:moveTo>
                  <a:pt x="3794" y="4185"/>
                </a:moveTo>
                <a:lnTo>
                  <a:pt x="5456" y="4185"/>
                </a:lnTo>
                <a:lnTo>
                  <a:pt x="5456" y="18198"/>
                </a:lnTo>
                <a:lnTo>
                  <a:pt x="3794" y="18198"/>
                </a:lnTo>
                <a:close/>
              </a:path>
            </a:pathLst>
          </a:cu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828800" y="2286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600200" y="3581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438280" y="3886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238880" y="4724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1447920" y="4800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1676520" y="6095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4343400" y="5867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286000" y="4724280"/>
            <a:ext cx="152280" cy="152640"/>
          </a:xfrm>
          <a:prstGeom prst="ellipse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086600" y="4648320"/>
            <a:ext cx="152280" cy="152280"/>
          </a:xfrm>
          <a:prstGeom prst="ellipse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661760" y="2297160"/>
            <a:ext cx="10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UV_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449360" y="320040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BLU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288520" y="3886200"/>
            <a:ext cx="95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ZDU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372680" y="4419720"/>
            <a:ext cx="111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KONIEC_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316280" y="4343400"/>
            <a:ext cx="110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KONIEC_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269600" y="54864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LTA_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602360" y="586728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LTA_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781680" y="5334120"/>
            <a:ext cx="609840" cy="457200"/>
          </a:xfrm>
          <a:prstGeom prst="rect">
            <a:avLst/>
          </a:prstGeom>
          <a:solidFill>
            <a:srgbClr val="ff3399"/>
          </a:solidFill>
          <a:ln w="9360">
            <a:solidFill>
              <a:srgbClr val="a1bd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514600" y="5257800"/>
            <a:ext cx="609480" cy="457200"/>
          </a:xfrm>
          <a:prstGeom prst="rect">
            <a:avLst/>
          </a:prstGeom>
          <a:solidFill>
            <a:srgbClr val="3694b6"/>
          </a:solidFill>
          <a:ln w="936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523880" y="5410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600200" y="5715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296000" y="5105520"/>
            <a:ext cx="115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HON_Y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7391520" y="5410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7391520" y="5715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296360" y="541008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HON_Y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240" y="541008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HON_X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391880" y="5029200"/>
            <a:ext cx="115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HON_X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rot="5400000">
            <a:off x="3123720" y="5334120"/>
            <a:ext cx="228600" cy="228600"/>
          </a:xfrm>
          <a:custGeom>
            <a:avLst/>
            <a:gdLst>
              <a:gd name="textAreaLeft" fmla="*/ 0 w 228600"/>
              <a:gd name="textAreaRight" fmla="*/ 228960 w 2286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a1bd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 rot="16200000">
            <a:off x="6476760" y="5410080"/>
            <a:ext cx="228600" cy="380880"/>
          </a:xfrm>
          <a:custGeom>
            <a:avLst/>
            <a:gdLst>
              <a:gd name="textAreaLeft" fmla="*/ -360 w 228600"/>
              <a:gd name="textAreaRight" fmla="*/ 228600 w 228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a1bd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442120" y="3613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536800" y="3786120"/>
            <a:ext cx="145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odmienky_te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4T14:15:43Z</dcterms:created>
  <dc:creator>Girman</dc:creator>
  <dc:description/>
  <dc:language>en-US</dc:language>
  <cp:lastModifiedBy>girman</cp:lastModifiedBy>
  <dcterms:modified xsi:type="dcterms:W3CDTF">2003-06-11T16:59:26Z</dcterms:modified>
  <cp:revision>115</cp:revision>
  <dc:subject/>
  <dc:title>Zadanie : Križovatka</dc:title>
</cp:coreProperties>
</file>