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B3C-2439-4A09-B988-7890D230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C78-531E-47E8-879D-508A34E3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E65-6D64-4EB9-B954-2961343A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B95-EC89-4103-92D1-5C9F9607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E2DB-9037-4459-A8D7-561DC5DE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1D17-B1D7-4FB3-A800-4DA27F3E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1D35-0E58-455C-8F59-AE31EECA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1BDD-D674-45E4-8D44-04EEC6B0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16E-0143-463B-BA89-85AEDC6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7A0-C519-4A64-8133-C6ACC10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5ECD-6B03-4AD6-92ED-B421F03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8FC-9785-4D7A-8711-29EF0A7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5AB3-79E4-4B21-A7F3-ADA2BA7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7696-682B-41F6-AABE-B4A37BF0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AB3F-68E9-4DB0-8354-DDCE796C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9FDB-1325-469E-B1F5-010BFED7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1CF4-3C76-48E9-9AFF-18A74BA2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60C-C9B6-43DA-A587-6B564EDC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3D0-B177-432B-A89F-1CEFAE1D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F9C-387C-4CCF-890A-9F809C7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C33-CF2E-4B8C-A4C3-E746C7AF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704-4779-4745-B451-E978460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18C-E858-4CBF-BACF-B38C863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E29-F783-4821-9D0A-182C5A8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407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40CC-918A-46E6-B0D3-6189F68CD56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87FF-EF08-4BE3-B115-FED3E7A6869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221304"/>
                </a:solidFill>
                <a:latin typeface="Times New Roman"/>
              </a:rPr>
              <a:t>Programovanie kombinačnej logik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57480"/>
          </a:xfrm>
          <a:custGeom>
            <a:avLst/>
            <a:gdLst>
              <a:gd name="textAreaLeft" fmla="*/ 23040 w 381240"/>
              <a:gd name="textAreaRight" fmla="*/ 358200 w 3812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3034" h="21600">
                <a:moveTo>
                  <a:pt x="0" y="0"/>
                </a:moveTo>
                <a:lnTo>
                  <a:pt x="23034" y="0"/>
                </a:lnTo>
                <a:lnTo>
                  <a:pt x="23034" y="21600"/>
                </a:lnTo>
                <a:lnTo>
                  <a:pt x="0" y="21600"/>
                </a:lnTo>
                <a:close/>
              </a:path>
              <a:path fill="lightenLess" w="23034" h="21600">
                <a:moveTo>
                  <a:pt x="0" y="0"/>
                </a:moveTo>
                <a:lnTo>
                  <a:pt x="23034" y="0"/>
                </a:lnTo>
                <a:lnTo>
                  <a:pt x="21634" y="1400"/>
                </a:lnTo>
                <a:lnTo>
                  <a:pt x="1400" y="1400"/>
                </a:lnTo>
                <a:close/>
              </a:path>
              <a:path fill="darken" w="23034" h="21600">
                <a:moveTo>
                  <a:pt x="23034" y="0"/>
                </a:moveTo>
                <a:lnTo>
                  <a:pt x="23034" y="21600"/>
                </a:lnTo>
                <a:lnTo>
                  <a:pt x="21634" y="20200"/>
                </a:lnTo>
                <a:lnTo>
                  <a:pt x="21634" y="1400"/>
                </a:lnTo>
                <a:close/>
              </a:path>
              <a:path fill="darkenLess" w="23034" h="21600">
                <a:moveTo>
                  <a:pt x="23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4" y="20200"/>
                </a:lnTo>
                <a:close/>
              </a:path>
              <a:path fill="lighten" w="23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4" h="21600">
                <a:moveTo>
                  <a:pt x="4511" y="10800"/>
                </a:moveTo>
                <a:lnTo>
                  <a:pt x="18524" y="3794"/>
                </a:lnTo>
                <a:lnTo>
                  <a:pt x="1852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4290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57480"/>
          </a:xfrm>
          <a:custGeom>
            <a:avLst/>
            <a:gdLst>
              <a:gd name="textAreaLeft" fmla="*/ 23040 w 381240"/>
              <a:gd name="textAreaRight" fmla="*/ 358200 w 3812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3034" h="21600">
                <a:moveTo>
                  <a:pt x="0" y="0"/>
                </a:moveTo>
                <a:lnTo>
                  <a:pt x="23034" y="0"/>
                </a:lnTo>
                <a:lnTo>
                  <a:pt x="23034" y="21600"/>
                </a:lnTo>
                <a:lnTo>
                  <a:pt x="0" y="21600"/>
                </a:lnTo>
                <a:close/>
              </a:path>
              <a:path fill="lightenLess" w="23034" h="21600">
                <a:moveTo>
                  <a:pt x="0" y="0"/>
                </a:moveTo>
                <a:lnTo>
                  <a:pt x="23034" y="0"/>
                </a:lnTo>
                <a:lnTo>
                  <a:pt x="21634" y="1400"/>
                </a:lnTo>
                <a:lnTo>
                  <a:pt x="1400" y="1400"/>
                </a:lnTo>
                <a:close/>
              </a:path>
              <a:path fill="darken" w="23034" h="21600">
                <a:moveTo>
                  <a:pt x="23034" y="0"/>
                </a:moveTo>
                <a:lnTo>
                  <a:pt x="23034" y="21600"/>
                </a:lnTo>
                <a:lnTo>
                  <a:pt x="21634" y="20200"/>
                </a:lnTo>
                <a:lnTo>
                  <a:pt x="21634" y="1400"/>
                </a:lnTo>
                <a:close/>
              </a:path>
              <a:path fill="darkenLess" w="23034" h="21600">
                <a:moveTo>
                  <a:pt x="23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4" y="20200"/>
                </a:lnTo>
                <a:close/>
              </a:path>
              <a:path fill="lighten" w="23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4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2388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1654200"/>
            <a:ext cx="524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ovanie elemen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árnych logických funkci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ogramovanie technikou zátvori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ogramovanie technikou medzivýsledk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 s 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 a zostupnou hran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4240" y="5505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B1.Príklad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1520" y="1666800"/>
            <a:ext cx="57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te program pre nasledujúce zapojenia obvodo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74760" y="2279520"/>
            <a:ext cx="5176800" cy="3090960"/>
            <a:chOff x="1274760" y="2279520"/>
            <a:chExt cx="5176800" cy="3090960"/>
          </a:xfrm>
        </p:grpSpPr>
        <p:sp>
          <p:nvSpPr>
            <p:cNvPr id="414" name=""/>
            <p:cNvSpPr/>
            <p:nvPr/>
          </p:nvSpPr>
          <p:spPr>
            <a:xfrm>
              <a:off x="1274760" y="2279520"/>
              <a:ext cx="5176800" cy="309096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6200" y="2562120"/>
              <a:ext cx="412920" cy="6825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19200" y="3914640"/>
              <a:ext cx="412920" cy="682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3103560"/>
              <a:ext cx="412560" cy="6825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46840" y="3927600"/>
              <a:ext cx="412560" cy="979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2880" y="274320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7680" y="310356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74720" y="406872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62120" y="441792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86120" y="28717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49400" y="42498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75280" y="3438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87600" y="2884320"/>
              <a:ext cx="0" cy="4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7600" y="357984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00560" y="330984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7600" y="357984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75320" y="345132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87920" y="414648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87680" y="4778280"/>
              <a:ext cx="33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9000" y="444348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34760" y="279720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34760" y="242424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82200" y="371160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94800" y="411012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32960" y="447048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7280" y="4367160"/>
              <a:ext cx="88920" cy="889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2040" y="3271680"/>
              <a:ext cx="88920" cy="889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46760" y="4714920"/>
              <a:ext cx="88920" cy="889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27520" y="405936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A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446200" y="2697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46520" y="3238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48280" y="4216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20280" y="403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448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B2. Príklad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441440" y="2795760"/>
            <a:ext cx="5176800" cy="3090600"/>
            <a:chOff x="1441440" y="2795760"/>
            <a:chExt cx="5176800" cy="3090600"/>
          </a:xfrm>
        </p:grpSpPr>
        <p:sp>
          <p:nvSpPr>
            <p:cNvPr id="453" name=""/>
            <p:cNvSpPr/>
            <p:nvPr/>
          </p:nvSpPr>
          <p:spPr>
            <a:xfrm>
              <a:off x="1441440" y="2795760"/>
              <a:ext cx="5176800" cy="309060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12880" y="3078000"/>
              <a:ext cx="412920" cy="682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85880" y="4430520"/>
              <a:ext cx="412920" cy="6825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0600" y="3619440"/>
              <a:ext cx="412560" cy="682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13520" y="4443480"/>
              <a:ext cx="412560" cy="978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79560" y="325908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54360" y="361944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1400" y="458460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28800" y="493380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52800" y="3387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16080" y="47656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41960" y="395424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54280" y="340020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54280" y="4095720"/>
              <a:ext cx="0" cy="6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67240" y="38257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4280" y="409572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42000" y="3967200"/>
              <a:ext cx="0" cy="6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4600" y="466236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54360" y="5294160"/>
              <a:ext cx="33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65680" y="495936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1440" y="331308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01440" y="294012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48880" y="422748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61480" y="462600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99640" y="498636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3960" y="4883040"/>
              <a:ext cx="88920" cy="885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98720" y="3787560"/>
              <a:ext cx="88920" cy="885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13440" y="5230800"/>
              <a:ext cx="88920" cy="885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94200" y="457524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A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365840" y="1930320"/>
            <a:ext cx="56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te program pre nasledujúce zapojenia obvod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61040" y="330840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17280" y="3328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5080" y="46814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30200" y="3921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92360" y="4898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489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65120" y="2536920"/>
            <a:ext cx="6710400" cy="222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.P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ríklad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51280" y="1865160"/>
            <a:ext cx="44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te program pre nasledujúce zad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95520" y="2646360"/>
            <a:ext cx="623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 0.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 0.2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 0.3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A 0.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A 0.2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A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x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497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455840" y="1854360"/>
            <a:ext cx="4532040" cy="26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D1. Príklad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41400" y="2187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30200" y="34005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841040" y="2049480"/>
            <a:ext cx="3691800" cy="1897200"/>
            <a:chOff x="1841040" y="2049480"/>
            <a:chExt cx="3691800" cy="1897200"/>
          </a:xfrm>
        </p:grpSpPr>
        <p:grpSp>
          <p:nvGrpSpPr>
            <p:cNvPr id="505" name=""/>
            <p:cNvGrpSpPr/>
            <p:nvPr/>
          </p:nvGrpSpPr>
          <p:grpSpPr>
            <a:xfrm>
              <a:off x="2389320" y="2441520"/>
              <a:ext cx="228600" cy="228600"/>
              <a:chOff x="2389320" y="2441520"/>
              <a:chExt cx="228600" cy="228600"/>
            </a:xfrm>
          </p:grpSpPr>
          <p:sp>
            <p:nvSpPr>
              <p:cNvPr id="506" name=""/>
              <p:cNvSpPr/>
              <p:nvPr/>
            </p:nvSpPr>
            <p:spPr>
              <a:xfrm>
                <a:off x="2389320" y="244152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17920" y="244152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4189320" y="3718080"/>
              <a:ext cx="228600" cy="228600"/>
              <a:chOff x="4189320" y="3718080"/>
              <a:chExt cx="228600" cy="2286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189320" y="3718080"/>
                <a:ext cx="228600" cy="228600"/>
                <a:chOff x="4189320" y="3718080"/>
                <a:chExt cx="228600" cy="2286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189320" y="37180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17920" y="37180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 flipH="1">
                <a:off x="4227120" y="37436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flipH="1">
              <a:off x="2601720" y="2536920"/>
              <a:ext cx="5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99040" y="2459160"/>
              <a:ext cx="206280" cy="1936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854000" y="2549520"/>
              <a:ext cx="5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135240" y="2441520"/>
              <a:ext cx="228600" cy="228600"/>
              <a:chOff x="3135240" y="2441520"/>
              <a:chExt cx="228600" cy="228600"/>
            </a:xfrm>
          </p:grpSpPr>
          <p:sp>
            <p:nvSpPr>
              <p:cNvPr id="517" name=""/>
              <p:cNvSpPr/>
              <p:nvPr/>
            </p:nvSpPr>
            <p:spPr>
              <a:xfrm>
                <a:off x="3135240" y="244152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63840" y="244152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flipH="1">
              <a:off x="3360240" y="25495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351160" y="2995560"/>
              <a:ext cx="228600" cy="228600"/>
              <a:chOff x="2351160" y="2995560"/>
              <a:chExt cx="228600" cy="228600"/>
            </a:xfrm>
          </p:grpSpPr>
          <p:sp>
            <p:nvSpPr>
              <p:cNvPr id="521" name=""/>
              <p:cNvSpPr/>
              <p:nvPr/>
            </p:nvSpPr>
            <p:spPr>
              <a:xfrm>
                <a:off x="2351160" y="29955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79760" y="29955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H="1">
              <a:off x="1841040" y="3116160"/>
              <a:ext cx="5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588760" y="3116160"/>
              <a:ext cx="2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97280" y="2536920"/>
              <a:ext cx="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2336760" y="3676680"/>
              <a:ext cx="228600" cy="228600"/>
              <a:chOff x="2336760" y="3676680"/>
              <a:chExt cx="228600" cy="228600"/>
            </a:xfrm>
          </p:grpSpPr>
          <p:sp>
            <p:nvSpPr>
              <p:cNvPr id="527" name=""/>
              <p:cNvSpPr/>
              <p:nvPr/>
            </p:nvSpPr>
            <p:spPr>
              <a:xfrm>
                <a:off x="2336760" y="367668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65360" y="367668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>
              <a:off x="1841400" y="379872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575080" y="379872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27600" y="2575080"/>
              <a:ext cx="0" cy="12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903840" y="3798720"/>
              <a:ext cx="29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430520" y="381168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38680" y="2575080"/>
              <a:ext cx="0" cy="12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9560" y="20494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87280" y="20620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 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63240" y="33750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 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55760" y="207504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2219400" y="27288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541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442880" y="1944720"/>
            <a:ext cx="4416480" cy="267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D2.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ríklad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389320" y="2647800"/>
            <a:ext cx="228600" cy="228600"/>
            <a:chOff x="2389320" y="2647800"/>
            <a:chExt cx="228600" cy="228600"/>
          </a:xfrm>
        </p:grpSpPr>
        <p:sp>
          <p:nvSpPr>
            <p:cNvPr id="547" name=""/>
            <p:cNvSpPr/>
            <p:nvPr/>
          </p:nvSpPr>
          <p:spPr>
            <a:xfrm>
              <a:off x="2389320" y="2647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17920" y="2647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189320" y="3924360"/>
            <a:ext cx="228600" cy="228600"/>
            <a:chOff x="4189320" y="3924360"/>
            <a:chExt cx="228600" cy="228600"/>
          </a:xfrm>
        </p:grpSpPr>
        <p:grpSp>
          <p:nvGrpSpPr>
            <p:cNvPr id="550" name=""/>
            <p:cNvGrpSpPr/>
            <p:nvPr/>
          </p:nvGrpSpPr>
          <p:grpSpPr>
            <a:xfrm>
              <a:off x="4189320" y="3924360"/>
              <a:ext cx="228600" cy="228600"/>
              <a:chOff x="4189320" y="3924360"/>
              <a:chExt cx="228600" cy="228600"/>
            </a:xfrm>
          </p:grpSpPr>
          <p:sp>
            <p:nvSpPr>
              <p:cNvPr id="551" name=""/>
              <p:cNvSpPr/>
              <p:nvPr/>
            </p:nvSpPr>
            <p:spPr>
              <a:xfrm>
                <a:off x="4189320" y="39243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17920" y="39243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flipH="1">
              <a:off x="4227120" y="39499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 flipH="1">
            <a:off x="2601720" y="27432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99040" y="2665440"/>
            <a:ext cx="206280" cy="1936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854000" y="27558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135240" y="2647800"/>
            <a:ext cx="228600" cy="228600"/>
            <a:chOff x="3135240" y="2647800"/>
            <a:chExt cx="228600" cy="228600"/>
          </a:xfrm>
        </p:grpSpPr>
        <p:sp>
          <p:nvSpPr>
            <p:cNvPr id="558" name=""/>
            <p:cNvSpPr/>
            <p:nvPr/>
          </p:nvSpPr>
          <p:spPr>
            <a:xfrm>
              <a:off x="3135240" y="2647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63840" y="2647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 flipH="1">
            <a:off x="3360240" y="2755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51160" y="3201840"/>
            <a:ext cx="228600" cy="228600"/>
            <a:chOff x="2351160" y="3201840"/>
            <a:chExt cx="228600" cy="228600"/>
          </a:xfrm>
        </p:grpSpPr>
        <p:sp>
          <p:nvSpPr>
            <p:cNvPr id="562" name=""/>
            <p:cNvSpPr/>
            <p:nvPr/>
          </p:nvSpPr>
          <p:spPr>
            <a:xfrm>
              <a:off x="2351160" y="32018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79760" y="32018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 flipH="1">
            <a:off x="1841040" y="33228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588760" y="3322800"/>
            <a:ext cx="2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7280" y="274320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336760" y="3882960"/>
            <a:ext cx="228600" cy="228600"/>
            <a:chOff x="2336760" y="3882960"/>
            <a:chExt cx="228600" cy="228600"/>
          </a:xfrm>
        </p:grpSpPr>
        <p:sp>
          <p:nvSpPr>
            <p:cNvPr id="568" name=""/>
            <p:cNvSpPr/>
            <p:nvPr/>
          </p:nvSpPr>
          <p:spPr>
            <a:xfrm>
              <a:off x="2336760" y="3882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65360" y="3882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 flipH="1">
            <a:off x="1841400" y="400536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575080" y="4005360"/>
            <a:ext cx="13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27600" y="278136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903840" y="400536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430520" y="4017960"/>
            <a:ext cx="30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38680" y="278136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9560" y="22557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87280" y="22683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63240" y="3581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 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55760" y="2281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41400" y="2227320"/>
            <a:ext cx="0" cy="18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88800" y="28717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600" y="3581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855960" y="3163680"/>
            <a:ext cx="228600" cy="228600"/>
            <a:chOff x="3855960" y="3163680"/>
            <a:chExt cx="228600" cy="228600"/>
          </a:xfrm>
        </p:grpSpPr>
        <p:sp>
          <p:nvSpPr>
            <p:cNvPr id="584" name=""/>
            <p:cNvSpPr/>
            <p:nvPr/>
          </p:nvSpPr>
          <p:spPr>
            <a:xfrm>
              <a:off x="3855960" y="3392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55960" y="3163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941640" y="337356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56920" y="31291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589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21304"/>
                </a:solidFill>
                <a:latin typeface="Times New Roman"/>
              </a:rPr>
              <a:t>Otázky k cvičeniu</a:t>
            </a:r>
            <a:r>
              <a:rPr b="1" lang="sk-SK" sz="1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35160" y="1666800"/>
            <a:ext cx="676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ysvetlite činnosť akumulátora V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ysvetlite význam príznakových bito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edy sa do užívateľského programu zapisuj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aktuálne hodnoty vstupov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o sa programuje 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ôstikové zapojenie kontaktných prvkov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595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panak1" descr=""/>
          <p:cNvPicPr/>
          <p:nvPr/>
        </p:nvPicPr>
        <p:blipFill>
          <a:blip r:embed="rId1"/>
          <a:stretch/>
        </p:blipFill>
        <p:spPr>
          <a:xfrm>
            <a:off x="6727680" y="379440"/>
            <a:ext cx="1432080" cy="1566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75960" y="476280"/>
            <a:ext cx="78138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Programovanie e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entárn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yc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ick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i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57480"/>
          </a:xfrm>
          <a:custGeom>
            <a:avLst/>
            <a:gdLst>
              <a:gd name="textAreaLeft" fmla="*/ 23040 w 381240"/>
              <a:gd name="textAreaRight" fmla="*/ 358200 w 3812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3034" h="21600">
                <a:moveTo>
                  <a:pt x="0" y="0"/>
                </a:moveTo>
                <a:lnTo>
                  <a:pt x="23034" y="0"/>
                </a:lnTo>
                <a:lnTo>
                  <a:pt x="23034" y="21600"/>
                </a:lnTo>
                <a:lnTo>
                  <a:pt x="0" y="21600"/>
                </a:lnTo>
                <a:close/>
              </a:path>
              <a:path fill="lightenLess" w="23034" h="21600">
                <a:moveTo>
                  <a:pt x="0" y="0"/>
                </a:moveTo>
                <a:lnTo>
                  <a:pt x="23034" y="0"/>
                </a:lnTo>
                <a:lnTo>
                  <a:pt x="21634" y="1400"/>
                </a:lnTo>
                <a:lnTo>
                  <a:pt x="1400" y="1400"/>
                </a:lnTo>
                <a:close/>
              </a:path>
              <a:path fill="darken" w="23034" h="21600">
                <a:moveTo>
                  <a:pt x="23034" y="0"/>
                </a:moveTo>
                <a:lnTo>
                  <a:pt x="23034" y="21600"/>
                </a:lnTo>
                <a:lnTo>
                  <a:pt x="21634" y="20200"/>
                </a:lnTo>
                <a:lnTo>
                  <a:pt x="21634" y="1400"/>
                </a:lnTo>
                <a:close/>
              </a:path>
              <a:path fill="darkenLess" w="23034" h="21600">
                <a:moveTo>
                  <a:pt x="23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4" y="20200"/>
                </a:lnTo>
                <a:close/>
              </a:path>
              <a:path fill="lighten" w="23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4" h="21600">
                <a:moveTo>
                  <a:pt x="4511" y="10800"/>
                </a:moveTo>
                <a:lnTo>
                  <a:pt x="18524" y="3794"/>
                </a:lnTo>
                <a:lnTo>
                  <a:pt x="1852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57480"/>
          </a:xfrm>
          <a:custGeom>
            <a:avLst/>
            <a:gdLst>
              <a:gd name="textAreaLeft" fmla="*/ 23040 w 381240"/>
              <a:gd name="textAreaRight" fmla="*/ 358200 w 3812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3034" h="21600">
                <a:moveTo>
                  <a:pt x="0" y="0"/>
                </a:moveTo>
                <a:lnTo>
                  <a:pt x="23034" y="0"/>
                </a:lnTo>
                <a:lnTo>
                  <a:pt x="23034" y="21600"/>
                </a:lnTo>
                <a:lnTo>
                  <a:pt x="0" y="21600"/>
                </a:lnTo>
                <a:close/>
              </a:path>
              <a:path fill="lightenLess" w="23034" h="21600">
                <a:moveTo>
                  <a:pt x="0" y="0"/>
                </a:moveTo>
                <a:lnTo>
                  <a:pt x="23034" y="0"/>
                </a:lnTo>
                <a:lnTo>
                  <a:pt x="21634" y="1400"/>
                </a:lnTo>
                <a:lnTo>
                  <a:pt x="1400" y="1400"/>
                </a:lnTo>
                <a:close/>
              </a:path>
              <a:path fill="darken" w="23034" h="21600">
                <a:moveTo>
                  <a:pt x="23034" y="0"/>
                </a:moveTo>
                <a:lnTo>
                  <a:pt x="23034" y="21600"/>
                </a:lnTo>
                <a:lnTo>
                  <a:pt x="21634" y="20200"/>
                </a:lnTo>
                <a:lnTo>
                  <a:pt x="21634" y="1400"/>
                </a:lnTo>
                <a:close/>
              </a:path>
              <a:path fill="darkenLess" w="23034" h="21600">
                <a:moveTo>
                  <a:pt x="23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4" y="20200"/>
                </a:lnTo>
                <a:close/>
              </a:path>
              <a:path fill="lighten" w="23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4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2388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3600" y="1608120"/>
            <a:ext cx="738036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cou logických operácii AND, OR a NEGÁCIE dokážeme realizovať všetky kombinačné logické funkcie. Pre tieto vlastnosti sú uvedené operácie základom programového vybavenia všetkých logických procesorov. Zápis elementárneho programu je na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ďalšom obráz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65120" y="1866960"/>
            <a:ext cx="4391280" cy="1249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Logický súčin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35240" y="2441520"/>
            <a:ext cx="228600" cy="228600"/>
            <a:chOff x="3135240" y="2441520"/>
            <a:chExt cx="228600" cy="228600"/>
          </a:xfrm>
        </p:grpSpPr>
        <p:sp>
          <p:nvSpPr>
            <p:cNvPr id="104" name=""/>
            <p:cNvSpPr/>
            <p:nvPr/>
          </p:nvSpPr>
          <p:spPr>
            <a:xfrm>
              <a:off x="3135240" y="2441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63840" y="2441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917880" y="2430360"/>
            <a:ext cx="228600" cy="228600"/>
            <a:chOff x="3917880" y="2430360"/>
            <a:chExt cx="228600" cy="228600"/>
          </a:xfrm>
        </p:grpSpPr>
        <p:grpSp>
          <p:nvGrpSpPr>
            <p:cNvPr id="107" name=""/>
            <p:cNvGrpSpPr/>
            <p:nvPr/>
          </p:nvGrpSpPr>
          <p:grpSpPr>
            <a:xfrm>
              <a:off x="3917880" y="2430360"/>
              <a:ext cx="228600" cy="228600"/>
              <a:chOff x="3917880" y="2430360"/>
              <a:chExt cx="228600" cy="22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3917880" y="24303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146480" y="24303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3955680" y="24559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89320" y="2441520"/>
            <a:ext cx="228600" cy="228600"/>
            <a:chOff x="2389320" y="2441520"/>
            <a:chExt cx="228600" cy="228600"/>
          </a:xfrm>
        </p:grpSpPr>
        <p:sp>
          <p:nvSpPr>
            <p:cNvPr id="112" name=""/>
            <p:cNvSpPr/>
            <p:nvPr/>
          </p:nvSpPr>
          <p:spPr>
            <a:xfrm>
              <a:off x="2389320" y="2441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17920" y="2441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1879200" y="25495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9920" y="25369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374640" y="25495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47920" y="25495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7920" y="2446200"/>
            <a:ext cx="206280" cy="1936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66960" y="215100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0320" y="2043000"/>
            <a:ext cx="346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1        E 0.2         E 0.3         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39920" y="3579840"/>
            <a:ext cx="3166920" cy="2614680"/>
            <a:chOff x="1339920" y="3579840"/>
            <a:chExt cx="3166920" cy="2614680"/>
          </a:xfrm>
        </p:grpSpPr>
        <p:sp>
          <p:nvSpPr>
            <p:cNvPr id="122" name=""/>
            <p:cNvSpPr/>
            <p:nvPr/>
          </p:nvSpPr>
          <p:spPr>
            <a:xfrm>
              <a:off x="1339920" y="3579840"/>
              <a:ext cx="3166920" cy="26146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60600" y="3992400"/>
              <a:ext cx="939960" cy="1816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4124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19200" y="4430880"/>
              <a:ext cx="9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19200" y="4944960"/>
              <a:ext cx="9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19200" y="5435640"/>
              <a:ext cx="9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8080" y="40719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8080" y="458784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68080" y="507672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5760" y="4869000"/>
              <a:ext cx="9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19080" y="44578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55840" y="5383080"/>
              <a:ext cx="88920" cy="889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097600" y="3227400"/>
            <a:ext cx="3501720" cy="2776680"/>
            <a:chOff x="5097600" y="3227400"/>
            <a:chExt cx="3501720" cy="2776680"/>
          </a:xfrm>
        </p:grpSpPr>
        <p:grpSp>
          <p:nvGrpSpPr>
            <p:cNvPr id="139" name=""/>
            <p:cNvGrpSpPr/>
            <p:nvPr/>
          </p:nvGrpSpPr>
          <p:grpSpPr>
            <a:xfrm>
              <a:off x="5097600" y="3227400"/>
              <a:ext cx="3501720" cy="2776680"/>
              <a:chOff x="5097600" y="3227400"/>
              <a:chExt cx="3501720" cy="2776680"/>
            </a:xfrm>
          </p:grpSpPr>
          <p:sp>
            <p:nvSpPr>
              <p:cNvPr id="140" name=""/>
              <p:cNvSpPr/>
              <p:nvPr/>
            </p:nvSpPr>
            <p:spPr>
              <a:xfrm>
                <a:off x="5097600" y="3227400"/>
                <a:ext cx="3501720" cy="27766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 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 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1       </a:t>
                </a:r>
                <a:r>
                  <a:rPr b="1" lang="sk-SK" sz="1400" spc="-1" strike="noStrike">
                    <a:solidFill>
                      <a:srgbClr val="666699"/>
                    </a:solidFill>
                    <a:latin typeface="Times New Roman"/>
                  </a:rPr>
                  <a:t>E 0.1</a:t>
                </a:r>
                <a:r>
                  <a:rPr b="1" lang="en-US" sz="1400" spc="-1" strike="noStrike">
                    <a:solidFill>
                      <a:srgbClr val="666699"/>
                    </a:solidFill>
                    <a:latin typeface="Times New Roman"/>
                  </a:rPr>
                  <a:t>            </a:t>
                </a:r>
                <a:r>
                  <a:rPr b="1" lang="sk-SK" sz="1400" spc="-1" strike="noStrike">
                    <a:solidFill>
                      <a:srgbClr val="666699"/>
                    </a:solidFill>
                    <a:latin typeface="Times New Roman"/>
                  </a:rPr>
                  <a:t>VK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E 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2     </a:t>
                </a:r>
                <a:r>
                  <a:rPr b="1" lang="en-US" sz="1600" spc="-1" strike="noStrike">
                    <a:solidFill>
                      <a:srgbClr val="666699"/>
                    </a:solidFill>
                    <a:latin typeface="Times New Roman"/>
                  </a:rPr>
                  <a:t>VKE*E0.2     VK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 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0.3     </a:t>
                </a:r>
                <a:r>
                  <a:rPr b="1" lang="en-US" sz="1600" spc="-1" strike="noStrike">
                    <a:solidFill>
                      <a:srgbClr val="666699"/>
                    </a:solidFill>
                    <a:latin typeface="Times New Roman"/>
                  </a:rPr>
                  <a:t>VKE*E0.3      VK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=      A   0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666699"/>
                    </a:solidFill>
                    <a:latin typeface="Times New Roman"/>
                  </a:rPr>
                  <a:t>VKE</a:t>
                </a:r>
                <a:r>
                  <a:rPr b="1" lang="en-US" sz="1600" spc="-1" strike="noStrike">
                    <a:solidFill>
                      <a:srgbClr val="666699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666699"/>
                    </a:solidFill>
                    <a:latin typeface="Times New Roman"/>
                  </a:rPr>
                  <a:t>A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sk-SK" sz="2000" spc="-1" strike="noStrike">
                    <a:solidFill>
                      <a:srgbClr val="3694b6"/>
                    </a:solidFill>
                    <a:latin typeface="Times New Roman"/>
                  </a:rPr>
                  <a:t>adres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sk-SK" sz="2000" spc="-1" strike="noStrike">
                    <a:solidFill>
                      <a:srgbClr val="3694b6"/>
                    </a:solidFill>
                    <a:latin typeface="Times New Roman"/>
                  </a:rPr>
                  <a:t>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sk-SK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sk-SK" sz="2000" spc="-1" strike="noStrike">
                    <a:solidFill>
                      <a:srgbClr val="3694b6"/>
                    </a:solidFill>
                    <a:latin typeface="Times New Roman"/>
                  </a:rPr>
                  <a:t>operác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13720" y="4118400"/>
                <a:ext cx="20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13720" y="3787560"/>
                <a:ext cx="20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42280" y="3441240"/>
                <a:ext cx="20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344920" y="4482720"/>
              <a:ext cx="1467720" cy="1063080"/>
              <a:chOff x="5344920" y="4482720"/>
              <a:chExt cx="1467720" cy="106308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5756760" y="4482720"/>
                <a:ext cx="12600" cy="738360"/>
              </a:xfrm>
              <a:prstGeom prst="line">
                <a:avLst/>
              </a:prstGeom>
              <a:ln w="2844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95240" y="4483800"/>
                <a:ext cx="0" cy="468720"/>
              </a:xfrm>
              <a:prstGeom prst="line">
                <a:avLst/>
              </a:prstGeom>
              <a:ln w="2844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44920" y="4485600"/>
                <a:ext cx="12240" cy="1058760"/>
              </a:xfrm>
              <a:prstGeom prst="line">
                <a:avLst/>
              </a:prstGeom>
              <a:ln w="2844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81200" y="4951440"/>
                <a:ext cx="617040" cy="0"/>
              </a:xfrm>
              <a:prstGeom prst="line">
                <a:avLst/>
              </a:prstGeom>
              <a:ln w="2844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57120" y="5219640"/>
                <a:ext cx="1029960" cy="11880"/>
              </a:xfrm>
              <a:prstGeom prst="line">
                <a:avLst/>
              </a:prstGeom>
              <a:ln w="2844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369760" y="5532480"/>
                <a:ext cx="1442880" cy="13320"/>
              </a:xfrm>
              <a:prstGeom prst="line">
                <a:avLst/>
              </a:prstGeom>
              <a:ln w="2844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597440" y="432540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62160" y="1932120"/>
            <a:ext cx="3695760" cy="2176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Logick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ý súčet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389320" y="2970360"/>
            <a:ext cx="228600" cy="228600"/>
            <a:chOff x="2389320" y="2970360"/>
            <a:chExt cx="228600" cy="228600"/>
          </a:xfrm>
        </p:grpSpPr>
        <p:sp>
          <p:nvSpPr>
            <p:cNvPr id="155" name=""/>
            <p:cNvSpPr/>
            <p:nvPr/>
          </p:nvSpPr>
          <p:spPr>
            <a:xfrm>
              <a:off x="2389320" y="29703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17920" y="29703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49800" y="2422440"/>
            <a:ext cx="206280" cy="1936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389320" y="2428920"/>
            <a:ext cx="228600" cy="228600"/>
            <a:chOff x="2389320" y="2428920"/>
            <a:chExt cx="228600" cy="228600"/>
          </a:xfrm>
        </p:grpSpPr>
        <p:sp>
          <p:nvSpPr>
            <p:cNvPr id="159" name=""/>
            <p:cNvSpPr/>
            <p:nvPr/>
          </p:nvSpPr>
          <p:spPr>
            <a:xfrm>
              <a:off x="2389320" y="2428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17920" y="2428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398680" y="3511440"/>
            <a:ext cx="228600" cy="228600"/>
            <a:chOff x="2398680" y="3511440"/>
            <a:chExt cx="228600" cy="228600"/>
          </a:xfrm>
        </p:grpSpPr>
        <p:grpSp>
          <p:nvGrpSpPr>
            <p:cNvPr id="162" name=""/>
            <p:cNvGrpSpPr/>
            <p:nvPr/>
          </p:nvGrpSpPr>
          <p:grpSpPr>
            <a:xfrm>
              <a:off x="2398680" y="3511440"/>
              <a:ext cx="228600" cy="228600"/>
              <a:chOff x="2398680" y="3511440"/>
              <a:chExt cx="228600" cy="2286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98680" y="35114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7280" y="35114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flipH="1">
              <a:off x="2436480" y="3537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22520" y="2536920"/>
            <a:ext cx="77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2520" y="3078000"/>
            <a:ext cx="77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35120" y="361944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49520" y="2523960"/>
            <a:ext cx="78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12880" y="3065400"/>
            <a:ext cx="8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39880" y="3605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317680"/>
            <a:ext cx="0" cy="149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8360" y="252396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37000" y="2523960"/>
            <a:ext cx="78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39560" y="26686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14000" y="2114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28400" y="32227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42800" y="2101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76200" y="4378320"/>
            <a:ext cx="2729160" cy="2035080"/>
            <a:chOff x="1276200" y="4378320"/>
            <a:chExt cx="2729160" cy="2035080"/>
          </a:xfrm>
        </p:grpSpPr>
        <p:sp>
          <p:nvSpPr>
            <p:cNvPr id="180" name=""/>
            <p:cNvSpPr/>
            <p:nvPr/>
          </p:nvSpPr>
          <p:spPr>
            <a:xfrm>
              <a:off x="1276200" y="4378320"/>
              <a:ext cx="2729160" cy="20350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41720" y="4699080"/>
              <a:ext cx="810000" cy="14133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85440" y="480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30640" y="504072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30640" y="544068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30640" y="582264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86720" y="47613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86720" y="51627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6720" y="5543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E 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3680" y="538164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39280" y="50601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360" y="5781600"/>
              <a:ext cx="76320" cy="691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84640" y="2557440"/>
            <a:ext cx="3502080" cy="3143160"/>
            <a:chOff x="5084640" y="2557440"/>
            <a:chExt cx="3502080" cy="3143160"/>
          </a:xfrm>
        </p:grpSpPr>
        <p:grpSp>
          <p:nvGrpSpPr>
            <p:cNvPr id="197" name=""/>
            <p:cNvGrpSpPr/>
            <p:nvPr/>
          </p:nvGrpSpPr>
          <p:grpSpPr>
            <a:xfrm>
              <a:off x="5084640" y="2557440"/>
              <a:ext cx="3502080" cy="3143160"/>
              <a:chOff x="5084640" y="2557440"/>
              <a:chExt cx="3502080" cy="31431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084640" y="2557440"/>
                <a:ext cx="3502080" cy="3143160"/>
                <a:chOff x="5084640" y="2557440"/>
                <a:chExt cx="3502080" cy="3143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084640" y="2557440"/>
                  <a:ext cx="3502080" cy="314316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 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       </a:t>
                  </a:r>
                  <a:r>
                    <a:rPr b="1" lang="sk-SK" sz="1400" spc="-1" strike="noStrike">
                      <a:solidFill>
                        <a:srgbClr val="666699"/>
                      </a:solidFill>
                      <a:latin typeface="Times New Roman"/>
                    </a:rPr>
                    <a:t>E 0.1</a:t>
                  </a:r>
                  <a:r>
                    <a:rPr b="1" lang="en-US" sz="1400" spc="-1" strike="noStrike">
                      <a:solidFill>
                        <a:srgbClr val="666699"/>
                      </a:solidFill>
                      <a:latin typeface="Times New Roman"/>
                    </a:rPr>
                    <a:t>            </a:t>
                  </a:r>
                  <a:r>
                    <a:rPr b="1" lang="sk-SK" sz="1400" spc="-1" strike="noStrike">
                      <a:solidFill>
                        <a:srgbClr val="666699"/>
                      </a:solidFill>
                      <a:latin typeface="Times New Roman"/>
                    </a:rPr>
                    <a:t>VK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O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E 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2     </a:t>
                  </a:r>
                  <a:r>
                    <a:rPr b="1" lang="en-US" sz="1600" spc="-1" strike="noStrike">
                      <a:solidFill>
                        <a:srgbClr val="666699"/>
                      </a:solidFill>
                      <a:latin typeface="Times New Roman"/>
                    </a:rPr>
                    <a:t>VKE*E0.2     VKE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 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0.3     </a:t>
                  </a:r>
                  <a:r>
                    <a:rPr b="1" lang="en-US" sz="1600" spc="-1" strike="noStrike">
                      <a:solidFill>
                        <a:srgbClr val="666699"/>
                      </a:solidFill>
                      <a:latin typeface="Times New Roman"/>
                    </a:rPr>
                    <a:t>VKE*E0.3      VK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=      A   0.1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666699"/>
                      </a:solidFill>
                      <a:latin typeface="Times New Roman"/>
                    </a:rPr>
                    <a:t>VKE</a:t>
                  </a:r>
                  <a:r>
                    <a:rPr b="1" lang="en-US" sz="1600" spc="-1" strike="noStrike">
                      <a:solidFill>
                        <a:srgbClr val="666699"/>
                      </a:solidFill>
                      <a:latin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666699"/>
                      </a:solidFill>
                      <a:latin typeface="Times New Roman"/>
                    </a:rPr>
                    <a:t>A 0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sk-SK" sz="2000" spc="-1" strike="noStrike">
                      <a:solidFill>
                        <a:srgbClr val="3694b6"/>
                      </a:solidFill>
                      <a:latin typeface="Times New Roman"/>
                    </a:rPr>
                    <a:t>adres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sk-SK" sz="2000" spc="-1" strike="noStrike">
                      <a:solidFill>
                        <a:srgbClr val="3694b6"/>
                      </a:solidFill>
                      <a:latin typeface="Times New Roman"/>
                    </a:rPr>
                    <a:t>po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sk-SK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sk-SK" sz="2000" spc="-1" strike="noStrike">
                      <a:solidFill>
                        <a:srgbClr val="3694b6"/>
                      </a:solidFill>
                      <a:latin typeface="Times New Roman"/>
                    </a:rPr>
                    <a:t>operác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5797080" y="3863880"/>
                  <a:ext cx="12600" cy="746280"/>
                </a:xfrm>
                <a:prstGeom prst="line">
                  <a:avLst/>
                </a:prstGeom>
                <a:ln w="28440">
                  <a:solidFill>
                    <a:srgbClr val="3694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235560" y="3863880"/>
                  <a:ext cx="0" cy="438120"/>
                </a:xfrm>
                <a:prstGeom prst="line">
                  <a:avLst/>
                </a:prstGeom>
                <a:ln w="28440">
                  <a:solidFill>
                    <a:srgbClr val="3694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46360" y="3889440"/>
                  <a:ext cx="0" cy="1068480"/>
                </a:xfrm>
                <a:prstGeom prst="line">
                  <a:avLst/>
                </a:prstGeom>
                <a:ln w="28440">
                  <a:solidFill>
                    <a:srgbClr val="3694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233760" y="4302000"/>
                  <a:ext cx="617760" cy="0"/>
                </a:xfrm>
                <a:prstGeom prst="line">
                  <a:avLst/>
                </a:prstGeom>
                <a:ln w="28440">
                  <a:solidFill>
                    <a:srgbClr val="3694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5810040" y="4586040"/>
                  <a:ext cx="1030320" cy="12600"/>
                </a:xfrm>
                <a:prstGeom prst="line">
                  <a:avLst/>
                </a:prstGeom>
                <a:ln w="28440">
                  <a:solidFill>
                    <a:srgbClr val="3694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5359320" y="4946400"/>
                  <a:ext cx="1442880" cy="12600"/>
                </a:xfrm>
                <a:prstGeom prst="line">
                  <a:avLst/>
                </a:prstGeom>
                <a:ln w="28440">
                  <a:solidFill>
                    <a:srgbClr val="3694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7469280" y="2755800"/>
                <a:ext cx="23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75560" y="3065400"/>
                <a:ext cx="23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88160" y="3373560"/>
                <a:ext cx="23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547040" y="370836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08080" y="1751040"/>
            <a:ext cx="5202360" cy="682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Programovanie technikou zátvoriek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A1=E1*E2+(E3*E4+(E5*E6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1280" y="172872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zn.:   *.......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+.........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30400" y="2813040"/>
            <a:ext cx="2152440" cy="34480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   E 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   E 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   E 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   E  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   E 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   E  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=   A 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38400" y="2994120"/>
            <a:ext cx="3071520" cy="2892240"/>
            <a:chOff x="3038400" y="2994120"/>
            <a:chExt cx="3071520" cy="2892240"/>
          </a:xfrm>
        </p:grpSpPr>
        <p:sp>
          <p:nvSpPr>
            <p:cNvPr id="216" name=""/>
            <p:cNvSpPr/>
            <p:nvPr/>
          </p:nvSpPr>
          <p:spPr>
            <a:xfrm flipV="1" rot="16200000">
              <a:off x="4673160" y="1712880"/>
              <a:ext cx="155520" cy="271764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70560 h 2717640"/>
                <a:gd name="textAreaBottom" fmla="*/ 2647080 h 27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 rot="10800000">
              <a:off x="3038400" y="3543480"/>
              <a:ext cx="155520" cy="234288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60840 h 2342880"/>
                <a:gd name="textAreaBottom" fmla="*/ 2282040 h 23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59080" y="4713120"/>
              <a:ext cx="1519200" cy="0"/>
            </a:xfrm>
            <a:prstGeom prst="line">
              <a:avLst/>
            </a:prstGeom>
            <a:ln w="38160">
              <a:solidFill>
                <a:srgbClr val="3694b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78280" y="3232080"/>
              <a:ext cx="0" cy="1443240"/>
            </a:xfrm>
            <a:prstGeom prst="line">
              <a:avLst/>
            </a:prstGeom>
            <a:ln w="38160">
              <a:solidFill>
                <a:srgbClr val="3694b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697120" y="2542680"/>
            <a:ext cx="3282480" cy="3039120"/>
            <a:chOff x="2697120" y="2542680"/>
            <a:chExt cx="3282480" cy="3039120"/>
          </a:xfrm>
        </p:grpSpPr>
        <p:sp>
          <p:nvSpPr>
            <p:cNvPr id="221" name=""/>
            <p:cNvSpPr/>
            <p:nvPr/>
          </p:nvSpPr>
          <p:spPr>
            <a:xfrm flipV="1" rot="16200000">
              <a:off x="5322240" y="2040840"/>
              <a:ext cx="155880" cy="1158840"/>
            </a:xfrm>
            <a:custGeom>
              <a:avLst/>
              <a:gdLst>
                <a:gd name="textAreaLeft" fmla="*/ 99720 w 155880"/>
                <a:gd name="textAreaRight" fmla="*/ 156240 w 155880"/>
                <a:gd name="textAreaTop" fmla="*/ 29880 h 1158840"/>
                <a:gd name="textAreaBottom" fmla="*/ 1128960 h 11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a1bd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 rot="10800000">
              <a:off x="2697120" y="4422600"/>
              <a:ext cx="155520" cy="115920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30240 h 1159200"/>
                <a:gd name="textAreaBottom" fmla="*/ 1128960 h 115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a1bd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9880" y="4997520"/>
              <a:ext cx="2460600" cy="0"/>
            </a:xfrm>
            <a:prstGeom prst="line">
              <a:avLst/>
            </a:prstGeom>
            <a:ln w="9360">
              <a:solidFill>
                <a:srgbClr val="a1bd6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08640" y="2793960"/>
              <a:ext cx="0" cy="2228760"/>
            </a:xfrm>
            <a:prstGeom prst="line">
              <a:avLst/>
            </a:prstGeom>
            <a:ln w="9360">
              <a:solidFill>
                <a:srgbClr val="a1bd6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Programovanie technikou medzivýsledkov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1920960"/>
            <a:ext cx="4832280" cy="520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A1=E1*E2+(E3*E4+(E5*E6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9920" y="2936880"/>
            <a:ext cx="3682800" cy="30384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1000" y="4133880"/>
            <a:ext cx="425520" cy="655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21000" y="3206880"/>
            <a:ext cx="425520" cy="65556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3600" y="5073480"/>
            <a:ext cx="425520" cy="65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30600" y="4121280"/>
            <a:ext cx="425520" cy="6555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62120" y="33876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4720" y="373536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35120" y="42750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49520" y="467532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50960" y="525456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589720"/>
            <a:ext cx="77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60560" y="445608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84560" y="443088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4760" y="31179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47360" y="34909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7760" y="39924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4800" y="43797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94800" y="49467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7760" y="53197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E 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86120" y="352908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537048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35164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38360" y="4676760"/>
            <a:ext cx="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38360" y="423720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38360" y="46497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09520" y="32083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M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44360" y="41353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M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69560" y="5062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M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6880" y="4083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78240" y="32576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78240" y="41464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78240" y="50864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87840" y="41464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13480" y="2708280"/>
            <a:ext cx="1441440" cy="36601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U    E 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U    E 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=    M 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bd69"/>
                </a:solidFill>
                <a:latin typeface="Times New Roman"/>
              </a:rPr>
              <a:t>U    E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bd69"/>
                </a:solidFill>
                <a:latin typeface="Times New Roman"/>
              </a:rPr>
              <a:t>U    E 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bd69"/>
                </a:solidFill>
                <a:latin typeface="Times New Roman"/>
              </a:rPr>
              <a:t>=    M 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U    E 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U    E 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=    M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U    M 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U    M 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U    M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=    A  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266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Generovanie impulzov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6880" y="1654200"/>
            <a:ext cx="73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rogramujt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výstupný impulz,ktorého trvanie je dané dobou cyk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81040" y="2266920"/>
            <a:ext cx="3090960" cy="1441440"/>
            <a:chOff x="1481040" y="2266920"/>
            <a:chExt cx="3090960" cy="1441440"/>
          </a:xfrm>
        </p:grpSpPr>
        <p:sp>
          <p:nvSpPr>
            <p:cNvPr id="272" name=""/>
            <p:cNvSpPr/>
            <p:nvPr/>
          </p:nvSpPr>
          <p:spPr>
            <a:xfrm>
              <a:off x="1481040" y="2266920"/>
              <a:ext cx="3090960" cy="14414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685880" y="2397240"/>
              <a:ext cx="2552400" cy="861840"/>
              <a:chOff x="1685880" y="2397240"/>
              <a:chExt cx="2552400" cy="861840"/>
            </a:xfrm>
          </p:grpSpPr>
          <p:sp>
            <p:nvSpPr>
              <p:cNvPr id="274" name=""/>
              <p:cNvSpPr/>
              <p:nvPr/>
            </p:nvSpPr>
            <p:spPr>
              <a:xfrm>
                <a:off x="3025800" y="2562120"/>
                <a:ext cx="515880" cy="69696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67240" y="2909880"/>
                <a:ext cx="66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303640" y="2962440"/>
                <a:ext cx="554040" cy="2062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98800" y="2743200"/>
                <a:ext cx="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71720" y="3052800"/>
                <a:ext cx="14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76480" y="2987640"/>
                <a:ext cx="88920" cy="8892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98800" y="306540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841400" y="2397240"/>
                <a:ext cx="62100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E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06480" y="2449440"/>
                <a:ext cx="63180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A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05360" y="2616120"/>
                <a:ext cx="349920" cy="337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85880" y="2754360"/>
                <a:ext cx="132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2448000" y="3052800"/>
                <a:ext cx="283680" cy="76320"/>
                <a:chOff x="2448000" y="3052800"/>
                <a:chExt cx="283680" cy="76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60600" y="3089160"/>
                  <a:ext cx="27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17640" y="3065400"/>
                  <a:ext cx="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448000" y="3052800"/>
                  <a:ext cx="0" cy="6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9" name=""/>
          <p:cNvGrpSpPr/>
          <p:nvPr/>
        </p:nvGrpSpPr>
        <p:grpSpPr>
          <a:xfrm>
            <a:off x="1494000" y="4159080"/>
            <a:ext cx="3078000" cy="1803600"/>
            <a:chOff x="1494000" y="4159080"/>
            <a:chExt cx="3078000" cy="1803600"/>
          </a:xfrm>
        </p:grpSpPr>
        <p:sp>
          <p:nvSpPr>
            <p:cNvPr id="290" name=""/>
            <p:cNvSpPr/>
            <p:nvPr/>
          </p:nvSpPr>
          <p:spPr>
            <a:xfrm>
              <a:off x="1494000" y="4159080"/>
              <a:ext cx="3078000" cy="1803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647720" y="4314960"/>
              <a:ext cx="2771640" cy="1272600"/>
              <a:chOff x="1647720" y="4314960"/>
              <a:chExt cx="2771640" cy="1272600"/>
            </a:xfrm>
          </p:grpSpPr>
          <p:sp>
            <p:nvSpPr>
              <p:cNvPr id="292" name=""/>
              <p:cNvSpPr/>
              <p:nvPr/>
            </p:nvSpPr>
            <p:spPr>
              <a:xfrm>
                <a:off x="1777680" y="431496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E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39840" y="4711680"/>
                <a:ext cx="219240" cy="20592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1955520" y="4700520"/>
                <a:ext cx="244440" cy="246960"/>
                <a:chOff x="1955520" y="4700520"/>
                <a:chExt cx="244440" cy="246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955520" y="4700520"/>
                  <a:ext cx="0" cy="24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199960" y="4703400"/>
                  <a:ext cx="0" cy="24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936880" y="4700520"/>
                <a:ext cx="244440" cy="246960"/>
                <a:chOff x="2936880" y="4700520"/>
                <a:chExt cx="244440" cy="24696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2936880" y="4700520"/>
                  <a:ext cx="244440" cy="246960"/>
                  <a:chOff x="2936880" y="4700520"/>
                  <a:chExt cx="244440" cy="2469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2936880" y="4700520"/>
                    <a:ext cx="0" cy="24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181320" y="4703400"/>
                    <a:ext cx="0" cy="24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" name=""/>
                <p:cNvSpPr/>
                <p:nvPr/>
              </p:nvSpPr>
              <p:spPr>
                <a:xfrm flipV="1">
                  <a:off x="2976840" y="4738320"/>
                  <a:ext cx="16668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647720" y="4816440"/>
                <a:ext cx="32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14360" y="481644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5080" y="481644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23960" y="48020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35120" y="5499000"/>
                <a:ext cx="1365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14640" y="5381640"/>
                <a:ext cx="218880" cy="20592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30600" y="432756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87560" y="432756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35360" y="502272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sk-SK" sz="1600" spc="-1" strike="noStrike">
                    <a:solidFill>
                      <a:srgbClr val="000000"/>
                    </a:solidFill>
                    <a:latin typeface="Times New Roman"/>
                  </a:rPr>
                  <a:t> 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4815000" y="2260440"/>
            <a:ext cx="1728720" cy="1618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816440" y="4173480"/>
            <a:ext cx="3116160" cy="1763640"/>
            <a:chOff x="4816440" y="4173480"/>
            <a:chExt cx="3116160" cy="1763640"/>
          </a:xfrm>
        </p:grpSpPr>
        <p:sp>
          <p:nvSpPr>
            <p:cNvPr id="313" name=""/>
            <p:cNvSpPr/>
            <p:nvPr/>
          </p:nvSpPr>
          <p:spPr>
            <a:xfrm>
              <a:off x="4816440" y="4173480"/>
              <a:ext cx="3116160" cy="1763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602320" y="4302000"/>
              <a:ext cx="2047680" cy="1494000"/>
              <a:chOff x="5602320" y="4302000"/>
              <a:chExt cx="2047680" cy="1494000"/>
            </a:xfrm>
          </p:grpSpPr>
          <p:sp>
            <p:nvSpPr>
              <p:cNvPr id="315" name=""/>
              <p:cNvSpPr/>
              <p:nvPr/>
            </p:nvSpPr>
            <p:spPr>
              <a:xfrm>
                <a:off x="5602320" y="4302000"/>
                <a:ext cx="0" cy="14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02320" y="4624560"/>
                <a:ext cx="203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02320" y="5126040"/>
                <a:ext cx="203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14920" y="5614920"/>
                <a:ext cx="203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4867200" y="423864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 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7560" y="472752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54600" y="52308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14920" y="5589720"/>
              <a:ext cx="45108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413400" y="5396040"/>
              <a:ext cx="0" cy="19368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53040" y="5384880"/>
              <a:ext cx="360360" cy="126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627520" y="4405320"/>
              <a:ext cx="1597320" cy="204840"/>
              <a:chOff x="5627520" y="4405320"/>
              <a:chExt cx="1597320" cy="204840"/>
            </a:xfrm>
          </p:grpSpPr>
          <p:sp>
            <p:nvSpPr>
              <p:cNvPr id="326" name=""/>
              <p:cNvSpPr/>
              <p:nvPr/>
            </p:nvSpPr>
            <p:spPr>
              <a:xfrm>
                <a:off x="5627520" y="4610160"/>
                <a:ext cx="45108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78600" y="4416480"/>
                <a:ext cx="0" cy="1936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65640" y="4405320"/>
                <a:ext cx="115920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5602320" y="5100480"/>
              <a:ext cx="8366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6438960" y="4906800"/>
              <a:ext cx="0" cy="1936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26360" y="4896000"/>
              <a:ext cx="8110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053040" y="5421240"/>
              <a:ext cx="0" cy="19368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0800" y="5589720"/>
              <a:ext cx="83664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291440" y="6134040"/>
            <a:ext cx="1294920" cy="381240"/>
            <a:chOff x="7291440" y="6134040"/>
            <a:chExt cx="1294920" cy="381240"/>
          </a:xfrm>
        </p:grpSpPr>
        <p:sp>
          <p:nvSpPr>
            <p:cNvPr id="335" name="">
              <a:hlinkClick r:id="" action="ppaction://hlinkshowjump?jump=previousslide"/>
            </p:cNvPr>
            <p:cNvSpPr/>
            <p:nvPr/>
          </p:nvSpPr>
          <p:spPr>
            <a:xfrm>
              <a:off x="7748280" y="6134040"/>
              <a:ext cx="380880" cy="357480"/>
            </a:xfrm>
            <a:custGeom>
              <a:avLst/>
              <a:gdLst>
                <a:gd name="textAreaLeft" fmla="*/ 23040 w 380880"/>
                <a:gd name="textAreaRight" fmla="*/ 357840 w 38088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12" h="21600">
                  <a:moveTo>
                    <a:pt x="0" y="0"/>
                  </a:moveTo>
                  <a:lnTo>
                    <a:pt x="23012" y="0"/>
                  </a:lnTo>
                  <a:lnTo>
                    <a:pt x="23012" y="21600"/>
                  </a:lnTo>
                  <a:lnTo>
                    <a:pt x="0" y="21600"/>
                  </a:lnTo>
                  <a:close/>
                </a:path>
                <a:path fill="lightenLess" w="23012" h="21600">
                  <a:moveTo>
                    <a:pt x="0" y="0"/>
                  </a:moveTo>
                  <a:lnTo>
                    <a:pt x="23012" y="0"/>
                  </a:lnTo>
                  <a:lnTo>
                    <a:pt x="21612" y="1400"/>
                  </a:lnTo>
                  <a:lnTo>
                    <a:pt x="1400" y="1400"/>
                  </a:lnTo>
                  <a:close/>
                </a:path>
                <a:path fill="darken" w="23012" h="21600">
                  <a:moveTo>
                    <a:pt x="23012" y="0"/>
                  </a:moveTo>
                  <a:lnTo>
                    <a:pt x="23012" y="21600"/>
                  </a:lnTo>
                  <a:lnTo>
                    <a:pt x="21612" y="20200"/>
                  </a:lnTo>
                  <a:lnTo>
                    <a:pt x="21612" y="1400"/>
                  </a:lnTo>
                  <a:close/>
                </a:path>
                <a:path fill="darkenLess" w="23012" h="21600">
                  <a:moveTo>
                    <a:pt x="23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12" y="20200"/>
                  </a:lnTo>
                  <a:close/>
                </a:path>
                <a:path fill="lighten" w="23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12" h="21600">
                  <a:moveTo>
                    <a:pt x="4500" y="10800"/>
                  </a:moveTo>
                  <a:lnTo>
                    <a:pt x="18513" y="3794"/>
                  </a:lnTo>
                  <a:lnTo>
                    <a:pt x="18513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8205480" y="6134040"/>
              <a:ext cx="380880" cy="357480"/>
            </a:xfrm>
            <a:custGeom>
              <a:avLst/>
              <a:gdLst>
                <a:gd name="textAreaLeft" fmla="*/ 23040 w 380880"/>
                <a:gd name="textAreaRight" fmla="*/ 357840 w 38088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12" h="21600">
                  <a:moveTo>
                    <a:pt x="0" y="0"/>
                  </a:moveTo>
                  <a:lnTo>
                    <a:pt x="23012" y="0"/>
                  </a:lnTo>
                  <a:lnTo>
                    <a:pt x="23012" y="21600"/>
                  </a:lnTo>
                  <a:lnTo>
                    <a:pt x="0" y="21600"/>
                  </a:lnTo>
                  <a:close/>
                </a:path>
                <a:path fill="lightenLess" w="23012" h="21600">
                  <a:moveTo>
                    <a:pt x="0" y="0"/>
                  </a:moveTo>
                  <a:lnTo>
                    <a:pt x="23012" y="0"/>
                  </a:lnTo>
                  <a:lnTo>
                    <a:pt x="21612" y="1400"/>
                  </a:lnTo>
                  <a:lnTo>
                    <a:pt x="1400" y="1400"/>
                  </a:lnTo>
                  <a:close/>
                </a:path>
                <a:path fill="darken" w="23012" h="21600">
                  <a:moveTo>
                    <a:pt x="23012" y="0"/>
                  </a:moveTo>
                  <a:lnTo>
                    <a:pt x="23012" y="21600"/>
                  </a:lnTo>
                  <a:lnTo>
                    <a:pt x="21612" y="20200"/>
                  </a:lnTo>
                  <a:lnTo>
                    <a:pt x="21612" y="1400"/>
                  </a:lnTo>
                  <a:close/>
                </a:path>
                <a:path fill="darkenLess" w="23012" h="21600">
                  <a:moveTo>
                    <a:pt x="23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12" y="20200"/>
                  </a:lnTo>
                  <a:close/>
                </a:path>
                <a:path fill="lighten" w="23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12" h="21600">
                  <a:moveTo>
                    <a:pt x="4500" y="3794"/>
                  </a:moveTo>
                  <a:lnTo>
                    <a:pt x="18513" y="10800"/>
                  </a:lnTo>
                  <a:lnTo>
                    <a:pt x="4500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>
              <a:hlinkClick r:id="" action="ppaction://hlinkshowjump?jump=firstslide"/>
            </p:cNvPr>
            <p:cNvSpPr/>
            <p:nvPr/>
          </p:nvSpPr>
          <p:spPr>
            <a:xfrm>
              <a:off x="7291440" y="6134040"/>
              <a:ext cx="380880" cy="381240"/>
            </a:xfrm>
            <a:custGeom>
              <a:avLst/>
              <a:gdLst>
                <a:gd name="textAreaLeft" fmla="*/ 24480 w 380880"/>
                <a:gd name="textAreaRight" fmla="*/ 356400 w 38088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20">
                  <a:moveTo>
                    <a:pt x="0" y="0"/>
                  </a:moveTo>
                  <a:lnTo>
                    <a:pt x="21600" y="0"/>
                  </a:lnTo>
                  <a:lnTo>
                    <a:pt x="21600" y="21620"/>
                  </a:lnTo>
                  <a:lnTo>
                    <a:pt x="0" y="21620"/>
                  </a:lnTo>
                  <a:close/>
                </a:path>
                <a:path fill="lightenLess" w="21600" h="2162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0">
                  <a:moveTo>
                    <a:pt x="21600" y="0"/>
                  </a:moveTo>
                  <a:lnTo>
                    <a:pt x="21600" y="21620"/>
                  </a:lnTo>
                  <a:lnTo>
                    <a:pt x="20200" y="20220"/>
                  </a:lnTo>
                  <a:lnTo>
                    <a:pt x="20200" y="1400"/>
                  </a:lnTo>
                  <a:close/>
                </a:path>
                <a:path fill="darkenLess" w="21600" h="21620">
                  <a:moveTo>
                    <a:pt x="21600" y="21620"/>
                  </a:moveTo>
                  <a:lnTo>
                    <a:pt x="0" y="21620"/>
                  </a:lnTo>
                  <a:lnTo>
                    <a:pt x="1400" y="20220"/>
                  </a:lnTo>
                  <a:lnTo>
                    <a:pt x="20200" y="20220"/>
                  </a:lnTo>
                  <a:close/>
                </a:path>
                <a:path fill="lighten" w="21600" h="21620">
                  <a:moveTo>
                    <a:pt x="0" y="2162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0"/>
                  </a:lnTo>
                  <a:close/>
                </a:path>
                <a:path fill="darken" w="21600" h="21620">
                  <a:moveTo>
                    <a:pt x="7301" y="10810"/>
                  </a:moveTo>
                  <a:lnTo>
                    <a:pt x="17806" y="3804"/>
                  </a:lnTo>
                  <a:lnTo>
                    <a:pt x="17806" y="17817"/>
                  </a:lnTo>
                  <a:close/>
                </a:path>
                <a:path fill="darken" w="21600" h="21620">
                  <a:moveTo>
                    <a:pt x="3794" y="3804"/>
                  </a:moveTo>
                  <a:lnTo>
                    <a:pt x="5456" y="3804"/>
                  </a:lnTo>
                  <a:lnTo>
                    <a:pt x="5456" y="17817"/>
                  </a:lnTo>
                  <a:lnTo>
                    <a:pt x="3794" y="17817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46240" y="4456080"/>
            <a:ext cx="4765680" cy="1211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33640" y="1969920"/>
            <a:ext cx="4778280" cy="2267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ráca s nábežnou a zostupnou hranou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687680" y="2216160"/>
            <a:ext cx="3943080" cy="1519200"/>
            <a:chOff x="1687680" y="2216160"/>
            <a:chExt cx="3943080" cy="1519200"/>
          </a:xfrm>
        </p:grpSpPr>
        <p:sp>
          <p:nvSpPr>
            <p:cNvPr id="342" name=""/>
            <p:cNvSpPr/>
            <p:nvPr/>
          </p:nvSpPr>
          <p:spPr>
            <a:xfrm>
              <a:off x="1700280" y="2486160"/>
              <a:ext cx="682560" cy="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70240" y="2241720"/>
              <a:ext cx="0" cy="2444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0240" y="2227320"/>
              <a:ext cx="1171440" cy="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41680" y="2216160"/>
              <a:ext cx="0" cy="2444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43480" y="2471760"/>
              <a:ext cx="682560" cy="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49800" y="2241720"/>
              <a:ext cx="0" cy="2444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5640" y="2239920"/>
              <a:ext cx="682560" cy="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32360" y="2255760"/>
              <a:ext cx="0" cy="2444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48200" y="2496960"/>
              <a:ext cx="682560" cy="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687680" y="2898720"/>
              <a:ext cx="3930480" cy="284040"/>
              <a:chOff x="1687680" y="2898720"/>
              <a:chExt cx="3930480" cy="284040"/>
            </a:xfrm>
          </p:grpSpPr>
          <p:sp>
            <p:nvSpPr>
              <p:cNvPr id="352" name=""/>
              <p:cNvSpPr/>
              <p:nvPr/>
            </p:nvSpPr>
            <p:spPr>
              <a:xfrm>
                <a:off x="1687680" y="3168720"/>
                <a:ext cx="6825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57640" y="2924280"/>
                <a:ext cx="0" cy="2444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357640" y="2909880"/>
                <a:ext cx="117144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29080" y="2898720"/>
                <a:ext cx="0" cy="2444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30880" y="3154320"/>
                <a:ext cx="6825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37200" y="2924280"/>
                <a:ext cx="0" cy="2444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53040" y="2922480"/>
                <a:ext cx="6825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19760" y="2938320"/>
                <a:ext cx="0" cy="2444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35600" y="3179520"/>
                <a:ext cx="6825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700280" y="3463920"/>
              <a:ext cx="1622520" cy="258840"/>
              <a:chOff x="1700280" y="3463920"/>
              <a:chExt cx="1622520" cy="258840"/>
            </a:xfrm>
          </p:grpSpPr>
          <p:sp>
            <p:nvSpPr>
              <p:cNvPr id="362" name=""/>
              <p:cNvSpPr/>
              <p:nvPr/>
            </p:nvSpPr>
            <p:spPr>
              <a:xfrm>
                <a:off x="1700280" y="3722760"/>
                <a:ext cx="682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57280" y="3478320"/>
                <a:ext cx="0" cy="244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359080" y="3473640"/>
                <a:ext cx="2826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39880" y="3463920"/>
                <a:ext cx="0" cy="244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9880" y="3722760"/>
                <a:ext cx="682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298680" y="3722760"/>
              <a:ext cx="952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26040" y="3478320"/>
              <a:ext cx="0" cy="244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227480" y="3472920"/>
              <a:ext cx="28260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08640" y="3463920"/>
              <a:ext cx="0" cy="244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08640" y="3722760"/>
              <a:ext cx="1082520" cy="12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441440" y="20368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81400" y="26812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M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93640" y="3286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57280" y="38242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2840" y="38242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38400" y="4017960"/>
            <a:ext cx="17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91080" y="371016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oba cyk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854360" y="4626000"/>
            <a:ext cx="2989080" cy="822240"/>
            <a:chOff x="1854360" y="4626000"/>
            <a:chExt cx="2989080" cy="822240"/>
          </a:xfrm>
        </p:grpSpPr>
        <p:sp>
          <p:nvSpPr>
            <p:cNvPr id="380" name=""/>
            <p:cNvSpPr/>
            <p:nvPr/>
          </p:nvSpPr>
          <p:spPr>
            <a:xfrm>
              <a:off x="2523960" y="501012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0600" y="499752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54360" y="5113440"/>
              <a:ext cx="6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55800" y="5100480"/>
              <a:ext cx="6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03880" y="5011560"/>
              <a:ext cx="269640" cy="2192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22760" y="5113440"/>
              <a:ext cx="6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36920" y="5013360"/>
              <a:ext cx="270000" cy="2188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4360" y="4816440"/>
              <a:ext cx="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15880" y="462600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E 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11640" y="4664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A 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32440" y="46386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M 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40520" y="4986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289560" y="1979640"/>
            <a:ext cx="184032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E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291440" y="6134040"/>
            <a:ext cx="1294920" cy="381240"/>
            <a:chOff x="7291440" y="6134040"/>
            <a:chExt cx="1294920" cy="381240"/>
          </a:xfrm>
        </p:grpSpPr>
        <p:sp>
          <p:nvSpPr>
            <p:cNvPr id="394" name="">
              <a:hlinkClick r:id="" action="ppaction://hlinkshowjump?jump=previousslide"/>
            </p:cNvPr>
            <p:cNvSpPr/>
            <p:nvPr/>
          </p:nvSpPr>
          <p:spPr>
            <a:xfrm>
              <a:off x="7748280" y="6134040"/>
              <a:ext cx="380880" cy="357480"/>
            </a:xfrm>
            <a:custGeom>
              <a:avLst/>
              <a:gdLst>
                <a:gd name="textAreaLeft" fmla="*/ 23040 w 380880"/>
                <a:gd name="textAreaRight" fmla="*/ 357840 w 38088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12" h="21600">
                  <a:moveTo>
                    <a:pt x="0" y="0"/>
                  </a:moveTo>
                  <a:lnTo>
                    <a:pt x="23012" y="0"/>
                  </a:lnTo>
                  <a:lnTo>
                    <a:pt x="23012" y="21600"/>
                  </a:lnTo>
                  <a:lnTo>
                    <a:pt x="0" y="21600"/>
                  </a:lnTo>
                  <a:close/>
                </a:path>
                <a:path fill="lightenLess" w="23012" h="21600">
                  <a:moveTo>
                    <a:pt x="0" y="0"/>
                  </a:moveTo>
                  <a:lnTo>
                    <a:pt x="23012" y="0"/>
                  </a:lnTo>
                  <a:lnTo>
                    <a:pt x="21612" y="1400"/>
                  </a:lnTo>
                  <a:lnTo>
                    <a:pt x="1400" y="1400"/>
                  </a:lnTo>
                  <a:close/>
                </a:path>
                <a:path fill="darken" w="23012" h="21600">
                  <a:moveTo>
                    <a:pt x="23012" y="0"/>
                  </a:moveTo>
                  <a:lnTo>
                    <a:pt x="23012" y="21600"/>
                  </a:lnTo>
                  <a:lnTo>
                    <a:pt x="21612" y="20200"/>
                  </a:lnTo>
                  <a:lnTo>
                    <a:pt x="21612" y="1400"/>
                  </a:lnTo>
                  <a:close/>
                </a:path>
                <a:path fill="darkenLess" w="23012" h="21600">
                  <a:moveTo>
                    <a:pt x="23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12" y="20200"/>
                  </a:lnTo>
                  <a:close/>
                </a:path>
                <a:path fill="lighten" w="23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12" h="21600">
                  <a:moveTo>
                    <a:pt x="4500" y="10800"/>
                  </a:moveTo>
                  <a:lnTo>
                    <a:pt x="18513" y="3794"/>
                  </a:lnTo>
                  <a:lnTo>
                    <a:pt x="18513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>
              <a:hlinkClick r:id="" action="ppaction://hlinkshowjump?jump=nextslide"/>
            </p:cNvPr>
            <p:cNvSpPr/>
            <p:nvPr/>
          </p:nvSpPr>
          <p:spPr>
            <a:xfrm>
              <a:off x="8205480" y="6134040"/>
              <a:ext cx="380880" cy="357480"/>
            </a:xfrm>
            <a:custGeom>
              <a:avLst/>
              <a:gdLst>
                <a:gd name="textAreaLeft" fmla="*/ 23040 w 380880"/>
                <a:gd name="textAreaRight" fmla="*/ 357840 w 38088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12" h="21600">
                  <a:moveTo>
                    <a:pt x="0" y="0"/>
                  </a:moveTo>
                  <a:lnTo>
                    <a:pt x="23012" y="0"/>
                  </a:lnTo>
                  <a:lnTo>
                    <a:pt x="23012" y="21600"/>
                  </a:lnTo>
                  <a:lnTo>
                    <a:pt x="0" y="21600"/>
                  </a:lnTo>
                  <a:close/>
                </a:path>
                <a:path fill="lightenLess" w="23012" h="21600">
                  <a:moveTo>
                    <a:pt x="0" y="0"/>
                  </a:moveTo>
                  <a:lnTo>
                    <a:pt x="23012" y="0"/>
                  </a:lnTo>
                  <a:lnTo>
                    <a:pt x="21612" y="1400"/>
                  </a:lnTo>
                  <a:lnTo>
                    <a:pt x="1400" y="1400"/>
                  </a:lnTo>
                  <a:close/>
                </a:path>
                <a:path fill="darken" w="23012" h="21600">
                  <a:moveTo>
                    <a:pt x="23012" y="0"/>
                  </a:moveTo>
                  <a:lnTo>
                    <a:pt x="23012" y="21600"/>
                  </a:lnTo>
                  <a:lnTo>
                    <a:pt x="21612" y="20200"/>
                  </a:lnTo>
                  <a:lnTo>
                    <a:pt x="21612" y="1400"/>
                  </a:lnTo>
                  <a:close/>
                </a:path>
                <a:path fill="darkenLess" w="23012" h="21600">
                  <a:moveTo>
                    <a:pt x="23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12" y="20200"/>
                  </a:lnTo>
                  <a:close/>
                </a:path>
                <a:path fill="lighten" w="23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12" h="21600">
                  <a:moveTo>
                    <a:pt x="4500" y="3794"/>
                  </a:moveTo>
                  <a:lnTo>
                    <a:pt x="18513" y="10800"/>
                  </a:lnTo>
                  <a:lnTo>
                    <a:pt x="4500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>
              <a:hlinkClick r:id="" action="ppaction://hlinkshowjump?jump=firstslide"/>
            </p:cNvPr>
            <p:cNvSpPr/>
            <p:nvPr/>
          </p:nvSpPr>
          <p:spPr>
            <a:xfrm>
              <a:off x="7291440" y="6134040"/>
              <a:ext cx="380880" cy="381240"/>
            </a:xfrm>
            <a:custGeom>
              <a:avLst/>
              <a:gdLst>
                <a:gd name="textAreaLeft" fmla="*/ 24480 w 380880"/>
                <a:gd name="textAreaRight" fmla="*/ 356400 w 38088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20">
                  <a:moveTo>
                    <a:pt x="0" y="0"/>
                  </a:moveTo>
                  <a:lnTo>
                    <a:pt x="21600" y="0"/>
                  </a:lnTo>
                  <a:lnTo>
                    <a:pt x="21600" y="21620"/>
                  </a:lnTo>
                  <a:lnTo>
                    <a:pt x="0" y="21620"/>
                  </a:lnTo>
                  <a:close/>
                </a:path>
                <a:path fill="lightenLess" w="21600" h="2162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0">
                  <a:moveTo>
                    <a:pt x="21600" y="0"/>
                  </a:moveTo>
                  <a:lnTo>
                    <a:pt x="21600" y="21620"/>
                  </a:lnTo>
                  <a:lnTo>
                    <a:pt x="20200" y="20220"/>
                  </a:lnTo>
                  <a:lnTo>
                    <a:pt x="20200" y="1400"/>
                  </a:lnTo>
                  <a:close/>
                </a:path>
                <a:path fill="darkenLess" w="21600" h="21620">
                  <a:moveTo>
                    <a:pt x="21600" y="21620"/>
                  </a:moveTo>
                  <a:lnTo>
                    <a:pt x="0" y="21620"/>
                  </a:lnTo>
                  <a:lnTo>
                    <a:pt x="1400" y="20220"/>
                  </a:lnTo>
                  <a:lnTo>
                    <a:pt x="20200" y="20220"/>
                  </a:lnTo>
                  <a:close/>
                </a:path>
                <a:path fill="lighten" w="21600" h="21620">
                  <a:moveTo>
                    <a:pt x="0" y="2162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0"/>
                  </a:lnTo>
                  <a:close/>
                </a:path>
                <a:path fill="darken" w="21600" h="21620">
                  <a:moveTo>
                    <a:pt x="7301" y="10810"/>
                  </a:moveTo>
                  <a:lnTo>
                    <a:pt x="17806" y="3804"/>
                  </a:lnTo>
                  <a:lnTo>
                    <a:pt x="17806" y="17817"/>
                  </a:lnTo>
                  <a:close/>
                </a:path>
                <a:path fill="darken" w="21600" h="21620">
                  <a:moveTo>
                    <a:pt x="3794" y="3804"/>
                  </a:moveTo>
                  <a:lnTo>
                    <a:pt x="5456" y="3804"/>
                  </a:lnTo>
                  <a:lnTo>
                    <a:pt x="5456" y="17817"/>
                  </a:lnTo>
                  <a:lnTo>
                    <a:pt x="3794" y="17817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Príklady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54080" y="1692360"/>
            <a:ext cx="62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te program pre nasledujúce logické funkc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58640" y="2530440"/>
            <a:ext cx="31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=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b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.(a+c)+b.c.(a+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= (a+b).(c+d)+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= a.b.c.( a+b+d )+c.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= (a.b+ c )+(c.d + 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60600" y="3270240"/>
            <a:ext cx="14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898720" y="2625840"/>
            <a:ext cx="14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684600" y="2650680"/>
            <a:ext cx="14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57600" y="3862440"/>
            <a:ext cx="14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213080" y="3797280"/>
            <a:ext cx="14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659040" y="4428720"/>
            <a:ext cx="14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666880" y="4428720"/>
            <a:ext cx="14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238880" y="6095880"/>
            <a:ext cx="1295640" cy="381240"/>
            <a:chOff x="7238880" y="6095880"/>
            <a:chExt cx="1295640" cy="381240"/>
          </a:xfrm>
        </p:grpSpPr>
        <p:sp>
          <p:nvSpPr>
            <p:cNvPr id="408" name="">
              <a:hlinkClick r:id="" action="ppaction://hlinkshowjump?jump=previousslide"/>
            </p:cNvPr>
            <p:cNvSpPr/>
            <p:nvPr/>
          </p:nvSpPr>
          <p:spPr>
            <a:xfrm>
              <a:off x="76960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10800"/>
                  </a:moveTo>
                  <a:lnTo>
                    <a:pt x="18524" y="3794"/>
                  </a:lnTo>
                  <a:lnTo>
                    <a:pt x="1852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>
              <a:hlinkClick r:id="" action="ppaction://hlinkshowjump?jump=nextslide"/>
            </p:cNvPr>
            <p:cNvSpPr/>
            <p:nvPr/>
          </p:nvSpPr>
          <p:spPr>
            <a:xfrm>
              <a:off x="8153280" y="6095880"/>
              <a:ext cx="381240" cy="357480"/>
            </a:xfrm>
            <a:custGeom>
              <a:avLst/>
              <a:gdLst>
                <a:gd name="textAreaLeft" fmla="*/ 23040 w 381240"/>
                <a:gd name="textAreaRight" fmla="*/ 358200 w 381240"/>
                <a:gd name="textAreaTop" fmla="*/ 23040 h 357480"/>
                <a:gd name="textAreaBottom" fmla="*/ 334440 h 357480"/>
              </a:gdLst>
              <a:ahLst/>
              <a:rect l="textAreaLeft" t="textAreaTop" r="textAreaRight" b="textAreaBottom"/>
              <a:pathLst>
                <a:path w="23034" h="21600">
                  <a:moveTo>
                    <a:pt x="0" y="0"/>
                  </a:moveTo>
                  <a:lnTo>
                    <a:pt x="23034" y="0"/>
                  </a:lnTo>
                  <a:lnTo>
                    <a:pt x="23034" y="21600"/>
                  </a:lnTo>
                  <a:lnTo>
                    <a:pt x="0" y="21600"/>
                  </a:lnTo>
                  <a:close/>
                </a:path>
                <a:path fill="lightenLess" w="23034" h="21600">
                  <a:moveTo>
                    <a:pt x="0" y="0"/>
                  </a:moveTo>
                  <a:lnTo>
                    <a:pt x="23034" y="0"/>
                  </a:lnTo>
                  <a:lnTo>
                    <a:pt x="21634" y="1400"/>
                  </a:lnTo>
                  <a:lnTo>
                    <a:pt x="1400" y="1400"/>
                  </a:lnTo>
                  <a:close/>
                </a:path>
                <a:path fill="darken" w="23034" h="21600">
                  <a:moveTo>
                    <a:pt x="23034" y="0"/>
                  </a:moveTo>
                  <a:lnTo>
                    <a:pt x="23034" y="21600"/>
                  </a:lnTo>
                  <a:lnTo>
                    <a:pt x="21634" y="20200"/>
                  </a:lnTo>
                  <a:lnTo>
                    <a:pt x="21634" y="1400"/>
                  </a:lnTo>
                  <a:close/>
                </a:path>
                <a:path fill="darkenLess" w="23034" h="21600">
                  <a:moveTo>
                    <a:pt x="230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34" y="20200"/>
                  </a:lnTo>
                  <a:close/>
                </a:path>
                <a:path fill="lighten" w="230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034" h="21600">
                  <a:moveTo>
                    <a:pt x="4511" y="3794"/>
                  </a:moveTo>
                  <a:lnTo>
                    <a:pt x="18524" y="10800"/>
                  </a:lnTo>
                  <a:lnTo>
                    <a:pt x="4511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7238880" y="6095880"/>
              <a:ext cx="381240" cy="38124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06:43:33Z</dcterms:created>
  <dc:creator>Girman</dc:creator>
  <dc:description/>
  <dc:language>en-US</dc:language>
  <cp:lastModifiedBy>Girman</cp:lastModifiedBy>
  <dcterms:modified xsi:type="dcterms:W3CDTF">2002-02-06T07:27:19Z</dcterms:modified>
  <cp:revision>68</cp:revision>
  <dc:subject/>
  <dc:title>AUTOMATIZÁCIA TECHNOLOGICKÝCH PROCESOV I.</dc:title>
</cp:coreProperties>
</file>