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52B-84E7-4D97-B755-919F2C79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278-A78D-4B28-B4EF-0D0CD78C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6FF-CF13-4BC2-87FB-D0919341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D2A-197A-4661-AB3F-4D677C62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58C9-14BB-449B-AE04-5AF8C85F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CFEB-962C-419D-8687-B103D843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1054-291D-4D0C-9731-8C2AB7D6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CA41-27EE-42ED-991C-362E097E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DEE8-AE15-4C30-8221-E1A7E723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AB90-C057-4F65-9FB8-0FF81DB0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5D4C-E686-4240-9304-3C5D419C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F26-F67C-4E08-9A8F-E66824A1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B6FE-E0F3-45D9-BA86-8D9DE6B0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6C71-9919-4B3F-9F67-BB74300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FB14-08AF-430F-9554-345A3886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DC96-736B-4606-83E1-B055572B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7381-625B-413C-8E97-65224CB3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EC3-3658-4D79-A611-459BB258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F34-473A-4BE8-A285-9F587794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710-9BCA-4976-893C-F639A5D9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DCF-0B3C-4A4C-BF35-8ADFC4FD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A82-D1C8-49DD-9311-B770E1DA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866-0823-4ED4-BADC-9E3BAE7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436-967D-42DC-BDCA-761CB44F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FF7E-47F6-4254-A184-54D487508C4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670F-8337-4043-9A4F-8F01A9E8A8E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Programovanie obvodov s pamäťovými prvkami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53600" y="1951200"/>
            <a:ext cx="611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Základný pamäťový prvok typu 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Dominancia vstup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Synchronizácia zápisu do pamä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32760" y="54864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3FC-04F9-401C-9088-CC6532AE12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Synchronizácia vstupov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66640" cy="533160"/>
          </a:xfrm>
          <a:custGeom>
            <a:avLst/>
            <a:gdLst>
              <a:gd name="textAreaLeft" fmla="*/ 34560 w 566640"/>
              <a:gd name="textAreaRight" fmla="*/ 532080 w 566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4471" y="3794"/>
                </a:moveTo>
                <a:lnTo>
                  <a:pt x="18484" y="10800"/>
                </a:lnTo>
                <a:lnTo>
                  <a:pt x="447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71720" y="1717560"/>
            <a:ext cx="228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ktoré typy pamäťových prvkov sú vybavené statickými RS vstupmi, ktoré sa dynamickým spôsobom prepisujú prostredníctvom hodinového impulzu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60640" y="1722600"/>
            <a:ext cx="4600800" cy="4073400"/>
            <a:chOff x="3860640" y="1722600"/>
            <a:chExt cx="4600800" cy="4073400"/>
          </a:xfrm>
        </p:grpSpPr>
        <p:sp>
          <p:nvSpPr>
            <p:cNvPr id="414" name=""/>
            <p:cNvSpPr/>
            <p:nvPr/>
          </p:nvSpPr>
          <p:spPr>
            <a:xfrm>
              <a:off x="3860640" y="1722600"/>
              <a:ext cx="4600800" cy="4073400"/>
            </a:xfrm>
            <a:prstGeom prst="rect">
              <a:avLst/>
            </a:prstGeom>
            <a:solidFill>
              <a:srgbClr val="c2d49e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18280" y="3317760"/>
              <a:ext cx="333360" cy="49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08560" y="3379680"/>
              <a:ext cx="333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94160" y="3452760"/>
              <a:ext cx="92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51640" y="3529080"/>
              <a:ext cx="30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51520" y="3608280"/>
              <a:ext cx="266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41880" y="322884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E 1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27640" y="3813120"/>
              <a:ext cx="333360" cy="49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18280" y="3875040"/>
              <a:ext cx="333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03880" y="4129200"/>
              <a:ext cx="92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61000" y="402444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60880" y="3967200"/>
              <a:ext cx="266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60960" y="408636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E 2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65920" y="3257640"/>
              <a:ext cx="485640" cy="10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65920" y="3801960"/>
              <a:ext cx="485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41880" y="3846600"/>
              <a:ext cx="40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60960" y="3400560"/>
              <a:ext cx="333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51560" y="3567240"/>
              <a:ext cx="247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61280" y="3979800"/>
              <a:ext cx="247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51520" y="3578400"/>
              <a:ext cx="1584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94160" y="3798720"/>
              <a:ext cx="657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11640" y="35956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E 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5400000">
              <a:off x="5310720" y="4083840"/>
              <a:ext cx="122040" cy="8892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5400000">
              <a:off x="5301360" y="3588480"/>
              <a:ext cx="122040" cy="8892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46880" y="2394000"/>
              <a:ext cx="37116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56240" y="2789280"/>
              <a:ext cx="37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5400000">
              <a:off x="5528880" y="2752560"/>
              <a:ext cx="123840" cy="8892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41960" y="2562120"/>
              <a:ext cx="30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1320" y="281160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22880" y="3027240"/>
              <a:ext cx="30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65600" y="2438280"/>
              <a:ext cx="333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65600" y="2751120"/>
              <a:ext cx="40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27760" y="2604960"/>
              <a:ext cx="247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27760" y="2948040"/>
              <a:ext cx="247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89720" y="33433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A 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80000" y="37591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A 1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65920" y="2381400"/>
              <a:ext cx="457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A 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65920" y="271764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A 1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9520" y="23716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E 1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89520" y="257796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E 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89520" y="27558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E 2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4440" y="1898640"/>
              <a:ext cx="1400400" cy="382752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UE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UNM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=M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UE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=M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UE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UM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SA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RA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UE2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UM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RA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SA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B1D-65F0-4EA8-8672-50FA21AE1C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ríklad 1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760" y="1730520"/>
            <a:ext cx="70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programujte RS klopný obvod s dynamickými vstup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778040" y="2857680"/>
            <a:ext cx="3090960" cy="1441440"/>
            <a:chOff x="1778040" y="2857680"/>
            <a:chExt cx="3090960" cy="1441440"/>
          </a:xfrm>
        </p:grpSpPr>
        <p:sp>
          <p:nvSpPr>
            <p:cNvPr id="459" name=""/>
            <p:cNvSpPr/>
            <p:nvPr/>
          </p:nvSpPr>
          <p:spPr>
            <a:xfrm>
              <a:off x="1778040" y="2857680"/>
              <a:ext cx="3090960" cy="14414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982880" y="2988000"/>
              <a:ext cx="2552400" cy="861840"/>
              <a:chOff x="1982880" y="2988000"/>
              <a:chExt cx="2552400" cy="861840"/>
            </a:xfrm>
          </p:grpSpPr>
          <p:sp>
            <p:nvSpPr>
              <p:cNvPr id="461" name=""/>
              <p:cNvSpPr/>
              <p:nvPr/>
            </p:nvSpPr>
            <p:spPr>
              <a:xfrm>
                <a:off x="3322800" y="3152880"/>
                <a:ext cx="515880" cy="69696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64240" y="3500640"/>
                <a:ext cx="66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00640" y="3553200"/>
                <a:ext cx="554040" cy="2062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95800" y="3333960"/>
                <a:ext cx="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68720" y="3643560"/>
                <a:ext cx="14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273480" y="3578400"/>
                <a:ext cx="88920" cy="8892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95800" y="36561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138400" y="2988000"/>
                <a:ext cx="621000" cy="337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Times New Roman"/>
                  </a:rPr>
                  <a:t>E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03480" y="3040200"/>
                <a:ext cx="631800" cy="337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Times New Roman"/>
                  </a:rPr>
                  <a:t>A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02360" y="3206880"/>
                <a:ext cx="349920" cy="337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982880" y="3345120"/>
                <a:ext cx="132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2745000" y="3643560"/>
                <a:ext cx="283680" cy="76320"/>
                <a:chOff x="2745000" y="3643560"/>
                <a:chExt cx="2836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2757600" y="3679920"/>
                  <a:ext cx="27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014640" y="3656160"/>
                  <a:ext cx="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745000" y="3643560"/>
                  <a:ext cx="0" cy="6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6" name=""/>
          <p:cNvSpPr/>
          <p:nvPr/>
        </p:nvSpPr>
        <p:spPr>
          <a:xfrm>
            <a:off x="1658520" y="242244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ozn.:Dynamický vst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527-527F-49AB-81F9-1CBE3D1CDD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221440" y="1932120"/>
            <a:ext cx="3273120" cy="33480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Príklad 2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94040" y="165564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programujte T- klopný obv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365120" y="2917800"/>
            <a:ext cx="3090960" cy="1441440"/>
            <a:chOff x="1365120" y="2917800"/>
            <a:chExt cx="3090960" cy="1441440"/>
          </a:xfrm>
        </p:grpSpPr>
        <p:sp>
          <p:nvSpPr>
            <p:cNvPr id="484" name=""/>
            <p:cNvSpPr/>
            <p:nvPr/>
          </p:nvSpPr>
          <p:spPr>
            <a:xfrm>
              <a:off x="1365120" y="2917800"/>
              <a:ext cx="3090960" cy="14414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1569960" y="3048120"/>
              <a:ext cx="2552400" cy="861840"/>
              <a:chOff x="1569960" y="3048120"/>
              <a:chExt cx="2552400" cy="861840"/>
            </a:xfrm>
          </p:grpSpPr>
          <p:sp>
            <p:nvSpPr>
              <p:cNvPr id="486" name=""/>
              <p:cNvSpPr/>
              <p:nvPr/>
            </p:nvSpPr>
            <p:spPr>
              <a:xfrm>
                <a:off x="2909880" y="3213000"/>
                <a:ext cx="515880" cy="69696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451320" y="3560760"/>
                <a:ext cx="66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187720" y="3613320"/>
                <a:ext cx="554040" cy="2062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82880" y="3394080"/>
                <a:ext cx="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755800" y="3703680"/>
                <a:ext cx="14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60560" y="3638520"/>
                <a:ext cx="88920" cy="8892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982880" y="371628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25480" y="3048120"/>
                <a:ext cx="621000" cy="337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Times New Roman"/>
                  </a:rPr>
                  <a:t>E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490560" y="3100320"/>
                <a:ext cx="631800" cy="337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Times New Roman"/>
                  </a:rPr>
                  <a:t>A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89440" y="3267000"/>
                <a:ext cx="349920" cy="337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569960" y="3405240"/>
                <a:ext cx="132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2332080" y="3703680"/>
                <a:ext cx="283680" cy="76320"/>
                <a:chOff x="2332080" y="3703680"/>
                <a:chExt cx="283680" cy="763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344680" y="3740040"/>
                  <a:ext cx="27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601720" y="3716280"/>
                  <a:ext cx="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332080" y="3703680"/>
                  <a:ext cx="0" cy="6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1" name=""/>
          <p:cNvGrpSpPr/>
          <p:nvPr/>
        </p:nvGrpSpPr>
        <p:grpSpPr>
          <a:xfrm>
            <a:off x="5470560" y="2122560"/>
            <a:ext cx="2787480" cy="2700360"/>
            <a:chOff x="5470560" y="2122560"/>
            <a:chExt cx="2787480" cy="2700360"/>
          </a:xfrm>
        </p:grpSpPr>
        <p:sp>
          <p:nvSpPr>
            <p:cNvPr id="502" name=""/>
            <p:cNvSpPr/>
            <p:nvPr/>
          </p:nvSpPr>
          <p:spPr>
            <a:xfrm>
              <a:off x="6267600" y="2448000"/>
              <a:ext cx="414360" cy="61920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53200" y="3789360"/>
              <a:ext cx="414360" cy="61920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32560" y="3125880"/>
              <a:ext cx="414360" cy="61920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96000" y="274320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96000" y="41306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020000" y="3303720"/>
              <a:ext cx="41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21440" y="359892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20000" y="27576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20000" y="3584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845480" y="3406320"/>
              <a:ext cx="41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838840" y="2671920"/>
              <a:ext cx="41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838840" y="4262040"/>
              <a:ext cx="41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26240" y="212256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40280" y="42624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6240" y="2138400"/>
              <a:ext cx="21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11840" y="4822920"/>
              <a:ext cx="21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23320" y="21384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59480" y="3556080"/>
              <a:ext cx="88920" cy="88920"/>
            </a:xfrm>
            <a:prstGeom prst="ellipse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15160" y="287640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15160" y="395280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00760" y="2889360"/>
              <a:ext cx="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470560" y="3436920"/>
              <a:ext cx="41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10080" y="2522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67600" y="38498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61360" y="32148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40280" y="3392640"/>
              <a:ext cx="88920" cy="88920"/>
            </a:xfrm>
            <a:prstGeom prst="ellipse">
              <a:avLst/>
            </a:prstGeom>
            <a:solidFill>
              <a:srgbClr val="2213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93080" y="3362400"/>
              <a:ext cx="88920" cy="88920"/>
            </a:xfrm>
            <a:prstGeom prst="ellipse">
              <a:avLst/>
            </a:prstGeom>
            <a:solidFill>
              <a:srgbClr val="2213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A09-00CD-4C70-B698-A36F3FA49F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Ot</a:t>
            </a: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ázky k  cvičeniu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63520" y="1758960"/>
            <a:ext cx="628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Čo je to dynamický vst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 akých poliach môžeme realizovať pamäťový prvok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Čo je to dominancia vstupov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programujte JK klopný obv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anak1" descr=""/>
          <p:cNvPicPr/>
          <p:nvPr/>
        </p:nvPicPr>
        <p:blipFill>
          <a:blip r:embed="rId1"/>
          <a:stretch/>
        </p:blipFill>
        <p:spPr>
          <a:xfrm>
            <a:off x="7343640" y="368280"/>
            <a:ext cx="130176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DCE-0ED4-441C-9ABB-3FED2034C4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V</a:t>
            </a: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šeobecn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209680"/>
            <a:ext cx="725472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amäťový prvok môžeme vytvoriť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špeciálnymi inštrukciami pre prácu s pamäťou,ale aj logickými bitovými inštrukci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amäťový prvok môžeme vytvoriť v poli a (výstupov),ale aj v poli medzivýsledkov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ri vytváraní programu je potrebné si uvedomiť,že prenos signálu z výstupu na vstup je oneskorený o jeden cyklus progra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ri zostavení programov pre pamäťový prvok je potrebné uvažovať postupné vykonávanie inštrukcií procesorom a z toho vyplyvajúci výsledok  na výstupe,t.j. dominantné chovanie sa nastavovacieho,alebo nulovacieho vstu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6C2-0237-4687-B899-B869F1E797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Základné techniky 1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8240" y="16416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amäťový obvod typu 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8600" y="2133720"/>
            <a:ext cx="7155000" cy="4190760"/>
          </a:xfrm>
          <a:prstGeom prst="rect">
            <a:avLst/>
          </a:prstGeom>
          <a:solidFill>
            <a:srgbClr val="c2d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2286000"/>
            <a:ext cx="1730520" cy="840600"/>
            <a:chOff x="1371600" y="2286000"/>
            <a:chExt cx="1730520" cy="840600"/>
          </a:xfrm>
        </p:grpSpPr>
        <p:sp>
          <p:nvSpPr>
            <p:cNvPr id="104" name=""/>
            <p:cNvSpPr/>
            <p:nvPr/>
          </p:nvSpPr>
          <p:spPr>
            <a:xfrm>
              <a:off x="2057400" y="2514600"/>
              <a:ext cx="457200" cy="6094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2666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3880" y="2971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600" y="22860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26668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24382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2819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7400" y="2514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09680" y="2666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895480" y="3809880"/>
            <a:ext cx="457200" cy="609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17720" y="3554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36800" y="442764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59120" y="36226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4114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4006800"/>
            <a:ext cx="228600" cy="2286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24000" y="3863880"/>
            <a:ext cx="220680" cy="206640"/>
            <a:chOff x="2124000" y="3863880"/>
            <a:chExt cx="220680" cy="206640"/>
          </a:xfrm>
        </p:grpSpPr>
        <p:sp>
          <p:nvSpPr>
            <p:cNvPr id="126" name=""/>
            <p:cNvSpPr/>
            <p:nvPr/>
          </p:nvSpPr>
          <p:spPr>
            <a:xfrm>
              <a:off x="2344680" y="3863880"/>
              <a:ext cx="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24000" y="3863880"/>
              <a:ext cx="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124000" y="4173480"/>
            <a:ext cx="220680" cy="206280"/>
            <a:chOff x="2124000" y="4173480"/>
            <a:chExt cx="220680" cy="206280"/>
          </a:xfrm>
        </p:grpSpPr>
        <p:sp>
          <p:nvSpPr>
            <p:cNvPr id="129" name=""/>
            <p:cNvSpPr/>
            <p:nvPr/>
          </p:nvSpPr>
          <p:spPr>
            <a:xfrm>
              <a:off x="2344680" y="4173480"/>
              <a:ext cx="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4000" y="4173480"/>
              <a:ext cx="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093760" y="5367240"/>
            <a:ext cx="220680" cy="206640"/>
            <a:chOff x="2093760" y="5367240"/>
            <a:chExt cx="220680" cy="206640"/>
          </a:xfrm>
        </p:grpSpPr>
        <p:sp>
          <p:nvSpPr>
            <p:cNvPr id="132" name=""/>
            <p:cNvSpPr/>
            <p:nvPr/>
          </p:nvSpPr>
          <p:spPr>
            <a:xfrm>
              <a:off x="2314440" y="5367240"/>
              <a:ext cx="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93760" y="5367240"/>
              <a:ext cx="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093760" y="5810400"/>
            <a:ext cx="220680" cy="206280"/>
            <a:chOff x="2093760" y="5810400"/>
            <a:chExt cx="220680" cy="206280"/>
          </a:xfrm>
        </p:grpSpPr>
        <p:sp>
          <p:nvSpPr>
            <p:cNvPr id="135" name=""/>
            <p:cNvSpPr/>
            <p:nvPr/>
          </p:nvSpPr>
          <p:spPr>
            <a:xfrm>
              <a:off x="2314440" y="5810400"/>
              <a:ext cx="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93760" y="5810400"/>
              <a:ext cx="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59552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5520" y="3959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2280" y="3746520"/>
            <a:ext cx="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50880" y="5477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36840" y="5918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5460840"/>
            <a:ext cx="107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6480" y="5904000"/>
            <a:ext cx="107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3400" y="5335560"/>
            <a:ext cx="228600" cy="2286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3400" y="5778360"/>
            <a:ext cx="228600" cy="2286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3240" y="49640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3240" y="6012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78120" y="554832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3320" y="5073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87600" y="5289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87600" y="5776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52120" y="2801880"/>
            <a:ext cx="1771920" cy="22885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46120" cy="533160"/>
          </a:xfrm>
          <a:custGeom>
            <a:avLst/>
            <a:gdLst>
              <a:gd name="textAreaLeft" fmla="*/ 34560 w 546120"/>
              <a:gd name="textAreaRight" fmla="*/ 511560 w 546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2125" h="21600">
                <a:moveTo>
                  <a:pt x="0" y="0"/>
                </a:moveTo>
                <a:lnTo>
                  <a:pt x="22125" y="0"/>
                </a:lnTo>
                <a:lnTo>
                  <a:pt x="22125" y="21600"/>
                </a:lnTo>
                <a:lnTo>
                  <a:pt x="0" y="21600"/>
                </a:lnTo>
                <a:close/>
              </a:path>
              <a:path fill="lightenLess" w="22125" h="21600">
                <a:moveTo>
                  <a:pt x="0" y="0"/>
                </a:moveTo>
                <a:lnTo>
                  <a:pt x="22125" y="0"/>
                </a:lnTo>
                <a:lnTo>
                  <a:pt x="20725" y="1400"/>
                </a:lnTo>
                <a:lnTo>
                  <a:pt x="1400" y="1400"/>
                </a:lnTo>
                <a:close/>
              </a:path>
              <a:path fill="darken" w="22125" h="21600">
                <a:moveTo>
                  <a:pt x="22125" y="0"/>
                </a:moveTo>
                <a:lnTo>
                  <a:pt x="22125" y="21600"/>
                </a:lnTo>
                <a:lnTo>
                  <a:pt x="20725" y="20200"/>
                </a:lnTo>
                <a:lnTo>
                  <a:pt x="20725" y="1400"/>
                </a:lnTo>
                <a:close/>
              </a:path>
              <a:path fill="darkenLess" w="22125" h="21600">
                <a:moveTo>
                  <a:pt x="22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25" y="20200"/>
                </a:lnTo>
                <a:close/>
              </a:path>
              <a:path fill="lighten" w="22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25" h="21600">
                <a:moveTo>
                  <a:pt x="4056" y="3794"/>
                </a:moveTo>
                <a:lnTo>
                  <a:pt x="18069" y="10800"/>
                </a:lnTo>
                <a:lnTo>
                  <a:pt x="4056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0880" y="5326200"/>
            <a:ext cx="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5E9-9CAC-43D8-8E71-6437457F04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65320" y="1681200"/>
            <a:ext cx="6872040" cy="1992240"/>
          </a:xfrm>
          <a:prstGeom prst="rect">
            <a:avLst/>
          </a:prstGeom>
          <a:solidFill>
            <a:srgbClr val="c2d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Základné techniky 2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74760" y="2617920"/>
            <a:ext cx="457200" cy="609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41600" y="2770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1600" y="3075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31960" y="292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88960" y="23893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88960" y="27702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00240" y="22464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74760" y="2922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74760" y="2617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27400" y="27702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29600" y="1843200"/>
            <a:ext cx="1771920" cy="15570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65320" y="3774960"/>
            <a:ext cx="6872040" cy="2729160"/>
          </a:xfrm>
          <a:prstGeom prst="rect">
            <a:avLst/>
          </a:prstGeom>
          <a:solidFill>
            <a:srgbClr val="c2d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63680" y="4903920"/>
            <a:ext cx="457200" cy="609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30520" y="505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536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20880" y="520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77880" y="46753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77880" y="50562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27520" y="488808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63680" y="5208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3680" y="4903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16320" y="50562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76560" y="453384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Times New Roman"/>
              </a:rPr>
              <a:t>M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14840" y="4070520"/>
            <a:ext cx="1823760" cy="22885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0000"/>
                </a:solidFill>
                <a:latin typeface="Times New Roman"/>
              </a:rPr>
              <a:t>M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0000"/>
                </a:solidFill>
                <a:latin typeface="Times New Roman"/>
              </a:rPr>
              <a:t>A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8201160" y="4648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8215200" y="53341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7760" y="195120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amäť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výstupne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ad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47400" y="4413240"/>
            <a:ext cx="12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amäť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v p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medzi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výsledk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6E4-36D5-4F63-99A9-B7415D0F60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0720" y="1828800"/>
            <a:ext cx="7543800" cy="4724280"/>
          </a:xfrm>
          <a:prstGeom prst="rect">
            <a:avLst/>
          </a:prstGeom>
          <a:solidFill>
            <a:srgbClr val="c2d49e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70200" y="39038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69240" y="275436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916360"/>
            <a:ext cx="5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1080" y="520380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23200" y="52038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384800" y="2328480"/>
            <a:ext cx="28404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84640" y="227808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84640" y="247176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9040" y="2347920"/>
            <a:ext cx="204840" cy="243000"/>
            <a:chOff x="3659040" y="2347920"/>
            <a:chExt cx="204840" cy="243000"/>
          </a:xfrm>
        </p:grpSpPr>
        <p:sp>
          <p:nvSpPr>
            <p:cNvPr id="198" name=""/>
            <p:cNvSpPr/>
            <p:nvPr/>
          </p:nvSpPr>
          <p:spPr>
            <a:xfrm>
              <a:off x="3659040" y="23479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63880" y="23479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422600" y="2332080"/>
            <a:ext cx="203400" cy="243000"/>
            <a:chOff x="4422600" y="2332080"/>
            <a:chExt cx="203400" cy="243000"/>
          </a:xfrm>
        </p:grpSpPr>
        <p:sp>
          <p:nvSpPr>
            <p:cNvPr id="201" name=""/>
            <p:cNvSpPr/>
            <p:nvPr/>
          </p:nvSpPr>
          <p:spPr>
            <a:xfrm>
              <a:off x="4422600" y="23320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26000" y="23320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659040" y="3019320"/>
            <a:ext cx="204840" cy="246240"/>
            <a:chOff x="3659040" y="3019320"/>
            <a:chExt cx="204840" cy="246240"/>
          </a:xfrm>
        </p:grpSpPr>
        <p:sp>
          <p:nvSpPr>
            <p:cNvPr id="204" name=""/>
            <p:cNvSpPr/>
            <p:nvPr/>
          </p:nvSpPr>
          <p:spPr>
            <a:xfrm>
              <a:off x="3659040" y="3019320"/>
              <a:ext cx="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63880" y="3019320"/>
              <a:ext cx="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100480" y="2322360"/>
            <a:ext cx="254160" cy="2494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3880" y="245412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26000" y="2454120"/>
            <a:ext cx="47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54400" y="2454120"/>
            <a:ext cx="0" cy="6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84640" y="3144960"/>
            <a:ext cx="37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79720" y="31291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42000" y="1978200"/>
            <a:ext cx="738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95520" y="1996920"/>
            <a:ext cx="738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49720" y="1978200"/>
            <a:ext cx="738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40760" y="2503440"/>
            <a:ext cx="549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0960" y="2516040"/>
            <a:ext cx="550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84960" y="2419200"/>
            <a:ext cx="4399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10240" y="2419200"/>
            <a:ext cx="4399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50160" y="26290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921800" y="212256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113160" y="2122560"/>
            <a:ext cx="180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113520" y="2125800"/>
            <a:ext cx="0" cy="46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13520" y="259380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42320" y="29480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026120" y="294804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948280" y="3432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41920" y="2535120"/>
            <a:ext cx="716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89440" y="3057480"/>
            <a:ext cx="7128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09040" y="2693880"/>
            <a:ext cx="715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43840" y="2854440"/>
            <a:ext cx="14436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35120" y="219708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86040" y="2197080"/>
            <a:ext cx="0" cy="6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21000" y="2197080"/>
            <a:ext cx="0" cy="6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35200" y="2835360"/>
            <a:ext cx="14112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9240" y="2862360"/>
            <a:ext cx="14292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68040" y="3075120"/>
            <a:ext cx="1800" cy="88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21000" y="310680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855800" y="3890880"/>
            <a:ext cx="125280" cy="3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55800" y="425916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870200" y="3513240"/>
            <a:ext cx="55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71760" y="4890960"/>
            <a:ext cx="58248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55800" y="512280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28720" y="5510160"/>
            <a:ext cx="2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7240" y="2744640"/>
            <a:ext cx="738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6840" y="2744640"/>
            <a:ext cx="738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1280" y="3890880"/>
            <a:ext cx="739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75040" y="4740120"/>
            <a:ext cx="73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613480"/>
            <a:ext cx="1571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l. zapoje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0240" y="3710160"/>
            <a:ext cx="2403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Zápis v tvare  K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3552840"/>
            <a:ext cx="2404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Zápis v tvare  F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38560" y="4522680"/>
            <a:ext cx="2403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Zápis v tvare  A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830560" y="4278240"/>
            <a:ext cx="2421000" cy="2099880"/>
            <a:chOff x="5830560" y="4278240"/>
            <a:chExt cx="2421000" cy="2099880"/>
          </a:xfrm>
        </p:grpSpPr>
        <p:sp>
          <p:nvSpPr>
            <p:cNvPr id="253" name=""/>
            <p:cNvSpPr/>
            <p:nvPr/>
          </p:nvSpPr>
          <p:spPr>
            <a:xfrm>
              <a:off x="6868440" y="4521960"/>
              <a:ext cx="58176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81520" y="4709520"/>
              <a:ext cx="40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43640" y="4746960"/>
              <a:ext cx="40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36760" y="4540680"/>
              <a:ext cx="53424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61040" y="4315680"/>
              <a:ext cx="73872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E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45200" y="4803120"/>
              <a:ext cx="7387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E 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12840" y="4278240"/>
              <a:ext cx="73872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A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5830200" y="5909400"/>
              <a:ext cx="2232360" cy="468720"/>
            </a:xfrm>
            <a:prstGeom prst="wedgeRoundRectCallout">
              <a:avLst>
                <a:gd name="adj1" fmla="val -19296"/>
                <a:gd name="adj2" fmla="val 16066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710160" y="4978440"/>
            <a:ext cx="1303200" cy="15001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U 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A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UN E 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= A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32800" y="2754360"/>
            <a:ext cx="17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45360" y="4959360"/>
            <a:ext cx="204840" cy="450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69160" y="4959360"/>
            <a:ext cx="5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3320" y="4978440"/>
            <a:ext cx="5331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9520" y="2484360"/>
            <a:ext cx="550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75320" y="2484360"/>
            <a:ext cx="550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3920" y="5159520"/>
            <a:ext cx="14292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63840" y="2671920"/>
            <a:ext cx="738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Elementárne pamäťové prvky 1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30280" y="5929200"/>
            <a:ext cx="21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Dominantné ovlád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818676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previousslide"/>
          </p:cNvPr>
          <p:cNvSpPr/>
          <p:nvPr/>
        </p:nvSpPr>
        <p:spPr>
          <a:xfrm>
            <a:off x="8159760" y="47926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8174160" y="54180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589-8ECD-4D9E-8E01-4136F03293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Elementárne pamäťové prvky 2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27160" y="1870200"/>
            <a:ext cx="748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predchádzajúcom zapojení je dominantné vypnutie, t.j. pri súčasnej aktivácii ZAP a VYP sa uplatní vypnutie (nulovanie). Ďalšia ukážka ukazuje riešenie, kde dominantné bude nastavenie (zapnutie) výstupu. V technickej praxi sa môžeme rozhodnúť pre riešenie podľa požadovaných požiadavi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7D6-CD92-4586-A1F0-515EB45DAA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71600" y="1828800"/>
            <a:ext cx="7209000" cy="4495680"/>
          </a:xfrm>
          <a:prstGeom prst="rect">
            <a:avLst/>
          </a:prstGeom>
          <a:solidFill>
            <a:srgbClr val="c2d49e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95640" y="2066760"/>
            <a:ext cx="11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40080" y="206676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60640" y="206676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93920" y="2644920"/>
            <a:ext cx="13824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32120" y="2671920"/>
            <a:ext cx="13644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422080" y="2862360"/>
            <a:ext cx="32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60640" y="2878200"/>
            <a:ext cx="0" cy="12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09840" y="3648240"/>
            <a:ext cx="122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09840" y="3902040"/>
            <a:ext cx="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409840" y="413856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04920" y="4680000"/>
            <a:ext cx="56520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09840" y="50148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7440" y="5340240"/>
            <a:ext cx="24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46280" y="2517840"/>
            <a:ext cx="717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44800" y="2540160"/>
            <a:ext cx="7174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14400" y="3603600"/>
            <a:ext cx="717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495680"/>
            <a:ext cx="71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30240" y="5324400"/>
            <a:ext cx="15274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El. zapoj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860640" y="2328840"/>
            <a:ext cx="0" cy="14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60640" y="2529000"/>
            <a:ext cx="3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173480" y="2397240"/>
            <a:ext cx="168480" cy="260280"/>
            <a:chOff x="4173480" y="2397240"/>
            <a:chExt cx="168480" cy="260280"/>
          </a:xfrm>
        </p:grpSpPr>
        <p:sp>
          <p:nvSpPr>
            <p:cNvPr id="302" name=""/>
            <p:cNvSpPr/>
            <p:nvPr/>
          </p:nvSpPr>
          <p:spPr>
            <a:xfrm>
              <a:off x="4173480" y="239724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1960" y="239724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808520" y="2379600"/>
            <a:ext cx="169920" cy="260280"/>
            <a:chOff x="4808520" y="2379600"/>
            <a:chExt cx="169920" cy="260280"/>
          </a:xfrm>
        </p:grpSpPr>
        <p:sp>
          <p:nvSpPr>
            <p:cNvPr id="305" name=""/>
            <p:cNvSpPr/>
            <p:nvPr/>
          </p:nvSpPr>
          <p:spPr>
            <a:xfrm>
              <a:off x="4808520" y="23796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78440" y="23796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73480" y="3114720"/>
            <a:ext cx="168480" cy="260280"/>
            <a:chOff x="4173480" y="3114720"/>
            <a:chExt cx="168480" cy="260280"/>
          </a:xfrm>
        </p:grpSpPr>
        <p:sp>
          <p:nvSpPr>
            <p:cNvPr id="308" name=""/>
            <p:cNvSpPr/>
            <p:nvPr/>
          </p:nvSpPr>
          <p:spPr>
            <a:xfrm>
              <a:off x="4173480" y="31147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1960" y="31147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370480" y="2368440"/>
            <a:ext cx="212760" cy="266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1960" y="2513160"/>
            <a:ext cx="46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78440" y="251316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49800" y="2527200"/>
            <a:ext cx="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60640" y="3247920"/>
            <a:ext cx="31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56000" y="320832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16400" y="1936800"/>
            <a:ext cx="7527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22560" y="2744640"/>
            <a:ext cx="7048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18000" y="1916280"/>
            <a:ext cx="768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2436840"/>
            <a:ext cx="406440" cy="70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53240" y="2436840"/>
            <a:ext cx="404640" cy="70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57880" y="266544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8056440" y="211104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388200" y="2111400"/>
            <a:ext cx="16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88200" y="211608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88200" y="262728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43920" y="29894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229520" y="301104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235560" y="3543480"/>
            <a:ext cx="9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83200" y="3070080"/>
            <a:ext cx="6588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94360" y="2544840"/>
            <a:ext cx="660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13800" y="2836800"/>
            <a:ext cx="704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05640" y="2897280"/>
            <a:ext cx="13176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4760" y="4497480"/>
            <a:ext cx="5652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450200" y="466884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513252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23080" y="4471920"/>
            <a:ext cx="520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67520" y="4175280"/>
            <a:ext cx="717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81560" y="5049720"/>
            <a:ext cx="71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E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80440" y="4183200"/>
            <a:ext cx="7174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197760" y="300204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77160" y="279252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4600" y="2481120"/>
            <a:ext cx="534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0680" y="2503440"/>
            <a:ext cx="535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58040" y="471168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69160" y="4944960"/>
            <a:ext cx="55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65880" y="4502160"/>
            <a:ext cx="154080" cy="4557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71800" y="1981080"/>
            <a:ext cx="7527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A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9160" y="4927680"/>
            <a:ext cx="519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67360" y="4332240"/>
            <a:ext cx="1014120" cy="17366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 A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 E 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 E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= A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3352680"/>
            <a:ext cx="175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Zápis v tvare  K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8600" y="3900600"/>
            <a:ext cx="1847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Zápis v tvare  AW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5720" y="3581280"/>
            <a:ext cx="1679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Zápis v tvare  F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40080" y="36259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776840" y="2408040"/>
            <a:ext cx="260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Elementárne pamäťové prvky 3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80A-A864-4746-BEC8-84DA92B5A8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Elementárne pamäťové prvky 4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27160" y="1946160"/>
            <a:ext cx="725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mäťové prvky môžeme programovať aj jednoduchšie, s využitím inštrukcií na tento účel určených. Na akejkoľvek adrese pamäti medzivýsledkov a výstupnej pamäti, môžeme pomocou inštrukcii nastavenia S a nulovania R realizovať ľubovoľný pamäťový prvok. Príklady RS klopných obvodov dominantným nastavením a s dominantným nulovaním sú uvedené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v ďalš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8124840" y="6019920"/>
            <a:ext cx="630360" cy="533160"/>
          </a:xfrm>
          <a:custGeom>
            <a:avLst/>
            <a:gdLst>
              <a:gd name="textAreaLeft" fmla="*/ 34560 w 630360"/>
              <a:gd name="textAreaRight" fmla="*/ 595800 w 63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5535" h="21600">
                <a:moveTo>
                  <a:pt x="0" y="0"/>
                </a:moveTo>
                <a:lnTo>
                  <a:pt x="25535" y="0"/>
                </a:lnTo>
                <a:lnTo>
                  <a:pt x="25535" y="21600"/>
                </a:lnTo>
                <a:lnTo>
                  <a:pt x="0" y="21600"/>
                </a:lnTo>
                <a:close/>
              </a:path>
              <a:path fill="lightenLess" w="25535" h="21600">
                <a:moveTo>
                  <a:pt x="0" y="0"/>
                </a:moveTo>
                <a:lnTo>
                  <a:pt x="25535" y="0"/>
                </a:lnTo>
                <a:lnTo>
                  <a:pt x="24135" y="1400"/>
                </a:lnTo>
                <a:lnTo>
                  <a:pt x="1400" y="1400"/>
                </a:lnTo>
                <a:close/>
              </a:path>
              <a:path fill="darken" w="25535" h="21600">
                <a:moveTo>
                  <a:pt x="25535" y="0"/>
                </a:moveTo>
                <a:lnTo>
                  <a:pt x="25535" y="21600"/>
                </a:lnTo>
                <a:lnTo>
                  <a:pt x="24135" y="20200"/>
                </a:lnTo>
                <a:lnTo>
                  <a:pt x="24135" y="1400"/>
                </a:lnTo>
                <a:close/>
              </a:path>
              <a:path fill="darkenLess" w="25535" h="21600">
                <a:moveTo>
                  <a:pt x="25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5" y="20200"/>
                </a:lnTo>
                <a:close/>
              </a:path>
              <a:path fill="lighten" w="25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5" h="21600">
                <a:moveTo>
                  <a:pt x="5761" y="3794"/>
                </a:moveTo>
                <a:lnTo>
                  <a:pt x="19774" y="10800"/>
                </a:lnTo>
                <a:lnTo>
                  <a:pt x="576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previousslide"/>
          </p:cNvPr>
          <p:cNvSpPr/>
          <p:nvPr/>
        </p:nvSpPr>
        <p:spPr>
          <a:xfrm>
            <a:off x="6600960" y="6019920"/>
            <a:ext cx="630000" cy="533160"/>
          </a:xfrm>
          <a:custGeom>
            <a:avLst/>
            <a:gdLst>
              <a:gd name="textAreaLeft" fmla="*/ 34560 w 630000"/>
              <a:gd name="textAreaRight" fmla="*/ 595440 w 630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5754" y="10800"/>
                </a:moveTo>
                <a:lnTo>
                  <a:pt x="19767" y="3794"/>
                </a:lnTo>
                <a:lnTo>
                  <a:pt x="1976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firstslide"/>
          </p:cNvPr>
          <p:cNvSpPr/>
          <p:nvPr/>
        </p:nvSpPr>
        <p:spPr>
          <a:xfrm>
            <a:off x="7362720" y="6019920"/>
            <a:ext cx="630360" cy="533160"/>
          </a:xfrm>
          <a:custGeom>
            <a:avLst/>
            <a:gdLst>
              <a:gd name="textAreaLeft" fmla="*/ 34560 w 630360"/>
              <a:gd name="textAreaRight" fmla="*/ 595800 w 63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5535" h="21600">
                <a:moveTo>
                  <a:pt x="0" y="0"/>
                </a:moveTo>
                <a:lnTo>
                  <a:pt x="25535" y="0"/>
                </a:lnTo>
                <a:lnTo>
                  <a:pt x="25535" y="21600"/>
                </a:lnTo>
                <a:lnTo>
                  <a:pt x="0" y="21600"/>
                </a:lnTo>
                <a:close/>
              </a:path>
              <a:path fill="lightenLess" w="25535" h="21600">
                <a:moveTo>
                  <a:pt x="0" y="0"/>
                </a:moveTo>
                <a:lnTo>
                  <a:pt x="25535" y="0"/>
                </a:lnTo>
                <a:lnTo>
                  <a:pt x="24135" y="1400"/>
                </a:lnTo>
                <a:lnTo>
                  <a:pt x="1400" y="1400"/>
                </a:lnTo>
                <a:close/>
              </a:path>
              <a:path fill="darken" w="25535" h="21600">
                <a:moveTo>
                  <a:pt x="25535" y="0"/>
                </a:moveTo>
                <a:lnTo>
                  <a:pt x="25535" y="21600"/>
                </a:lnTo>
                <a:lnTo>
                  <a:pt x="24135" y="20200"/>
                </a:lnTo>
                <a:lnTo>
                  <a:pt x="24135" y="1400"/>
                </a:lnTo>
                <a:close/>
              </a:path>
              <a:path fill="darkenLess" w="25535" h="21600">
                <a:moveTo>
                  <a:pt x="25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5" y="20200"/>
                </a:lnTo>
                <a:close/>
              </a:path>
              <a:path fill="lighten" w="25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5" h="21600">
                <a:moveTo>
                  <a:pt x="9269" y="10800"/>
                </a:moveTo>
                <a:lnTo>
                  <a:pt x="19774" y="3794"/>
                </a:lnTo>
                <a:lnTo>
                  <a:pt x="19774" y="17806"/>
                </a:lnTo>
                <a:close/>
              </a:path>
              <a:path fill="darken" w="25535" h="21600">
                <a:moveTo>
                  <a:pt x="5761" y="3794"/>
                </a:moveTo>
                <a:lnTo>
                  <a:pt x="7424" y="3794"/>
                </a:lnTo>
                <a:lnTo>
                  <a:pt x="7424" y="17806"/>
                </a:lnTo>
                <a:lnTo>
                  <a:pt x="576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DE8-3432-4CE3-BF0E-7F2D2D6DF0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295280" y="1752480"/>
            <a:ext cx="7162920" cy="4496040"/>
          </a:xfrm>
          <a:prstGeom prst="rect">
            <a:avLst/>
          </a:prstGeom>
          <a:solidFill>
            <a:srgbClr val="c2d49e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Elementárne pamäťové prvky 5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86000" y="2362320"/>
            <a:ext cx="3298320" cy="1176120"/>
            <a:chOff x="2286000" y="2362320"/>
            <a:chExt cx="3298320" cy="1176120"/>
          </a:xfrm>
        </p:grpSpPr>
        <p:sp>
          <p:nvSpPr>
            <p:cNvPr id="367" name=""/>
            <p:cNvSpPr/>
            <p:nvPr/>
          </p:nvSpPr>
          <p:spPr>
            <a:xfrm>
              <a:off x="4130640" y="2491560"/>
              <a:ext cx="594000" cy="88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30640" y="29217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05760" y="2491560"/>
              <a:ext cx="218880" cy="430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45680" y="2921760"/>
              <a:ext cx="53136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77400" y="3136680"/>
              <a:ext cx="45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48280" y="2706480"/>
              <a:ext cx="17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316600" y="3265920"/>
              <a:ext cx="8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89440" y="3007800"/>
              <a:ext cx="146880" cy="13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23760" y="3079440"/>
              <a:ext cx="26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723760" y="270648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45680" y="2955960"/>
              <a:ext cx="5472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99680" y="2955960"/>
              <a:ext cx="5472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5160" y="2525760"/>
              <a:ext cx="5472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99680" y="2525760"/>
              <a:ext cx="5472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40480" y="2692080"/>
              <a:ext cx="45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87280" y="2362320"/>
              <a:ext cx="7970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A 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6000" y="2362320"/>
              <a:ext cx="7970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E 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16960" y="3208680"/>
              <a:ext cx="7970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E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809880" y="4038480"/>
            <a:ext cx="595440" cy="8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94040" y="4405320"/>
            <a:ext cx="595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4419720"/>
            <a:ext cx="218880" cy="5079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19520" y="4038480"/>
            <a:ext cx="5317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4191120"/>
            <a:ext cx="452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81080" y="4724280"/>
            <a:ext cx="178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981080" y="4191120"/>
            <a:ext cx="828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4267080"/>
            <a:ext cx="14616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4343400"/>
            <a:ext cx="26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438280" y="43434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4038480"/>
            <a:ext cx="547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4495680"/>
            <a:ext cx="547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4114800"/>
            <a:ext cx="547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4267080"/>
            <a:ext cx="452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95680" y="4191120"/>
            <a:ext cx="797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 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3886200"/>
            <a:ext cx="796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28800" y="4876920"/>
            <a:ext cx="797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67280" y="1952640"/>
            <a:ext cx="1371600" cy="39909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    E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    A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    E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N E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R    A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    E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N E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     A 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U    E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R    A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3581280"/>
            <a:ext cx="33163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RS  s dominantným nastavení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05120" y="5257800"/>
            <a:ext cx="33163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RS  s dominantným nulovaní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68440" cy="533160"/>
          </a:xfrm>
          <a:custGeom>
            <a:avLst/>
            <a:gdLst>
              <a:gd name="textAreaLeft" fmla="*/ 34560 w 568440"/>
              <a:gd name="textAreaRight" fmla="*/ 533880 w 56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028" h="21600">
                <a:moveTo>
                  <a:pt x="0" y="0"/>
                </a:moveTo>
                <a:lnTo>
                  <a:pt x="23028" y="0"/>
                </a:lnTo>
                <a:lnTo>
                  <a:pt x="23028" y="21600"/>
                </a:lnTo>
                <a:lnTo>
                  <a:pt x="0" y="21600"/>
                </a:lnTo>
                <a:close/>
              </a:path>
              <a:path fill="lightenLess" w="23028" h="21600">
                <a:moveTo>
                  <a:pt x="0" y="0"/>
                </a:moveTo>
                <a:lnTo>
                  <a:pt x="23028" y="0"/>
                </a:lnTo>
                <a:lnTo>
                  <a:pt x="21628" y="1400"/>
                </a:lnTo>
                <a:lnTo>
                  <a:pt x="1400" y="1400"/>
                </a:lnTo>
                <a:close/>
              </a:path>
              <a:path fill="darken" w="23028" h="21600">
                <a:moveTo>
                  <a:pt x="23028" y="0"/>
                </a:moveTo>
                <a:lnTo>
                  <a:pt x="23028" y="21600"/>
                </a:lnTo>
                <a:lnTo>
                  <a:pt x="21628" y="20200"/>
                </a:lnTo>
                <a:lnTo>
                  <a:pt x="21628" y="1400"/>
                </a:lnTo>
                <a:close/>
              </a:path>
              <a:path fill="darkenLess" w="23028" h="21600">
                <a:moveTo>
                  <a:pt x="23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8" y="20200"/>
                </a:lnTo>
                <a:close/>
              </a:path>
              <a:path fill="lighten" w="23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8" h="21600">
                <a:moveTo>
                  <a:pt x="4508" y="3794"/>
                </a:moveTo>
                <a:lnTo>
                  <a:pt x="18521" y="10800"/>
                </a:lnTo>
                <a:lnTo>
                  <a:pt x="4508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822-A044-4053-9C60-A2E9E4C230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4:00:17Z</dcterms:created>
  <dc:creator>Girman</dc:creator>
  <dc:description/>
  <dc:language>en-US</dc:language>
  <cp:lastModifiedBy>Girman</cp:lastModifiedBy>
  <dcterms:modified xsi:type="dcterms:W3CDTF">2002-01-24T09:08:24Z</dcterms:modified>
  <cp:revision>27</cp:revision>
  <dc:subject/>
  <dc:title>Programovanie obvodov s pamäťovými prvkami</dc:title>
</cp:coreProperties>
</file>