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F570-1684-4E76-9250-9CC68B39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2528-DAFC-40E3-B920-40CFC6C1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714-2EE8-4DD3-A12F-E685F19E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C5C-945A-4407-9678-4A621545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9750-0C44-43D1-B07D-CAC2DD3B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AED2-6CE4-41EF-AB7E-2C852276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FB13-9053-4AD7-A103-453D4AAC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61A9-2792-48AC-84D2-1BF315AF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4F78-8569-445E-A627-2994D898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22A8-E587-4C4F-A3EB-28C13CAD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C11E-FD98-43C2-A15D-B6B8F036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A29-CB80-44B3-8B67-BD3853D5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A588-48BC-413A-882D-9A4BAFE5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C820-3EA0-4E30-BFD7-4532DBA2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FC09-12FC-49B4-9E8F-4BAFB109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28EE-2439-4795-9F6E-6B0908B4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5B06-AADD-44A1-8416-7EFADE1C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C85-EA5F-4DC2-A8D7-99D53E35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3AE3-9000-4082-A984-0BB89E1B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D1B-841F-4F61-871E-81B55C8E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18F-C8F8-4D44-AF41-9E527FDB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1BC-C85B-4F11-92CA-25E25BDA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56A-3419-439A-9939-EC0E8042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AC0-8B93-46F5-ABC2-2228A43E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DF8D-0822-4B6C-8C52-FF004E516AA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5EF1-1D6E-421B-A5A3-77C5D289C07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ATP-osnova.ppt" TargetMode="External"/><Relationship Id="rId2" Type="http://schemas.openxmlformats.org/officeDocument/2006/relationships/hyperlink" Target="file:///ATP-osnova.ppt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21304"/>
                </a:solidFill>
                <a:latin typeface="Times New Roman"/>
              </a:rPr>
              <a:t>Popis Systému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1946160"/>
            <a:ext cx="7619760" cy="38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              Štruktúra riadiaceho systé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adiací systém je tvorený technickými a programovými prostriedkami.Technické prostriedky sú tvorené hlav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riadením na tvorbu programov(programovací prístroj pre prevádzkové použitie,alebo PC pracovisko pre vývoj programo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 jednotkou rady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kou napáj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ovými jednotkami vstu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ovými jednotkami výstu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peciálnymi modulovými jednot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6705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467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/>
          </p:cNvPr>
          <p:cNvSpPr/>
          <p:nvPr/>
        </p:nvSpPr>
        <p:spPr>
          <a:xfrm>
            <a:off x="8112240" y="54244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7493"/>
                </a:moveTo>
                <a:lnTo>
                  <a:pt x="10895" y="7493"/>
                </a:lnTo>
                <a:lnTo>
                  <a:pt x="10895" y="12828"/>
                </a:lnTo>
                <a:cubicBezTo>
                  <a:pt x="10895" y="13751"/>
                  <a:pt x="11696" y="14482"/>
                  <a:pt x="12732" y="14482"/>
                </a:cubicBezTo>
                <a:lnTo>
                  <a:pt x="14394" y="14482"/>
                </a:lnTo>
                <a:cubicBezTo>
                  <a:pt x="15430" y="14482"/>
                  <a:pt x="16231" y="13751"/>
                  <a:pt x="16231" y="12828"/>
                </a:cubicBezTo>
                <a:lnTo>
                  <a:pt x="16231" y="7493"/>
                </a:lnTo>
                <a:lnTo>
                  <a:pt x="14394" y="7493"/>
                </a:lnTo>
                <a:lnTo>
                  <a:pt x="17902" y="3985"/>
                </a:lnTo>
                <a:lnTo>
                  <a:pt x="21575" y="7493"/>
                </a:lnTo>
                <a:lnTo>
                  <a:pt x="19738" y="7493"/>
                </a:lnTo>
                <a:lnTo>
                  <a:pt x="19738" y="12828"/>
                </a:lnTo>
                <a:cubicBezTo>
                  <a:pt x="19738" y="15596"/>
                  <a:pt x="17162" y="18155"/>
                  <a:pt x="14394" y="18155"/>
                </a:cubicBezTo>
                <a:lnTo>
                  <a:pt x="12732" y="18155"/>
                </a:lnTo>
                <a:cubicBezTo>
                  <a:pt x="9964" y="18155"/>
                  <a:pt x="7388" y="15596"/>
                  <a:pt x="7388" y="1282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587520" cy="53352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785" h="21600">
                <a:moveTo>
                  <a:pt x="0" y="0"/>
                </a:moveTo>
                <a:lnTo>
                  <a:pt x="23785" y="0"/>
                </a:lnTo>
                <a:lnTo>
                  <a:pt x="23785" y="21600"/>
                </a:lnTo>
                <a:lnTo>
                  <a:pt x="0" y="21600"/>
                </a:lnTo>
                <a:close/>
              </a:path>
              <a:path fill="lightenLess" w="23785" h="21600">
                <a:moveTo>
                  <a:pt x="0" y="0"/>
                </a:moveTo>
                <a:lnTo>
                  <a:pt x="23785" y="0"/>
                </a:lnTo>
                <a:lnTo>
                  <a:pt x="22385" y="1400"/>
                </a:lnTo>
                <a:lnTo>
                  <a:pt x="1400" y="1400"/>
                </a:lnTo>
                <a:close/>
              </a:path>
              <a:path fill="darken" w="23785" h="21600">
                <a:moveTo>
                  <a:pt x="23785" y="0"/>
                </a:moveTo>
                <a:lnTo>
                  <a:pt x="23785" y="21600"/>
                </a:lnTo>
                <a:lnTo>
                  <a:pt x="22385" y="20200"/>
                </a:lnTo>
                <a:lnTo>
                  <a:pt x="22385" y="1400"/>
                </a:lnTo>
                <a:close/>
              </a:path>
              <a:path fill="darkenLess" w="23785" h="21600">
                <a:moveTo>
                  <a:pt x="23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5" y="20200"/>
                </a:lnTo>
                <a:close/>
              </a:path>
              <a:path fill="lighten" w="23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5" h="21600">
                <a:moveTo>
                  <a:pt x="4886" y="3794"/>
                </a:moveTo>
                <a:lnTo>
                  <a:pt x="18899" y="10800"/>
                </a:lnTo>
                <a:lnTo>
                  <a:pt x="488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6858000" y="6172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620120" y="6172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8838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6993" y="3794"/>
                </a:lnTo>
                <a:lnTo>
                  <a:pt x="6993" y="17806"/>
                </a:lnTo>
                <a:lnTo>
                  <a:pt x="5330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/>
          </p:cNvPr>
          <p:cNvSpPr/>
          <p:nvPr/>
        </p:nvSpPr>
        <p:spPr>
          <a:xfrm>
            <a:off x="8264520" y="557676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7493"/>
                </a:moveTo>
                <a:lnTo>
                  <a:pt x="10895" y="7493"/>
                </a:lnTo>
                <a:lnTo>
                  <a:pt x="10895" y="12828"/>
                </a:lnTo>
                <a:cubicBezTo>
                  <a:pt x="10895" y="13751"/>
                  <a:pt x="11696" y="14482"/>
                  <a:pt x="12732" y="14482"/>
                </a:cubicBezTo>
                <a:lnTo>
                  <a:pt x="14394" y="14482"/>
                </a:lnTo>
                <a:cubicBezTo>
                  <a:pt x="15430" y="14482"/>
                  <a:pt x="16231" y="13751"/>
                  <a:pt x="16231" y="12828"/>
                </a:cubicBezTo>
                <a:lnTo>
                  <a:pt x="16231" y="7493"/>
                </a:lnTo>
                <a:lnTo>
                  <a:pt x="14394" y="7493"/>
                </a:lnTo>
                <a:lnTo>
                  <a:pt x="17902" y="3985"/>
                </a:lnTo>
                <a:lnTo>
                  <a:pt x="21575" y="7493"/>
                </a:lnTo>
                <a:lnTo>
                  <a:pt x="19738" y="7493"/>
                </a:lnTo>
                <a:lnTo>
                  <a:pt x="19738" y="12828"/>
                </a:lnTo>
                <a:cubicBezTo>
                  <a:pt x="19738" y="15596"/>
                  <a:pt x="17162" y="18155"/>
                  <a:pt x="14394" y="18155"/>
                </a:cubicBezTo>
                <a:lnTo>
                  <a:pt x="12732" y="18155"/>
                </a:lnTo>
                <a:cubicBezTo>
                  <a:pt x="9964" y="18155"/>
                  <a:pt x="7388" y="15596"/>
                  <a:pt x="7388" y="1282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21304"/>
                </a:solidFill>
                <a:latin typeface="Times New Roman"/>
              </a:rPr>
              <a:t>Pokračovanie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43000" y="1766880"/>
            <a:ext cx="4554360" cy="3286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883120" y="1798560"/>
            <a:ext cx="2913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ívateľský program pozostáva z  programových modulov typu </a:t>
            </a:r>
            <a:r>
              <a:rPr b="0" lang="sk-SK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OB , F</a:t>
            </a:r>
            <a:r>
              <a:rPr b="0" lang="sk-SK" sz="2000" spc="-1" strike="noStrike">
                <a:solidFill>
                  <a:srgbClr val="0066ff"/>
                </a:solidFill>
                <a:latin typeface="Times New Roman"/>
              </a:rPr>
              <a:t>B</a:t>
            </a:r>
            <a:r>
              <a:rPr b="0" lang="sk-SK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, FC , SFB , SFC , DB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  pod. ,ktorých zaradenie do   aplikácie dosahujeme podobne ako pri špecifikácii technických modulov výberom z  ponuky v  okne .Prostredie pr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 vždy ponúka aktuálne možnosti výbe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6832440" y="603396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532640" y="601812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8838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6993" y="3794"/>
                </a:lnTo>
                <a:lnTo>
                  <a:pt x="6993" y="17806"/>
                </a:lnTo>
                <a:lnTo>
                  <a:pt x="5330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21304"/>
                </a:solidFill>
                <a:latin typeface="Times New Roman"/>
              </a:rPr>
              <a:t>pokračovanie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28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o2-4" descr=""/>
          <p:cNvPicPr/>
          <p:nvPr/>
        </p:nvPicPr>
        <p:blipFill>
          <a:blip r:embed="rId1"/>
          <a:stretch/>
        </p:blipFill>
        <p:spPr>
          <a:xfrm>
            <a:off x="1173240" y="2317680"/>
            <a:ext cx="5286240" cy="4176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300320" y="1541520"/>
            <a:ext cx="731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no </a:t>
            </a:r>
            <a:r>
              <a:rPr b="0" lang="sk-SK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imatic Manager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možňuje spracovávať projek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mocou nasledujúcich skupín služi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07000" y="2409840"/>
            <a:ext cx="263700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sk-SK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atei</a:t>
            </a:r>
            <a:r>
              <a:rPr b="0" lang="sk-SK" sz="16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árať,organizovať projekt,tlačiť výpis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sk-SK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earbeiten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covávať programové jednot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sk-SK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infuegen</a:t>
            </a:r>
            <a:r>
              <a:rPr b="1" lang="sk-SK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	</a:t>
            </a:r>
            <a:r>
              <a:rPr b="1" lang="sk-SK" sz="1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kladat programové ča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sk-SK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Zielsystem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ášať program z vývojového prostredia do P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sk-SK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Ansicht,Extras,Fenster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árať okná,výber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pro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.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zy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Hilfe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mocník pri programovaní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5618160" y="574056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4313160" y="572616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4970520" y="57196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8838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6993" y="3794"/>
                </a:lnTo>
                <a:lnTo>
                  <a:pt x="6993" y="17806"/>
                </a:lnTo>
                <a:lnTo>
                  <a:pt x="5330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Dokument</a:t>
            </a:r>
            <a:r>
              <a:rPr b="1" lang="sk-SK" sz="2400" spc="-1" strike="noStrike">
                <a:solidFill>
                  <a:srgbClr val="221304"/>
                </a:solidFill>
                <a:latin typeface="Times New Roman"/>
              </a:rPr>
              <a:t>ácia k programom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034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18288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mocou editora programov je mo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žné vytvárať a prezerať komentáre k progra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17600" y="311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03120" y="2743200"/>
            <a:ext cx="70981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66ff"/>
                </a:solidFill>
                <a:latin typeface="Times New Roman"/>
              </a:rPr>
              <a:t>Názov bloku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označenie bl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66ff"/>
                </a:solidFill>
                <a:latin typeface="Times New Roman"/>
              </a:rPr>
              <a:t>Komentár k blok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popis funkcie bl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66ff"/>
                </a:solidFill>
                <a:latin typeface="Times New Roman"/>
              </a:rPr>
              <a:t>Názov kroku</a:t>
            </a:r>
            <a:r>
              <a:rPr b="0" lang="sk-SK" sz="2400" spc="-1" strike="noStrike">
                <a:solidFill>
                  <a:srgbClr val="0066ff"/>
                </a:solidFill>
                <a:latin typeface="Times New Roman"/>
              </a:rPr>
              <a:t>(netzwerk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označenie kr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66ff"/>
                </a:solidFill>
                <a:latin typeface="Times New Roman"/>
              </a:rPr>
              <a:t>Komentár ku krok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popis funkcie kr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zn.: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Dĺžka názvu kroku nesmie byť väčšia ako 64 znak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amäťový priestor pre vsetky komentár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 bloku je 64 k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6832440" y="603252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7545240" y="601812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21304"/>
                </a:solidFill>
                <a:latin typeface="Times New Roman"/>
              </a:rPr>
              <a:t>Dokumentáci ak hlavičke bloku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276960" cy="6019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352680" y="3276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Times New Roman"/>
              </a:rPr>
              <a:t>Názov bl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3581280"/>
            <a:ext cx="533520" cy="381240"/>
          </a:xfrm>
          <a:prstGeom prst="leftArrow">
            <a:avLst>
              <a:gd name="adj1" fmla="val 50000"/>
              <a:gd name="adj2" fmla="val 3498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Times New Roman"/>
              </a:rPr>
              <a:t>Komentár k bl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6920" y="396252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411480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4038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694b6"/>
                </a:solidFill>
                <a:latin typeface="Times New Roman"/>
              </a:rPr>
              <a:t>Názov kr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419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694b6"/>
                </a:solidFill>
                <a:latin typeface="Times New Roman"/>
              </a:rPr>
              <a:t>Komentár ku kr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76920" y="4495680"/>
            <a:ext cx="533160" cy="381240"/>
          </a:xfrm>
          <a:prstGeom prst="leftArrow">
            <a:avLst>
              <a:gd name="adj1" fmla="val 50000"/>
              <a:gd name="adj2" fmla="val 34962"/>
            </a:avLst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8185320" y="4732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8190000" y="53751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8838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6993" y="3794"/>
                </a:lnTo>
                <a:lnTo>
                  <a:pt x="6993" y="17806"/>
                </a:lnTo>
                <a:lnTo>
                  <a:pt x="5330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21304"/>
                </a:solidFill>
                <a:latin typeface="Times New Roman"/>
              </a:rPr>
              <a:t>pokračovanie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44600" y="2174760"/>
            <a:ext cx="491508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393920" y="1911240"/>
            <a:ext cx="2108160" cy="457200"/>
          </a:xfrm>
          <a:prstGeom prst="wedgeRoundRectCallout">
            <a:avLst>
              <a:gd name="adj1" fmla="val 7680"/>
              <a:gd name="adj2" fmla="val 255208"/>
              <a:gd name="adj3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Servisný programá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4560" y="1830240"/>
            <a:ext cx="2166840" cy="571680"/>
          </a:xfrm>
          <a:prstGeom prst="wedgeRoundRectCallout">
            <a:avLst>
              <a:gd name="adj1" fmla="val -18203"/>
              <a:gd name="adj2" fmla="val 191388"/>
              <a:gd name="adj3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Programové prostredie STEP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96200" y="2543040"/>
            <a:ext cx="1761840" cy="685800"/>
          </a:xfrm>
          <a:prstGeom prst="wedgeRoundRectCallout">
            <a:avLst>
              <a:gd name="adj1" fmla="val -86935"/>
              <a:gd name="adj2" fmla="val 178703"/>
              <a:gd name="adj3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Riaden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súst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5720" y="2719440"/>
            <a:ext cx="799920" cy="677880"/>
          </a:xfrm>
          <a:prstGeom prst="wedgeRoundRectCallout">
            <a:avLst>
              <a:gd name="adj1" fmla="val 98013"/>
              <a:gd name="adj2" fmla="val 137824"/>
              <a:gd name="adj3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PG káb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50760" y="4154400"/>
            <a:ext cx="1028880" cy="1011240"/>
          </a:xfrm>
          <a:prstGeom prst="wedgeRoundRectCallout">
            <a:avLst>
              <a:gd name="adj1" fmla="val 115277"/>
              <a:gd name="adj2" fmla="val -10439"/>
              <a:gd name="adj3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Napájacia jednot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2760" y="5261040"/>
            <a:ext cx="1087560" cy="587160"/>
          </a:xfrm>
          <a:prstGeom prst="wedgeRoundRectCallout">
            <a:avLst>
              <a:gd name="adj1" fmla="val 58759"/>
              <a:gd name="adj2" fmla="val -147837"/>
              <a:gd name="adj3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9280" y="5586480"/>
            <a:ext cx="1257120" cy="650880"/>
          </a:xfrm>
          <a:prstGeom prst="wedgeRoundRectCallout">
            <a:avLst>
              <a:gd name="adj1" fmla="val -67550"/>
              <a:gd name="adj2" fmla="val -185851"/>
              <a:gd name="adj3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Modul vstup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23120" y="5342040"/>
            <a:ext cx="1257120" cy="844560"/>
          </a:xfrm>
          <a:prstGeom prst="wedgeRoundRectCallout">
            <a:avLst>
              <a:gd name="adj1" fmla="val -253157"/>
              <a:gd name="adj2" fmla="val -124250"/>
              <a:gd name="adj3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Modul výstup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185320" y="4732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190000" y="53751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8838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6993" y="3794"/>
                </a:lnTo>
                <a:lnTo>
                  <a:pt x="6993" y="17806"/>
                </a:lnTo>
                <a:lnTo>
                  <a:pt x="5330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21304"/>
                </a:solidFill>
                <a:latin typeface="Times New Roman"/>
              </a:rPr>
              <a:t>Pokračovanie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286000"/>
            <a:ext cx="725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ové prostriedky môžu byť tvore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sk-SK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používateľským program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sk-SK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gramovým vybavením pre tvorbu a ladenie </a:t>
            </a:r>
            <a:r>
              <a:rPr b="0" lang="sk-SK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gram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sk-SK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knižnicou štandardných podprogram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cbbd83"/>
                </a:solidFill>
                <a:latin typeface="Symbol"/>
                <a:ea typeface="Symbol"/>
              </a:rPr>
              <a:t></a:t>
            </a:r>
            <a:r>
              <a:rPr b="0" lang="sk-SK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        </a:t>
            </a:r>
            <a:r>
              <a:rPr b="0" lang="sk-SK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simulátorom používateľských program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089920" y="5918040"/>
            <a:ext cx="587520" cy="53352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785" h="21600">
                <a:moveTo>
                  <a:pt x="0" y="0"/>
                </a:moveTo>
                <a:lnTo>
                  <a:pt x="23785" y="0"/>
                </a:lnTo>
                <a:lnTo>
                  <a:pt x="23785" y="21600"/>
                </a:lnTo>
                <a:lnTo>
                  <a:pt x="0" y="21600"/>
                </a:lnTo>
                <a:close/>
              </a:path>
              <a:path fill="lightenLess" w="23785" h="21600">
                <a:moveTo>
                  <a:pt x="0" y="0"/>
                </a:moveTo>
                <a:lnTo>
                  <a:pt x="23785" y="0"/>
                </a:lnTo>
                <a:lnTo>
                  <a:pt x="22385" y="1400"/>
                </a:lnTo>
                <a:lnTo>
                  <a:pt x="1400" y="1400"/>
                </a:lnTo>
                <a:close/>
              </a:path>
              <a:path fill="darken" w="23785" h="21600">
                <a:moveTo>
                  <a:pt x="23785" y="0"/>
                </a:moveTo>
                <a:lnTo>
                  <a:pt x="23785" y="21600"/>
                </a:lnTo>
                <a:lnTo>
                  <a:pt x="22385" y="20200"/>
                </a:lnTo>
                <a:lnTo>
                  <a:pt x="22385" y="1400"/>
                </a:lnTo>
                <a:close/>
              </a:path>
              <a:path fill="darkenLess" w="23785" h="21600">
                <a:moveTo>
                  <a:pt x="23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5" y="20200"/>
                </a:lnTo>
                <a:close/>
              </a:path>
              <a:path fill="lighten" w="23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5" h="21600">
                <a:moveTo>
                  <a:pt x="4886" y="3794"/>
                </a:moveTo>
                <a:lnTo>
                  <a:pt x="18899" y="10800"/>
                </a:lnTo>
                <a:lnTo>
                  <a:pt x="488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6692760" y="595800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39296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8838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6993" y="3794"/>
                </a:lnTo>
                <a:lnTo>
                  <a:pt x="6993" y="17806"/>
                </a:lnTo>
                <a:lnTo>
                  <a:pt x="5330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21304"/>
                </a:solidFill>
                <a:latin typeface="Times New Roman"/>
              </a:rPr>
              <a:t>Pokračovanie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03480" y="1717560"/>
            <a:ext cx="7178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sadné možnosti tvorby progr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átor musí pri zostavovaní používateľských aplikácií vykonať niekoľko predpísaných úloh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vodným krokom je formulovanie riadiaceho algoritmu ktorým  bude splnená predpísaná úloha riad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redie STEP umožňuje riešiť aplikáciu ako projekt,ktorý obsahuje všetky potrebné  informácie o programe, technických prostriedkoch, absolútnych adresách a po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8185320" y="4732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190000" y="537516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8838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6993" y="3794"/>
                </a:lnTo>
                <a:lnTo>
                  <a:pt x="6993" y="17806"/>
                </a:lnTo>
                <a:lnTo>
                  <a:pt x="5330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21304"/>
                </a:solidFill>
                <a:latin typeface="Times New Roman"/>
              </a:rPr>
              <a:t>Pokračovanie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793880"/>
            <a:ext cx="7696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káciu tvoria dve základné čas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sk-SK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konfigurácia technického vybav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sk-SK" sz="2400" spc="-1" strike="noStrike">
                <a:solidFill>
                  <a:srgbClr val="3694b6"/>
                </a:solidFill>
                <a:latin typeface="Times New Roman"/>
                <a:ea typeface="Times New Roman"/>
              </a:rPr>
              <a:t>požívateľský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to dve časti môžeme špecifikovať v ľubovoľnom poradí.Doporučuje sa však pri rozsiahl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systémoch ( s veľkým počtom vstupov a výstupov )špecifikovať najprv konfiguráciu technických prostriedkov a následne zostavovať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6835680" y="600696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7547040" y="599616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21304"/>
                </a:solidFill>
                <a:latin typeface="Times New Roman"/>
              </a:rPr>
              <a:t>Pokračovanie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85800" y="1650960"/>
            <a:ext cx="3810240" cy="4724280"/>
          </a:xfrm>
          <a:prstGeom prst="rect">
            <a:avLst/>
          </a:prstGeom>
          <a:solidFill>
            <a:srgbClr val="fefde3"/>
          </a:solidFill>
          <a:ln w="9360">
            <a:solidFill>
              <a:srgbClr val="333333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97160" y="2000160"/>
            <a:ext cx="2311200" cy="3715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Formulácia úlohy riad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22560" y="2744640"/>
            <a:ext cx="2627280" cy="42084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Otvorenie projek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3320" y="3790800"/>
            <a:ext cx="1511280" cy="4795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Kofigurácia 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44920" y="3781440"/>
            <a:ext cx="1511280" cy="4888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Zostavenie progra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56080" y="4583160"/>
            <a:ext cx="1511280" cy="4795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Kofigurácia 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92160" y="4583160"/>
            <a:ext cx="1511280" cy="4903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Zostavenie progra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17760" y="5433840"/>
            <a:ext cx="2309760" cy="538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Testovanie a ladenie progra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14680" y="5170320"/>
            <a:ext cx="261720" cy="185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6880" y="2421000"/>
            <a:ext cx="261720" cy="264960"/>
          </a:xfrm>
          <a:prstGeom prst="downArrow">
            <a:avLst>
              <a:gd name="adj1" fmla="val 50000"/>
              <a:gd name="adj2" fmla="val 25309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60680" y="3332160"/>
            <a:ext cx="261720" cy="263520"/>
          </a:xfrm>
          <a:prstGeom prst="downArrow">
            <a:avLst>
              <a:gd name="adj1" fmla="val 50000"/>
              <a:gd name="adj2" fmla="val 25172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37120" y="3341520"/>
            <a:ext cx="261720" cy="263520"/>
          </a:xfrm>
          <a:prstGeom prst="downArrow">
            <a:avLst>
              <a:gd name="adj1" fmla="val 50000"/>
              <a:gd name="adj2" fmla="val 25172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71840" y="4319640"/>
            <a:ext cx="261720" cy="185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48280" y="4319640"/>
            <a:ext cx="261720" cy="185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25960" y="5151600"/>
            <a:ext cx="261720" cy="185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30520" y="3341520"/>
            <a:ext cx="1056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1. možnos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98840" y="3321000"/>
            <a:ext cx="941400" cy="28404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2. možnos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682164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53264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21304"/>
                </a:solidFill>
                <a:latin typeface="Times New Roman"/>
              </a:rPr>
              <a:t>Pokračovanie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5576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79440" y="1793880"/>
            <a:ext cx="740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              Vytvorenie proje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štarte prostredia STEP 7 sa otvorí hlavné okno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atic Manage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V tomto okne sa zobrazuje štruktúra proje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33526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 vnútri projektu sú zobrazené údaje ako objekty  v hierarchickej štruktú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191120"/>
            <a:ext cx="7445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 vnútri objektu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atic Statio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uložená HW konfigurácia systé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55760" y="4994280"/>
            <a:ext cx="73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7 Progra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bsahuje používateľský program,včítane používaných štandardných modulov ,potrebných pre chod progr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681984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53444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21304"/>
                </a:solidFill>
                <a:latin typeface="Times New Roman"/>
              </a:rPr>
              <a:t>Pokračovanie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22520" y="1609560"/>
            <a:ext cx="6414840" cy="4724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110040" y="2354400"/>
            <a:ext cx="1420560" cy="5173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35120" y="1911240"/>
            <a:ext cx="1944720" cy="4557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06840" y="2141640"/>
            <a:ext cx="509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25760" y="2800440"/>
            <a:ext cx="522360" cy="10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51000" y="1673280"/>
            <a:ext cx="970200" cy="3855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20840" y="1959120"/>
            <a:ext cx="0" cy="20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12760" y="4000680"/>
            <a:ext cx="3137040" cy="1922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 vnútri projektu sú zobrazené údaje ako objekty  v hierarchickej štruktú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44960" y="1881360"/>
            <a:ext cx="3700440" cy="15570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 vnútri objektu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atic Statio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uložená HW konfigurácia systé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22680" y="3782880"/>
            <a:ext cx="3927600" cy="265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7 Progra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bsahuje používateľský program,včítane používaných štandardných modulo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trebných pre chod progr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87520" cy="53316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801" h="21600">
                <a:moveTo>
                  <a:pt x="0" y="0"/>
                </a:moveTo>
                <a:lnTo>
                  <a:pt x="23801" y="0"/>
                </a:lnTo>
                <a:lnTo>
                  <a:pt x="23801" y="21600"/>
                </a:lnTo>
                <a:lnTo>
                  <a:pt x="0" y="21600"/>
                </a:lnTo>
                <a:close/>
              </a:path>
              <a:path fill="lightenLess" w="23801" h="21600">
                <a:moveTo>
                  <a:pt x="0" y="0"/>
                </a:moveTo>
                <a:lnTo>
                  <a:pt x="23801" y="0"/>
                </a:lnTo>
                <a:lnTo>
                  <a:pt x="22401" y="1400"/>
                </a:lnTo>
                <a:lnTo>
                  <a:pt x="1400" y="1400"/>
                </a:lnTo>
                <a:close/>
              </a:path>
              <a:path fill="darken" w="23801" h="21600">
                <a:moveTo>
                  <a:pt x="23801" y="0"/>
                </a:moveTo>
                <a:lnTo>
                  <a:pt x="23801" y="21600"/>
                </a:lnTo>
                <a:lnTo>
                  <a:pt x="22401" y="20200"/>
                </a:lnTo>
                <a:lnTo>
                  <a:pt x="22401" y="1400"/>
                </a:lnTo>
                <a:close/>
              </a:path>
              <a:path fill="darkenLess" w="23801" h="21600">
                <a:moveTo>
                  <a:pt x="2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1" y="20200"/>
                </a:lnTo>
                <a:close/>
              </a:path>
              <a:path fill="lighten" w="2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1" h="21600">
                <a:moveTo>
                  <a:pt x="4894" y="3794"/>
                </a:moveTo>
                <a:lnTo>
                  <a:pt x="18907" y="10800"/>
                </a:lnTo>
                <a:lnTo>
                  <a:pt x="48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68454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54704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Pokra</a:t>
            </a:r>
            <a:r>
              <a:rPr b="1" lang="sk-SK" sz="2400" spc="-1" strike="noStrike">
                <a:solidFill>
                  <a:srgbClr val="221304"/>
                </a:solidFill>
                <a:latin typeface="Times New Roman"/>
              </a:rPr>
              <a:t>čovanie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09520" y="1647720"/>
            <a:ext cx="5048280" cy="3936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292800" y="1617840"/>
            <a:ext cx="2411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redie STEP 7 obsahuje bázu stavebnicových modulo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toré sú zobrazované v okne pri príslušnej voľb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ičom  programátor môže    z ponúkaných objektov špecifikovať vhodný typ do svojej aplikácie pomocou označenia myšou.Vybraný objekt je 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ň popisovaný stručnou charakteristikou,ktorá pripomína jeho určenie.Pri výbere objektu je možné mu priradiť komunikačnú adres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5499000" y="6006960"/>
            <a:ext cx="587520" cy="533520"/>
          </a:xfrm>
          <a:custGeom>
            <a:avLst/>
            <a:gdLst>
              <a:gd name="textAreaLeft" fmla="*/ 34560 w 587520"/>
              <a:gd name="textAreaRight" fmla="*/ 552960 w 587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785" h="21600">
                <a:moveTo>
                  <a:pt x="0" y="0"/>
                </a:moveTo>
                <a:lnTo>
                  <a:pt x="23785" y="0"/>
                </a:lnTo>
                <a:lnTo>
                  <a:pt x="23785" y="21600"/>
                </a:lnTo>
                <a:lnTo>
                  <a:pt x="0" y="21600"/>
                </a:lnTo>
                <a:close/>
              </a:path>
              <a:path fill="lightenLess" w="23785" h="21600">
                <a:moveTo>
                  <a:pt x="0" y="0"/>
                </a:moveTo>
                <a:lnTo>
                  <a:pt x="23785" y="0"/>
                </a:lnTo>
                <a:lnTo>
                  <a:pt x="22385" y="1400"/>
                </a:lnTo>
                <a:lnTo>
                  <a:pt x="1400" y="1400"/>
                </a:lnTo>
                <a:close/>
              </a:path>
              <a:path fill="darken" w="23785" h="21600">
                <a:moveTo>
                  <a:pt x="23785" y="0"/>
                </a:moveTo>
                <a:lnTo>
                  <a:pt x="23785" y="21600"/>
                </a:lnTo>
                <a:lnTo>
                  <a:pt x="22385" y="20200"/>
                </a:lnTo>
                <a:lnTo>
                  <a:pt x="22385" y="1400"/>
                </a:lnTo>
                <a:close/>
              </a:path>
              <a:path fill="darkenLess" w="23785" h="21600">
                <a:moveTo>
                  <a:pt x="23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5" y="20200"/>
                </a:lnTo>
                <a:close/>
              </a:path>
              <a:path fill="lighten" w="23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5" h="21600">
                <a:moveTo>
                  <a:pt x="4886" y="3794"/>
                </a:moveTo>
                <a:lnTo>
                  <a:pt x="18899" y="10800"/>
                </a:lnTo>
                <a:lnTo>
                  <a:pt x="488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4129200" y="600876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481644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9:30:25Z</dcterms:created>
  <dc:creator>Girman</dc:creator>
  <dc:description/>
  <dc:language>en-US</dc:language>
  <cp:lastModifiedBy>Girman</cp:lastModifiedBy>
  <dcterms:modified xsi:type="dcterms:W3CDTF">2002-02-05T09:00:24Z</dcterms:modified>
  <cp:revision>20</cp:revision>
  <dc:subject/>
  <dc:title>Dokumentácia k programom</dc:title>
</cp:coreProperties>
</file>