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562-8B9C-4E0B-9AF3-368E126E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5A5-633E-4A3C-836A-79211DB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1EA-18A4-4483-86A4-00385DB5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CEC-5568-4F36-B13F-02347C98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1F82-EA24-4BCB-A4AE-FA01C00F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B099-4DDB-4E13-B2CA-148E9B4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D7B0-FDE9-4BDE-A668-58C79AF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98E4-A90B-4BA3-B0D1-BE4BF12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FD14-2F81-4956-BD1C-91B22E41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0BD0-FC2D-4FB5-83F2-F5706D5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B513-66D2-464F-B2CF-F0A6B52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1B4-BD73-4A43-86D3-4F192AAD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2FC7-4989-4DB1-B339-06469E0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43A6-B530-44FE-B1A1-86957E9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970-255F-4A6C-9533-B50C3C9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B130-E9C1-472C-ADD1-03917788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C1DC-B260-4041-BC4A-E11697D2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A7A-8E05-4AD7-840E-9BB8F8E3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CBF-2867-4DAC-998B-8DCBDCF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F07-8E48-4287-9965-4047C3DE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2FD-CA83-42F7-A3D1-A0187AF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52F-9FD5-45A9-8F0F-5476DF04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50C-7CDE-488B-9265-47A9A69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DA9-689F-4F48-BF5F-9F518B57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152C-BC53-4D64-A19A-76CB091B7BD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A3F-F297-4029-B110-6D41E886E83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osnova.ppt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Symbolické programovani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8153280" y="54100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7493"/>
                </a:moveTo>
                <a:lnTo>
                  <a:pt x="10904" y="7493"/>
                </a:lnTo>
                <a:lnTo>
                  <a:pt x="10904" y="12828"/>
                </a:lnTo>
                <a:cubicBezTo>
                  <a:pt x="10904" y="13751"/>
                  <a:pt x="11705" y="14482"/>
                  <a:pt x="12740" y="14482"/>
                </a:cubicBezTo>
                <a:lnTo>
                  <a:pt x="14403" y="14482"/>
                </a:lnTo>
                <a:cubicBezTo>
                  <a:pt x="15439" y="14482"/>
                  <a:pt x="16239" y="13751"/>
                  <a:pt x="16239" y="12828"/>
                </a:cubicBezTo>
                <a:lnTo>
                  <a:pt x="16239" y="7493"/>
                </a:lnTo>
                <a:lnTo>
                  <a:pt x="14403" y="7493"/>
                </a:lnTo>
                <a:lnTo>
                  <a:pt x="17910" y="3985"/>
                </a:lnTo>
                <a:lnTo>
                  <a:pt x="21583" y="7493"/>
                </a:lnTo>
                <a:lnTo>
                  <a:pt x="19747" y="7493"/>
                </a:lnTo>
                <a:lnTo>
                  <a:pt x="19747" y="12828"/>
                </a:lnTo>
                <a:cubicBezTo>
                  <a:pt x="19747" y="15596"/>
                  <a:pt x="17171" y="18155"/>
                  <a:pt x="14403" y="18155"/>
                </a:cubicBezTo>
                <a:lnTo>
                  <a:pt x="12740" y="18155"/>
                </a:lnTo>
                <a:cubicBezTo>
                  <a:pt x="9973" y="18155"/>
                  <a:pt x="7396" y="15596"/>
                  <a:pt x="7396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Typy dát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03480" y="164160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áta , ktoré sú používané v programe musia byť priradené určitému typu. Priradením typu sa dátam predpíše určitá veľkosť a štruktúra bit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ypy dát sú rozdelené do troch skupí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ákladn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dľa EC 113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Komplexn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štruktúrované a typ poľa,ktoré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ú väčšie ako 32 bitov,alebo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a skladajú z rôznych typ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á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ypy parametr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arameter bloku,ktorý používajú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FB,alebo FC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5181480"/>
            <a:ext cx="754380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4191120"/>
            <a:ext cx="7543800" cy="9144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743200"/>
            <a:ext cx="228600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Komplexné dá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3480" y="1641600"/>
            <a:ext cx="755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mocou komplexných dát sú popísané skupi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át,ktoré sú väčšie ako 32 bitov,alebo tie skupiny,ktoré sa skladajú z rôznych typov dát.Komplexné sú nasledujúce typ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ATE_AND_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343400"/>
            <a:ext cx="733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STRUCT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štruktúrované typy dát sa skladajú z elementárnych,alebo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štruktúrovaných typov dá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5181480"/>
            <a:ext cx="73310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ARRAY</a:t>
            </a: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lia sú súborom prvkov rovnakého typu.Môžu sa skladať zo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ákladných typov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 prvkov definovaných užívateľ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 prvkov typu pole (až do 6.úrovne vnoreni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238880" y="6172200"/>
            <a:ext cx="1599840" cy="380880"/>
            <a:chOff x="7238880" y="6172200"/>
            <a:chExt cx="1599840" cy="380880"/>
          </a:xfrm>
        </p:grpSpPr>
        <p:sp>
          <p:nvSpPr>
            <p:cNvPr id="182" name="">
              <a:hlinkClick r:id="" action="ppaction://hlinkshowjump?jump=nextslide"/>
            </p:cNvPr>
            <p:cNvSpPr/>
            <p:nvPr/>
          </p:nvSpPr>
          <p:spPr>
            <a:xfrm>
              <a:off x="8381880" y="6172200"/>
              <a:ext cx="456840" cy="380880"/>
            </a:xfrm>
            <a:custGeom>
              <a:avLst/>
              <a:gdLst>
                <a:gd name="textAreaLeft" fmla="*/ 24480 w 456840"/>
                <a:gd name="textAreaRight" fmla="*/ 432360 w 4568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04" h="21600">
                  <a:moveTo>
                    <a:pt x="0" y="0"/>
                  </a:moveTo>
                  <a:lnTo>
                    <a:pt x="25904" y="0"/>
                  </a:lnTo>
                  <a:lnTo>
                    <a:pt x="25904" y="21600"/>
                  </a:lnTo>
                  <a:lnTo>
                    <a:pt x="0" y="21600"/>
                  </a:lnTo>
                  <a:close/>
                </a:path>
                <a:path fill="lightenLess" w="25904" h="21600">
                  <a:moveTo>
                    <a:pt x="0" y="0"/>
                  </a:moveTo>
                  <a:lnTo>
                    <a:pt x="25904" y="0"/>
                  </a:lnTo>
                  <a:lnTo>
                    <a:pt x="24504" y="1400"/>
                  </a:lnTo>
                  <a:lnTo>
                    <a:pt x="1400" y="1400"/>
                  </a:lnTo>
                  <a:close/>
                </a:path>
                <a:path fill="darken" w="25904" h="21600">
                  <a:moveTo>
                    <a:pt x="25904" y="0"/>
                  </a:moveTo>
                  <a:lnTo>
                    <a:pt x="25904" y="21600"/>
                  </a:lnTo>
                  <a:lnTo>
                    <a:pt x="24504" y="20200"/>
                  </a:lnTo>
                  <a:lnTo>
                    <a:pt x="24504" y="1400"/>
                  </a:lnTo>
                  <a:close/>
                </a:path>
                <a:path fill="darkenLess" w="25904" h="21600">
                  <a:moveTo>
                    <a:pt x="259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04" y="20200"/>
                  </a:lnTo>
                  <a:close/>
                </a:path>
                <a:path fill="lighten" w="259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04" h="21600">
                  <a:moveTo>
                    <a:pt x="5945" y="3794"/>
                  </a:moveTo>
                  <a:lnTo>
                    <a:pt x="19958" y="10800"/>
                  </a:lnTo>
                  <a:lnTo>
                    <a:pt x="5945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>
              <a:hlinkClick r:id="" action="ppaction://hlinkshowjump?jump=previousslide"/>
            </p:cNvPr>
            <p:cNvSpPr/>
            <p:nvPr/>
          </p:nvSpPr>
          <p:spPr>
            <a:xfrm>
              <a:off x="7238880" y="6172200"/>
              <a:ext cx="456840" cy="380880"/>
            </a:xfrm>
            <a:custGeom>
              <a:avLst/>
              <a:gdLst>
                <a:gd name="textAreaLeft" fmla="*/ 24480 w 456840"/>
                <a:gd name="textAreaRight" fmla="*/ 432360 w 4568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04" h="21600">
                  <a:moveTo>
                    <a:pt x="0" y="0"/>
                  </a:moveTo>
                  <a:lnTo>
                    <a:pt x="25904" y="0"/>
                  </a:lnTo>
                  <a:lnTo>
                    <a:pt x="25904" y="21600"/>
                  </a:lnTo>
                  <a:lnTo>
                    <a:pt x="0" y="21600"/>
                  </a:lnTo>
                  <a:close/>
                </a:path>
                <a:path fill="lightenLess" w="25904" h="21600">
                  <a:moveTo>
                    <a:pt x="0" y="0"/>
                  </a:moveTo>
                  <a:lnTo>
                    <a:pt x="25904" y="0"/>
                  </a:lnTo>
                  <a:lnTo>
                    <a:pt x="24504" y="1400"/>
                  </a:lnTo>
                  <a:lnTo>
                    <a:pt x="1400" y="1400"/>
                  </a:lnTo>
                  <a:close/>
                </a:path>
                <a:path fill="darken" w="25904" h="21600">
                  <a:moveTo>
                    <a:pt x="25904" y="0"/>
                  </a:moveTo>
                  <a:lnTo>
                    <a:pt x="25904" y="21600"/>
                  </a:lnTo>
                  <a:lnTo>
                    <a:pt x="24504" y="20200"/>
                  </a:lnTo>
                  <a:lnTo>
                    <a:pt x="24504" y="1400"/>
                  </a:lnTo>
                  <a:close/>
                </a:path>
                <a:path fill="darkenLess" w="25904" h="21600">
                  <a:moveTo>
                    <a:pt x="259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04" y="20200"/>
                  </a:lnTo>
                  <a:close/>
                </a:path>
                <a:path fill="lighten" w="259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04" h="21600">
                  <a:moveTo>
                    <a:pt x="5945" y="10800"/>
                  </a:moveTo>
                  <a:lnTo>
                    <a:pt x="19958" y="3794"/>
                  </a:lnTo>
                  <a:lnTo>
                    <a:pt x="19958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>
              <a:hlinkClick r:id="" action="ppaction://hlinkshowjump?jump=firstslide"/>
            </p:cNvPr>
            <p:cNvSpPr/>
            <p:nvPr/>
          </p:nvSpPr>
          <p:spPr>
            <a:xfrm>
              <a:off x="7810200" y="617220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9463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7618" y="3794"/>
                  </a:lnTo>
                  <a:lnTo>
                    <a:pt x="7618" y="17806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1676520"/>
            <a:ext cx="7620120" cy="464796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1981080"/>
            <a:ext cx="1905120" cy="38862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2286000"/>
            <a:ext cx="2057400" cy="25909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Š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truktúrovaný typ a pol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62320" y="2666880"/>
            <a:ext cx="1600200" cy="1524240"/>
            <a:chOff x="2362320" y="2666880"/>
            <a:chExt cx="1600200" cy="1524240"/>
          </a:xfrm>
        </p:grpSpPr>
        <p:sp>
          <p:nvSpPr>
            <p:cNvPr id="193" name=""/>
            <p:cNvSpPr/>
            <p:nvPr/>
          </p:nvSpPr>
          <p:spPr>
            <a:xfrm>
              <a:off x="2362320" y="2666880"/>
              <a:ext cx="1600200" cy="152424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7240" y="304812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840" y="3581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3048120"/>
              <a:ext cx="304920" cy="3045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5880" y="2133720"/>
            <a:ext cx="1143000" cy="1143000"/>
            <a:chOff x="6095880" y="2133720"/>
            <a:chExt cx="1143000" cy="1143000"/>
          </a:xfrm>
        </p:grpSpPr>
        <p:sp>
          <p:nvSpPr>
            <p:cNvPr id="198" name=""/>
            <p:cNvSpPr/>
            <p:nvPr/>
          </p:nvSpPr>
          <p:spPr>
            <a:xfrm>
              <a:off x="6095880" y="2133720"/>
              <a:ext cx="1143000" cy="114300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13680" y="2419560"/>
              <a:ext cx="380880" cy="285480"/>
            </a:xfrm>
            <a:prstGeom prst="triangle">
              <a:avLst>
                <a:gd name="adj" fmla="val 500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760" y="2819160"/>
              <a:ext cx="271800" cy="285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8920" y="2419560"/>
              <a:ext cx="217800" cy="2282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72200" y="3429000"/>
            <a:ext cx="1143000" cy="1143000"/>
            <a:chOff x="6172200" y="3429000"/>
            <a:chExt cx="1143000" cy="1143000"/>
          </a:xfrm>
        </p:grpSpPr>
        <p:sp>
          <p:nvSpPr>
            <p:cNvPr id="203" name=""/>
            <p:cNvSpPr/>
            <p:nvPr/>
          </p:nvSpPr>
          <p:spPr>
            <a:xfrm>
              <a:off x="6172200" y="3429000"/>
              <a:ext cx="1143000" cy="114300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0000" y="3714840"/>
              <a:ext cx="380880" cy="285480"/>
            </a:xfrm>
            <a:prstGeom prst="triangle">
              <a:avLst>
                <a:gd name="adj" fmla="val 500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3080" y="4114440"/>
              <a:ext cx="271800" cy="285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25240" y="3714840"/>
              <a:ext cx="217800" cy="2282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172200" y="4648320"/>
            <a:ext cx="1143000" cy="1143000"/>
            <a:chOff x="6172200" y="4648320"/>
            <a:chExt cx="1143000" cy="1143000"/>
          </a:xfrm>
        </p:grpSpPr>
        <p:sp>
          <p:nvSpPr>
            <p:cNvPr id="208" name=""/>
            <p:cNvSpPr/>
            <p:nvPr/>
          </p:nvSpPr>
          <p:spPr>
            <a:xfrm>
              <a:off x="6172200" y="4648320"/>
              <a:ext cx="1143000" cy="114300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0000" y="4934160"/>
              <a:ext cx="380880" cy="285480"/>
            </a:xfrm>
            <a:prstGeom prst="triangle">
              <a:avLst>
                <a:gd name="adj" fmla="val 500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5333760"/>
              <a:ext cx="271800" cy="285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25240" y="4934160"/>
              <a:ext cx="217800" cy="2282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145520" y="1905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ŠTR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9400" y="17524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3429000"/>
            <a:ext cx="7620120" cy="31240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Prístup k dátam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03480" y="1641600"/>
            <a:ext cx="7483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Otvorenie DB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íkazom 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</a:rPr>
              <a:t>AUF  DB i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</a:rPr>
              <a:t>AUF </a:t>
            </a: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sk-SK" sz="2000" spc="-1" strike="noStrike">
                <a:solidFill>
                  <a:srgbClr val="ff0000"/>
                </a:solidFill>
                <a:latin typeface="Times New Roman"/>
              </a:rPr>
              <a:t>meno</a:t>
            </a: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sk-SK" sz="2000" spc="-1" strike="noStrike">
                <a:solidFill>
                  <a:srgbClr val="ff0000"/>
                </a:solidFill>
                <a:latin typeface="Times New Roman"/>
              </a:rPr>
              <a:t>DB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tvorí  príslušný DB a zatvorí DB, ktorý bol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tvorený.Napr.:</a:t>
            </a:r>
            <a:r>
              <a:rPr b="0" lang="sk-SK" sz="2000" spc="-1" strike="noStrike">
                <a:solidFill>
                  <a:srgbClr val="0033cc"/>
                </a:solidFill>
                <a:latin typeface="Times New Roman"/>
              </a:rPr>
              <a:t>    AUF DB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666880"/>
            <a:ext cx="7483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Prístup do DB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čítanie a zápis dát môžeme programovať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sledujúcimi inštrukcia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479760"/>
            <a:ext cx="725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L DB B1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hratie 1.byte do 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L DB W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hratie 2.slova do 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T DB W4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nos z ACC do 4.slova  v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‘A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hratie ACSII znak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U DB X 3.1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est na 1. Bit 3. Byte v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L DB19.DBW4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tvorenie DB19 a nahratie 19.sl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2400" spc="-1" strike="noStrike">
                <a:solidFill>
                  <a:srgbClr val="0033cc"/>
                </a:solidFill>
                <a:latin typeface="Times New Roman"/>
              </a:rPr>
              <a:t>meno</a:t>
            </a:r>
            <a:r>
              <a:rPr b="1" lang="sk-SK" sz="2400" spc="-1" strike="noStrike">
                <a:solidFill>
                  <a:srgbClr val="0033cc"/>
                </a:solidFill>
                <a:latin typeface="Times New Roman"/>
              </a:rPr>
              <a:t>.VEL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tvorenie DB so symbolický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menom a nahratie symb.premennej 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ťah medzi fyzickou a symbolickou adresou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98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79440" y="1717560"/>
            <a:ext cx="740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ždý vstup a výstup má svoju absolútnu adresu vopred preddefinovanú hardvérovou konfiguráciou. Táto adresa je a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vaná priamo t.j. absolútne. Absolútnu adresu môžeme nahradiť ľubovoľným symbolickým meno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5760" y="1793880"/>
            <a:ext cx="717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tabuľke symbolov možme prideliť symbolické mená a dátové typy všetkým absolútnym adresám, ktoré budeme neskôr v našom programe využívat napríklad pre vst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0.1 bude symbolické meno Key 1. Tieto mená sa potom aplikujú do všetkých častí programu a sú viditelné ako globálne premenné. Použitím symbolických mien, môžete značne zvýšiť čitatelnosť  vytvoreného S7 progra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7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3352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276960" cy="510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3880" y="22096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0760" y="1600200"/>
            <a:ext cx="10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ľ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symbol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8160" y="60948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6960" y="38088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mbolick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8160" y="685800"/>
            <a:ext cx="58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y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3120" y="30492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čiatočn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hodno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4880" y="5335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známk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990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3480" y="164160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programe môžeme používať symbolické mená pre označenie úpremenných ,ale aj iných objekto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5160" y="2666880"/>
            <a:ext cx="4752720" cy="31114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3cc"/>
                </a:solidFill>
                <a:latin typeface="Times New Roman"/>
              </a:rPr>
              <a:t>Globálne dat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, A , M , Z ,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cc33"/>
                </a:solidFill>
                <a:latin typeface="Times New Roman"/>
              </a:rPr>
              <a:t>Názvy blo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B , FB , FC , DB/U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Times New Roman"/>
              </a:rPr>
              <a:t>Špecifické dáta bl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arameter bl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okálne dočasné d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áves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časti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ypy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Dátové blok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3864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5760" y="2209680"/>
            <a:ext cx="75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átové bloky DB sú bloky v pamäti,do ktorých program ukladá dáta . Ak je volaný niektorý programový blok (FB,FC,OB) obsadí si  pamäť v lokálnej oblasti . Po ukončení práce sa táto oblasť vymaže a údaje sa stratia .Ak požadujeme zachovanie údajov pre ďalšie spracovanie, je potrebné k programovému bloku priradiť DB dátový blok, ktorý rezervuje príslušnú časť pamäte počas vykonávania bloku a po ukončení ostávajú údaje v tomto bloku zachova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1828800"/>
            <a:ext cx="7467840" cy="4800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133720"/>
            <a:ext cx="1143000" cy="4038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2520" y="3429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581280" y="2362320"/>
            <a:ext cx="990720" cy="1295280"/>
            <a:chOff x="3581280" y="2362320"/>
            <a:chExt cx="990720" cy="1295280"/>
          </a:xfrm>
        </p:grpSpPr>
        <p:sp>
          <p:nvSpPr>
            <p:cNvPr id="135" name=""/>
            <p:cNvSpPr/>
            <p:nvPr/>
          </p:nvSpPr>
          <p:spPr>
            <a:xfrm>
              <a:off x="3886200" y="2362320"/>
              <a:ext cx="68580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1280" y="2590920"/>
              <a:ext cx="685800" cy="10666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895120" y="27432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3080" y="2666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3640" y="1905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2590920"/>
            <a:ext cx="609480" cy="10666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666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477120" y="2362320"/>
            <a:ext cx="990000" cy="1295280"/>
            <a:chOff x="6477120" y="2362320"/>
            <a:chExt cx="990000" cy="1295280"/>
          </a:xfrm>
        </p:grpSpPr>
        <p:sp>
          <p:nvSpPr>
            <p:cNvPr id="146" name=""/>
            <p:cNvSpPr/>
            <p:nvPr/>
          </p:nvSpPr>
          <p:spPr>
            <a:xfrm>
              <a:off x="6781680" y="2362320"/>
              <a:ext cx="6854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2590920"/>
              <a:ext cx="685440" cy="10666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479640" y="2666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2800" y="1905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886200"/>
            <a:ext cx="3755880" cy="228852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...organizačný 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FB...funkčný 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FC...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FC..systémová 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B ..dátový 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DB..systémový dátový 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19359" y="10800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8153280" y="4800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153280" y="54100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Globálne a lokálne dátové blok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55760" y="171756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Globálne dátové blok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ôžu byť používané všetkými programovými blokmi.Všetky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B,FB,FC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môžu do týchto blokov </a:t>
            </a:r>
            <a:r>
              <a:rPr b="0" lang="sk-SK" sz="1800" spc="-1" strike="noStrike">
                <a:solidFill>
                  <a:srgbClr val="0033cc"/>
                </a:solidFill>
                <a:latin typeface="Times New Roman"/>
              </a:rPr>
              <a:t>zapisovať a čítať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údaje.Pred zápisom,alebo čítaním musí byť príslušný blok </a:t>
            </a:r>
            <a:r>
              <a:rPr b="0" lang="sk-SK" sz="1800" spc="-1" strike="noStrike">
                <a:solidFill>
                  <a:srgbClr val="ff0066"/>
                </a:solidFill>
                <a:latin typeface="Times New Roman"/>
              </a:rPr>
              <a:t>otvoren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3657600"/>
            <a:ext cx="7407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okálne dátové blo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ú priradené </a:t>
            </a:r>
            <a:r>
              <a:rPr b="0" lang="sk-SK" sz="1800" spc="-1" strike="noStrike">
                <a:solidFill>
                  <a:srgbClr val="0033cc"/>
                </a:solidFill>
                <a:latin typeface="Times New Roman"/>
              </a:rPr>
              <a:t>jedném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alebo </a:t>
            </a:r>
            <a:r>
              <a:rPr b="0" lang="sk-SK" sz="1800" spc="-1" strike="noStrike">
                <a:solidFill>
                  <a:srgbClr val="0033cc"/>
                </a:solidFill>
                <a:latin typeface="Times New Roman"/>
              </a:rPr>
              <a:t>viacerým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funkčným blokom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áta,uložené v tomto bloku môže čítať a modifikovať len priradený funkčný blok.Jednému funkčnému bloku je možné priradiť </a:t>
            </a:r>
            <a:r>
              <a:rPr b="0" lang="sk-SK" sz="1800" spc="-1" strike="noStrike">
                <a:solidFill>
                  <a:srgbClr val="0033cc"/>
                </a:solidFill>
                <a:latin typeface="Times New Roman"/>
              </a:rPr>
              <a:t>viac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dátových blok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1600200"/>
            <a:ext cx="7772400" cy="50292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1752480"/>
            <a:ext cx="4343400" cy="48006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1752480"/>
            <a:ext cx="838080" cy="48006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752480"/>
            <a:ext cx="1752480" cy="48006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221304"/>
                </a:solidFill>
                <a:latin typeface="Times New Roman"/>
              </a:rPr>
              <a:t>Typy dát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5040" y="1866960"/>
            <a:ext cx="69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0-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0-655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WORD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0 -  2</a:t>
            </a:r>
            <a:r>
              <a:rPr b="0" lang="sk-SK" sz="18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nak ACSII okrem  DEL a 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8x254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Reťazec znakov 2-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elé číslo :-32768 ...+327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INT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vojitý rozsah celočíseln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EEE číslo v pohyblivej čiar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EC čas v ms krok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EC dátum v denných krok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OD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enný čas v ms krok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odiny(0-23),minúty(0-59),sekundy,(0-59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ilisekundy (0-99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5TIME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odnota času pre časovač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Rozsah:   0h 0m 0s 0ms - 2h 46m 30s 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82296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229600" y="5410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2:46:17Z</dcterms:created>
  <dc:creator>Girman</dc:creator>
  <dc:description/>
  <dc:language>en-US</dc:language>
  <cp:lastModifiedBy>Girman</cp:lastModifiedBy>
  <dcterms:modified xsi:type="dcterms:W3CDTF">2002-02-04T14:05:06Z</dcterms:modified>
  <cp:revision>27</cp:revision>
  <dc:subject/>
  <dc:title>Prezentace aplikace PowerPoint</dc:title>
</cp:coreProperties>
</file>