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CEB-254B-4C28-8688-5ABD705F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BFB-897F-4E9A-B3EB-7C89C0EC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0E1-8E85-4542-8252-25D4D1E7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B11-C6D1-402C-868A-2D1CDA85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5A32-077C-4CA8-A86C-FD90194E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CB46-8651-4A59-A5FA-D554ABC3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86B0-A8B0-4C9F-8ACF-A8E06802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A4AF-07A1-4FF2-93EC-18057F8E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A43D-0D83-4BB7-8231-5A5CFF1E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B6AC-5674-4C43-B2B0-450E0C9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6D7A-6EDE-4351-BDBA-B6F52AA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8FA-5973-4C53-BE64-1B7AB6C2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1315-5234-4050-AEC0-60A73916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81F-DDC9-40FA-BA16-587D263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47A0-61BE-45AF-9FD1-B736222A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B4DB-4BD2-42B6-8314-BD051E54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7197-D9DD-4DBD-BFC7-800A14C9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720-B863-4548-9A50-C3A7DC51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E01-D52B-40BA-9A8B-CFFE3DFC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122-D3BD-4E16-B5C8-B09CBA1F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AC0-F310-4A89-86ED-246C7770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B23-917C-4AF3-AAF2-C247EFD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3D7-C9AD-492A-B76D-3BEB4C8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FC1-62CE-4E4E-92DD-A5632576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753-B727-4CFD-BEAF-B6A22340871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E33-F46D-4A76-B3DA-3B9B0853185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TP-osnova.ppt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Spôsoby adresovani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53600" y="1870200"/>
            <a:ext cx="30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iame adres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epriame adres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083440" y="532764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7493"/>
                </a:moveTo>
                <a:lnTo>
                  <a:pt x="10904" y="7493"/>
                </a:lnTo>
                <a:lnTo>
                  <a:pt x="10904" y="12828"/>
                </a:lnTo>
                <a:cubicBezTo>
                  <a:pt x="10904" y="13751"/>
                  <a:pt x="11705" y="14482"/>
                  <a:pt x="12740" y="14482"/>
                </a:cubicBezTo>
                <a:lnTo>
                  <a:pt x="14403" y="14482"/>
                </a:lnTo>
                <a:cubicBezTo>
                  <a:pt x="15439" y="14482"/>
                  <a:pt x="16239" y="13751"/>
                  <a:pt x="16239" y="12828"/>
                </a:cubicBezTo>
                <a:lnTo>
                  <a:pt x="16239" y="7493"/>
                </a:lnTo>
                <a:lnTo>
                  <a:pt x="14403" y="7493"/>
                </a:lnTo>
                <a:lnTo>
                  <a:pt x="17910" y="3985"/>
                </a:lnTo>
                <a:lnTo>
                  <a:pt x="21583" y="7493"/>
                </a:lnTo>
                <a:lnTo>
                  <a:pt x="19747" y="7493"/>
                </a:lnTo>
                <a:lnTo>
                  <a:pt x="19747" y="12828"/>
                </a:lnTo>
                <a:cubicBezTo>
                  <a:pt x="19747" y="15596"/>
                  <a:pt x="17171" y="18155"/>
                  <a:pt x="14403" y="18155"/>
                </a:cubicBezTo>
                <a:lnTo>
                  <a:pt x="12740" y="18155"/>
                </a:lnTo>
                <a:cubicBezTo>
                  <a:pt x="9973" y="18155"/>
                  <a:pt x="7396" y="15596"/>
                  <a:pt x="7396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50280" y="1903320"/>
            <a:ext cx="617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ame registrové adresovanie môže mať v jazyku STEP7 dve podo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 vyjadreným identifikátorom poľa (explicitn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 nevyjadreným identifikátorom poľa (implicitn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91600" y="2957400"/>
            <a:ext cx="49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vyjadrenom identifikátore poľa má inštrukcia štruktúr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8240" y="3692520"/>
            <a:ext cx="6097680" cy="1231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Kód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identifikáto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rbázová adresa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ukazovát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Operácie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poľa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v AR1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 P</a:t>
            </a:r>
            <a:r>
              <a:rPr b="0" lang="sk-SK" sz="12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[  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,                   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984400" y="4340160"/>
            <a:ext cx="3775320" cy="287280"/>
            <a:chOff x="2984400" y="4340160"/>
            <a:chExt cx="3775320" cy="287280"/>
          </a:xfrm>
        </p:grpSpPr>
        <p:sp>
          <p:nvSpPr>
            <p:cNvPr id="352" name=""/>
            <p:cNvSpPr/>
            <p:nvPr/>
          </p:nvSpPr>
          <p:spPr>
            <a:xfrm>
              <a:off x="2984400" y="4340160"/>
              <a:ext cx="552960" cy="287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06760" y="4340160"/>
              <a:ext cx="552960" cy="287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32520" y="4340160"/>
              <a:ext cx="552960" cy="287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20400" y="4340160"/>
              <a:ext cx="552960" cy="287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369440" y="5661000"/>
            <a:ext cx="47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jto konštrukcii prislúcha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určitý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át ukazovátk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033560" y="1689120"/>
            <a:ext cx="7494480" cy="3519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62440" y="2505240"/>
            <a:ext cx="135072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38760" y="2465280"/>
            <a:ext cx="13510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9960" y="2484360"/>
            <a:ext cx="13510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73240" y="2505240"/>
            <a:ext cx="1311120" cy="39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15560" y="2022480"/>
            <a:ext cx="714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  0000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   0bbb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bb   bbbb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bb   b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resa bi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resa slabi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ríznak formátu s vyjadreným identifikátorom poľ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027160" y="2392200"/>
            <a:ext cx="5684760" cy="1497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54520" y="1744560"/>
            <a:ext cx="75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ame registrové adresovanie s nevyjadreným identifikátorom poľa používa inštrukci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 nasledujúcou štruktúro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35960" y="2421000"/>
            <a:ext cx="4819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ód inštruk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ázová  adresa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unu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46400" y="2940120"/>
            <a:ext cx="75564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24120" y="2940120"/>
            <a:ext cx="115416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94160" y="2913120"/>
            <a:ext cx="115416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75120" y="4091040"/>
            <a:ext cx="72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át ukazovátka obsahuje trojbitové informácie, ktorá špecifikuje identifikátor poľ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47840" y="4432320"/>
            <a:ext cx="3632400" cy="2040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ové    pole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r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,  PA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920960" y="2293920"/>
            <a:ext cx="5949720" cy="2822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27280" y="2730600"/>
            <a:ext cx="4082760" cy="1845720"/>
            <a:chOff x="2627280" y="2730600"/>
            <a:chExt cx="4082760" cy="1845720"/>
          </a:xfrm>
        </p:grpSpPr>
        <p:grpSp>
          <p:nvGrpSpPr>
            <p:cNvPr id="385" name=""/>
            <p:cNvGrpSpPr/>
            <p:nvPr/>
          </p:nvGrpSpPr>
          <p:grpSpPr>
            <a:xfrm>
              <a:off x="2658960" y="2732040"/>
              <a:ext cx="4030560" cy="285120"/>
              <a:chOff x="2658960" y="2732040"/>
              <a:chExt cx="4030560" cy="285120"/>
            </a:xfrm>
          </p:grpSpPr>
          <p:sp>
            <p:nvSpPr>
              <p:cNvPr id="386" name=""/>
              <p:cNvSpPr/>
              <p:nvPr/>
            </p:nvSpPr>
            <p:spPr>
              <a:xfrm>
                <a:off x="2658960" y="2732040"/>
                <a:ext cx="840240" cy="2851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79560" y="2732040"/>
                <a:ext cx="840240" cy="2851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43360" y="2732040"/>
                <a:ext cx="840240" cy="2851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49280" y="2732040"/>
                <a:ext cx="840240" cy="2851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5679720" y="3039840"/>
              <a:ext cx="59508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286160" y="3039840"/>
              <a:ext cx="91440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98640" y="3066840"/>
              <a:ext cx="0" cy="15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98640" y="457020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97320" y="35128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44680" y="3024000"/>
              <a:ext cx="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55840" y="427176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01800" y="2741400"/>
              <a:ext cx="755640" cy="26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7280" y="2741400"/>
              <a:ext cx="839520" cy="275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90720" y="2741400"/>
              <a:ext cx="839880" cy="275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65680" y="2730600"/>
              <a:ext cx="839520" cy="275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70520" y="2741400"/>
              <a:ext cx="839520" cy="275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604960" y="2556000"/>
            <a:ext cx="551988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1000  0rr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0000   0bb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bbbb  bbb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bbbb   b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adresa bit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adresa slabi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Parameter určujúci adresu poľa podľa tab.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príznak adresovania s implicitným identifikátorom adresy po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79360" y="51595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[AR1, P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]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ký súčin medzi VKE a bitom poľa E, ktorého adresa je daná súčtom adries AR a hodnotou P</a:t>
            </a: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orá je 0.0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0160" y="5845320"/>
            <a:ext cx="75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  PE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R1, P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]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ký súčin medzi VKE a bitom poľa PE ktorého identifikačný kód je určený v P</a:t>
            </a: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dresa sa vypočíta ako súčet adresy v P</a:t>
            </a: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AR1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8308800" y="6178680"/>
            <a:ext cx="530280" cy="374400"/>
          </a:xfrm>
          <a:custGeom>
            <a:avLst/>
            <a:gdLst>
              <a:gd name="textAreaLeft" fmla="*/ 24120 w 530280"/>
              <a:gd name="textAreaRight" fmla="*/ 506160 w 530280"/>
              <a:gd name="textAreaTop" fmla="*/ 24120 h 374400"/>
              <a:gd name="textAreaBottom" fmla="*/ 350280 h 374400"/>
            </a:gdLst>
            <a:ahLst/>
            <a:rect l="textAreaLeft" t="textAreaTop" r="textAreaRight" b="textAreaBottom"/>
            <a:pathLst>
              <a:path w="30584" h="21600">
                <a:moveTo>
                  <a:pt x="0" y="0"/>
                </a:moveTo>
                <a:lnTo>
                  <a:pt x="30584" y="0"/>
                </a:lnTo>
                <a:lnTo>
                  <a:pt x="30584" y="21600"/>
                </a:lnTo>
                <a:lnTo>
                  <a:pt x="0" y="21600"/>
                </a:lnTo>
                <a:close/>
              </a:path>
              <a:path fill="lightenLess" w="30584" h="21600">
                <a:moveTo>
                  <a:pt x="0" y="0"/>
                </a:moveTo>
                <a:lnTo>
                  <a:pt x="30584" y="0"/>
                </a:lnTo>
                <a:lnTo>
                  <a:pt x="29184" y="1400"/>
                </a:lnTo>
                <a:lnTo>
                  <a:pt x="1400" y="1400"/>
                </a:lnTo>
                <a:close/>
              </a:path>
              <a:path fill="darken" w="30584" h="21600">
                <a:moveTo>
                  <a:pt x="30584" y="0"/>
                </a:moveTo>
                <a:lnTo>
                  <a:pt x="30584" y="21600"/>
                </a:lnTo>
                <a:lnTo>
                  <a:pt x="29184" y="20200"/>
                </a:lnTo>
                <a:lnTo>
                  <a:pt x="29184" y="1400"/>
                </a:lnTo>
                <a:close/>
              </a:path>
              <a:path fill="darkenLess" w="30584" h="21600">
                <a:moveTo>
                  <a:pt x="30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84" y="20200"/>
                </a:lnTo>
                <a:close/>
              </a:path>
              <a:path fill="lighten" w="30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84" h="21600">
                <a:moveTo>
                  <a:pt x="8286" y="3794"/>
                </a:moveTo>
                <a:lnTo>
                  <a:pt x="22299" y="10800"/>
                </a:lnTo>
                <a:lnTo>
                  <a:pt x="828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6983280" y="6178680"/>
            <a:ext cx="530280" cy="374400"/>
          </a:xfrm>
          <a:custGeom>
            <a:avLst/>
            <a:gdLst>
              <a:gd name="textAreaLeft" fmla="*/ 24120 w 530280"/>
              <a:gd name="textAreaRight" fmla="*/ 506160 w 530280"/>
              <a:gd name="textAreaTop" fmla="*/ 24120 h 374400"/>
              <a:gd name="textAreaBottom" fmla="*/ 350280 h 374400"/>
            </a:gdLst>
            <a:ahLst/>
            <a:rect l="textAreaLeft" t="textAreaTop" r="textAreaRight" b="textAreaBottom"/>
            <a:pathLst>
              <a:path w="30584" h="21600">
                <a:moveTo>
                  <a:pt x="0" y="0"/>
                </a:moveTo>
                <a:lnTo>
                  <a:pt x="30584" y="0"/>
                </a:lnTo>
                <a:lnTo>
                  <a:pt x="30584" y="21600"/>
                </a:lnTo>
                <a:lnTo>
                  <a:pt x="0" y="21600"/>
                </a:lnTo>
                <a:close/>
              </a:path>
              <a:path fill="lightenLess" w="30584" h="21600">
                <a:moveTo>
                  <a:pt x="0" y="0"/>
                </a:moveTo>
                <a:lnTo>
                  <a:pt x="30584" y="0"/>
                </a:lnTo>
                <a:lnTo>
                  <a:pt x="29184" y="1400"/>
                </a:lnTo>
                <a:lnTo>
                  <a:pt x="1400" y="1400"/>
                </a:lnTo>
                <a:close/>
              </a:path>
              <a:path fill="darken" w="30584" h="21600">
                <a:moveTo>
                  <a:pt x="30584" y="0"/>
                </a:moveTo>
                <a:lnTo>
                  <a:pt x="30584" y="21600"/>
                </a:lnTo>
                <a:lnTo>
                  <a:pt x="29184" y="20200"/>
                </a:lnTo>
                <a:lnTo>
                  <a:pt x="29184" y="1400"/>
                </a:lnTo>
                <a:close/>
              </a:path>
              <a:path fill="darkenLess" w="30584" h="21600">
                <a:moveTo>
                  <a:pt x="30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84" y="20200"/>
                </a:lnTo>
                <a:close/>
              </a:path>
              <a:path fill="lighten" w="30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84" h="21600">
                <a:moveTo>
                  <a:pt x="8286" y="10800"/>
                </a:moveTo>
                <a:lnTo>
                  <a:pt x="22299" y="3794"/>
                </a:lnTo>
                <a:lnTo>
                  <a:pt x="22299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7647120" y="6178680"/>
            <a:ext cx="529920" cy="374400"/>
          </a:xfrm>
          <a:custGeom>
            <a:avLst/>
            <a:gdLst>
              <a:gd name="textAreaLeft" fmla="*/ 24120 w 529920"/>
              <a:gd name="textAreaRight" fmla="*/ 505800 w 529920"/>
              <a:gd name="textAreaTop" fmla="*/ 24120 h 374400"/>
              <a:gd name="textAreaBottom" fmla="*/ 350280 h 374400"/>
            </a:gdLst>
            <a:ahLst/>
            <a:rect l="textAreaLeft" t="textAreaTop" r="textAreaRight" b="textAreaBottom"/>
            <a:pathLst>
              <a:path w="30564" h="21600">
                <a:moveTo>
                  <a:pt x="0" y="0"/>
                </a:moveTo>
                <a:lnTo>
                  <a:pt x="30564" y="0"/>
                </a:lnTo>
                <a:lnTo>
                  <a:pt x="30564" y="21600"/>
                </a:lnTo>
                <a:lnTo>
                  <a:pt x="0" y="21600"/>
                </a:lnTo>
                <a:close/>
              </a:path>
              <a:path fill="lightenLess" w="30564" h="21600">
                <a:moveTo>
                  <a:pt x="0" y="0"/>
                </a:moveTo>
                <a:lnTo>
                  <a:pt x="30564" y="0"/>
                </a:lnTo>
                <a:lnTo>
                  <a:pt x="29164" y="1400"/>
                </a:lnTo>
                <a:lnTo>
                  <a:pt x="1400" y="1400"/>
                </a:lnTo>
                <a:close/>
              </a:path>
              <a:path fill="darken" w="30564" h="21600">
                <a:moveTo>
                  <a:pt x="30564" y="0"/>
                </a:moveTo>
                <a:lnTo>
                  <a:pt x="30564" y="21600"/>
                </a:lnTo>
                <a:lnTo>
                  <a:pt x="29164" y="20200"/>
                </a:lnTo>
                <a:lnTo>
                  <a:pt x="29164" y="1400"/>
                </a:lnTo>
                <a:close/>
              </a:path>
              <a:path fill="darkenLess" w="30564" h="21600">
                <a:moveTo>
                  <a:pt x="30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4" y="20200"/>
                </a:lnTo>
                <a:close/>
              </a:path>
              <a:path fill="lighten" w="30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4" h="21600">
                <a:moveTo>
                  <a:pt x="11783" y="10800"/>
                </a:moveTo>
                <a:lnTo>
                  <a:pt x="22288" y="3794"/>
                </a:lnTo>
                <a:lnTo>
                  <a:pt x="22288" y="17806"/>
                </a:lnTo>
                <a:close/>
              </a:path>
              <a:path fill="darken" w="30564" h="21600">
                <a:moveTo>
                  <a:pt x="8275" y="3794"/>
                </a:moveTo>
                <a:lnTo>
                  <a:pt x="9938" y="3794"/>
                </a:lnTo>
                <a:lnTo>
                  <a:pt x="9938" y="17806"/>
                </a:lnTo>
                <a:lnTo>
                  <a:pt x="8275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14600" y="3657600"/>
            <a:ext cx="5715000" cy="281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Adresovani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828800"/>
            <a:ext cx="754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čšina logických procesorov pri svojej činnosti využíva pamäťovú oblasť, rozdelenú do určitých špecifických adresných priestorov. Každému takémuto priestoru prislúcha označenie pomocou identifikátora, ktorý sa vyskytuje v popise každej menšej informačnej jednotky, nachádzajúcej sa v tomto adresnom priestore. Adresný priestor logického procesora SIMATIC S7 je členený do nasledujúcich čas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733920"/>
            <a:ext cx="7391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vstup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výstup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medzivýsledk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né pole periférnych jednoti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upné pole periférnych jednoti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časovač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čítač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údajových blok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údajových blok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114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lokálnych (dočasných) údajo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548560" y="6039000"/>
            <a:ext cx="595440" cy="533160"/>
          </a:xfrm>
          <a:custGeom>
            <a:avLst/>
            <a:gdLst>
              <a:gd name="textAreaLeft" fmla="*/ 34560 w 595440"/>
              <a:gd name="textAreaRight" fmla="*/ 560880 w 595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121" h="21600">
                <a:moveTo>
                  <a:pt x="0" y="0"/>
                </a:moveTo>
                <a:lnTo>
                  <a:pt x="24121" y="0"/>
                </a:lnTo>
                <a:lnTo>
                  <a:pt x="24121" y="21600"/>
                </a:lnTo>
                <a:lnTo>
                  <a:pt x="0" y="21600"/>
                </a:lnTo>
                <a:close/>
              </a:path>
              <a:path fill="lightenLess" w="24121" h="21600">
                <a:moveTo>
                  <a:pt x="0" y="0"/>
                </a:moveTo>
                <a:lnTo>
                  <a:pt x="24121" y="0"/>
                </a:lnTo>
                <a:lnTo>
                  <a:pt x="22721" y="1400"/>
                </a:lnTo>
                <a:lnTo>
                  <a:pt x="1400" y="1400"/>
                </a:lnTo>
                <a:close/>
              </a:path>
              <a:path fill="darken" w="24121" h="21600">
                <a:moveTo>
                  <a:pt x="24121" y="0"/>
                </a:moveTo>
                <a:lnTo>
                  <a:pt x="24121" y="21600"/>
                </a:lnTo>
                <a:lnTo>
                  <a:pt x="22721" y="20200"/>
                </a:lnTo>
                <a:lnTo>
                  <a:pt x="22721" y="1400"/>
                </a:lnTo>
                <a:close/>
              </a:path>
              <a:path fill="darkenLess" w="24121" h="21600">
                <a:moveTo>
                  <a:pt x="24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1" y="20200"/>
                </a:lnTo>
                <a:close/>
              </a:path>
              <a:path fill="lighten" w="24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21" h="21600">
                <a:moveTo>
                  <a:pt x="5054" y="3794"/>
                </a:moveTo>
                <a:lnTo>
                  <a:pt x="19067" y="10800"/>
                </a:lnTo>
                <a:lnTo>
                  <a:pt x="505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083360" y="6019920"/>
            <a:ext cx="627120" cy="533160"/>
          </a:xfrm>
          <a:custGeom>
            <a:avLst/>
            <a:gdLst>
              <a:gd name="textAreaLeft" fmla="*/ 34560 w 627120"/>
              <a:gd name="textAreaRight" fmla="*/ 592560 w 627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4" h="21600">
                <a:moveTo>
                  <a:pt x="5696" y="10800"/>
                </a:moveTo>
                <a:lnTo>
                  <a:pt x="19709" y="3794"/>
                </a:lnTo>
                <a:lnTo>
                  <a:pt x="19709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786800" y="6019920"/>
            <a:ext cx="606240" cy="533160"/>
          </a:xfrm>
          <a:custGeom>
            <a:avLst/>
            <a:gdLst>
              <a:gd name="textAreaLeft" fmla="*/ 34560 w 606240"/>
              <a:gd name="textAreaRight" fmla="*/ 571680 w 6062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559" h="21600">
                <a:moveTo>
                  <a:pt x="0" y="0"/>
                </a:moveTo>
                <a:lnTo>
                  <a:pt x="24559" y="0"/>
                </a:lnTo>
                <a:lnTo>
                  <a:pt x="24559" y="21600"/>
                </a:lnTo>
                <a:lnTo>
                  <a:pt x="0" y="21600"/>
                </a:lnTo>
                <a:close/>
              </a:path>
              <a:path fill="lightenLess" w="24559" h="21600">
                <a:moveTo>
                  <a:pt x="0" y="0"/>
                </a:moveTo>
                <a:lnTo>
                  <a:pt x="24559" y="0"/>
                </a:lnTo>
                <a:lnTo>
                  <a:pt x="23159" y="1400"/>
                </a:lnTo>
                <a:lnTo>
                  <a:pt x="1400" y="1400"/>
                </a:lnTo>
                <a:close/>
              </a:path>
              <a:path fill="darken" w="24559" h="21600">
                <a:moveTo>
                  <a:pt x="24559" y="0"/>
                </a:moveTo>
                <a:lnTo>
                  <a:pt x="24559" y="21600"/>
                </a:lnTo>
                <a:lnTo>
                  <a:pt x="23159" y="20200"/>
                </a:lnTo>
                <a:lnTo>
                  <a:pt x="23159" y="1400"/>
                </a:lnTo>
                <a:close/>
              </a:path>
              <a:path fill="darkenLess" w="24559" h="21600">
                <a:moveTo>
                  <a:pt x="24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59" y="20200"/>
                </a:lnTo>
                <a:close/>
              </a:path>
              <a:path fill="lighten" w="24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59" h="21600">
                <a:moveTo>
                  <a:pt x="8780" y="10800"/>
                </a:moveTo>
                <a:lnTo>
                  <a:pt x="19286" y="3794"/>
                </a:lnTo>
                <a:lnTo>
                  <a:pt x="19286" y="17806"/>
                </a:lnTo>
                <a:close/>
              </a:path>
              <a:path fill="darken" w="24559" h="21600">
                <a:moveTo>
                  <a:pt x="5273" y="3794"/>
                </a:moveTo>
                <a:lnTo>
                  <a:pt x="6935" y="3794"/>
                </a:lnTo>
                <a:lnTo>
                  <a:pt x="6935" y="17806"/>
                </a:lnTo>
                <a:lnTo>
                  <a:pt x="5273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Priame adresovanie –</a:t>
            </a:r>
            <a:r>
              <a:rPr b="1" lang="en-US" sz="1800" spc="-1" strike="noStrike">
                <a:solidFill>
                  <a:srgbClr val="221304"/>
                </a:solidFill>
                <a:latin typeface="Times New Roman"/>
              </a:rPr>
              <a:t>bitov</a:t>
            </a:r>
            <a:r>
              <a:rPr b="1" lang="sk-SK" sz="1800" spc="-1" strike="noStrike">
                <a:solidFill>
                  <a:srgbClr val="221304"/>
                </a:solidFill>
                <a:latin typeface="Times New Roman"/>
              </a:rPr>
              <a:t>á premenná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175248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ovanie bitovej premennej patrí k základným možnostiam logického procesora. Takáto premenná je adresovaná podľa nasledujúceho formát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666880"/>
            <a:ext cx="5791320" cy="3683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Identifikátor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Poradové čisl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Por. čís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Poľa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slabik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bitu v slabi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oddeľovač   bit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(udáva   spôsob  určenia  adresy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4  .  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ole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oradové čís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slabi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7.6.5.4.3.2.1.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poradové čís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bitu v slabi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352680" y="3505320"/>
            <a:ext cx="2890800" cy="2403360"/>
            <a:chOff x="3352680" y="3505320"/>
            <a:chExt cx="2890800" cy="2403360"/>
          </a:xfrm>
        </p:grpSpPr>
        <p:sp>
          <p:nvSpPr>
            <p:cNvPr id="106" name=""/>
            <p:cNvSpPr/>
            <p:nvPr/>
          </p:nvSpPr>
          <p:spPr>
            <a:xfrm>
              <a:off x="3352680" y="3505320"/>
              <a:ext cx="509760" cy="264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32440" y="3505320"/>
              <a:ext cx="987120" cy="264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38880" y="3516480"/>
              <a:ext cx="680760" cy="25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46640" y="3681360"/>
              <a:ext cx="54000" cy="54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94160" y="38275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4160" y="39322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672080" y="4336920"/>
              <a:ext cx="1149120" cy="1473480"/>
              <a:chOff x="4672080" y="4336920"/>
              <a:chExt cx="1149120" cy="1473480"/>
            </a:xfrm>
          </p:grpSpPr>
          <p:sp>
            <p:nvSpPr>
              <p:cNvPr id="113" name=""/>
              <p:cNvSpPr/>
              <p:nvPr/>
            </p:nvSpPr>
            <p:spPr>
              <a:xfrm>
                <a:off x="4672080" y="4336920"/>
                <a:ext cx="0" cy="147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21200" y="4336920"/>
                <a:ext cx="0" cy="147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4672080" y="4551480"/>
                <a:ext cx="1149120" cy="1041480"/>
                <a:chOff x="4672080" y="4551480"/>
                <a:chExt cx="1149120" cy="10414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672080" y="4551480"/>
                  <a:ext cx="114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672080" y="4729320"/>
                  <a:ext cx="114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72080" y="4900680"/>
                  <a:ext cx="114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72080" y="5078520"/>
                  <a:ext cx="114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672080" y="5249880"/>
                  <a:ext cx="114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672080" y="5428080"/>
                  <a:ext cx="114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72080" y="5592960"/>
                  <a:ext cx="114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815360" y="5248800"/>
                <a:ext cx="861840" cy="177840"/>
                <a:chOff x="4815360" y="5248800"/>
                <a:chExt cx="861840" cy="1778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815360" y="5248800"/>
                  <a:ext cx="0" cy="17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59000" y="5248800"/>
                  <a:ext cx="0" cy="17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102640" y="5248800"/>
                  <a:ext cx="0" cy="17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246280" y="5248800"/>
                  <a:ext cx="0" cy="17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89920" y="5248800"/>
                  <a:ext cx="0" cy="17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533560" y="5248800"/>
                  <a:ext cx="0" cy="17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677200" y="5248800"/>
                  <a:ext cx="0" cy="17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5246640" y="5249880"/>
              <a:ext cx="146160" cy="17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014360" y="4532400"/>
              <a:ext cx="615960" cy="819000"/>
              <a:chOff x="4014360" y="4532400"/>
              <a:chExt cx="615960" cy="819000"/>
            </a:xfrm>
          </p:grpSpPr>
          <p:sp>
            <p:nvSpPr>
              <p:cNvPr id="133" name=""/>
              <p:cNvSpPr/>
              <p:nvPr/>
            </p:nvSpPr>
            <p:spPr>
              <a:xfrm>
                <a:off x="4014720" y="4532400"/>
                <a:ext cx="0" cy="81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4014360" y="534528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255560" y="4532400"/>
              <a:ext cx="1080000" cy="730080"/>
              <a:chOff x="4255560" y="4532400"/>
              <a:chExt cx="1080000" cy="730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4255560" y="514188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62040" y="4532400"/>
                <a:ext cx="0" cy="61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35560" y="51483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H="1">
              <a:off x="4725720" y="590868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3480" y="4570560"/>
              <a:ext cx="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Priame adresovanie </a:t>
            </a:r>
            <a:r>
              <a:rPr b="1" lang="sk-SK" sz="1800" spc="-1" strike="noStrike">
                <a:solidFill>
                  <a:srgbClr val="221304"/>
                </a:solidFill>
                <a:latin typeface="Times New Roman"/>
              </a:rPr>
              <a:t>– slabiková premenná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04812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, AB, MB, PEB, PAB, DBB, DIB, L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905120"/>
            <a:ext cx="74674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adresovanie pamäťového miesta šírky jednej slabiky sa k identifikátorom príslušného poľa prikladá špecifikátor slabiky – znak B. S uvažovaním polí okrem čítačov a časovačov (Z,T) ktoré majú charakter statickej premennej dostávame nasledujúce identifikátory pre pamäťové miesta šírky jednej slabik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96920" y="3863880"/>
            <a:ext cx="4738680" cy="2333880"/>
            <a:chOff x="1996920" y="3863880"/>
            <a:chExt cx="4738680" cy="2333880"/>
          </a:xfrm>
        </p:grpSpPr>
        <p:sp>
          <p:nvSpPr>
            <p:cNvPr id="148" name=""/>
            <p:cNvSpPr/>
            <p:nvPr/>
          </p:nvSpPr>
          <p:spPr>
            <a:xfrm>
              <a:off x="1996920" y="3863880"/>
              <a:ext cx="4738680" cy="23338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Pol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B       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24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2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26.      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Poradové čís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2 5.       slabik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28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</a:rPr>
                <a:t>29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udáva spôsob určenia adres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95960" y="4406760"/>
              <a:ext cx="0" cy="11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741840" y="4321800"/>
              <a:ext cx="1149120" cy="1473840"/>
              <a:chOff x="3741840" y="4321800"/>
              <a:chExt cx="1149120" cy="1473840"/>
            </a:xfrm>
          </p:grpSpPr>
          <p:sp>
            <p:nvSpPr>
              <p:cNvPr id="151" name=""/>
              <p:cNvSpPr/>
              <p:nvPr/>
            </p:nvSpPr>
            <p:spPr>
              <a:xfrm>
                <a:off x="3741840" y="4321800"/>
                <a:ext cx="0" cy="147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89880" y="4321800"/>
                <a:ext cx="0" cy="147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741840" y="4536360"/>
                <a:ext cx="1149120" cy="1041840"/>
                <a:chOff x="3741840" y="4536360"/>
                <a:chExt cx="1149120" cy="104184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3741840" y="4536360"/>
                  <a:ext cx="1148040" cy="1041840"/>
                  <a:chOff x="3741840" y="4536360"/>
                  <a:chExt cx="1148040" cy="10418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3741840" y="4536360"/>
                    <a:ext cx="114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741840" y="4714200"/>
                    <a:ext cx="114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741840" y="4885920"/>
                    <a:ext cx="114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741840" y="5063400"/>
                    <a:ext cx="114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741840" y="5235120"/>
                    <a:ext cx="114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741840" y="5412960"/>
                    <a:ext cx="114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741840" y="5578200"/>
                    <a:ext cx="114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3742920" y="5067360"/>
                  <a:ext cx="1148040" cy="169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 flipV="1">
              <a:off x="2446200" y="419400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55920" y="4194000"/>
              <a:ext cx="129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62480" y="4587120"/>
              <a:ext cx="0" cy="14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09600" y="4587120"/>
              <a:ext cx="0" cy="5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009240" y="516168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5680" y="51926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96280" y="5938560"/>
              <a:ext cx="167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210000" y="520344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43880" y="4279680"/>
              <a:ext cx="223200" cy="234360"/>
            </a:xfrm>
            <a:prstGeom prst="rect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28800" y="1905120"/>
            <a:ext cx="6324480" cy="4114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riame adresovanie  </a:t>
            </a:r>
            <a:r>
              <a:rPr b="1" lang="sk-SK" sz="1800" spc="-1" strike="noStrike">
                <a:solidFill>
                  <a:srgbClr val="221304"/>
                </a:solidFill>
                <a:latin typeface="Times New Roman"/>
              </a:rPr>
              <a:t>- slová 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3193920"/>
            <a:ext cx="0" cy="14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32440" y="3193920"/>
            <a:ext cx="0" cy="14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029200" y="3409920"/>
            <a:ext cx="903240" cy="1041480"/>
            <a:chOff x="5029200" y="3409920"/>
            <a:chExt cx="903240" cy="1041480"/>
          </a:xfrm>
        </p:grpSpPr>
        <p:sp>
          <p:nvSpPr>
            <p:cNvPr id="181" name=""/>
            <p:cNvSpPr/>
            <p:nvPr/>
          </p:nvSpPr>
          <p:spPr>
            <a:xfrm>
              <a:off x="5029200" y="3409920"/>
              <a:ext cx="90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9200" y="3587760"/>
              <a:ext cx="90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9200" y="3759120"/>
              <a:ext cx="90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29200" y="3936960"/>
              <a:ext cx="90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29200" y="4108320"/>
              <a:ext cx="90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4286520"/>
              <a:ext cx="90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4451400"/>
              <a:ext cx="90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025960" y="3762360"/>
            <a:ext cx="906480" cy="176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936960"/>
            <a:ext cx="901800" cy="171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4937040"/>
            <a:ext cx="669960" cy="223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47960" y="4937040"/>
            <a:ext cx="6699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25960" y="3852720"/>
            <a:ext cx="15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19480" y="3852720"/>
            <a:ext cx="1440" cy="87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24160" y="40305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3360" y="4037040"/>
            <a:ext cx="288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212640" y="2362320"/>
            <a:ext cx="444600" cy="253800"/>
            <a:chOff x="3212640" y="2362320"/>
            <a:chExt cx="444600" cy="253800"/>
          </a:xfrm>
        </p:grpSpPr>
        <p:sp>
          <p:nvSpPr>
            <p:cNvPr id="197" name=""/>
            <p:cNvSpPr/>
            <p:nvPr/>
          </p:nvSpPr>
          <p:spPr>
            <a:xfrm flipH="1">
              <a:off x="3212640" y="236232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13000" y="236232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049560" y="2833560"/>
            <a:ext cx="1663560" cy="260640"/>
            <a:chOff x="3049560" y="2833560"/>
            <a:chExt cx="1663560" cy="260640"/>
          </a:xfrm>
        </p:grpSpPr>
        <p:sp>
          <p:nvSpPr>
            <p:cNvPr id="200" name=""/>
            <p:cNvSpPr/>
            <p:nvPr/>
          </p:nvSpPr>
          <p:spPr>
            <a:xfrm>
              <a:off x="3049560" y="283356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560" y="3094200"/>
              <a:ext cx="166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62520" y="2666880"/>
            <a:ext cx="2584440" cy="1123920"/>
            <a:chOff x="3962520" y="2666880"/>
            <a:chExt cx="2584440" cy="1123920"/>
          </a:xfrm>
        </p:grpSpPr>
        <p:sp>
          <p:nvSpPr>
            <p:cNvPr id="203" name=""/>
            <p:cNvSpPr/>
            <p:nvPr/>
          </p:nvSpPr>
          <p:spPr>
            <a:xfrm>
              <a:off x="6336000" y="3788280"/>
              <a:ext cx="20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546960" y="2666880"/>
              <a:ext cx="0" cy="11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62520" y="2673000"/>
              <a:ext cx="257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016080" y="4830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79720" y="4830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209680"/>
            <a:ext cx="914400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ecifikácia dĺžky premenn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 typ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enná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ís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bi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šši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žš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bik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b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76520" y="1981080"/>
            <a:ext cx="6400800" cy="4038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riame adresovanie</a:t>
            </a:r>
            <a:r>
              <a:rPr b="1" lang="sk-SK" sz="1800" spc="-1" strike="noStrike">
                <a:solidFill>
                  <a:srgbClr val="221304"/>
                </a:solidFill>
                <a:latin typeface="Times New Roman"/>
              </a:rPr>
              <a:t>-  dvojslová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0360" y="5067360"/>
            <a:ext cx="488880" cy="190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29160" y="5067360"/>
            <a:ext cx="488880" cy="190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9400" y="5067360"/>
            <a:ext cx="488880" cy="190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8200" y="5067360"/>
            <a:ext cx="488880" cy="190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195720" y="5429160"/>
            <a:ext cx="2073240" cy="0"/>
            <a:chOff x="3195720" y="5429160"/>
            <a:chExt cx="2073240" cy="0"/>
          </a:xfrm>
        </p:grpSpPr>
        <p:sp>
          <p:nvSpPr>
            <p:cNvPr id="219" name=""/>
            <p:cNvSpPr/>
            <p:nvPr/>
          </p:nvSpPr>
          <p:spPr>
            <a:xfrm>
              <a:off x="3195720" y="5429160"/>
              <a:ext cx="12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2000" y="5429160"/>
              <a:ext cx="12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31680" y="5429160"/>
              <a:ext cx="12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1520" y="5429160"/>
              <a:ext cx="12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 flipH="1">
            <a:off x="5181480" y="46926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21240" y="4510080"/>
            <a:ext cx="11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00040" y="4168800"/>
            <a:ext cx="2438280" cy="838080"/>
            <a:chOff x="3200040" y="4168800"/>
            <a:chExt cx="2438280" cy="838080"/>
          </a:xfrm>
        </p:grpSpPr>
        <p:sp>
          <p:nvSpPr>
            <p:cNvPr id="226" name=""/>
            <p:cNvSpPr/>
            <p:nvPr/>
          </p:nvSpPr>
          <p:spPr>
            <a:xfrm flipH="1">
              <a:off x="3200040" y="41688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0400" y="4168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886200" y="4343400"/>
            <a:ext cx="1752480" cy="666720"/>
            <a:chOff x="3886200" y="4343400"/>
            <a:chExt cx="1752480" cy="666720"/>
          </a:xfrm>
        </p:grpSpPr>
        <p:sp>
          <p:nvSpPr>
            <p:cNvPr id="229" name=""/>
            <p:cNvSpPr/>
            <p:nvPr/>
          </p:nvSpPr>
          <p:spPr>
            <a:xfrm flipH="1">
              <a:off x="3886200" y="43434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6200" y="434340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27720" y="45100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7960" y="46926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124080" y="2743200"/>
            <a:ext cx="4013280" cy="1468440"/>
            <a:chOff x="3124080" y="2743200"/>
            <a:chExt cx="4013280" cy="1468440"/>
          </a:xfrm>
        </p:grpSpPr>
        <p:sp>
          <p:nvSpPr>
            <p:cNvPr id="234" name=""/>
            <p:cNvSpPr/>
            <p:nvPr/>
          </p:nvSpPr>
          <p:spPr>
            <a:xfrm>
              <a:off x="3263760" y="274320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124080" y="2743200"/>
              <a:ext cx="4013280" cy="1468440"/>
              <a:chOff x="3124080" y="2743200"/>
              <a:chExt cx="4013280" cy="1468440"/>
            </a:xfrm>
          </p:grpSpPr>
          <p:sp>
            <p:nvSpPr>
              <p:cNvPr id="236" name=""/>
              <p:cNvSpPr/>
              <p:nvPr/>
            </p:nvSpPr>
            <p:spPr>
              <a:xfrm flipH="1">
                <a:off x="3263760" y="274320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24080" y="318312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24080" y="3443400"/>
                <a:ext cx="223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96240" y="4209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137360" y="3087720"/>
                <a:ext cx="0" cy="11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87720" y="3094200"/>
                <a:ext cx="313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5624640" y="4965840"/>
            <a:ext cx="89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26080" y="3517920"/>
            <a:ext cx="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29320" y="3517920"/>
            <a:ext cx="0" cy="16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6080" y="373212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26080" y="390996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26080" y="408132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26080" y="425916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26080" y="443088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26080" y="460836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26080" y="477360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27520" y="4079880"/>
            <a:ext cx="903600" cy="1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080" y="4259160"/>
            <a:ext cx="906480" cy="171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27520" y="4427640"/>
            <a:ext cx="903600" cy="18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27520" y="4602240"/>
            <a:ext cx="903600" cy="18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28954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MD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15560" y="255276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špecifikácia dlžky premenn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31240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Pole typu 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525780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31.    24. 23.    16. 15.    8.  7.      0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29400" y="3657600"/>
            <a:ext cx="38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124080" y="2895480"/>
            <a:ext cx="3810240" cy="3581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895480"/>
            <a:ext cx="1828800" cy="358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Bezprostredné adresovanie</a:t>
            </a:r>
            <a:r>
              <a:rPr b="1" lang="sk-SK" sz="1800" spc="-1" strike="noStrike">
                <a:solidFill>
                  <a:srgbClr val="221304"/>
                </a:solidFill>
                <a:latin typeface="Times New Roman"/>
              </a:rPr>
              <a:t>-  </a:t>
            </a:r>
            <a:r>
              <a:rPr b="0" i="1" lang="sk-SK" sz="1800" spc="-1" strike="noStrike">
                <a:solidFill>
                  <a:srgbClr val="221304"/>
                </a:solidFill>
                <a:latin typeface="Times New Roman"/>
              </a:rPr>
              <a:t>konštanty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854440"/>
            <a:ext cx="8626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Špecifikátor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z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átum v tvare ROK - MESIAC – DE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očíselná 32-bitová konšt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azovátko (poin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á konštanta pre časova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štanta pre číta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árna konštanta (10 - 32 b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xadecimálna konšt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 v tvare   hod : min : sec.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5T</a:t>
            </a:r>
            <a:r>
              <a:rPr b="1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á konštanta pre časova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828800"/>
            <a:ext cx="71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enie VKE na hodnotu 1(implicitne zadaný oper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27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lnenie akumulátora 1 číslom 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´ABCD´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lnenie akumulátora ASCII znakmi ABCD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53960" y="2165400"/>
            <a:ext cx="6427800" cy="4360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Nepriame pamäťové adres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27160" y="1655640"/>
            <a:ext cx="73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nepriamom pamäťovom adresovaní je relatívna časť adresy uložená do pamäťového miesta, ktorého adresa je uložená v inštrukcií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46680" y="2763720"/>
            <a:ext cx="1511280" cy="2016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552760" y="2725560"/>
            <a:ext cx="288360" cy="239760"/>
            <a:chOff x="2552760" y="2725560"/>
            <a:chExt cx="288360" cy="239760"/>
          </a:xfrm>
        </p:grpSpPr>
        <p:sp>
          <p:nvSpPr>
            <p:cNvPr id="277" name=""/>
            <p:cNvSpPr/>
            <p:nvPr/>
          </p:nvSpPr>
          <p:spPr>
            <a:xfrm>
              <a:off x="2616840" y="2725560"/>
              <a:ext cx="224280" cy="202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2760" y="2763000"/>
              <a:ext cx="224280" cy="202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311640" y="34005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16320" y="3691080"/>
            <a:ext cx="15127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965840" y="5100480"/>
            <a:ext cx="896760" cy="1148040"/>
            <a:chOff x="4965840" y="5100480"/>
            <a:chExt cx="896760" cy="1148040"/>
          </a:xfrm>
        </p:grpSpPr>
        <p:sp>
          <p:nvSpPr>
            <p:cNvPr id="282" name=""/>
            <p:cNvSpPr/>
            <p:nvPr/>
          </p:nvSpPr>
          <p:spPr>
            <a:xfrm>
              <a:off x="4967640" y="5100480"/>
              <a:ext cx="0" cy="11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2600" y="5108400"/>
              <a:ext cx="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967640" y="5259240"/>
              <a:ext cx="894960" cy="731520"/>
              <a:chOff x="4967640" y="5259240"/>
              <a:chExt cx="894960" cy="731520"/>
            </a:xfrm>
          </p:grpSpPr>
          <p:sp>
            <p:nvSpPr>
              <p:cNvPr id="285" name=""/>
              <p:cNvSpPr/>
              <p:nvPr/>
            </p:nvSpPr>
            <p:spPr>
              <a:xfrm>
                <a:off x="4967640" y="525924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67640" y="538416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67640" y="550440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67640" y="562932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67640" y="574992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67640" y="587484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967640" y="599076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965840" y="6135840"/>
              <a:ext cx="89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rot="5420400">
            <a:off x="3256920" y="3143160"/>
            <a:ext cx="152640" cy="571320"/>
          </a:xfrm>
          <a:custGeom>
            <a:avLst/>
            <a:gdLst>
              <a:gd name="textAreaLeft" fmla="*/ 0 w 152640"/>
              <a:gd name="textAreaRight" fmla="*/ 55080 w 15264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46280" y="4573440"/>
            <a:ext cx="434880" cy="135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4573440"/>
            <a:ext cx="435240" cy="135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8080" y="4573440"/>
            <a:ext cx="433080" cy="135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03800" y="4573440"/>
            <a:ext cx="433440" cy="1350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527720" y="428940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917880" y="416880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365640" y="404820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768760" y="393228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393228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71760" y="40528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416880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27720" y="428940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5420400">
            <a:off x="3625200" y="3827160"/>
            <a:ext cx="114480" cy="2171880"/>
          </a:xfrm>
          <a:custGeom>
            <a:avLst/>
            <a:gdLst>
              <a:gd name="textAreaLeft" fmla="*/ 0 w 114480"/>
              <a:gd name="textAreaRight" fmla="*/ 41400 w 114480"/>
              <a:gd name="textAreaTop" fmla="*/ 56520 h 2171880"/>
              <a:gd name="textAreaBottom" fmla="*/ 2115360 h 21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95760" y="5038560"/>
            <a:ext cx="0" cy="6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95760" y="5667480"/>
            <a:ext cx="103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5218200"/>
            <a:ext cx="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19440" y="2598840"/>
            <a:ext cx="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87960" y="2590920"/>
            <a:ext cx="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41720" y="346248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3470400"/>
            <a:ext cx="0" cy="11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941720" y="3621240"/>
            <a:ext cx="895680" cy="730080"/>
            <a:chOff x="4941720" y="3621240"/>
            <a:chExt cx="895680" cy="730080"/>
          </a:xfrm>
        </p:grpSpPr>
        <p:sp>
          <p:nvSpPr>
            <p:cNvPr id="315" name=""/>
            <p:cNvSpPr/>
            <p:nvPr/>
          </p:nvSpPr>
          <p:spPr>
            <a:xfrm>
              <a:off x="4941720" y="3621240"/>
              <a:ext cx="8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41720" y="3745800"/>
              <a:ext cx="8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1720" y="3866040"/>
              <a:ext cx="8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41720" y="3990600"/>
              <a:ext cx="8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41720" y="4110840"/>
              <a:ext cx="8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41720" y="4235760"/>
              <a:ext cx="8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41720" y="4351320"/>
              <a:ext cx="8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43520" y="4349880"/>
            <a:ext cx="895320" cy="14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40280" y="4233960"/>
            <a:ext cx="897120" cy="115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40280" y="4108320"/>
            <a:ext cx="897120" cy="125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40280" y="3987720"/>
            <a:ext cx="897120" cy="120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40280" y="3863880"/>
            <a:ext cx="897120" cy="123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17760" y="2273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539640"/>
                <a:tab algn="l" pos="207000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átor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ddelovač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a relatívne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delova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539640"/>
                <a:tab algn="l" pos="207000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y opera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539640"/>
                <a:tab algn="l" pos="207000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38360" y="2562120"/>
            <a:ext cx="5029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304812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4660920"/>
            <a:ext cx="195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tívna adresa opera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99680" y="488484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l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12640" y="318924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le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2960" y="54291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28840" y="3957480"/>
            <a:ext cx="1553760" cy="1310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íkl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F DB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LW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 A [ LD3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Nepriame registrov</a:t>
            </a: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 adres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9360" y="1859040"/>
            <a:ext cx="74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nepriamom registrovom adresovaní sa k výpočtu skutočnej adresy používa obsah adresového registra AR1 a ukazovátko (pointer P</a:t>
            </a: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Obidva obsahy majú predpísaný formát a výsledná adresa je daná súčtom obidvoch obsahov. Ukazovátko nie je fyzicky zobrazovaný register, je to hodnota v predpísanom formáte, ktorá vyjadruje posunutie voči obsahu AR a je uložená priamo v inštrukci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14360" y="3075120"/>
            <a:ext cx="475272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ah registra AR1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unutie P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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1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točná adres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27240" y="3938760"/>
            <a:ext cx="7302240" cy="17974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ýpočte však musia byť rešpektované vzťahy medzi slabikou a bit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ah registra AR1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unutie P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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točná adres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medzivýsledok ak je bi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bitov  = 1 slabika – 2b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47400" y="5562720"/>
            <a:ext cx="3940560" cy="8240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Korekci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kutočná adres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46320" y="6068880"/>
            <a:ext cx="41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7:34:08Z</dcterms:created>
  <dc:creator>Girman</dc:creator>
  <dc:description/>
  <dc:language>en-US</dc:language>
  <cp:lastModifiedBy>Girman</cp:lastModifiedBy>
  <dcterms:modified xsi:type="dcterms:W3CDTF">2002-01-29T09:58:29Z</dcterms:modified>
  <cp:revision>24</cp:revision>
  <dc:subject/>
  <dc:title>Adresovanie</dc:title>
</cp:coreProperties>
</file>