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97520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247E-C4BB-4D2C-ACFA-0FF3B44F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D6EE-B792-4697-A6DD-08CA0DE5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C76-32A8-4E63-BAC1-F6F3C597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D86-342C-4E3D-9A91-C3D61E3F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F3E9-B9CA-4991-B663-D8E7C79C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0BDA-9D11-49E8-92A2-E1191E7A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2217-8B94-46D0-B0FB-AF4E00DE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A583-0BB2-4535-A528-6B767973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CA36-7519-48B8-AEEF-745FBA35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5166-6949-4369-A437-31B11648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A5A8-C283-4B22-BC2B-C52A0702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37A3-2669-48B9-B64C-5D0D4D96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12F1-6BB7-4B3D-81F1-3362DDDE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D80D-AEB9-4664-A238-5474DF0C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EA4A-496F-4870-8629-62A87F6D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DB3E-7D6A-4F42-9EB6-6F03083A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42AE-3456-49A5-9938-19438439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5D7-747B-4FC7-B7C1-1C69122F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91B-15B6-400A-A80F-F02F51DE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414-E59A-4C40-9781-5527041C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068-1F3B-4784-A498-95207483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BEF-0454-440B-A868-D251B42A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485-B9C4-48E9-BB3F-FDCD003A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1F22-86E7-4F07-9610-768D2E68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6879-4B2E-4FF7-9667-C9301F437D0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A6C7-6215-4F2F-9BF8-B8E3765892B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ATP-C1.ppt" TargetMode="External"/><Relationship Id="rId2" Type="http://schemas.openxmlformats.org/officeDocument/2006/relationships/hyperlink" Target="file:///ATP-C2.ppt" TargetMode="External"/><Relationship Id="rId3" Type="http://schemas.openxmlformats.org/officeDocument/2006/relationships/hyperlink" Target="file:///ATP-C3.ppt" TargetMode="External"/><Relationship Id="rId4" Type="http://schemas.openxmlformats.org/officeDocument/2006/relationships/hyperlink" Target="file:///ATP-C4.ppt" TargetMode="External"/><Relationship Id="rId5" Type="http://schemas.openxmlformats.org/officeDocument/2006/relationships/hyperlink" Target="file:///ATP-C5.ppt" TargetMode="External"/><Relationship Id="rId6" Type="http://schemas.openxmlformats.org/officeDocument/2006/relationships/hyperlink" Target="file:///ATP-C5.ppt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A</a:t>
            </a:r>
            <a:r>
              <a:rPr b="0" lang="sk-SK" sz="3600" spc="-1" strike="noStrike">
                <a:solidFill>
                  <a:srgbClr val="221304"/>
                </a:solidFill>
                <a:latin typeface="Times New Roman"/>
              </a:rPr>
              <a:t>utomatizácia technologických procesov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sk-SK" sz="1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Program PLC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sk-SK" sz="18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Programovanie kombinačnej logi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sk-SK" sz="18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Programovanie obvodov s pamäťovými prvk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sk-SK" sz="18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Úlohy s časovými reláci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sk-SK" sz="18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Programova</a:t>
            </a:r>
            <a:r>
              <a:rPr b="0" lang="sk-SK" sz="1800" spc="-1" strike="noStrike" u="sng">
                <a:solidFill>
                  <a:srgbClr val="660066"/>
                </a:solidFill>
                <a:uFillTx/>
                <a:latin typeface="Times New Roman"/>
                <a:hlinkClick r:id="rId6"/>
              </a:rPr>
              <a:t> obsluha počítad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Písomná previer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Semestrálne zad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Matematická a logická podp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Práca s adres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.Popis syst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ému a dokumentá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Symbolické programova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Systémové informá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Chybové hlás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Obhajoba semestrálnych  zadaní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1066680" y="1752120"/>
            <a:ext cx="152424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PIC00002" descr=""/>
          <p:cNvPicPr/>
          <p:nvPr/>
        </p:nvPicPr>
        <p:blipFill>
          <a:blip r:embed="rId8"/>
          <a:stretch/>
        </p:blipFill>
        <p:spPr>
          <a:xfrm>
            <a:off x="1219320" y="1676520"/>
            <a:ext cx="3581280" cy="2925720"/>
          </a:xfrm>
          <a:prstGeom prst="rect">
            <a:avLst/>
          </a:prstGeom>
          <a:ln w="0">
            <a:noFill/>
          </a:ln>
        </p:spPr>
      </p:pic>
      <p:pic>
        <p:nvPicPr>
          <p:cNvPr id="93" name="PIC00001" descr=""/>
          <p:cNvPicPr/>
          <p:nvPr/>
        </p:nvPicPr>
        <p:blipFill>
          <a:blip r:embed="rId9"/>
          <a:stretch/>
        </p:blipFill>
        <p:spPr>
          <a:xfrm>
            <a:off x="1676520" y="4343400"/>
            <a:ext cx="3124080" cy="2011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8160" y="4495680"/>
            <a:ext cx="24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  3.ro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č.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anak4" descr=""/>
          <p:cNvPicPr/>
          <p:nvPr/>
        </p:nvPicPr>
        <p:blipFill>
          <a:blip r:embed="rId10"/>
          <a:stretch/>
        </p:blipFill>
        <p:spPr>
          <a:xfrm>
            <a:off x="7086600" y="228600"/>
            <a:ext cx="1752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08:02:08Z</dcterms:created>
  <dc:creator>Girman</dc:creator>
  <dc:description/>
  <dc:language>en-US</dc:language>
  <cp:lastModifiedBy>Girman</cp:lastModifiedBy>
  <dcterms:modified xsi:type="dcterms:W3CDTF">2002-02-05T08:40:41Z</dcterms:modified>
  <cp:revision>13</cp:revision>
  <dc:subject/>
  <dc:title>Automatizácia technologických procesov</dc:title>
</cp:coreProperties>
</file>