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12CA-719E-4520-96F8-D637237A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6E51-6C5C-44AE-8D1D-C73CF6E9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290F-E3F1-4ACF-906F-3CE53F99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0559-2737-4624-A0F5-97F5A591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8246-4403-41DC-BEC1-CD0C2429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1E97-6EF0-4513-85A4-5062BE1A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8BF4-026C-45EB-8E82-08459C8C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9B4A-9D46-49FA-A742-AE12D123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037B-FE74-4E50-B1BE-0FAB30F8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10EF-C18C-473C-827D-7463A9B4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F6AB-19FB-4BD8-B9D7-9048C43B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9A5D-4F51-44D3-A8B2-8C76A659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D1A8-1367-4AB3-BF76-9AE2E14B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6877-C13C-4724-9319-6FBF173A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0D0E-E54A-4579-BEDA-722FF082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971C-C0A3-4711-BF45-A385FE77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14CD-0FCB-4197-B38C-3212378A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AC6A-D6EA-4D4D-9FAA-681C3222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1522-5062-4998-A51A-E6B3CE33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FB9E-437B-452C-863F-F20E17CD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B17B-F00D-47B3-8F55-0301F7A7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0099-0267-4F2F-91D7-64027925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C99F-75D4-44BF-944D-08609D92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AFAA-E0E8-49C5-9FE7-5B357464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4EBB-60CA-4ADE-BDB5-80F3199C824C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75AD-6874-4973-8DFB-781424E00F2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221304"/>
                </a:solidFill>
                <a:latin typeface="Times New Roman"/>
              </a:rPr>
              <a:t>Úlohy s časovými reláciam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27160" y="1793880"/>
            <a:ext cx="7178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ždý logický procesor býva vybavený časovačmi, ktoré svojimi vlastnosťami umožňujú programovanie elementárnych činnosti, kde je premennou čas. Najčastejšie sa vyskytuj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otreb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skoreného zapnu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skoreného vypnu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taven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menlivého (programovateľného) ča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an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ča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ovan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yklických intervalov a p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587520" cy="533160"/>
          </a:xfrm>
          <a:custGeom>
            <a:avLst/>
            <a:gdLst>
              <a:gd name="textAreaLeft" fmla="*/ 34560 w 587520"/>
              <a:gd name="textAreaRight" fmla="*/ 552960 w 587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3801" h="21600">
                <a:moveTo>
                  <a:pt x="0" y="0"/>
                </a:moveTo>
                <a:lnTo>
                  <a:pt x="23801" y="0"/>
                </a:lnTo>
                <a:lnTo>
                  <a:pt x="23801" y="21600"/>
                </a:lnTo>
                <a:lnTo>
                  <a:pt x="0" y="21600"/>
                </a:lnTo>
                <a:close/>
              </a:path>
              <a:path fill="lightenLess" w="23801" h="21600">
                <a:moveTo>
                  <a:pt x="0" y="0"/>
                </a:moveTo>
                <a:lnTo>
                  <a:pt x="23801" y="0"/>
                </a:lnTo>
                <a:lnTo>
                  <a:pt x="22401" y="1400"/>
                </a:lnTo>
                <a:lnTo>
                  <a:pt x="1400" y="1400"/>
                </a:lnTo>
                <a:close/>
              </a:path>
              <a:path fill="darken" w="23801" h="21600">
                <a:moveTo>
                  <a:pt x="23801" y="0"/>
                </a:moveTo>
                <a:lnTo>
                  <a:pt x="23801" y="21600"/>
                </a:lnTo>
                <a:lnTo>
                  <a:pt x="22401" y="20200"/>
                </a:lnTo>
                <a:lnTo>
                  <a:pt x="22401" y="1400"/>
                </a:lnTo>
                <a:close/>
              </a:path>
              <a:path fill="darkenLess" w="23801" h="21600">
                <a:moveTo>
                  <a:pt x="23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1" y="20200"/>
                </a:lnTo>
                <a:close/>
              </a:path>
              <a:path fill="lighten" w="23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1" h="21600">
                <a:moveTo>
                  <a:pt x="4894" y="3794"/>
                </a:moveTo>
                <a:lnTo>
                  <a:pt x="18907" y="10800"/>
                </a:lnTo>
                <a:lnTo>
                  <a:pt x="48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112240" y="54244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7493"/>
                </a:moveTo>
                <a:lnTo>
                  <a:pt x="10895" y="7493"/>
                </a:lnTo>
                <a:lnTo>
                  <a:pt x="10895" y="12828"/>
                </a:lnTo>
                <a:cubicBezTo>
                  <a:pt x="10895" y="13751"/>
                  <a:pt x="11696" y="14482"/>
                  <a:pt x="12732" y="14482"/>
                </a:cubicBezTo>
                <a:lnTo>
                  <a:pt x="14394" y="14482"/>
                </a:lnTo>
                <a:cubicBezTo>
                  <a:pt x="15430" y="14482"/>
                  <a:pt x="16231" y="13751"/>
                  <a:pt x="16231" y="12828"/>
                </a:cubicBezTo>
                <a:lnTo>
                  <a:pt x="16231" y="7493"/>
                </a:lnTo>
                <a:lnTo>
                  <a:pt x="14394" y="7493"/>
                </a:lnTo>
                <a:lnTo>
                  <a:pt x="17902" y="3985"/>
                </a:lnTo>
                <a:lnTo>
                  <a:pt x="21575" y="7493"/>
                </a:lnTo>
                <a:lnTo>
                  <a:pt x="19738" y="7493"/>
                </a:lnTo>
                <a:lnTo>
                  <a:pt x="19738" y="12828"/>
                </a:lnTo>
                <a:cubicBezTo>
                  <a:pt x="19738" y="15596"/>
                  <a:pt x="17162" y="18155"/>
                  <a:pt x="14394" y="18155"/>
                </a:cubicBezTo>
                <a:lnTo>
                  <a:pt x="12732" y="18155"/>
                </a:lnTo>
                <a:cubicBezTo>
                  <a:pt x="9964" y="18155"/>
                  <a:pt x="7388" y="15596"/>
                  <a:pt x="7388" y="12828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O</a:t>
            </a:r>
            <a:r>
              <a:rPr b="1" lang="sk-SK" sz="3600" spc="-1" strike="noStrike">
                <a:solidFill>
                  <a:srgbClr val="221304"/>
                </a:solidFill>
                <a:latin typeface="Times New Roman"/>
              </a:rPr>
              <a:t>tázky k cvičeniu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176480" y="1800360"/>
            <a:ext cx="64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58920" y="1589040"/>
            <a:ext cx="744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imes New Roman"/>
              </a:rPr>
              <a:t>Kde je uložená predvoľba časovač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imes New Roman"/>
              </a:rPr>
              <a:t>Ktoré informácie na vstupe vyžaduje časovač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imes New Roman"/>
              </a:rPr>
              <a:t>Aký účinok má vstup F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imes New Roman"/>
              </a:rPr>
              <a:t>Aký formát má predvoľba časovač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panak1" descr=""/>
          <p:cNvPicPr/>
          <p:nvPr/>
        </p:nvPicPr>
        <p:blipFill>
          <a:blip r:embed="rId1"/>
          <a:stretch/>
        </p:blipFill>
        <p:spPr>
          <a:xfrm>
            <a:off x="1897200" y="4606920"/>
            <a:ext cx="167616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81080" y="1447920"/>
            <a:ext cx="4515120" cy="510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221304"/>
                </a:solidFill>
                <a:latin typeface="Times New Roman"/>
              </a:rPr>
              <a:t>Základná obsluha časovačov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00560" y="3587760"/>
            <a:ext cx="168120" cy="1490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787480" y="2976480"/>
            <a:ext cx="136800" cy="147600"/>
            <a:chOff x="2787480" y="2976480"/>
            <a:chExt cx="136800" cy="147600"/>
          </a:xfrm>
        </p:grpSpPr>
        <p:sp>
          <p:nvSpPr>
            <p:cNvPr id="99" name=""/>
            <p:cNvSpPr/>
            <p:nvPr/>
          </p:nvSpPr>
          <p:spPr>
            <a:xfrm>
              <a:off x="2787480" y="297648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24280" y="297648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2685960" y="1727280"/>
            <a:ext cx="1800" cy="79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85960" y="200664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990880" y="1864800"/>
            <a:ext cx="14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97360" y="1863720"/>
            <a:ext cx="339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36840" y="1865160"/>
            <a:ext cx="1800" cy="1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35400" y="199692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619440" y="1859040"/>
            <a:ext cx="180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19440" y="1857240"/>
            <a:ext cx="220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41920" y="1857240"/>
            <a:ext cx="14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44800" y="1996920"/>
            <a:ext cx="298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85960" y="2428920"/>
            <a:ext cx="40968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095640" y="2301840"/>
            <a:ext cx="144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95640" y="2300400"/>
            <a:ext cx="21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17760" y="2300400"/>
            <a:ext cx="180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21000" y="2438280"/>
            <a:ext cx="841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81160" y="2063880"/>
            <a:ext cx="1800" cy="171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95640" y="2174760"/>
            <a:ext cx="1440" cy="95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76400" y="2174760"/>
            <a:ext cx="40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67360" y="1905120"/>
            <a:ext cx="59040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81360" y="2101680"/>
            <a:ext cx="4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67480" y="2082960"/>
            <a:ext cx="48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67160" y="2016000"/>
            <a:ext cx="6001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k-SK" sz="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 &lt;  T</a:t>
            </a:r>
            <a:r>
              <a:rPr b="1" lang="sk-SK" sz="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62160" y="1819440"/>
            <a:ext cx="5047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Vst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0320" y="2212920"/>
            <a:ext cx="504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Výst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52720" y="1971720"/>
            <a:ext cx="352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k-SK" sz="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72120" y="2184480"/>
            <a:ext cx="35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72120" y="214956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14840" y="214956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52920" y="1895400"/>
            <a:ext cx="4572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E 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29200" y="1943280"/>
            <a:ext cx="352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k-SK" sz="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00720" y="1943280"/>
            <a:ext cx="2952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34080" y="1857240"/>
            <a:ext cx="4572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A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14880" y="1638360"/>
            <a:ext cx="4572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T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1480" y="2860560"/>
            <a:ext cx="61920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33680" y="2784600"/>
            <a:ext cx="14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33680" y="3030480"/>
            <a:ext cx="266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24280" y="3040200"/>
            <a:ext cx="450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16160" y="3703680"/>
            <a:ext cx="266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16160" y="3397320"/>
            <a:ext cx="266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19400" y="3056040"/>
            <a:ext cx="266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19400" y="3236760"/>
            <a:ext cx="266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19400" y="3665520"/>
            <a:ext cx="266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49600" y="2755800"/>
            <a:ext cx="466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E 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64120" y="3365640"/>
            <a:ext cx="466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A 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63720" y="3189240"/>
            <a:ext cx="695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KT  30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73520" y="3573360"/>
            <a:ext cx="3999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3241800"/>
            <a:ext cx="4003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T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4480" y="2935440"/>
            <a:ext cx="3999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63840" y="3583080"/>
            <a:ext cx="3999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06920" y="2922480"/>
            <a:ext cx="3999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D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16280" y="3112920"/>
            <a:ext cx="3999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71960" y="2654280"/>
            <a:ext cx="1247760" cy="100476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Times New Roman"/>
              </a:rPr>
              <a:t>UE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66"/>
                </a:solidFill>
                <a:latin typeface="Times New Roman"/>
              </a:rPr>
              <a:t>LKT30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Times New Roman"/>
              </a:rPr>
              <a:t>SET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Times New Roman"/>
              </a:rPr>
              <a:t>UT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Times New Roman"/>
              </a:rPr>
              <a:t>=A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94080" y="6134040"/>
            <a:ext cx="169920" cy="1508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797200" y="5524560"/>
            <a:ext cx="136440" cy="147600"/>
            <a:chOff x="2797200" y="5524560"/>
            <a:chExt cx="136440" cy="147600"/>
          </a:xfrm>
        </p:grpSpPr>
        <p:sp>
          <p:nvSpPr>
            <p:cNvPr id="155" name=""/>
            <p:cNvSpPr/>
            <p:nvPr/>
          </p:nvSpPr>
          <p:spPr>
            <a:xfrm>
              <a:off x="2797200" y="552456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33640" y="552456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390840" y="5407200"/>
            <a:ext cx="619200" cy="9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43040" y="5334120"/>
            <a:ext cx="18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43040" y="5587920"/>
            <a:ext cx="247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33640" y="5591160"/>
            <a:ext cx="451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1200" y="6251400"/>
            <a:ext cx="266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2640" y="5940360"/>
            <a:ext cx="266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29120" y="5603760"/>
            <a:ext cx="266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29120" y="5781600"/>
            <a:ext cx="266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19400" y="6203880"/>
            <a:ext cx="266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58960" y="5305320"/>
            <a:ext cx="4669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E 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64120" y="5518080"/>
            <a:ext cx="466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A 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73440" y="5737320"/>
            <a:ext cx="6951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KT  30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82880" y="6118200"/>
            <a:ext cx="4003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54480" y="5791320"/>
            <a:ext cx="3999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T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63840" y="5483160"/>
            <a:ext cx="3999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73560" y="6127920"/>
            <a:ext cx="3999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16280" y="5483160"/>
            <a:ext cx="3999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D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26000" y="5670720"/>
            <a:ext cx="3999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43680" y="4621320"/>
            <a:ext cx="59040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57680" y="4867200"/>
            <a:ext cx="4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43440" y="4848120"/>
            <a:ext cx="4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48440" y="4952880"/>
            <a:ext cx="352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48440" y="492444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91160" y="492444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29240" y="4657680"/>
            <a:ext cx="4572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E 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29160" y="4659480"/>
            <a:ext cx="352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k-SK" sz="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43680" y="4668840"/>
            <a:ext cx="2952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10400" y="4619520"/>
            <a:ext cx="4572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A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91200" y="4400640"/>
            <a:ext cx="4572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67160" y="5203800"/>
            <a:ext cx="4572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57440" y="2676600"/>
            <a:ext cx="4572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T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52880" y="5397480"/>
            <a:ext cx="1247760" cy="100476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Times New Roman"/>
              </a:rPr>
              <a:t>UE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66"/>
                </a:solidFill>
                <a:latin typeface="Times New Roman"/>
              </a:rPr>
              <a:t>LKT30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Times New Roman"/>
              </a:rPr>
              <a:t>SAT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Times New Roman"/>
              </a:rPr>
              <a:t>UT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Times New Roman"/>
              </a:rPr>
              <a:t>=A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90720" y="4151160"/>
            <a:ext cx="180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0720" y="4433760"/>
            <a:ext cx="295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086280" y="4293720"/>
            <a:ext cx="14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86280" y="4292640"/>
            <a:ext cx="34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8360" y="4295880"/>
            <a:ext cx="180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38360" y="4429080"/>
            <a:ext cx="28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724200" y="428436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24200" y="428616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73600" y="4286160"/>
            <a:ext cx="1440" cy="1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076560" y="4724280"/>
            <a:ext cx="1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76560" y="4722840"/>
            <a:ext cx="525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05040" y="4732200"/>
            <a:ext cx="1800" cy="1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4481640"/>
            <a:ext cx="1440" cy="171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10080" y="4621320"/>
            <a:ext cx="1440" cy="95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19480" y="4640400"/>
            <a:ext cx="39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05080" y="4640400"/>
            <a:ext cx="5047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V7st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62240" y="4443480"/>
            <a:ext cx="352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k-SK" sz="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797200" y="4873680"/>
            <a:ext cx="279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718080" y="4724280"/>
            <a:ext cx="1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18080" y="4722840"/>
            <a:ext cx="704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27640" y="4730760"/>
            <a:ext cx="144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24200" y="4491000"/>
            <a:ext cx="1800" cy="171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10080" y="4873680"/>
            <a:ext cx="104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029120" y="428292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29120" y="428616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81400" y="4287960"/>
            <a:ext cx="180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76840" y="4424400"/>
            <a:ext cx="152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83200" y="442584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587520" cy="533160"/>
          </a:xfrm>
          <a:custGeom>
            <a:avLst/>
            <a:gdLst>
              <a:gd name="textAreaLeft" fmla="*/ 34560 w 587520"/>
              <a:gd name="textAreaRight" fmla="*/ 552960 w 587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3801" h="21600">
                <a:moveTo>
                  <a:pt x="0" y="0"/>
                </a:moveTo>
                <a:lnTo>
                  <a:pt x="23801" y="0"/>
                </a:lnTo>
                <a:lnTo>
                  <a:pt x="23801" y="21600"/>
                </a:lnTo>
                <a:lnTo>
                  <a:pt x="0" y="21600"/>
                </a:lnTo>
                <a:close/>
              </a:path>
              <a:path fill="lightenLess" w="23801" h="21600">
                <a:moveTo>
                  <a:pt x="0" y="0"/>
                </a:moveTo>
                <a:lnTo>
                  <a:pt x="23801" y="0"/>
                </a:lnTo>
                <a:lnTo>
                  <a:pt x="22401" y="1400"/>
                </a:lnTo>
                <a:lnTo>
                  <a:pt x="1400" y="1400"/>
                </a:lnTo>
                <a:close/>
              </a:path>
              <a:path fill="darken" w="23801" h="21600">
                <a:moveTo>
                  <a:pt x="23801" y="0"/>
                </a:moveTo>
                <a:lnTo>
                  <a:pt x="23801" y="21600"/>
                </a:lnTo>
                <a:lnTo>
                  <a:pt x="22401" y="20200"/>
                </a:lnTo>
                <a:lnTo>
                  <a:pt x="22401" y="1400"/>
                </a:lnTo>
                <a:close/>
              </a:path>
              <a:path fill="darkenLess" w="23801" h="21600">
                <a:moveTo>
                  <a:pt x="23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1" y="20200"/>
                </a:lnTo>
                <a:close/>
              </a:path>
              <a:path fill="lighten" w="23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1" h="21600">
                <a:moveTo>
                  <a:pt x="4894" y="3794"/>
                </a:moveTo>
                <a:lnTo>
                  <a:pt x="18907" y="10800"/>
                </a:lnTo>
                <a:lnTo>
                  <a:pt x="48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Gener</a:t>
            </a:r>
            <a:r>
              <a:rPr b="1" lang="sk-SK" sz="3600" spc="-1" strike="noStrike">
                <a:solidFill>
                  <a:srgbClr val="221304"/>
                </a:solidFill>
                <a:latin typeface="Times New Roman"/>
              </a:rPr>
              <a:t>á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tor impulzov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1752480"/>
            <a:ext cx="3886200" cy="2057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05120" y="251460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342900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2057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05120" y="2286000"/>
            <a:ext cx="2895120" cy="228600"/>
            <a:chOff x="1905120" y="2286000"/>
            <a:chExt cx="2895120" cy="228600"/>
          </a:xfrm>
        </p:grpSpPr>
        <p:sp>
          <p:nvSpPr>
            <p:cNvPr id="226" name=""/>
            <p:cNvSpPr/>
            <p:nvPr/>
          </p:nvSpPr>
          <p:spPr>
            <a:xfrm>
              <a:off x="1905120" y="2514600"/>
              <a:ext cx="361800" cy="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38440" y="2286000"/>
              <a:ext cx="0" cy="22860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66920" y="2286000"/>
              <a:ext cx="2171160" cy="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66920" y="2286000"/>
              <a:ext cx="0" cy="22860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38440" y="2514600"/>
              <a:ext cx="361800" cy="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981080" y="3200400"/>
            <a:ext cx="2743200" cy="228600"/>
            <a:chOff x="1981080" y="3200400"/>
            <a:chExt cx="2743200" cy="228600"/>
          </a:xfrm>
        </p:grpSpPr>
        <p:sp>
          <p:nvSpPr>
            <p:cNvPr id="232" name=""/>
            <p:cNvSpPr/>
            <p:nvPr/>
          </p:nvSpPr>
          <p:spPr>
            <a:xfrm>
              <a:off x="1981080" y="3429000"/>
              <a:ext cx="3049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286000" y="3200400"/>
              <a:ext cx="609480" cy="228600"/>
              <a:chOff x="2286000" y="3200400"/>
              <a:chExt cx="609480" cy="228600"/>
            </a:xfrm>
          </p:grpSpPr>
          <p:sp>
            <p:nvSpPr>
              <p:cNvPr id="234" name=""/>
              <p:cNvSpPr/>
              <p:nvPr/>
            </p:nvSpPr>
            <p:spPr>
              <a:xfrm>
                <a:off x="2286000" y="3200400"/>
                <a:ext cx="0" cy="228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286000" y="3200400"/>
                <a:ext cx="30492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590920" y="3200400"/>
                <a:ext cx="0" cy="228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590920" y="3429000"/>
                <a:ext cx="30456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2895480" y="3200400"/>
              <a:ext cx="609480" cy="228600"/>
              <a:chOff x="2895480" y="3200400"/>
              <a:chExt cx="609480" cy="228600"/>
            </a:xfrm>
          </p:grpSpPr>
          <p:sp>
            <p:nvSpPr>
              <p:cNvPr id="239" name=""/>
              <p:cNvSpPr/>
              <p:nvPr/>
            </p:nvSpPr>
            <p:spPr>
              <a:xfrm>
                <a:off x="2895480" y="3200400"/>
                <a:ext cx="0" cy="228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895480" y="3200400"/>
                <a:ext cx="30492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200400" y="3200400"/>
                <a:ext cx="0" cy="228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200400" y="3429000"/>
                <a:ext cx="30456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505320" y="3200400"/>
              <a:ext cx="609480" cy="228600"/>
              <a:chOff x="3505320" y="3200400"/>
              <a:chExt cx="609480" cy="228600"/>
            </a:xfrm>
          </p:grpSpPr>
          <p:sp>
            <p:nvSpPr>
              <p:cNvPr id="244" name=""/>
              <p:cNvSpPr/>
              <p:nvPr/>
            </p:nvSpPr>
            <p:spPr>
              <a:xfrm>
                <a:off x="3505320" y="3200400"/>
                <a:ext cx="0" cy="228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505320" y="3200400"/>
                <a:ext cx="30492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10240" y="3200400"/>
                <a:ext cx="0" cy="228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810240" y="3429000"/>
                <a:ext cx="30456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4114800" y="3200400"/>
              <a:ext cx="609480" cy="228600"/>
              <a:chOff x="4114800" y="3200400"/>
              <a:chExt cx="609480" cy="228600"/>
            </a:xfrm>
          </p:grpSpPr>
          <p:sp>
            <p:nvSpPr>
              <p:cNvPr id="249" name=""/>
              <p:cNvSpPr/>
              <p:nvPr/>
            </p:nvSpPr>
            <p:spPr>
              <a:xfrm>
                <a:off x="4114800" y="3200400"/>
                <a:ext cx="0" cy="228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114800" y="3200400"/>
                <a:ext cx="30492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19720" y="3200400"/>
                <a:ext cx="0" cy="228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419720" y="3429000"/>
                <a:ext cx="30456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1372680" y="213372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E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72680" y="31240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A 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21040" y="1866960"/>
            <a:ext cx="1616400" cy="33858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E 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A 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A 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A 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A 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143000" y="4038480"/>
            <a:ext cx="3886200" cy="2364480"/>
            <a:chOff x="1143000" y="4038480"/>
            <a:chExt cx="3886200" cy="2364480"/>
          </a:xfrm>
        </p:grpSpPr>
        <p:sp>
          <p:nvSpPr>
            <p:cNvPr id="257" name=""/>
            <p:cNvSpPr/>
            <p:nvPr/>
          </p:nvSpPr>
          <p:spPr>
            <a:xfrm>
              <a:off x="1143000" y="4038480"/>
              <a:ext cx="3886200" cy="23623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1295280" y="4343400"/>
              <a:ext cx="3586680" cy="762120"/>
              <a:chOff x="1295280" y="4343400"/>
              <a:chExt cx="3586680" cy="762120"/>
            </a:xfrm>
          </p:grpSpPr>
          <p:sp>
            <p:nvSpPr>
              <p:cNvPr id="259" name=""/>
              <p:cNvSpPr/>
              <p:nvPr/>
            </p:nvSpPr>
            <p:spPr>
              <a:xfrm>
                <a:off x="4192200" y="4419720"/>
                <a:ext cx="68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800" spc="-1" strike="noStrike">
                    <a:solidFill>
                      <a:srgbClr val="000000"/>
                    </a:solidFill>
                    <a:latin typeface="Times New Roman"/>
                  </a:rPr>
                  <a:t>A 1.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52680" y="4343400"/>
                <a:ext cx="533520" cy="76212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886200" y="48769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419720" y="4800600"/>
                <a:ext cx="228600" cy="228600"/>
              </a:xfrm>
              <a:prstGeom prst="bracketPair">
                <a:avLst>
                  <a:gd name="adj" fmla="val 17129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582720" y="472428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278160" y="47242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400" spc="-1" strike="noStrike">
                    <a:solidFill>
                      <a:srgbClr val="000000"/>
                    </a:solidFill>
                    <a:latin typeface="Times New Roman"/>
                  </a:rPr>
                  <a:t>T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277800" y="43434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819520" y="449568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19520" y="487692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8" name=""/>
              <p:cNvGrpSpPr/>
              <p:nvPr/>
            </p:nvGrpSpPr>
            <p:grpSpPr>
              <a:xfrm>
                <a:off x="2590920" y="4419720"/>
                <a:ext cx="228600" cy="228600"/>
                <a:chOff x="2590920" y="4419720"/>
                <a:chExt cx="228600" cy="228600"/>
              </a:xfrm>
            </p:grpSpPr>
            <p:grpSp>
              <p:nvGrpSpPr>
                <p:cNvPr id="269" name=""/>
                <p:cNvGrpSpPr/>
                <p:nvPr/>
              </p:nvGrpSpPr>
              <p:grpSpPr>
                <a:xfrm>
                  <a:off x="2590920" y="4419720"/>
                  <a:ext cx="228600" cy="228600"/>
                  <a:chOff x="2590920" y="4419720"/>
                  <a:chExt cx="228600" cy="22860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2590920" y="4419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2819520" y="4419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2" name=""/>
                <p:cNvSpPr/>
                <p:nvPr/>
              </p:nvSpPr>
              <p:spPr>
                <a:xfrm flipH="1">
                  <a:off x="2667240" y="4419720"/>
                  <a:ext cx="763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1295280" y="44956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1828800" y="4419720"/>
                <a:ext cx="228600" cy="228600"/>
                <a:chOff x="1828800" y="4419720"/>
                <a:chExt cx="228600" cy="22860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1828800" y="44197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057400" y="44197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2057400" y="44956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4192200" y="541008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Times New Roman"/>
                </a:rPr>
                <a:t>A 1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52680" y="5334120"/>
              <a:ext cx="533520" cy="76176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86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5791320"/>
              <a:ext cx="228600" cy="22860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582720" y="571500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78160" y="571500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T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77800" y="5334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19520" y="54864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19520" y="5867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2590920" y="5410080"/>
              <a:ext cx="228600" cy="228600"/>
              <a:chOff x="2590920" y="5410080"/>
              <a:chExt cx="228600" cy="22860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2590920" y="5410080"/>
                <a:ext cx="228600" cy="228600"/>
                <a:chOff x="2590920" y="5410080"/>
                <a:chExt cx="228600" cy="22860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590920" y="54100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19520" y="54100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" name=""/>
              <p:cNvSpPr/>
              <p:nvPr/>
            </p:nvSpPr>
            <p:spPr>
              <a:xfrm flipH="1">
                <a:off x="2667240" y="541008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1295280" y="548640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95280" y="426708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77240" y="4114800"/>
              <a:ext cx="52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E1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39360" y="4114800"/>
              <a:ext cx="53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A1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363400" y="5105520"/>
              <a:ext cx="53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A1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54120" y="403848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30080" y="609588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587520" cy="533160"/>
          </a:xfrm>
          <a:custGeom>
            <a:avLst/>
            <a:gdLst>
              <a:gd name="textAreaLeft" fmla="*/ 34560 w 587520"/>
              <a:gd name="textAreaRight" fmla="*/ 552960 w 587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3801" h="21600">
                <a:moveTo>
                  <a:pt x="0" y="0"/>
                </a:moveTo>
                <a:lnTo>
                  <a:pt x="23801" y="0"/>
                </a:lnTo>
                <a:lnTo>
                  <a:pt x="23801" y="21600"/>
                </a:lnTo>
                <a:lnTo>
                  <a:pt x="0" y="21600"/>
                </a:lnTo>
                <a:close/>
              </a:path>
              <a:path fill="lightenLess" w="23801" h="21600">
                <a:moveTo>
                  <a:pt x="0" y="0"/>
                </a:moveTo>
                <a:lnTo>
                  <a:pt x="23801" y="0"/>
                </a:lnTo>
                <a:lnTo>
                  <a:pt x="22401" y="1400"/>
                </a:lnTo>
                <a:lnTo>
                  <a:pt x="1400" y="1400"/>
                </a:lnTo>
                <a:close/>
              </a:path>
              <a:path fill="darken" w="23801" h="21600">
                <a:moveTo>
                  <a:pt x="23801" y="0"/>
                </a:moveTo>
                <a:lnTo>
                  <a:pt x="23801" y="21600"/>
                </a:lnTo>
                <a:lnTo>
                  <a:pt x="22401" y="20200"/>
                </a:lnTo>
                <a:lnTo>
                  <a:pt x="22401" y="1400"/>
                </a:lnTo>
                <a:close/>
              </a:path>
              <a:path fill="darkenLess" w="23801" h="21600">
                <a:moveTo>
                  <a:pt x="23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1" y="20200"/>
                </a:lnTo>
                <a:close/>
              </a:path>
              <a:path fill="lighten" w="23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1" h="21600">
                <a:moveTo>
                  <a:pt x="4894" y="3794"/>
                </a:moveTo>
                <a:lnTo>
                  <a:pt x="18907" y="10800"/>
                </a:lnTo>
                <a:lnTo>
                  <a:pt x="48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F</a:t>
            </a:r>
            <a:r>
              <a:rPr b="1" lang="sk-SK" sz="3600" spc="-1" strike="noStrike">
                <a:solidFill>
                  <a:srgbClr val="221304"/>
                </a:solidFill>
                <a:latin typeface="Times New Roman"/>
              </a:rPr>
              <a:t>á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zov</a:t>
            </a:r>
            <a:r>
              <a:rPr b="1" lang="sk-SK" sz="3600" spc="-1" strike="noStrike">
                <a:solidFill>
                  <a:srgbClr val="221304"/>
                </a:solidFill>
                <a:latin typeface="Times New Roman"/>
              </a:rPr>
              <a:t>é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 riadenie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84760" y="1766880"/>
            <a:ext cx="73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Zostavte program pre generovanie nasledujúcich časových priebeho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143000" y="2209680"/>
            <a:ext cx="3733920" cy="1828800"/>
            <a:chOff x="1143000" y="2209680"/>
            <a:chExt cx="3733920" cy="1828800"/>
          </a:xfrm>
        </p:grpSpPr>
        <p:sp>
          <p:nvSpPr>
            <p:cNvPr id="305" name=""/>
            <p:cNvSpPr/>
            <p:nvPr/>
          </p:nvSpPr>
          <p:spPr>
            <a:xfrm>
              <a:off x="1143000" y="2209680"/>
              <a:ext cx="3733920" cy="182880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52480" y="2983320"/>
              <a:ext cx="3812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33720" y="2772000"/>
              <a:ext cx="0" cy="2109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33720" y="2772000"/>
              <a:ext cx="3045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38280" y="2772000"/>
              <a:ext cx="0" cy="2109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38280" y="2983320"/>
              <a:ext cx="9144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38280" y="3123720"/>
              <a:ext cx="0" cy="2109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38280" y="3123720"/>
              <a:ext cx="3049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3200" y="3123720"/>
              <a:ext cx="0" cy="2109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334680"/>
              <a:ext cx="9144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3962520" y="3475800"/>
              <a:ext cx="609480" cy="210960"/>
              <a:chOff x="3962520" y="3475800"/>
              <a:chExt cx="609480" cy="210960"/>
            </a:xfrm>
          </p:grpSpPr>
          <p:sp>
            <p:nvSpPr>
              <p:cNvPr id="316" name=""/>
              <p:cNvSpPr/>
              <p:nvPr/>
            </p:nvSpPr>
            <p:spPr>
              <a:xfrm>
                <a:off x="3962520" y="3475800"/>
                <a:ext cx="0" cy="21096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962520" y="3475800"/>
                <a:ext cx="30492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67440" y="3475800"/>
                <a:ext cx="0" cy="21096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267440" y="3686760"/>
                <a:ext cx="30456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3352680" y="2772000"/>
              <a:ext cx="0" cy="2109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352680" y="2772000"/>
              <a:ext cx="3049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57600" y="2772000"/>
              <a:ext cx="0" cy="2109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57600" y="2983320"/>
              <a:ext cx="9907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1752480" y="2420640"/>
              <a:ext cx="2895480" cy="210960"/>
              <a:chOff x="1752480" y="2420640"/>
              <a:chExt cx="2895480" cy="210960"/>
            </a:xfrm>
          </p:grpSpPr>
          <p:sp>
            <p:nvSpPr>
              <p:cNvPr id="325" name=""/>
              <p:cNvSpPr/>
              <p:nvPr/>
            </p:nvSpPr>
            <p:spPr>
              <a:xfrm>
                <a:off x="1752480" y="2631600"/>
                <a:ext cx="361800" cy="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286160" y="2420640"/>
                <a:ext cx="0" cy="21096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114280" y="2420640"/>
                <a:ext cx="2171520" cy="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114280" y="2420640"/>
                <a:ext cx="0" cy="21096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86160" y="2631600"/>
                <a:ext cx="361800" cy="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3657600" y="3123720"/>
              <a:ext cx="0" cy="2109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57600" y="3123720"/>
              <a:ext cx="3049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962520" y="3123720"/>
              <a:ext cx="0" cy="2109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962520" y="3334680"/>
              <a:ext cx="685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43200" y="3475800"/>
              <a:ext cx="0" cy="2109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43200" y="3475800"/>
              <a:ext cx="3049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48120" y="3475800"/>
              <a:ext cx="0" cy="2109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48120" y="3686760"/>
              <a:ext cx="9144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52480" y="3334680"/>
              <a:ext cx="685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52480" y="3686760"/>
              <a:ext cx="9907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95280" y="227952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Times New Roman"/>
                </a:rPr>
                <a:t>E 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95280" y="26316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Times New Roman"/>
                </a:rPr>
                <a:t>A 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95280" y="33346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Times New Roman"/>
                </a:rPr>
                <a:t>A 0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95280" y="298332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Times New Roman"/>
                </a:rPr>
                <a:t>A 0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952880" y="2209680"/>
            <a:ext cx="3733920" cy="41148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82920" y="35812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A 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075440" y="3505320"/>
            <a:ext cx="512640" cy="76176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588080" y="4038480"/>
            <a:ext cx="51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01080" y="3962520"/>
            <a:ext cx="218880" cy="2286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297560" y="388620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00380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T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00344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564240" y="365760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64240" y="403848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6343560" y="3581280"/>
            <a:ext cx="220680" cy="228600"/>
            <a:chOff x="6343560" y="3581280"/>
            <a:chExt cx="220680" cy="228600"/>
          </a:xfrm>
        </p:grpSpPr>
        <p:grpSp>
          <p:nvGrpSpPr>
            <p:cNvPr id="355" name=""/>
            <p:cNvGrpSpPr/>
            <p:nvPr/>
          </p:nvGrpSpPr>
          <p:grpSpPr>
            <a:xfrm>
              <a:off x="6343560" y="3581280"/>
              <a:ext cx="220680" cy="228600"/>
              <a:chOff x="6343560" y="3581280"/>
              <a:chExt cx="220680" cy="228600"/>
            </a:xfrm>
          </p:grpSpPr>
          <p:sp>
            <p:nvSpPr>
              <p:cNvPr id="356" name=""/>
              <p:cNvSpPr/>
              <p:nvPr/>
            </p:nvSpPr>
            <p:spPr>
              <a:xfrm>
                <a:off x="6343560" y="3581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564240" y="3581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 flipH="1">
              <a:off x="6417000" y="3581280"/>
              <a:ext cx="73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099040" y="365760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99040" y="2438280"/>
            <a:ext cx="648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25760" y="32767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A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099040" y="2209680"/>
            <a:ext cx="3473280" cy="1067040"/>
            <a:chOff x="5099040" y="2209680"/>
            <a:chExt cx="3473280" cy="1067040"/>
          </a:xfrm>
        </p:grpSpPr>
        <p:grpSp>
          <p:nvGrpSpPr>
            <p:cNvPr id="363" name=""/>
            <p:cNvGrpSpPr/>
            <p:nvPr/>
          </p:nvGrpSpPr>
          <p:grpSpPr>
            <a:xfrm>
              <a:off x="5099040" y="2514600"/>
              <a:ext cx="3473280" cy="762120"/>
              <a:chOff x="5099040" y="2514600"/>
              <a:chExt cx="3473280" cy="762120"/>
            </a:xfrm>
          </p:grpSpPr>
          <p:sp>
            <p:nvSpPr>
              <p:cNvPr id="364" name=""/>
              <p:cNvSpPr/>
              <p:nvPr/>
            </p:nvSpPr>
            <p:spPr>
              <a:xfrm>
                <a:off x="7882560" y="2590920"/>
                <a:ext cx="68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800" spc="-1" strike="noStrike">
                    <a:solidFill>
                      <a:srgbClr val="000000"/>
                    </a:solidFill>
                    <a:latin typeface="Times New Roman"/>
                  </a:rPr>
                  <a:t>A 0.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075800" y="2514600"/>
                <a:ext cx="512640" cy="76212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588440" y="3048120"/>
                <a:ext cx="51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101080" y="2971800"/>
                <a:ext cx="219600" cy="228600"/>
              </a:xfrm>
              <a:prstGeom prst="bracketPair">
                <a:avLst>
                  <a:gd name="adj" fmla="val 17129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297200" y="289548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003800" y="28954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400" spc="-1" strike="noStrike">
                    <a:solidFill>
                      <a:srgbClr val="000000"/>
                    </a:solidFill>
                    <a:latin typeface="Times New Roman"/>
                  </a:rPr>
                  <a:t>T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03800" y="25146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563520" y="2666880"/>
                <a:ext cx="51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63520" y="3048120"/>
                <a:ext cx="51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6343920" y="2590920"/>
                <a:ext cx="219600" cy="228600"/>
                <a:chOff x="6343920" y="2590920"/>
                <a:chExt cx="219600" cy="228600"/>
              </a:xfrm>
            </p:grpSpPr>
            <p:grpSp>
              <p:nvGrpSpPr>
                <p:cNvPr id="374" name=""/>
                <p:cNvGrpSpPr/>
                <p:nvPr/>
              </p:nvGrpSpPr>
              <p:grpSpPr>
                <a:xfrm>
                  <a:off x="6343920" y="2590920"/>
                  <a:ext cx="219600" cy="228600"/>
                  <a:chOff x="6343920" y="2590920"/>
                  <a:chExt cx="219600" cy="22860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343920" y="25909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563520" y="25909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7" name=""/>
                <p:cNvSpPr/>
                <p:nvPr/>
              </p:nvSpPr>
              <p:spPr>
                <a:xfrm flipH="1">
                  <a:off x="6416640" y="2590920"/>
                  <a:ext cx="730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"/>
              <p:cNvSpPr/>
              <p:nvPr/>
            </p:nvSpPr>
            <p:spPr>
              <a:xfrm>
                <a:off x="5099040" y="2666880"/>
                <a:ext cx="51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5611680" y="2590920"/>
                <a:ext cx="219600" cy="228600"/>
                <a:chOff x="5611680" y="2590920"/>
                <a:chExt cx="219600" cy="22860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5611680" y="25909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831280" y="25909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2" name=""/>
              <p:cNvSpPr/>
              <p:nvPr/>
            </p:nvSpPr>
            <p:spPr>
              <a:xfrm>
                <a:off x="5831280" y="2666880"/>
                <a:ext cx="51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5466600" y="2286000"/>
              <a:ext cx="52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E1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98840" y="2286000"/>
              <a:ext cx="53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A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076520" y="220968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7151400" y="426708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5105520" y="4876920"/>
            <a:ext cx="3473280" cy="761760"/>
            <a:chOff x="5105520" y="4876920"/>
            <a:chExt cx="3473280" cy="761760"/>
          </a:xfrm>
        </p:grpSpPr>
        <p:sp>
          <p:nvSpPr>
            <p:cNvPr id="388" name=""/>
            <p:cNvSpPr/>
            <p:nvPr/>
          </p:nvSpPr>
          <p:spPr>
            <a:xfrm>
              <a:off x="7889040" y="495288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Times New Roman"/>
                </a:rPr>
                <a:t>A 0.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082280" y="4876920"/>
              <a:ext cx="512640" cy="76176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94920" y="5410080"/>
              <a:ext cx="51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107560" y="5333760"/>
              <a:ext cx="219600" cy="22824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303680" y="525744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010280" y="52574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T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010280" y="4876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570000" y="5028840"/>
              <a:ext cx="51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570000" y="5410080"/>
              <a:ext cx="51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6350400" y="4952880"/>
              <a:ext cx="219600" cy="228240"/>
              <a:chOff x="6350400" y="4952880"/>
              <a:chExt cx="219600" cy="228240"/>
            </a:xfrm>
          </p:grpSpPr>
          <p:grpSp>
            <p:nvGrpSpPr>
              <p:cNvPr id="398" name=""/>
              <p:cNvGrpSpPr/>
              <p:nvPr/>
            </p:nvGrpSpPr>
            <p:grpSpPr>
              <a:xfrm>
                <a:off x="6350400" y="4952880"/>
                <a:ext cx="219600" cy="228240"/>
                <a:chOff x="6350400" y="4952880"/>
                <a:chExt cx="219600" cy="2282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6350400" y="495288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570000" y="495288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1" name=""/>
              <p:cNvSpPr/>
              <p:nvPr/>
            </p:nvSpPr>
            <p:spPr>
              <a:xfrm flipH="1">
                <a:off x="6423120" y="4952880"/>
                <a:ext cx="730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5105520" y="5028840"/>
              <a:ext cx="51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5618160" y="4952880"/>
              <a:ext cx="219600" cy="228240"/>
              <a:chOff x="5618160" y="4952880"/>
              <a:chExt cx="219600" cy="228240"/>
            </a:xfrm>
          </p:grpSpPr>
          <p:sp>
            <p:nvSpPr>
              <p:cNvPr id="404" name=""/>
              <p:cNvSpPr/>
              <p:nvPr/>
            </p:nvSpPr>
            <p:spPr>
              <a:xfrm>
                <a:off x="5618160" y="49528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837760" y="49528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5837760" y="5028840"/>
              <a:ext cx="51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5549400" y="4648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A 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281280" y="46483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A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159320" y="457200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638680" y="4952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>
            <a:hlinkClick r:id="" action="ppaction://hlinkshowjump?jump=nextslide"/>
          </p:cNvPr>
          <p:cNvSpPr/>
          <p:nvPr/>
        </p:nvSpPr>
        <p:spPr>
          <a:xfrm>
            <a:off x="2743200" y="5791320"/>
            <a:ext cx="587520" cy="533160"/>
          </a:xfrm>
          <a:custGeom>
            <a:avLst/>
            <a:gdLst>
              <a:gd name="textAreaLeft" fmla="*/ 34560 w 587520"/>
              <a:gd name="textAreaRight" fmla="*/ 552960 w 587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3801" h="21600">
                <a:moveTo>
                  <a:pt x="0" y="0"/>
                </a:moveTo>
                <a:lnTo>
                  <a:pt x="23801" y="0"/>
                </a:lnTo>
                <a:lnTo>
                  <a:pt x="23801" y="21600"/>
                </a:lnTo>
                <a:lnTo>
                  <a:pt x="0" y="21600"/>
                </a:lnTo>
                <a:close/>
              </a:path>
              <a:path fill="lightenLess" w="23801" h="21600">
                <a:moveTo>
                  <a:pt x="0" y="0"/>
                </a:moveTo>
                <a:lnTo>
                  <a:pt x="23801" y="0"/>
                </a:lnTo>
                <a:lnTo>
                  <a:pt x="22401" y="1400"/>
                </a:lnTo>
                <a:lnTo>
                  <a:pt x="1400" y="1400"/>
                </a:lnTo>
                <a:close/>
              </a:path>
              <a:path fill="darken" w="23801" h="21600">
                <a:moveTo>
                  <a:pt x="23801" y="0"/>
                </a:moveTo>
                <a:lnTo>
                  <a:pt x="23801" y="21600"/>
                </a:lnTo>
                <a:lnTo>
                  <a:pt x="22401" y="20200"/>
                </a:lnTo>
                <a:lnTo>
                  <a:pt x="22401" y="1400"/>
                </a:lnTo>
                <a:close/>
              </a:path>
              <a:path fill="darkenLess" w="23801" h="21600">
                <a:moveTo>
                  <a:pt x="23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1" y="20200"/>
                </a:lnTo>
                <a:close/>
              </a:path>
              <a:path fill="lighten" w="23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1" h="21600">
                <a:moveTo>
                  <a:pt x="4894" y="3794"/>
                </a:moveTo>
                <a:lnTo>
                  <a:pt x="18907" y="10800"/>
                </a:lnTo>
                <a:lnTo>
                  <a:pt x="48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>
            <a:hlinkClick r:id="" action="ppaction://hlinkshowjump?jump=previousslide"/>
          </p:cNvPr>
          <p:cNvSpPr/>
          <p:nvPr/>
        </p:nvSpPr>
        <p:spPr>
          <a:xfrm>
            <a:off x="121932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>
            <a:hlinkClick r:id="" action="ppaction://hlinkshowjump?jump=firstslide"/>
          </p:cNvPr>
          <p:cNvSpPr/>
          <p:nvPr/>
        </p:nvSpPr>
        <p:spPr>
          <a:xfrm>
            <a:off x="1981080" y="57913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523880" y="1676520"/>
            <a:ext cx="5257800" cy="472428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221304"/>
                </a:solidFill>
                <a:latin typeface="Times New Roman"/>
              </a:rPr>
              <a:t>Program k predchádzajúcemu príkladu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79440" y="17668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30960" y="1731960"/>
            <a:ext cx="199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E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A 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k-SK" sz="1600" spc="-1" strike="noStrike">
                <a:solidFill>
                  <a:srgbClr val="000000"/>
                </a:solidFill>
                <a:latin typeface="Times New Roman"/>
              </a:rPr>
              <a:t>čas.konšt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A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A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k-SK" sz="1600" spc="-1" strike="noStrike">
                <a:solidFill>
                  <a:srgbClr val="000000"/>
                </a:solidFill>
                <a:latin typeface="Times New Roman"/>
              </a:rPr>
              <a:t>čas.konšt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E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A 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45560" y="1703520"/>
            <a:ext cx="199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A 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A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k-SK" sz="1600" spc="-1" strike="noStrike">
                <a:solidFill>
                  <a:srgbClr val="000000"/>
                </a:solidFill>
                <a:latin typeface="Times New Roman"/>
              </a:rPr>
              <a:t>čas.konšt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E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A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587520" cy="533160"/>
          </a:xfrm>
          <a:custGeom>
            <a:avLst/>
            <a:gdLst>
              <a:gd name="textAreaLeft" fmla="*/ 34560 w 587520"/>
              <a:gd name="textAreaRight" fmla="*/ 552960 w 587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3801" h="21600">
                <a:moveTo>
                  <a:pt x="0" y="0"/>
                </a:moveTo>
                <a:lnTo>
                  <a:pt x="23801" y="0"/>
                </a:lnTo>
                <a:lnTo>
                  <a:pt x="23801" y="21600"/>
                </a:lnTo>
                <a:lnTo>
                  <a:pt x="0" y="21600"/>
                </a:lnTo>
                <a:close/>
              </a:path>
              <a:path fill="lightenLess" w="23801" h="21600">
                <a:moveTo>
                  <a:pt x="0" y="0"/>
                </a:moveTo>
                <a:lnTo>
                  <a:pt x="23801" y="0"/>
                </a:lnTo>
                <a:lnTo>
                  <a:pt x="22401" y="1400"/>
                </a:lnTo>
                <a:lnTo>
                  <a:pt x="1400" y="1400"/>
                </a:lnTo>
                <a:close/>
              </a:path>
              <a:path fill="darken" w="23801" h="21600">
                <a:moveTo>
                  <a:pt x="23801" y="0"/>
                </a:moveTo>
                <a:lnTo>
                  <a:pt x="23801" y="21600"/>
                </a:lnTo>
                <a:lnTo>
                  <a:pt x="22401" y="20200"/>
                </a:lnTo>
                <a:lnTo>
                  <a:pt x="22401" y="1400"/>
                </a:lnTo>
                <a:close/>
              </a:path>
              <a:path fill="darkenLess" w="23801" h="21600">
                <a:moveTo>
                  <a:pt x="23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1" y="20200"/>
                </a:lnTo>
                <a:close/>
              </a:path>
              <a:path fill="lighten" w="23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1" h="21600">
                <a:moveTo>
                  <a:pt x="4894" y="3794"/>
                </a:moveTo>
                <a:lnTo>
                  <a:pt x="18907" y="10800"/>
                </a:lnTo>
                <a:lnTo>
                  <a:pt x="48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600200" y="4267080"/>
            <a:ext cx="3733920" cy="19814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221304"/>
                </a:solidFill>
                <a:latin typeface="Times New Roman"/>
              </a:rPr>
              <a:t>Príklady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600200" y="2286000"/>
            <a:ext cx="3733920" cy="1752480"/>
            <a:chOff x="1600200" y="2286000"/>
            <a:chExt cx="3733920" cy="1752480"/>
          </a:xfrm>
        </p:grpSpPr>
        <p:sp>
          <p:nvSpPr>
            <p:cNvPr id="425" name=""/>
            <p:cNvSpPr/>
            <p:nvPr/>
          </p:nvSpPr>
          <p:spPr>
            <a:xfrm>
              <a:off x="1600200" y="2286000"/>
              <a:ext cx="3733920" cy="17524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2057400" y="2590920"/>
              <a:ext cx="2895120" cy="228600"/>
              <a:chOff x="2057400" y="2590920"/>
              <a:chExt cx="2895120" cy="228600"/>
            </a:xfrm>
          </p:grpSpPr>
          <p:sp>
            <p:nvSpPr>
              <p:cNvPr id="427" name=""/>
              <p:cNvSpPr/>
              <p:nvPr/>
            </p:nvSpPr>
            <p:spPr>
              <a:xfrm>
                <a:off x="2057400" y="2819520"/>
                <a:ext cx="361800" cy="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90720" y="2590920"/>
                <a:ext cx="0" cy="22860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19200" y="2590920"/>
                <a:ext cx="2171160" cy="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419200" y="2590920"/>
                <a:ext cx="0" cy="22860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590720" y="2819520"/>
                <a:ext cx="361800" cy="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2057400" y="3124080"/>
              <a:ext cx="9144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2971800" y="3123720"/>
              <a:ext cx="0" cy="2286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600360" y="3123720"/>
              <a:ext cx="0" cy="2286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971800" y="3352680"/>
              <a:ext cx="6285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600360" y="3124080"/>
              <a:ext cx="13525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514600" y="34290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Times New Roman"/>
                </a:rPr>
                <a:t>2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048120" y="34290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Times New Roman"/>
                </a:rPr>
                <a:t>3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438280" y="289548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97180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8128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1119240" y="1717560"/>
            <a:ext cx="64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ostavte program pre nasledujúce časové priebeh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209680" y="5943600"/>
            <a:ext cx="2034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438280" y="5791320"/>
            <a:ext cx="0" cy="1522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438280" y="5791320"/>
            <a:ext cx="2034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641680" y="5791320"/>
            <a:ext cx="0" cy="1522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641680" y="5943600"/>
            <a:ext cx="40644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2057400" y="4724280"/>
            <a:ext cx="2895120" cy="228600"/>
            <a:chOff x="2057400" y="4724280"/>
            <a:chExt cx="2895120" cy="228600"/>
          </a:xfrm>
        </p:grpSpPr>
        <p:sp>
          <p:nvSpPr>
            <p:cNvPr id="449" name=""/>
            <p:cNvSpPr/>
            <p:nvPr/>
          </p:nvSpPr>
          <p:spPr>
            <a:xfrm>
              <a:off x="2057400" y="4952880"/>
              <a:ext cx="361800" cy="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90720" y="4724280"/>
              <a:ext cx="0" cy="22860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419200" y="4724280"/>
              <a:ext cx="2171160" cy="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419200" y="4724280"/>
              <a:ext cx="0" cy="22860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90720" y="4952880"/>
              <a:ext cx="361800" cy="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2133720" y="5257800"/>
            <a:ext cx="2743200" cy="228600"/>
            <a:chOff x="2133720" y="5257800"/>
            <a:chExt cx="2743200" cy="228600"/>
          </a:xfrm>
        </p:grpSpPr>
        <p:sp>
          <p:nvSpPr>
            <p:cNvPr id="455" name=""/>
            <p:cNvSpPr/>
            <p:nvPr/>
          </p:nvSpPr>
          <p:spPr>
            <a:xfrm>
              <a:off x="2133720" y="5486400"/>
              <a:ext cx="3049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2438640" y="5257800"/>
              <a:ext cx="609480" cy="228600"/>
              <a:chOff x="2438640" y="5257800"/>
              <a:chExt cx="609480" cy="228600"/>
            </a:xfrm>
          </p:grpSpPr>
          <p:sp>
            <p:nvSpPr>
              <p:cNvPr id="457" name=""/>
              <p:cNvSpPr/>
              <p:nvPr/>
            </p:nvSpPr>
            <p:spPr>
              <a:xfrm>
                <a:off x="2438640" y="5257800"/>
                <a:ext cx="0" cy="228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438640" y="5257800"/>
                <a:ext cx="30492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743560" y="5257800"/>
                <a:ext cx="0" cy="228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743560" y="5486400"/>
                <a:ext cx="30456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3048120" y="5257800"/>
              <a:ext cx="609480" cy="228600"/>
              <a:chOff x="3048120" y="5257800"/>
              <a:chExt cx="609480" cy="228600"/>
            </a:xfrm>
          </p:grpSpPr>
          <p:sp>
            <p:nvSpPr>
              <p:cNvPr id="462" name=""/>
              <p:cNvSpPr/>
              <p:nvPr/>
            </p:nvSpPr>
            <p:spPr>
              <a:xfrm>
                <a:off x="3048120" y="5257800"/>
                <a:ext cx="0" cy="228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8120" y="5257800"/>
                <a:ext cx="30492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353040" y="5257800"/>
                <a:ext cx="0" cy="228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353040" y="5486400"/>
                <a:ext cx="30456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3657960" y="5257800"/>
              <a:ext cx="609480" cy="228600"/>
              <a:chOff x="3657960" y="5257800"/>
              <a:chExt cx="609480" cy="228600"/>
            </a:xfrm>
          </p:grpSpPr>
          <p:sp>
            <p:nvSpPr>
              <p:cNvPr id="467" name=""/>
              <p:cNvSpPr/>
              <p:nvPr/>
            </p:nvSpPr>
            <p:spPr>
              <a:xfrm>
                <a:off x="3657960" y="5257800"/>
                <a:ext cx="0" cy="228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657960" y="5257800"/>
                <a:ext cx="30492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962880" y="5257800"/>
                <a:ext cx="0" cy="228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962880" y="5486400"/>
                <a:ext cx="30456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4267440" y="5257800"/>
              <a:ext cx="609480" cy="228600"/>
              <a:chOff x="4267440" y="5257800"/>
              <a:chExt cx="609480" cy="228600"/>
            </a:xfrm>
          </p:grpSpPr>
          <p:sp>
            <p:nvSpPr>
              <p:cNvPr id="472" name=""/>
              <p:cNvSpPr/>
              <p:nvPr/>
            </p:nvSpPr>
            <p:spPr>
              <a:xfrm>
                <a:off x="4267440" y="5257800"/>
                <a:ext cx="0" cy="228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267440" y="5257800"/>
                <a:ext cx="30492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72360" y="5257800"/>
                <a:ext cx="0" cy="228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572360" y="5486400"/>
                <a:ext cx="30456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6" name=""/>
          <p:cNvSpPr/>
          <p:nvPr/>
        </p:nvSpPr>
        <p:spPr>
          <a:xfrm>
            <a:off x="3048120" y="5791320"/>
            <a:ext cx="0" cy="1522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48120" y="5791320"/>
            <a:ext cx="20304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251160" y="5791320"/>
            <a:ext cx="0" cy="1522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51160" y="5943600"/>
            <a:ext cx="40644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657600" y="5791320"/>
            <a:ext cx="0" cy="1522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657600" y="5791320"/>
            <a:ext cx="20304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60640" y="5791320"/>
            <a:ext cx="0" cy="1522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60640" y="5943600"/>
            <a:ext cx="40644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267080" y="5791320"/>
            <a:ext cx="0" cy="1522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67080" y="5791320"/>
            <a:ext cx="2034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470480" y="5791320"/>
            <a:ext cx="0" cy="1522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70480" y="5943600"/>
            <a:ext cx="40644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600200" y="2286000"/>
            <a:ext cx="3733920" cy="17524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057400" y="2590920"/>
            <a:ext cx="2895120" cy="228600"/>
            <a:chOff x="2057400" y="2590920"/>
            <a:chExt cx="2895120" cy="228600"/>
          </a:xfrm>
        </p:grpSpPr>
        <p:sp>
          <p:nvSpPr>
            <p:cNvPr id="490" name=""/>
            <p:cNvSpPr/>
            <p:nvPr/>
          </p:nvSpPr>
          <p:spPr>
            <a:xfrm>
              <a:off x="2057400" y="2819520"/>
              <a:ext cx="361800" cy="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590720" y="2590920"/>
              <a:ext cx="0" cy="22860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19200" y="2590920"/>
              <a:ext cx="2171160" cy="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419200" y="2590920"/>
              <a:ext cx="0" cy="22860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90720" y="2819520"/>
              <a:ext cx="361800" cy="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2057400" y="3124080"/>
            <a:ext cx="91440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2971800" y="312372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3600360" y="312372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971800" y="3352680"/>
            <a:ext cx="62856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00360" y="3124080"/>
            <a:ext cx="13525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514600" y="3429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048120" y="3429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8280" y="2895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7180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58128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971800" y="4876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286000" y="5486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066680" y="2286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6668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587520" cy="533160"/>
          </a:xfrm>
          <a:custGeom>
            <a:avLst/>
            <a:gdLst>
              <a:gd name="textAreaLeft" fmla="*/ 34560 w 587520"/>
              <a:gd name="textAreaRight" fmla="*/ 552960 w 587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3801" h="21600">
                <a:moveTo>
                  <a:pt x="0" y="0"/>
                </a:moveTo>
                <a:lnTo>
                  <a:pt x="23801" y="0"/>
                </a:lnTo>
                <a:lnTo>
                  <a:pt x="23801" y="21600"/>
                </a:lnTo>
                <a:lnTo>
                  <a:pt x="0" y="21600"/>
                </a:lnTo>
                <a:close/>
              </a:path>
              <a:path fill="lightenLess" w="23801" h="21600">
                <a:moveTo>
                  <a:pt x="0" y="0"/>
                </a:moveTo>
                <a:lnTo>
                  <a:pt x="23801" y="0"/>
                </a:lnTo>
                <a:lnTo>
                  <a:pt x="22401" y="1400"/>
                </a:lnTo>
                <a:lnTo>
                  <a:pt x="1400" y="1400"/>
                </a:lnTo>
                <a:close/>
              </a:path>
              <a:path fill="darken" w="23801" h="21600">
                <a:moveTo>
                  <a:pt x="23801" y="0"/>
                </a:moveTo>
                <a:lnTo>
                  <a:pt x="23801" y="21600"/>
                </a:lnTo>
                <a:lnTo>
                  <a:pt x="22401" y="20200"/>
                </a:lnTo>
                <a:lnTo>
                  <a:pt x="22401" y="1400"/>
                </a:lnTo>
                <a:close/>
              </a:path>
              <a:path fill="darkenLess" w="23801" h="21600">
                <a:moveTo>
                  <a:pt x="23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1" y="20200"/>
                </a:lnTo>
                <a:close/>
              </a:path>
              <a:path fill="lighten" w="23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1" h="21600">
                <a:moveTo>
                  <a:pt x="4894" y="3794"/>
                </a:moveTo>
                <a:lnTo>
                  <a:pt x="18907" y="10800"/>
                </a:lnTo>
                <a:lnTo>
                  <a:pt x="48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221304"/>
                </a:solidFill>
                <a:latin typeface="Times New Roman"/>
              </a:rPr>
              <a:t>Riešenie  ad a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2057400"/>
            <a:ext cx="3886200" cy="3809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73080" y="24382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A 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733920" y="2362320"/>
            <a:ext cx="533160" cy="76176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2895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800600" y="2819520"/>
            <a:ext cx="228600" cy="2286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963960" y="274320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659040" y="2743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T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6586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200400" y="2895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76520" y="2514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2209680" y="2438280"/>
            <a:ext cx="228600" cy="228600"/>
            <a:chOff x="2209680" y="2438280"/>
            <a:chExt cx="228600" cy="228600"/>
          </a:xfrm>
        </p:grpSpPr>
        <p:sp>
          <p:nvSpPr>
            <p:cNvPr id="524" name=""/>
            <p:cNvSpPr/>
            <p:nvPr/>
          </p:nvSpPr>
          <p:spPr>
            <a:xfrm>
              <a:off x="22096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382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2438280" y="2514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573080" y="34290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A 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733920" y="3352680"/>
            <a:ext cx="533160" cy="76212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267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800600" y="3809880"/>
            <a:ext cx="228600" cy="2286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3960" y="373392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659040" y="37339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T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58680" y="3352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20040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20040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2971800" y="3429000"/>
            <a:ext cx="228600" cy="228600"/>
            <a:chOff x="2971800" y="3429000"/>
            <a:chExt cx="228600" cy="228600"/>
          </a:xfrm>
        </p:grpSpPr>
        <p:sp>
          <p:nvSpPr>
            <p:cNvPr id="537" name=""/>
            <p:cNvSpPr/>
            <p:nvPr/>
          </p:nvSpPr>
          <p:spPr>
            <a:xfrm>
              <a:off x="2971800" y="342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200400" y="342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676520" y="3505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676520" y="22860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058120" y="2133720"/>
            <a:ext cx="52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E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744280" y="31240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A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735000" y="205740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11320" y="411480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286000" y="4343400"/>
            <a:ext cx="228600" cy="228600"/>
            <a:chOff x="2286000" y="4343400"/>
            <a:chExt cx="228600" cy="228600"/>
          </a:xfrm>
        </p:grpSpPr>
        <p:sp>
          <p:nvSpPr>
            <p:cNvPr id="546" name=""/>
            <p:cNvSpPr/>
            <p:nvPr/>
          </p:nvSpPr>
          <p:spPr>
            <a:xfrm>
              <a:off x="2286000" y="4343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514600" y="4343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2286000" y="5105520"/>
            <a:ext cx="228600" cy="228600"/>
            <a:chOff x="2286000" y="5105520"/>
            <a:chExt cx="228600" cy="228600"/>
          </a:xfrm>
        </p:grpSpPr>
        <p:sp>
          <p:nvSpPr>
            <p:cNvPr id="549" name=""/>
            <p:cNvSpPr/>
            <p:nvPr/>
          </p:nvSpPr>
          <p:spPr>
            <a:xfrm>
              <a:off x="2286000" y="510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14600" y="510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514600" y="4495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800600" y="4343400"/>
            <a:ext cx="228600" cy="2286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676520" y="449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6765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1460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048120" y="4495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2361960" y="44197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361960" y="51814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058480" y="39625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A 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058480" y="47242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A 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3080" y="46483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A 1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009480" y="1866960"/>
            <a:ext cx="1662120" cy="393444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 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 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587520" cy="533160"/>
          </a:xfrm>
          <a:custGeom>
            <a:avLst/>
            <a:gdLst>
              <a:gd name="textAreaLeft" fmla="*/ 34560 w 587520"/>
              <a:gd name="textAreaRight" fmla="*/ 552960 w 587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3801" h="21600">
                <a:moveTo>
                  <a:pt x="0" y="0"/>
                </a:moveTo>
                <a:lnTo>
                  <a:pt x="23801" y="0"/>
                </a:lnTo>
                <a:lnTo>
                  <a:pt x="23801" y="21600"/>
                </a:lnTo>
                <a:lnTo>
                  <a:pt x="0" y="21600"/>
                </a:lnTo>
                <a:close/>
              </a:path>
              <a:path fill="lightenLess" w="23801" h="21600">
                <a:moveTo>
                  <a:pt x="0" y="0"/>
                </a:moveTo>
                <a:lnTo>
                  <a:pt x="23801" y="0"/>
                </a:lnTo>
                <a:lnTo>
                  <a:pt x="22401" y="1400"/>
                </a:lnTo>
                <a:lnTo>
                  <a:pt x="1400" y="1400"/>
                </a:lnTo>
                <a:close/>
              </a:path>
              <a:path fill="darken" w="23801" h="21600">
                <a:moveTo>
                  <a:pt x="23801" y="0"/>
                </a:moveTo>
                <a:lnTo>
                  <a:pt x="23801" y="21600"/>
                </a:lnTo>
                <a:lnTo>
                  <a:pt x="22401" y="20200"/>
                </a:lnTo>
                <a:lnTo>
                  <a:pt x="22401" y="1400"/>
                </a:lnTo>
                <a:close/>
              </a:path>
              <a:path fill="darkenLess" w="23801" h="21600">
                <a:moveTo>
                  <a:pt x="23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1" y="20200"/>
                </a:lnTo>
                <a:close/>
              </a:path>
              <a:path fill="lighten" w="23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1" h="21600">
                <a:moveTo>
                  <a:pt x="4894" y="3794"/>
                </a:moveTo>
                <a:lnTo>
                  <a:pt x="18907" y="10800"/>
                </a:lnTo>
                <a:lnTo>
                  <a:pt x="48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179360" y="4232160"/>
            <a:ext cx="4853160" cy="18446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221304"/>
                </a:solidFill>
                <a:latin typeface="Times New Roman"/>
              </a:rPr>
              <a:t>...pokračovanie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828800" y="1981080"/>
            <a:ext cx="4190760" cy="2057400"/>
            <a:chOff x="1828800" y="1981080"/>
            <a:chExt cx="4190760" cy="2057400"/>
          </a:xfrm>
        </p:grpSpPr>
        <p:sp>
          <p:nvSpPr>
            <p:cNvPr id="569" name=""/>
            <p:cNvSpPr/>
            <p:nvPr/>
          </p:nvSpPr>
          <p:spPr>
            <a:xfrm>
              <a:off x="1828800" y="1981080"/>
              <a:ext cx="4190760" cy="205740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86000" y="2514600"/>
              <a:ext cx="361800" cy="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19680" y="2286000"/>
              <a:ext cx="0" cy="22860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47800" y="2286000"/>
              <a:ext cx="2171880" cy="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647800" y="2286000"/>
              <a:ext cx="0" cy="22860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819680" y="2514600"/>
              <a:ext cx="895320" cy="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86000" y="3200400"/>
              <a:ext cx="97128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429160" y="2971800"/>
              <a:ext cx="0" cy="2286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257280" y="2971800"/>
              <a:ext cx="217188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57280" y="2971800"/>
              <a:ext cx="0" cy="2286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429160" y="3200400"/>
              <a:ext cx="361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590560" y="26668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800600" y="26668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276360" y="3276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410080" y="3276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514600" y="365760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954680" y="327672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44640" y="327672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31320" y="20574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Times New Roman"/>
                </a:rPr>
                <a:t>vst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830960" y="281952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Times New Roman"/>
                </a:rPr>
                <a:t>výst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1052280" y="18669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38440" y="1943280"/>
            <a:ext cx="1610280" cy="33858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 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 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495680" y="4724280"/>
            <a:ext cx="609840" cy="76212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429000" y="4724280"/>
            <a:ext cx="318960" cy="42552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733920" y="4876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4956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04812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800600"/>
            <a:ext cx="685800" cy="2286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62320" y="5181480"/>
            <a:ext cx="685800" cy="2286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063960" y="5273640"/>
            <a:ext cx="14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3230640" y="502884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30640" y="5029200"/>
            <a:ext cx="20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392640" y="4998960"/>
            <a:ext cx="88920" cy="8892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488960" y="4911840"/>
            <a:ext cx="87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843200" y="49118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859040" y="5310360"/>
            <a:ext cx="50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127480" y="489096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524480" y="4757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220760" y="450540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 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187960" y="4460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540320" y="5170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434040" y="47131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401560" y="443376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431440" y="549576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1080" y="47941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446920" y="514836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587520" cy="533160"/>
          </a:xfrm>
          <a:custGeom>
            <a:avLst/>
            <a:gdLst>
              <a:gd name="textAreaLeft" fmla="*/ 34560 w 587520"/>
              <a:gd name="textAreaRight" fmla="*/ 552960 w 587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3801" h="21600">
                <a:moveTo>
                  <a:pt x="0" y="0"/>
                </a:moveTo>
                <a:lnTo>
                  <a:pt x="23801" y="0"/>
                </a:lnTo>
                <a:lnTo>
                  <a:pt x="23801" y="21600"/>
                </a:lnTo>
                <a:lnTo>
                  <a:pt x="0" y="21600"/>
                </a:lnTo>
                <a:close/>
              </a:path>
              <a:path fill="lightenLess" w="23801" h="21600">
                <a:moveTo>
                  <a:pt x="0" y="0"/>
                </a:moveTo>
                <a:lnTo>
                  <a:pt x="23801" y="0"/>
                </a:lnTo>
                <a:lnTo>
                  <a:pt x="22401" y="1400"/>
                </a:lnTo>
                <a:lnTo>
                  <a:pt x="1400" y="1400"/>
                </a:lnTo>
                <a:close/>
              </a:path>
              <a:path fill="darken" w="23801" h="21600">
                <a:moveTo>
                  <a:pt x="23801" y="0"/>
                </a:moveTo>
                <a:lnTo>
                  <a:pt x="23801" y="21600"/>
                </a:lnTo>
                <a:lnTo>
                  <a:pt x="22401" y="20200"/>
                </a:lnTo>
                <a:lnTo>
                  <a:pt x="22401" y="1400"/>
                </a:lnTo>
                <a:close/>
              </a:path>
              <a:path fill="darkenLess" w="23801" h="21600">
                <a:moveTo>
                  <a:pt x="23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1" y="20200"/>
                </a:lnTo>
                <a:close/>
              </a:path>
              <a:path fill="lighten" w="23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1" h="21600">
                <a:moveTo>
                  <a:pt x="4894" y="3794"/>
                </a:moveTo>
                <a:lnTo>
                  <a:pt x="18907" y="10800"/>
                </a:lnTo>
                <a:lnTo>
                  <a:pt x="48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1224000" y="2182680"/>
            <a:ext cx="4881600" cy="42912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221304"/>
                </a:solidFill>
                <a:latin typeface="Times New Roman"/>
              </a:rPr>
              <a:t>...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pokra</a:t>
            </a:r>
            <a:r>
              <a:rPr b="0" lang="sk-SK" sz="3600" spc="-1" strike="noStrike">
                <a:solidFill>
                  <a:srgbClr val="221304"/>
                </a:solidFill>
                <a:latin typeface="Times New Roman"/>
              </a:rPr>
              <a:t>č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ovanie</a:t>
            </a:r>
            <a:r>
              <a:rPr b="0" lang="sk-SK" sz="3600" spc="-1" strike="noStrike">
                <a:solidFill>
                  <a:srgbClr val="221304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123200" y="1636560"/>
            <a:ext cx="569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ostavte program pre riadenie plniacej lin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1473120" y="2389320"/>
            <a:ext cx="4248360" cy="3741840"/>
            <a:chOff x="1473120" y="2389320"/>
            <a:chExt cx="4248360" cy="3741840"/>
          </a:xfrm>
        </p:grpSpPr>
        <p:sp>
          <p:nvSpPr>
            <p:cNvPr id="622" name=""/>
            <p:cNvSpPr/>
            <p:nvPr/>
          </p:nvSpPr>
          <p:spPr>
            <a:xfrm>
              <a:off x="2241720" y="2389320"/>
              <a:ext cx="634680" cy="9000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241720" y="3289320"/>
              <a:ext cx="618840" cy="192240"/>
            </a:xfrm>
            <a:custGeom>
              <a:avLst/>
              <a:gdLst>
                <a:gd name="textAreaLeft" fmla="*/ 193680 w 618840"/>
                <a:gd name="textAreaRight" fmla="*/ 425160 w 618840"/>
                <a:gd name="textAreaTop" fmla="*/ 60120 h 192240"/>
                <a:gd name="textAreaBottom" fmla="*/ 13212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572" y="21600"/>
                  </a:lnTo>
                  <a:lnTo>
                    <a:pt x="9028" y="216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2435400" y="3642840"/>
              <a:ext cx="234000" cy="352800"/>
              <a:chOff x="2435400" y="3642840"/>
              <a:chExt cx="234000" cy="352800"/>
            </a:xfrm>
          </p:grpSpPr>
          <p:sp>
            <p:nvSpPr>
              <p:cNvPr id="625" name=""/>
              <p:cNvSpPr/>
              <p:nvPr/>
            </p:nvSpPr>
            <p:spPr>
              <a:xfrm>
                <a:off x="2435400" y="3819240"/>
                <a:ext cx="221760" cy="176400"/>
              </a:xfrm>
              <a:prstGeom prst="triangle">
                <a:avLst>
                  <a:gd name="adj" fmla="val 5000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 flipV="1">
                <a:off x="2446920" y="3642480"/>
                <a:ext cx="222120" cy="176040"/>
              </a:xfrm>
              <a:prstGeom prst="triangle">
                <a:avLst>
                  <a:gd name="adj" fmla="val 5000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2536920" y="3510000"/>
              <a:ext cx="0" cy="16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550960" y="3981600"/>
              <a:ext cx="0" cy="16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2301840" y="4248000"/>
              <a:ext cx="1355760" cy="236520"/>
              <a:chOff x="2301840" y="4248000"/>
              <a:chExt cx="1355760" cy="236520"/>
            </a:xfrm>
          </p:grpSpPr>
          <p:sp>
            <p:nvSpPr>
              <p:cNvPr id="630" name=""/>
              <p:cNvSpPr/>
              <p:nvPr/>
            </p:nvSpPr>
            <p:spPr>
              <a:xfrm>
                <a:off x="2301840" y="4248000"/>
                <a:ext cx="250560" cy="2206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404800" y="4248000"/>
                <a:ext cx="115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406680" y="4262400"/>
                <a:ext cx="250920" cy="220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404800" y="4484520"/>
                <a:ext cx="115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3363840" y="4735440"/>
              <a:ext cx="1355760" cy="236520"/>
              <a:chOff x="3363840" y="4735440"/>
              <a:chExt cx="1355760" cy="236520"/>
            </a:xfrm>
          </p:grpSpPr>
          <p:sp>
            <p:nvSpPr>
              <p:cNvPr id="635" name=""/>
              <p:cNvSpPr/>
              <p:nvPr/>
            </p:nvSpPr>
            <p:spPr>
              <a:xfrm>
                <a:off x="3363840" y="4735440"/>
                <a:ext cx="250560" cy="2206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466800" y="4735440"/>
                <a:ext cx="115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468680" y="4749840"/>
                <a:ext cx="250920" cy="220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466800" y="4971960"/>
                <a:ext cx="115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4365720" y="5162400"/>
              <a:ext cx="1355760" cy="236520"/>
              <a:chOff x="4365720" y="5162400"/>
              <a:chExt cx="1355760" cy="236520"/>
            </a:xfrm>
          </p:grpSpPr>
          <p:sp>
            <p:nvSpPr>
              <p:cNvPr id="640" name=""/>
              <p:cNvSpPr/>
              <p:nvPr/>
            </p:nvSpPr>
            <p:spPr>
              <a:xfrm>
                <a:off x="4365720" y="5162400"/>
                <a:ext cx="250560" cy="2206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468680" y="5162400"/>
                <a:ext cx="115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470560" y="5176800"/>
                <a:ext cx="250920" cy="220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468680" y="5398920"/>
                <a:ext cx="115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2478240" y="3170160"/>
              <a:ext cx="12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22520" y="3833640"/>
              <a:ext cx="92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2418840" y="4586040"/>
              <a:ext cx="1800" cy="14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3451320" y="5146200"/>
              <a:ext cx="0" cy="85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454640" y="5516280"/>
              <a:ext cx="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773440" y="4645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746520" y="5221440"/>
              <a:ext cx="0" cy="75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4746600" y="5559480"/>
              <a:ext cx="144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73120" y="349560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OTV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962440" y="2846520"/>
              <a:ext cx="49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59120" y="585468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ZAP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990880" y="583884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ZAP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81600" y="579420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ZAP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705200" y="5545080"/>
              <a:ext cx="71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CHOD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28800" y="5324400"/>
              <a:ext cx="71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CHO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657600" y="5383080"/>
              <a:ext cx="71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CHO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12:51:56Z</dcterms:created>
  <dc:creator>Girman</dc:creator>
  <dc:description/>
  <dc:language>en-US</dc:language>
  <cp:lastModifiedBy>Girman</cp:lastModifiedBy>
  <dcterms:modified xsi:type="dcterms:W3CDTF">2002-01-24T09:05:52Z</dcterms:modified>
  <cp:revision>21</cp:revision>
  <dc:subject/>
  <dc:title>Úlohy s časovými reláciami</dc:title>
</cp:coreProperties>
</file>