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BA2-1A92-4079-AE25-88BA42F4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57E-1E2C-4579-A1CD-DA1A1DEB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872-38E7-45A0-8BA6-E914533B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FC2-0367-4362-89CD-8514AF72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4EB2-FFDC-471F-9ACD-593ACA72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6E2-8649-487C-BEC3-E2DE17D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3E3-A6BF-40D5-B75F-E97C350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E07-FE25-487D-901A-87D66194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422-AB8A-4005-A06F-5AB836C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A4F4-5429-488E-BA0E-3EABB46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B6A-BF7D-4368-AB90-9971A09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388-6351-49CF-B4C4-25022C0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3B9F-DA24-497C-ACA9-3979FDE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3D02-C97F-4348-8A77-3897B02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80E-10B6-4993-8AEC-E76795AF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898-100D-4DD5-91F5-054F94DE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496C-C519-47F4-BCE4-52E7DD3B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967-99D6-4337-9286-0A0F71D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E2D-7E2D-4B91-BAAF-EBFCF2C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09C-F571-43EC-8062-6C62708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E39-E1C7-4427-817C-ADE0735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1DF-9F19-4DDF-9A01-D087363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732-5D7E-4BE4-91E0-69F798E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715-BD81-4ED8-BAC6-9F8F231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71D-4A0E-4FA8-A655-FEACC578B8A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2688-4BDF-418F-9E53-6AA855EB8C8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Matematick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a logick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podpora programovani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79320" y="2098800"/>
            <a:ext cx="35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rovnávanie operand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kokové prík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gitálne logické operá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verzia typov údaj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sun a rotá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tematické funk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Funkcia M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102520" y="540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7493"/>
                </a:moveTo>
                <a:lnTo>
                  <a:pt x="10904" y="7493"/>
                </a:lnTo>
                <a:lnTo>
                  <a:pt x="10904" y="12828"/>
                </a:lnTo>
                <a:cubicBezTo>
                  <a:pt x="10904" y="13751"/>
                  <a:pt x="11705" y="14482"/>
                  <a:pt x="12740" y="14482"/>
                </a:cubicBezTo>
                <a:lnTo>
                  <a:pt x="14403" y="14482"/>
                </a:lnTo>
                <a:cubicBezTo>
                  <a:pt x="15439" y="14482"/>
                  <a:pt x="16239" y="13751"/>
                  <a:pt x="16239" y="12828"/>
                </a:cubicBezTo>
                <a:lnTo>
                  <a:pt x="16239" y="7493"/>
                </a:lnTo>
                <a:lnTo>
                  <a:pt x="14403" y="7493"/>
                </a:lnTo>
                <a:lnTo>
                  <a:pt x="17910" y="3985"/>
                </a:lnTo>
                <a:lnTo>
                  <a:pt x="21583" y="7493"/>
                </a:lnTo>
                <a:lnTo>
                  <a:pt x="19747" y="7493"/>
                </a:lnTo>
                <a:lnTo>
                  <a:pt x="19747" y="12828"/>
                </a:lnTo>
                <a:cubicBezTo>
                  <a:pt x="19747" y="15596"/>
                  <a:pt x="17171" y="18155"/>
                  <a:pt x="14403" y="18155"/>
                </a:cubicBezTo>
                <a:lnTo>
                  <a:pt x="12740" y="18155"/>
                </a:lnTo>
                <a:cubicBezTo>
                  <a:pt x="9973" y="18155"/>
                  <a:pt x="7396" y="15596"/>
                  <a:pt x="7396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onverzia typov údaj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46240" y="1619280"/>
            <a:ext cx="5048280" cy="4903920"/>
            <a:chOff x="2046240" y="1619280"/>
            <a:chExt cx="5048280" cy="4903920"/>
          </a:xfrm>
        </p:grpSpPr>
        <p:grpSp>
          <p:nvGrpSpPr>
            <p:cNvPr id="493" name=""/>
            <p:cNvGrpSpPr/>
            <p:nvPr/>
          </p:nvGrpSpPr>
          <p:grpSpPr>
            <a:xfrm>
              <a:off x="2050920" y="1622880"/>
              <a:ext cx="5038560" cy="4896000"/>
              <a:chOff x="2050920" y="1622880"/>
              <a:chExt cx="5038560" cy="489600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2050920" y="1622880"/>
                <a:ext cx="1440000" cy="1606680"/>
                <a:chOff x="2050920" y="1622880"/>
                <a:chExt cx="1440000" cy="16066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050920" y="1622880"/>
                  <a:ext cx="1440000" cy="1464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" name=""/>
                <p:cNvGrpSpPr/>
                <p:nvPr/>
              </p:nvGrpSpPr>
              <p:grpSpPr>
                <a:xfrm>
                  <a:off x="2050920" y="1622880"/>
                  <a:ext cx="1440000" cy="1606680"/>
                  <a:chOff x="2050920" y="1622880"/>
                  <a:chExt cx="1440000" cy="160668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2095200" y="1622880"/>
                    <a:ext cx="1351080" cy="1606680"/>
                    <a:chOff x="2095200" y="1622880"/>
                    <a:chExt cx="1351080" cy="160668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2095200" y="1622880"/>
                      <a:ext cx="1351080" cy="3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2095200" y="2586960"/>
                      <a:ext cx="1351080" cy="64260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0" name=""/>
                  <p:cNvSpPr/>
                  <p:nvPr/>
                </p:nvSpPr>
                <p:spPr>
                  <a:xfrm>
                    <a:off x="2050920" y="1622880"/>
                    <a:ext cx="1440000" cy="146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3490920" y="1622880"/>
                <a:ext cx="3598560" cy="1464120"/>
                <a:chOff x="3490920" y="1622880"/>
                <a:chExt cx="3598560" cy="14641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535200" y="1622880"/>
                  <a:ext cx="3510000" cy="14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BCD hodnotu v nižšom slove  AKKU1 na číslo typu integer (16 bi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490920" y="1622880"/>
                  <a:ext cx="3598560" cy="146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050920" y="3087000"/>
                <a:ext cx="1440000" cy="657000"/>
                <a:chOff x="2050920" y="3087000"/>
                <a:chExt cx="1440000" cy="657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050920" y="3087000"/>
                  <a:ext cx="1440000" cy="6570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2050920" y="3087000"/>
                  <a:ext cx="1440000" cy="657000"/>
                  <a:chOff x="2050920" y="3087000"/>
                  <a:chExt cx="1440000" cy="65700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095200" y="3087000"/>
                    <a:ext cx="1351080" cy="6570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T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050920" y="3087000"/>
                    <a:ext cx="1440000" cy="657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3490920" y="3087000"/>
                <a:ext cx="3598560" cy="657000"/>
                <a:chOff x="3490920" y="3087000"/>
                <a:chExt cx="3598560" cy="6570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535200" y="3087000"/>
                  <a:ext cx="35100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BCD hodnotu AKKU1 na číslo typu integer (32 bi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490920" y="3087000"/>
                  <a:ext cx="3598560" cy="65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050920" y="3744360"/>
                <a:ext cx="1440000" cy="657000"/>
                <a:chOff x="2050920" y="3744360"/>
                <a:chExt cx="1440000" cy="6570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050920" y="3744360"/>
                  <a:ext cx="1440000" cy="6570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2050920" y="3744360"/>
                  <a:ext cx="1440000" cy="657000"/>
                  <a:chOff x="2050920" y="3744360"/>
                  <a:chExt cx="1440000" cy="6570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2095200" y="3744360"/>
                    <a:ext cx="1351080" cy="6570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T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050920" y="3744360"/>
                    <a:ext cx="1440000" cy="657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3490920" y="3744360"/>
                <a:ext cx="3598560" cy="657000"/>
                <a:chOff x="3490920" y="3744360"/>
                <a:chExt cx="3598560" cy="6570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535200" y="3744360"/>
                  <a:ext cx="35100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číslo typu integer v nižšom slove AKKU1 na BCD kódovanú hodnot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90920" y="3744360"/>
                  <a:ext cx="3598560" cy="65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2050920" y="4401360"/>
                <a:ext cx="1440000" cy="657360"/>
                <a:chOff x="2050920" y="4401360"/>
                <a:chExt cx="1440000" cy="6573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050920" y="4401360"/>
                  <a:ext cx="1440000" cy="6573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050920" y="4401360"/>
                  <a:ext cx="1440000" cy="657360"/>
                  <a:chOff x="2050920" y="4401360"/>
                  <a:chExt cx="1440000" cy="6573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2095200" y="4401360"/>
                    <a:ext cx="1351080" cy="6573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4953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T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4953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50920" y="4401360"/>
                    <a:ext cx="1440000" cy="657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3490920" y="4401360"/>
                <a:ext cx="3598560" cy="657360"/>
                <a:chOff x="3490920" y="4401360"/>
                <a:chExt cx="3598560" cy="6573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35200" y="4401360"/>
                  <a:ext cx="3510000" cy="65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16 bitové číslo integer v nižšom slove AKKU1 na 32 bitové číslo integer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490920" y="4401360"/>
                  <a:ext cx="3598560" cy="65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050920" y="5058720"/>
                <a:ext cx="1440000" cy="657000"/>
                <a:chOff x="2050920" y="5058720"/>
                <a:chExt cx="1440000" cy="6570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050920" y="5058720"/>
                  <a:ext cx="1440000" cy="6570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2050920" y="5058720"/>
                  <a:ext cx="1440000" cy="657000"/>
                  <a:chOff x="2050920" y="5058720"/>
                  <a:chExt cx="1440000" cy="6570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2095200" y="5058720"/>
                    <a:ext cx="1351080" cy="6570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T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050920" y="5058720"/>
                    <a:ext cx="1440000" cy="657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3490920" y="5058720"/>
                <a:ext cx="3598560" cy="657000"/>
                <a:chOff x="3490920" y="5058720"/>
                <a:chExt cx="3598560" cy="6570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535200" y="5058720"/>
                  <a:ext cx="35100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32 bitové číslo integer v AKKU1 na BCD číslo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490920" y="5058720"/>
                  <a:ext cx="3598560" cy="65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050920" y="5716080"/>
                <a:ext cx="1440000" cy="802800"/>
                <a:chOff x="2050920" y="5716080"/>
                <a:chExt cx="1440000" cy="8028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050920" y="5716080"/>
                  <a:ext cx="1440000" cy="8028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2050920" y="5716080"/>
                  <a:ext cx="1440000" cy="802800"/>
                  <a:chOff x="2050920" y="5716080"/>
                  <a:chExt cx="1440000" cy="8028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2095200" y="5716080"/>
                    <a:ext cx="1351080" cy="8028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T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050920" y="5716080"/>
                    <a:ext cx="1440000" cy="80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490920" y="5716080"/>
                <a:ext cx="3598560" cy="802800"/>
                <a:chOff x="3490920" y="5716080"/>
                <a:chExt cx="3598560" cy="8028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535200" y="5716080"/>
                  <a:ext cx="3510000" cy="80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32 bitové integer číslo v AKKU1 na 32 bitové zobrazenie v pohyblivej čiarke podľa IEEE-F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90920" y="5716080"/>
                  <a:ext cx="3598560" cy="80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>
              <a:off x="2046240" y="1619280"/>
              <a:ext cx="5048280" cy="490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85840" y="3857760"/>
            <a:ext cx="962280" cy="108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štrukc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m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160720" y="2152800"/>
            <a:ext cx="5048280" cy="3663720"/>
            <a:chOff x="2160720" y="2152800"/>
            <a:chExt cx="5048280" cy="3663720"/>
          </a:xfrm>
        </p:grpSpPr>
        <p:grpSp>
          <p:nvGrpSpPr>
            <p:cNvPr id="551" name=""/>
            <p:cNvGrpSpPr/>
            <p:nvPr/>
          </p:nvGrpSpPr>
          <p:grpSpPr>
            <a:xfrm>
              <a:off x="2165400" y="2157480"/>
              <a:ext cx="5038560" cy="3654360"/>
              <a:chOff x="2165400" y="2157480"/>
              <a:chExt cx="5038560" cy="365436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2165400" y="2157480"/>
                <a:ext cx="1440000" cy="822240"/>
                <a:chOff x="2165400" y="2157480"/>
                <a:chExt cx="1440000" cy="8222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2165400" y="215748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2165400" y="2157480"/>
                  <a:ext cx="1440000" cy="822240"/>
                  <a:chOff x="2165400" y="2157480"/>
                  <a:chExt cx="1440000" cy="8222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2209680" y="215748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N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165400" y="215748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" name=""/>
              <p:cNvGrpSpPr/>
              <p:nvPr/>
            </p:nvGrpSpPr>
            <p:grpSpPr>
              <a:xfrm>
                <a:off x="3605400" y="2157480"/>
                <a:ext cx="3598560" cy="822240"/>
                <a:chOff x="3605400" y="2157480"/>
                <a:chExt cx="3598560" cy="8222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649680" y="215748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číslo z pohyblivej čiarky na 32 bitový formát v pevnej čiarke so zaokruhlení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605400" y="215748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2165400" y="2979720"/>
                <a:ext cx="1440000" cy="1005120"/>
                <a:chOff x="2165400" y="2979720"/>
                <a:chExt cx="1440000" cy="10051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2165400" y="2979720"/>
                  <a:ext cx="1440000" cy="1005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2165400" y="2979720"/>
                  <a:ext cx="1440000" cy="642600"/>
                  <a:chOff x="2165400" y="2979720"/>
                  <a:chExt cx="1440000" cy="64260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2209680" y="2979720"/>
                    <a:ext cx="1351080" cy="642600"/>
                    <a:chOff x="2209680" y="2979720"/>
                    <a:chExt cx="1351080" cy="64260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2209680" y="3338280"/>
                      <a:ext cx="1351080" cy="3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2209680" y="2979720"/>
                      <a:ext cx="1351080" cy="64260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DD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6" name=""/>
                  <p:cNvSpPr/>
                  <p:nvPr/>
                </p:nvSpPr>
                <p:spPr>
                  <a:xfrm>
                    <a:off x="2165400" y="2979720"/>
                    <a:ext cx="1440000" cy="625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7" name=""/>
              <p:cNvGrpSpPr/>
              <p:nvPr/>
            </p:nvGrpSpPr>
            <p:grpSpPr>
              <a:xfrm>
                <a:off x="3605400" y="2979720"/>
                <a:ext cx="3598560" cy="1005120"/>
                <a:chOff x="3605400" y="2979720"/>
                <a:chExt cx="3598560" cy="1005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649680" y="2979720"/>
                  <a:ext cx="351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číslo + pohyblivej čiarky na 32 bitový formát v pevnej čiarke  a zaokrúhli  ho vždy smerom ho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605400" y="2979720"/>
                  <a:ext cx="3598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2165400" y="3984840"/>
                <a:ext cx="1440000" cy="1004760"/>
                <a:chOff x="2165400" y="3984840"/>
                <a:chExt cx="1440000" cy="10047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165400" y="3984840"/>
                  <a:ext cx="1440000" cy="10047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2165400" y="3984840"/>
                  <a:ext cx="1440000" cy="1004760"/>
                  <a:chOff x="2165400" y="3984840"/>
                  <a:chExt cx="1440000" cy="10047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209680" y="3984840"/>
                    <a:ext cx="1351080" cy="10047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ND 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165400" y="3984840"/>
                    <a:ext cx="1440000" cy="100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3605400" y="3984840"/>
                <a:ext cx="3598560" cy="1004760"/>
                <a:chOff x="3605400" y="3984840"/>
                <a:chExt cx="3598560" cy="10047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649680" y="3984840"/>
                  <a:ext cx="35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číslo + pohyblivej čiarky na 32 bitový formát v pevnej čiarke príznaky ho vždy smerom dol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605400" y="3984840"/>
                  <a:ext cx="35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2165400" y="4989600"/>
                <a:ext cx="1440000" cy="822240"/>
                <a:chOff x="2165400" y="4989600"/>
                <a:chExt cx="1440000" cy="8222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165400" y="49896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2165400" y="4989600"/>
                  <a:ext cx="1440000" cy="822240"/>
                  <a:chOff x="2165400" y="4989600"/>
                  <a:chExt cx="1440000" cy="8222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2209680" y="49896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4953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RUN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4953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165400" y="49896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3605400" y="4989600"/>
                <a:ext cx="3598560" cy="822240"/>
                <a:chOff x="3605400" y="4989600"/>
                <a:chExt cx="3598560" cy="8222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649680" y="49896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štrukcia prevedie celočíselnú časť čísla v pohyblivej čiarke na formát pevnej čiark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605400" y="49896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6" name=""/>
            <p:cNvSpPr/>
            <p:nvPr/>
          </p:nvSpPr>
          <p:spPr>
            <a:xfrm>
              <a:off x="2160720" y="2152800"/>
              <a:ext cx="5048280" cy="3663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92400" y="1928880"/>
            <a:ext cx="7394400" cy="164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680" y="2046240"/>
            <a:ext cx="820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MW 10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ítanie BCD hodnoty do AKK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od BCD –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MW 20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pis na adr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312920" y="1838160"/>
            <a:ext cx="7211520" cy="4325760"/>
            <a:chOff x="1312920" y="1838160"/>
            <a:chExt cx="7211520" cy="4325760"/>
          </a:xfrm>
        </p:grpSpPr>
        <p:sp>
          <p:nvSpPr>
            <p:cNvPr id="598" name=""/>
            <p:cNvSpPr/>
            <p:nvPr/>
          </p:nvSpPr>
          <p:spPr>
            <a:xfrm>
              <a:off x="1312920" y="1838160"/>
              <a:ext cx="7211520" cy="43257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 rot="5400000">
              <a:off x="5730480" y="2407320"/>
              <a:ext cx="163440" cy="3614040"/>
            </a:xfrm>
            <a:custGeom>
              <a:avLst/>
              <a:gdLst>
                <a:gd name="textAreaLeft" fmla="*/ 104760 w 163440"/>
                <a:gd name="textAreaRight" fmla="*/ 164160 w 163440"/>
                <a:gd name="textAreaTop" fmla="*/ 93960 h 3614040"/>
                <a:gd name="textAreaBottom" fmla="*/ 3520080 h 36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55480" y="3443760"/>
              <a:ext cx="0" cy="14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18280" y="3105360"/>
              <a:ext cx="0" cy="21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25200" y="2651400"/>
              <a:ext cx="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40040" y="2651400"/>
              <a:ext cx="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451600" y="2651400"/>
              <a:ext cx="5162040" cy="359280"/>
              <a:chOff x="2451600" y="2651400"/>
              <a:chExt cx="5162040" cy="359280"/>
            </a:xfrm>
          </p:grpSpPr>
          <p:sp>
            <p:nvSpPr>
              <p:cNvPr id="605" name=""/>
              <p:cNvSpPr/>
              <p:nvPr/>
            </p:nvSpPr>
            <p:spPr>
              <a:xfrm>
                <a:off x="5034600" y="2651400"/>
                <a:ext cx="2579040" cy="35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51600" y="2651400"/>
                <a:ext cx="2579040" cy="35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535716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4596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9252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6924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8008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1928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6368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0808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8732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9600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72360" y="273564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2774160" y="3171240"/>
              <a:ext cx="4843080" cy="174600"/>
              <a:chOff x="2774160" y="3171240"/>
              <a:chExt cx="4843080" cy="174600"/>
            </a:xfrm>
          </p:grpSpPr>
          <p:sp>
            <p:nvSpPr>
              <p:cNvPr id="620" name=""/>
              <p:cNvSpPr/>
              <p:nvPr/>
            </p:nvSpPr>
            <p:spPr>
              <a:xfrm flipH="1" flipV="1" rot="5400000">
                <a:off x="3178440" y="2766240"/>
                <a:ext cx="153000" cy="962280"/>
              </a:xfrm>
              <a:custGeom>
                <a:avLst/>
                <a:gdLst>
                  <a:gd name="textAreaLeft" fmla="*/ 97920 w 153000"/>
                  <a:gd name="textAreaRight" fmla="*/ 153000 w 153000"/>
                  <a:gd name="textAreaTop" fmla="*/ 24840 h 962280"/>
                  <a:gd name="textAreaBottom" fmla="*/ 937440 h 9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5400000">
                <a:off x="6896880" y="2625480"/>
                <a:ext cx="174240" cy="1266480"/>
              </a:xfrm>
              <a:custGeom>
                <a:avLst/>
                <a:gdLst>
                  <a:gd name="textAreaLeft" fmla="*/ 111240 w 174240"/>
                  <a:gd name="textAreaRight" fmla="*/ 174600 w 174240"/>
                  <a:gd name="textAreaTop" fmla="*/ 32760 h 1266480"/>
                  <a:gd name="textAreaBottom" fmla="*/ 1233720 h 126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5400000">
                <a:off x="5603400" y="2606400"/>
                <a:ext cx="174240" cy="1304640"/>
              </a:xfrm>
              <a:custGeom>
                <a:avLst/>
                <a:gdLst>
                  <a:gd name="textAreaLeft" fmla="*/ 111240 w 174240"/>
                  <a:gd name="textAreaRight" fmla="*/ 174600 w 174240"/>
                  <a:gd name="textAreaTop" fmla="*/ 33840 h 1304640"/>
                  <a:gd name="textAreaBottom" fmla="*/ 1270800 h 13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5400000">
                <a:off x="4300560" y="2606400"/>
                <a:ext cx="174240" cy="1304640"/>
              </a:xfrm>
              <a:custGeom>
                <a:avLst/>
                <a:gdLst>
                  <a:gd name="textAreaLeft" fmla="*/ 111240 w 174240"/>
                  <a:gd name="textAreaRight" fmla="*/ 174600 w 174240"/>
                  <a:gd name="textAreaTop" fmla="*/ 33840 h 1304640"/>
                  <a:gd name="textAreaBottom" fmla="*/ 1270800 h 13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2354040" y="2194200"/>
              <a:ext cx="54590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15.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 8.      7.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                  0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25680" y="266688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V    V     V    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87040" y="4444560"/>
              <a:ext cx="28458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Hodnota  BCD  čís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24920" y="3319560"/>
              <a:ext cx="1457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sk-SK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75680" y="3715560"/>
              <a:ext cx="453456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tovky            desiatky         jednotk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56960" y="3338280"/>
              <a:ext cx="1457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sk-SK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0760" y="3338280"/>
              <a:ext cx="1457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sk-SK" sz="1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33280" y="4859280"/>
              <a:ext cx="6260400" cy="11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nevyuž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znamienko:  0000 pre kladné  a 1111 pre záporné čís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1407960"/>
            <a:ext cx="5577120" cy="5123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964040"/>
            <a:ext cx="2525760" cy="137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59360" y="2879640"/>
            <a:ext cx="2490840" cy="172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52880" y="1528920"/>
            <a:ext cx="2568600" cy="1164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668840" y="3137040"/>
            <a:ext cx="1650600" cy="1282320"/>
            <a:chOff x="4668840" y="3137040"/>
            <a:chExt cx="1650600" cy="1282320"/>
          </a:xfrm>
        </p:grpSpPr>
        <p:sp>
          <p:nvSpPr>
            <p:cNvPr id="641" name=""/>
            <p:cNvSpPr/>
            <p:nvPr/>
          </p:nvSpPr>
          <p:spPr>
            <a:xfrm>
              <a:off x="4668840" y="3137040"/>
              <a:ext cx="1418040" cy="714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1400" y="3704400"/>
              <a:ext cx="1418040" cy="714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437000" y="1773360"/>
            <a:ext cx="2060640" cy="734760"/>
            <a:chOff x="4437000" y="1773360"/>
            <a:chExt cx="2060640" cy="734760"/>
          </a:xfrm>
        </p:grpSpPr>
        <p:sp>
          <p:nvSpPr>
            <p:cNvPr id="644" name=""/>
            <p:cNvSpPr/>
            <p:nvPr/>
          </p:nvSpPr>
          <p:spPr>
            <a:xfrm>
              <a:off x="4437000" y="1773360"/>
              <a:ext cx="1770120" cy="40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7520" y="2098440"/>
              <a:ext cx="1770120" cy="40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799160" y="5248440"/>
            <a:ext cx="1671120" cy="732960"/>
            <a:chOff x="4799160" y="5248440"/>
            <a:chExt cx="1671120" cy="732960"/>
          </a:xfrm>
        </p:grpSpPr>
        <p:sp>
          <p:nvSpPr>
            <p:cNvPr id="647" name=""/>
            <p:cNvSpPr/>
            <p:nvPr/>
          </p:nvSpPr>
          <p:spPr>
            <a:xfrm>
              <a:off x="4799160" y="5248440"/>
              <a:ext cx="1435680" cy="408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4600" y="5572800"/>
              <a:ext cx="1435680" cy="408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775480" y="4449600"/>
            <a:ext cx="0" cy="257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53160" y="4727520"/>
            <a:ext cx="4665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197760" y="4419720"/>
            <a:ext cx="0" cy="2887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51560" y="4449600"/>
            <a:ext cx="0" cy="3304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097600" y="4761000"/>
            <a:ext cx="4572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119560" y="4416120"/>
            <a:ext cx="0" cy="3445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43760" y="3616200"/>
            <a:ext cx="8078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970680" y="3596400"/>
            <a:ext cx="0" cy="2667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6352920" y="3825720"/>
            <a:ext cx="617400" cy="208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825640" y="2278080"/>
            <a:ext cx="187488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842920" y="2278800"/>
            <a:ext cx="3240" cy="20494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24200" y="4349880"/>
            <a:ext cx="2089080" cy="14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321000" y="4010040"/>
            <a:ext cx="154800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43320" y="2394000"/>
            <a:ext cx="0" cy="1598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30720" y="2413080"/>
            <a:ext cx="13824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3697200" y="3411000"/>
            <a:ext cx="898560" cy="18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719520" y="3224160"/>
            <a:ext cx="0" cy="1792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97200" y="3206880"/>
            <a:ext cx="917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857400" y="5394240"/>
            <a:ext cx="9111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75040" y="5376240"/>
            <a:ext cx="0" cy="455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52720" y="5851440"/>
            <a:ext cx="11941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88120" y="5364000"/>
            <a:ext cx="8841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7144920" y="4275000"/>
            <a:ext cx="4680" cy="10670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6431040" y="4258800"/>
            <a:ext cx="736560" cy="176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08560" y="1814400"/>
            <a:ext cx="16099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796160" y="1825560"/>
            <a:ext cx="1800" cy="1603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129000" y="3413160"/>
            <a:ext cx="16542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81840" y="3203640"/>
            <a:ext cx="10602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149960" y="1946160"/>
            <a:ext cx="0" cy="12780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264000" y="1967040"/>
            <a:ext cx="863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99360" y="4035600"/>
            <a:ext cx="1455480" cy="9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32880" y="4052880"/>
            <a:ext cx="0" cy="17431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473880" y="5808600"/>
            <a:ext cx="138096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75200" y="1533600"/>
            <a:ext cx="1817640" cy="241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Formát  B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40400" y="1822320"/>
            <a:ext cx="1263600" cy="2415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3- miest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51280" y="2179800"/>
            <a:ext cx="1817640" cy="241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7- miest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73480" y="2865600"/>
            <a:ext cx="2340000" cy="241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Formát  pevnej  čiarky  -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07000" y="3182760"/>
            <a:ext cx="1274760" cy="2415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16  bitov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94280" y="3772080"/>
            <a:ext cx="1165320" cy="241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32  bitov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52880" y="4957920"/>
            <a:ext cx="2970360" cy="2714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Formát  pohyblivej  čiarky  -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76640" y="5470560"/>
            <a:ext cx="8427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NE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34280" y="5364000"/>
            <a:ext cx="58752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D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02360" y="4645080"/>
            <a:ext cx="5983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08520" y="4602240"/>
            <a:ext cx="10857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NVD,NEG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69080" y="4581360"/>
            <a:ext cx="76536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R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RND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RND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TR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34280" y="2624040"/>
            <a:ext cx="62064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B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80240" y="2092320"/>
            <a:ext cx="6206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68640" y="2533680"/>
            <a:ext cx="6206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B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12880" y="3067200"/>
            <a:ext cx="6210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D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83560" y="3467160"/>
            <a:ext cx="6206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03680" y="3529080"/>
            <a:ext cx="9144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00440" y="3784680"/>
            <a:ext cx="946080" cy="14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722760" y="3543120"/>
            <a:ext cx="0" cy="252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09920" y="3646440"/>
            <a:ext cx="6206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T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05240" y="2921040"/>
            <a:ext cx="6094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NE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N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Posun a rotáci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233440" y="1689120"/>
            <a:ext cx="5048280" cy="3481200"/>
            <a:chOff x="2233440" y="1689120"/>
            <a:chExt cx="5048280" cy="3481200"/>
          </a:xfrm>
        </p:grpSpPr>
        <p:grpSp>
          <p:nvGrpSpPr>
            <p:cNvPr id="709" name=""/>
            <p:cNvGrpSpPr/>
            <p:nvPr/>
          </p:nvGrpSpPr>
          <p:grpSpPr>
            <a:xfrm>
              <a:off x="2238120" y="1693800"/>
              <a:ext cx="5038560" cy="3471840"/>
              <a:chOff x="2238120" y="1693800"/>
              <a:chExt cx="5038560" cy="347184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2238120" y="1693800"/>
                <a:ext cx="1440000" cy="822240"/>
                <a:chOff x="2238120" y="1693800"/>
                <a:chExt cx="1440000" cy="82224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2238120" y="16938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2238120" y="1693800"/>
                  <a:ext cx="1440000" cy="822240"/>
                  <a:chOff x="2238120" y="1693800"/>
                  <a:chExt cx="1440000" cy="82224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2282400" y="16938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W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238120" y="16938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3678120" y="1693800"/>
                <a:ext cx="3598560" cy="822240"/>
                <a:chOff x="3678120" y="1693800"/>
                <a:chExt cx="3598560" cy="8222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722400" y="16938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nižšieho slova v AKKU1 o n-bitov doľava, pričom AKKU1 sa dopĺňa nulami (0-15)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78120" y="16938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2238120" y="2516040"/>
                <a:ext cx="1440000" cy="1005120"/>
                <a:chOff x="2238120" y="2516040"/>
                <a:chExt cx="1440000" cy="1005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2238120" y="2516040"/>
                  <a:ext cx="1440000" cy="1005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2238120" y="2516040"/>
                  <a:ext cx="1440000" cy="1005120"/>
                  <a:chOff x="2238120" y="2516040"/>
                  <a:chExt cx="1440000" cy="100512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2282400" y="2516040"/>
                    <a:ext cx="1351080" cy="1005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W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238120" y="2516040"/>
                    <a:ext cx="1440000" cy="100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3678120" y="2516040"/>
                <a:ext cx="3598560" cy="1005120"/>
                <a:chOff x="3678120" y="2516040"/>
                <a:chExt cx="3598560" cy="10051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722400" y="2516040"/>
                  <a:ext cx="351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nižšieho slova v AKKU1 doľava. Hodnota posuvu je uložená v najnižšej slabike AKKU2 (0-255)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78120" y="2516040"/>
                  <a:ext cx="3598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2238120" y="3521160"/>
                <a:ext cx="1440000" cy="822240"/>
                <a:chOff x="2238120" y="3521160"/>
                <a:chExt cx="1440000" cy="8222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238120" y="352116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2238120" y="3521160"/>
                  <a:ext cx="1440000" cy="822240"/>
                  <a:chOff x="2238120" y="3521160"/>
                  <a:chExt cx="1440000" cy="822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2282400" y="352116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D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238120" y="352116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3678120" y="3521160"/>
                <a:ext cx="3598560" cy="822240"/>
                <a:chOff x="3678120" y="3521160"/>
                <a:chExt cx="3598560" cy="8222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722400" y="352116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obsahu AKKU1 doľava o n-bitov, pričom AKKU1 je dopĺňaný nulam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678120" y="352116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2238120" y="4343400"/>
                <a:ext cx="1440000" cy="822240"/>
                <a:chOff x="2238120" y="4343400"/>
                <a:chExt cx="1440000" cy="82224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2238120" y="43434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6" name=""/>
                <p:cNvGrpSpPr/>
                <p:nvPr/>
              </p:nvGrpSpPr>
              <p:grpSpPr>
                <a:xfrm>
                  <a:off x="2238120" y="4343400"/>
                  <a:ext cx="1440000" cy="822240"/>
                  <a:chOff x="2238120" y="4343400"/>
                  <a:chExt cx="1440000" cy="82224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2282400" y="43434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238120" y="43434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3678120" y="4343400"/>
                <a:ext cx="3598560" cy="822240"/>
                <a:chOff x="3678120" y="4343400"/>
                <a:chExt cx="3598560" cy="8222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722400" y="43434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obsahu AKKU1 doľava. Hodnota posunu je uložená v najnižšej slabike AKKU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78120" y="43434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2" name=""/>
            <p:cNvSpPr/>
            <p:nvPr/>
          </p:nvSpPr>
          <p:spPr>
            <a:xfrm>
              <a:off x="2233440" y="1689120"/>
              <a:ext cx="5048280" cy="348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127240" y="1833480"/>
            <a:ext cx="5048280" cy="4465440"/>
            <a:chOff x="2127240" y="1833480"/>
            <a:chExt cx="5048280" cy="4465440"/>
          </a:xfrm>
        </p:grpSpPr>
        <p:grpSp>
          <p:nvGrpSpPr>
            <p:cNvPr id="748" name=""/>
            <p:cNvGrpSpPr/>
            <p:nvPr/>
          </p:nvGrpSpPr>
          <p:grpSpPr>
            <a:xfrm>
              <a:off x="2131920" y="1838160"/>
              <a:ext cx="5038560" cy="4456080"/>
              <a:chOff x="2131920" y="1838160"/>
              <a:chExt cx="5038560" cy="44560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131920" y="1838160"/>
                <a:ext cx="1440000" cy="822240"/>
                <a:chOff x="2131920" y="1838160"/>
                <a:chExt cx="1440000" cy="8222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131920" y="183816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1" name=""/>
                <p:cNvGrpSpPr/>
                <p:nvPr/>
              </p:nvGrpSpPr>
              <p:grpSpPr>
                <a:xfrm>
                  <a:off x="2131920" y="1838160"/>
                  <a:ext cx="1440000" cy="822240"/>
                  <a:chOff x="2131920" y="1838160"/>
                  <a:chExt cx="1440000" cy="82224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2176200" y="183816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RW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31920" y="183816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4" name=""/>
              <p:cNvGrpSpPr/>
              <p:nvPr/>
            </p:nvGrpSpPr>
            <p:grpSpPr>
              <a:xfrm>
                <a:off x="3571920" y="1838160"/>
                <a:ext cx="3598560" cy="822240"/>
                <a:chOff x="3571920" y="1838160"/>
                <a:chExt cx="3598560" cy="8222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616200" y="183816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nižšieho slova v AKKU1 doprava o n-bitov, pričom AKKU1 je dopĺňaný nulam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571920" y="183816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131920" y="2660400"/>
                <a:ext cx="1440000" cy="822240"/>
                <a:chOff x="2131920" y="2660400"/>
                <a:chExt cx="1440000" cy="8222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131920" y="26604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2131920" y="2660400"/>
                  <a:ext cx="1440000" cy="822240"/>
                  <a:chOff x="2131920" y="2660400"/>
                  <a:chExt cx="1440000" cy="8222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2176200" y="26604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RW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131920" y="26604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2" name=""/>
              <p:cNvGrpSpPr/>
              <p:nvPr/>
            </p:nvGrpSpPr>
            <p:grpSpPr>
              <a:xfrm>
                <a:off x="3571920" y="2660400"/>
                <a:ext cx="3598560" cy="822240"/>
                <a:chOff x="3571920" y="2660400"/>
                <a:chExt cx="3598560" cy="822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16200" y="26604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nižšieho slova v AKKU1 doprava, hodnota posuvu je uložená v najnižšej slabike AKKU2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571920" y="26604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131920" y="3482640"/>
                <a:ext cx="1440000" cy="1989720"/>
                <a:chOff x="2131920" y="3482640"/>
                <a:chExt cx="1440000" cy="1989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131920" y="3482640"/>
                  <a:ext cx="1440000" cy="19893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7" name=""/>
                <p:cNvGrpSpPr/>
                <p:nvPr/>
              </p:nvGrpSpPr>
              <p:grpSpPr>
                <a:xfrm>
                  <a:off x="2131920" y="3482640"/>
                  <a:ext cx="1440000" cy="1989720"/>
                  <a:chOff x="2131920" y="3482640"/>
                  <a:chExt cx="1440000" cy="198972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2176200" y="3482640"/>
                    <a:ext cx="1351080" cy="1989720"/>
                    <a:chOff x="2176200" y="3482640"/>
                    <a:chExt cx="1351080" cy="19897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2176200" y="5472000"/>
                      <a:ext cx="1351080" cy="3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2176200" y="3482640"/>
                      <a:ext cx="1351080" cy="64260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D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1" name=""/>
                  <p:cNvSpPr/>
                  <p:nvPr/>
                </p:nvSpPr>
                <p:spPr>
                  <a:xfrm>
                    <a:off x="2131920" y="3482640"/>
                    <a:ext cx="1440000" cy="198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2" name=""/>
              <p:cNvGrpSpPr/>
              <p:nvPr/>
            </p:nvGrpSpPr>
            <p:grpSpPr>
              <a:xfrm>
                <a:off x="3571920" y="3482640"/>
                <a:ext cx="3598560" cy="1989360"/>
                <a:chOff x="3571920" y="3482640"/>
                <a:chExt cx="3598560" cy="19893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3616200" y="3482640"/>
                  <a:ext cx="3510000" cy="19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obsahu AKKU1 doprava o n-bitov, pričom AKKU1 je dopĺňaný nulami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571920" y="3482640"/>
                  <a:ext cx="3598560" cy="19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31920" y="5472000"/>
                <a:ext cx="1440000" cy="822240"/>
                <a:chOff x="2131920" y="5472000"/>
                <a:chExt cx="1440000" cy="8222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2131920" y="54720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7" name=""/>
                <p:cNvGrpSpPr/>
                <p:nvPr/>
              </p:nvGrpSpPr>
              <p:grpSpPr>
                <a:xfrm>
                  <a:off x="2131920" y="5472000"/>
                  <a:ext cx="1440000" cy="822240"/>
                  <a:chOff x="2131920" y="5472000"/>
                  <a:chExt cx="1440000" cy="822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2176200" y="54720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R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131920" y="54720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0" name=""/>
              <p:cNvGrpSpPr/>
              <p:nvPr/>
            </p:nvGrpSpPr>
            <p:grpSpPr>
              <a:xfrm>
                <a:off x="3571920" y="5472000"/>
                <a:ext cx="3598560" cy="822240"/>
                <a:chOff x="3571920" y="5472000"/>
                <a:chExt cx="3598560" cy="8222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3616200" y="54720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uv obsahu AKKU1 doprava. Hodnota posuvu je uložená v najnižšej slabike AKKU2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571920" y="54720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"/>
            <p:cNvSpPr/>
            <p:nvPr/>
          </p:nvSpPr>
          <p:spPr>
            <a:xfrm>
              <a:off x="2127240" y="1833480"/>
              <a:ext cx="5048280" cy="4465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131920" y="2027160"/>
            <a:ext cx="5048280" cy="3663720"/>
            <a:chOff x="2131920" y="2027160"/>
            <a:chExt cx="5048280" cy="3663720"/>
          </a:xfrm>
        </p:grpSpPr>
        <p:grpSp>
          <p:nvGrpSpPr>
            <p:cNvPr id="789" name=""/>
            <p:cNvGrpSpPr/>
            <p:nvPr/>
          </p:nvGrpSpPr>
          <p:grpSpPr>
            <a:xfrm>
              <a:off x="2136600" y="2031840"/>
              <a:ext cx="5038560" cy="3654360"/>
              <a:chOff x="2136600" y="2031840"/>
              <a:chExt cx="5038560" cy="365436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2136600" y="2031840"/>
                <a:ext cx="1440000" cy="822240"/>
                <a:chOff x="2136600" y="2031840"/>
                <a:chExt cx="1440000" cy="8222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2136600" y="203184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2136600" y="2031840"/>
                  <a:ext cx="1440000" cy="822240"/>
                  <a:chOff x="2136600" y="2031840"/>
                  <a:chExt cx="1440000" cy="8222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2180880" y="203184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SI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136600" y="203184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5" name=""/>
              <p:cNvGrpSpPr/>
              <p:nvPr/>
            </p:nvGrpSpPr>
            <p:grpSpPr>
              <a:xfrm>
                <a:off x="3576600" y="2031840"/>
                <a:ext cx="3598560" cy="822240"/>
                <a:chOff x="3576600" y="2031840"/>
                <a:chExt cx="3598560" cy="8222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3620880" y="203184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itmetický posuv nižšieho slova v AKKU1 doprava o n-bitov. Voľné bity sú dopĺňané podľa znamienk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576600" y="203184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136600" y="2854080"/>
                <a:ext cx="1440000" cy="1005120"/>
                <a:chOff x="2136600" y="2854080"/>
                <a:chExt cx="1440000" cy="10051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136600" y="2854080"/>
                  <a:ext cx="1440000" cy="1005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0" name=""/>
                <p:cNvGrpSpPr/>
                <p:nvPr/>
              </p:nvGrpSpPr>
              <p:grpSpPr>
                <a:xfrm>
                  <a:off x="2136600" y="2854080"/>
                  <a:ext cx="1440000" cy="1005120"/>
                  <a:chOff x="2136600" y="2854080"/>
                  <a:chExt cx="1440000" cy="10051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2180880" y="2854080"/>
                    <a:ext cx="1351080" cy="1005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S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136600" y="2854080"/>
                    <a:ext cx="1440000" cy="100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3" name=""/>
              <p:cNvGrpSpPr/>
              <p:nvPr/>
            </p:nvGrpSpPr>
            <p:grpSpPr>
              <a:xfrm>
                <a:off x="3576600" y="2854080"/>
                <a:ext cx="3598560" cy="1005120"/>
                <a:chOff x="3576600" y="2854080"/>
                <a:chExt cx="3598560" cy="10051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3620880" y="2854080"/>
                  <a:ext cx="351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itmetický posuv nižšieho slova v AKKU1 doprava o hodnotu, ktorá je uložená v najnižšej slabike AKKU2. Voľné bity sú dopĺňané podľa znamienk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576600" y="2854080"/>
                  <a:ext cx="3598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2136600" y="3859200"/>
                <a:ext cx="1440000" cy="822240"/>
                <a:chOff x="2136600" y="3859200"/>
                <a:chExt cx="1440000" cy="822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2136600" y="3859200"/>
                  <a:ext cx="14400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2136600" y="3859200"/>
                  <a:ext cx="1440000" cy="822240"/>
                  <a:chOff x="2136600" y="3859200"/>
                  <a:chExt cx="1440000" cy="82224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2180880" y="3859200"/>
                    <a:ext cx="13510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SD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136600" y="3859200"/>
                    <a:ext cx="1440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1" name=""/>
              <p:cNvGrpSpPr/>
              <p:nvPr/>
            </p:nvGrpSpPr>
            <p:grpSpPr>
              <a:xfrm>
                <a:off x="3576600" y="3859200"/>
                <a:ext cx="3598560" cy="822240"/>
                <a:chOff x="3576600" y="3859200"/>
                <a:chExt cx="3598560" cy="8222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620880" y="3859200"/>
                  <a:ext cx="351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itmetický posuv AKKU1 doprava o n-bitov. Voľné bity sú dopĺňané podľa znamienka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576600" y="3859200"/>
                  <a:ext cx="3598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2136600" y="4681440"/>
                <a:ext cx="1440000" cy="1004760"/>
                <a:chOff x="2136600" y="4681440"/>
                <a:chExt cx="1440000" cy="10047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2136600" y="4681440"/>
                  <a:ext cx="1440000" cy="10047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136600" y="4681440"/>
                  <a:ext cx="1440000" cy="1004760"/>
                  <a:chOff x="2136600" y="4681440"/>
                  <a:chExt cx="1440000" cy="1004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2180880" y="4681440"/>
                    <a:ext cx="1351080" cy="10047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S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136600" y="4681440"/>
                    <a:ext cx="1440000" cy="100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3576600" y="4681440"/>
                <a:ext cx="3598560" cy="1004760"/>
                <a:chOff x="3576600" y="4681440"/>
                <a:chExt cx="3598560" cy="100476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620880" y="4681440"/>
                  <a:ext cx="35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itmetický posuv AKKU1 doprava o hodnotu uloženú  najnižšej slabike AKKU2. Voľné bity sú dopĺňané podľa znamienka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576600" y="4681440"/>
                  <a:ext cx="35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2" name=""/>
            <p:cNvSpPr/>
            <p:nvPr/>
          </p:nvSpPr>
          <p:spPr>
            <a:xfrm>
              <a:off x="2131920" y="2027160"/>
              <a:ext cx="5048280" cy="3663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241720" y="1835280"/>
            <a:ext cx="5047920" cy="4213080"/>
            <a:chOff x="2241720" y="1835280"/>
            <a:chExt cx="5047920" cy="4213080"/>
          </a:xfrm>
        </p:grpSpPr>
        <p:grpSp>
          <p:nvGrpSpPr>
            <p:cNvPr id="828" name=""/>
            <p:cNvGrpSpPr/>
            <p:nvPr/>
          </p:nvGrpSpPr>
          <p:grpSpPr>
            <a:xfrm>
              <a:off x="2246040" y="1839960"/>
              <a:ext cx="5037840" cy="4203720"/>
              <a:chOff x="2246040" y="1839960"/>
              <a:chExt cx="5037840" cy="4203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2246040" y="1839960"/>
                <a:ext cx="1439640" cy="639720"/>
                <a:chOff x="2246040" y="1839960"/>
                <a:chExt cx="1439640" cy="6397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246040" y="1839960"/>
                  <a:ext cx="1439640" cy="639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2246040" y="1839960"/>
                  <a:ext cx="1439640" cy="639720"/>
                  <a:chOff x="2246040" y="1839960"/>
                  <a:chExt cx="1439640" cy="6397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2289960" y="1839960"/>
                    <a:ext cx="1350720" cy="639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LD</a:t>
                    </a:r>
                    <a:r>
                      <a:rPr b="1" lang="en-US" sz="1800" spc="-1" strike="noStrike" baseline="-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246040" y="1839960"/>
                    <a:ext cx="14396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4" name=""/>
              <p:cNvGrpSpPr/>
              <p:nvPr/>
            </p:nvGrpSpPr>
            <p:grpSpPr>
              <a:xfrm>
                <a:off x="3685680" y="1839960"/>
                <a:ext cx="3598200" cy="639720"/>
                <a:chOff x="3685680" y="1839960"/>
                <a:chExt cx="3598200" cy="6397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3729600" y="1839960"/>
                  <a:ext cx="3509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ľava o n-bito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685680" y="1839960"/>
                  <a:ext cx="3598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2246040" y="2479680"/>
                <a:ext cx="1439640" cy="822240"/>
                <a:chOff x="2246040" y="2479680"/>
                <a:chExt cx="1439640" cy="8222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2246040" y="2479680"/>
                  <a:ext cx="143964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2246040" y="2479680"/>
                  <a:ext cx="1439640" cy="642600"/>
                  <a:chOff x="2246040" y="2479680"/>
                  <a:chExt cx="1439640" cy="642600"/>
                </a:xfrm>
              </p:grpSpPr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2289960" y="2479680"/>
                    <a:ext cx="1350720" cy="642600"/>
                    <a:chOff x="2289960" y="2479680"/>
                    <a:chExt cx="1350720" cy="64260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2289960" y="2635200"/>
                      <a:ext cx="1350720" cy="3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2289960" y="2479680"/>
                      <a:ext cx="1350720" cy="64260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3" name=""/>
                  <p:cNvSpPr/>
                  <p:nvPr/>
                </p:nvSpPr>
                <p:spPr>
                  <a:xfrm>
                    <a:off x="2246040" y="2479680"/>
                    <a:ext cx="1439640" cy="625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4" name=""/>
              <p:cNvGrpSpPr/>
              <p:nvPr/>
            </p:nvGrpSpPr>
            <p:grpSpPr>
              <a:xfrm>
                <a:off x="3685680" y="2479680"/>
                <a:ext cx="3598200" cy="822240"/>
                <a:chOff x="3685680" y="2479680"/>
                <a:chExt cx="3598200" cy="8222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3729600" y="2479680"/>
                  <a:ext cx="350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ľava o hodnotu, uloženú ako najnižšia slabika v AKKU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85680" y="2479680"/>
                  <a:ext cx="3598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246040" y="3301920"/>
                <a:ext cx="1439640" cy="639720"/>
                <a:chOff x="2246040" y="3301920"/>
                <a:chExt cx="1439640" cy="6397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246040" y="3301920"/>
                  <a:ext cx="1439640" cy="639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2246040" y="3301920"/>
                  <a:ext cx="1439640" cy="639720"/>
                  <a:chOff x="2246040" y="3301920"/>
                  <a:chExt cx="1439640" cy="63972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2289960" y="3301920"/>
                    <a:ext cx="1350720" cy="639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RD</a:t>
                    </a:r>
                    <a:r>
                      <a:rPr b="1" lang="en-US" sz="1200" spc="-1" strike="noStrike" baseline="-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246040" y="3301920"/>
                    <a:ext cx="14396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2" name=""/>
              <p:cNvGrpSpPr/>
              <p:nvPr/>
            </p:nvGrpSpPr>
            <p:grpSpPr>
              <a:xfrm>
                <a:off x="3685680" y="3301920"/>
                <a:ext cx="3598200" cy="639720"/>
                <a:chOff x="3685680" y="3301920"/>
                <a:chExt cx="3598200" cy="63972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729600" y="3301920"/>
                  <a:ext cx="3509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prava o n-bito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85680" y="3301920"/>
                  <a:ext cx="3598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2246040" y="3941640"/>
                <a:ext cx="1439640" cy="822600"/>
                <a:chOff x="2246040" y="3941640"/>
                <a:chExt cx="1439640" cy="8226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2246040" y="3941640"/>
                  <a:ext cx="1439640" cy="822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7" name=""/>
                <p:cNvGrpSpPr/>
                <p:nvPr/>
              </p:nvGrpSpPr>
              <p:grpSpPr>
                <a:xfrm>
                  <a:off x="2246040" y="3941640"/>
                  <a:ext cx="1439640" cy="822600"/>
                  <a:chOff x="2246040" y="3941640"/>
                  <a:chExt cx="1439640" cy="8226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2289960" y="3941640"/>
                    <a:ext cx="1350720" cy="8226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R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246040" y="3941640"/>
                    <a:ext cx="143964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0" name=""/>
              <p:cNvGrpSpPr/>
              <p:nvPr/>
            </p:nvGrpSpPr>
            <p:grpSpPr>
              <a:xfrm>
                <a:off x="3685680" y="3941640"/>
                <a:ext cx="3598200" cy="822600"/>
                <a:chOff x="3685680" y="3941640"/>
                <a:chExt cx="3598200" cy="8226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3729600" y="3941640"/>
                  <a:ext cx="35096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prava o hodnotu, uloženú ako najnižšia slabika v AKKU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685680" y="3941640"/>
                  <a:ext cx="359820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2246040" y="4764240"/>
                <a:ext cx="1439640" cy="639720"/>
                <a:chOff x="2246040" y="4764240"/>
                <a:chExt cx="1439640" cy="6397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2246040" y="4764240"/>
                  <a:ext cx="1439640" cy="639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5" name=""/>
                <p:cNvGrpSpPr/>
                <p:nvPr/>
              </p:nvGrpSpPr>
              <p:grpSpPr>
                <a:xfrm>
                  <a:off x="2246040" y="4764240"/>
                  <a:ext cx="1439640" cy="639720"/>
                  <a:chOff x="2246040" y="4764240"/>
                  <a:chExt cx="1439640" cy="6397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2289960" y="4764240"/>
                    <a:ext cx="1350720" cy="639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LD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246040" y="4764240"/>
                    <a:ext cx="14396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8" name=""/>
              <p:cNvGrpSpPr/>
              <p:nvPr/>
            </p:nvGrpSpPr>
            <p:grpSpPr>
              <a:xfrm>
                <a:off x="3685680" y="4764240"/>
                <a:ext cx="3598200" cy="639720"/>
                <a:chOff x="3685680" y="4764240"/>
                <a:chExt cx="3598200" cy="6397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3729600" y="4764240"/>
                  <a:ext cx="3509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ľava cez A0 o 1 bit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685680" y="4764240"/>
                  <a:ext cx="3598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2246040" y="5403960"/>
                <a:ext cx="1439640" cy="639720"/>
                <a:chOff x="2246040" y="5403960"/>
                <a:chExt cx="1439640" cy="6397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2246040" y="5403960"/>
                  <a:ext cx="1439640" cy="639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" name=""/>
                <p:cNvGrpSpPr/>
                <p:nvPr/>
              </p:nvGrpSpPr>
              <p:grpSpPr>
                <a:xfrm>
                  <a:off x="2246040" y="5403960"/>
                  <a:ext cx="1439640" cy="639720"/>
                  <a:chOff x="2246040" y="5403960"/>
                  <a:chExt cx="1439640" cy="63972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2289960" y="5403960"/>
                    <a:ext cx="1350720" cy="639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RD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246040" y="5403960"/>
                    <a:ext cx="14396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685680" y="5403960"/>
                <a:ext cx="3598200" cy="639720"/>
                <a:chOff x="3685680" y="5403960"/>
                <a:chExt cx="3598200" cy="63972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29600" y="5403960"/>
                  <a:ext cx="3509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ácia AKKU1 doprava cez A0 o 1 bit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685680" y="5403960"/>
                  <a:ext cx="3598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2241720" y="1835280"/>
              <a:ext cx="5047920" cy="4213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2008080" y="1825560"/>
            <a:ext cx="3532320" cy="11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W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W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W 20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55880" y="3060720"/>
            <a:ext cx="5632200" cy="235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017960" y="3363840"/>
            <a:ext cx="3236760" cy="254160"/>
            <a:chOff x="4017960" y="3363840"/>
            <a:chExt cx="3236760" cy="254160"/>
          </a:xfrm>
        </p:grpSpPr>
        <p:sp>
          <p:nvSpPr>
            <p:cNvPr id="887" name=""/>
            <p:cNvSpPr/>
            <p:nvPr/>
          </p:nvSpPr>
          <p:spPr>
            <a:xfrm>
              <a:off x="4017960" y="3378960"/>
              <a:ext cx="3236760" cy="239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614560" y="336780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791960" y="336384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6445440" y="336384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029120" y="4012920"/>
            <a:ext cx="3236760" cy="252720"/>
            <a:chOff x="4029120" y="4012920"/>
            <a:chExt cx="3236760" cy="252720"/>
          </a:xfrm>
        </p:grpSpPr>
        <p:sp>
          <p:nvSpPr>
            <p:cNvPr id="892" name=""/>
            <p:cNvSpPr/>
            <p:nvPr/>
          </p:nvSpPr>
          <p:spPr>
            <a:xfrm>
              <a:off x="4029120" y="4028400"/>
              <a:ext cx="3236760" cy="237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5625720" y="4016880"/>
              <a:ext cx="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803120" y="4012920"/>
              <a:ext cx="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56600" y="4012920"/>
              <a:ext cx="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2967120" y="4040280"/>
            <a:ext cx="107136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951360" y="3336840"/>
            <a:ext cx="3762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0  0  0  0    1  1  1  1      0  1  0  1    0  1  0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01960" y="3995640"/>
            <a:ext cx="4746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0  0  0  0  1  1    1  1  0  1    0  1  0  1     0  1  0  0     0  0  0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6200000">
            <a:off x="6609240" y="3870720"/>
            <a:ext cx="133560" cy="1071360"/>
          </a:xfrm>
          <a:custGeom>
            <a:avLst/>
            <a:gdLst>
              <a:gd name="textAreaLeft" fmla="*/ 85320 w 133560"/>
              <a:gd name="textAreaRight" fmla="*/ 133920 w 133560"/>
              <a:gd name="textAreaTop" fmla="*/ 27720 h 1071360"/>
              <a:gd name="textAreaBottom" fmla="*/ 104364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6200000">
            <a:off x="3323160" y="4018320"/>
            <a:ext cx="133560" cy="776160"/>
          </a:xfrm>
          <a:custGeom>
            <a:avLst/>
            <a:gdLst>
              <a:gd name="textAreaLeft" fmla="*/ 85320 w 133560"/>
              <a:gd name="textAreaRight" fmla="*/ 133920 w 133560"/>
              <a:gd name="textAreaTop" fmla="*/ 20160 h 776160"/>
              <a:gd name="textAreaBottom" fmla="*/ 756000 h 7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3854160" y="4308120"/>
            <a:ext cx="133560" cy="196560"/>
          </a:xfrm>
          <a:custGeom>
            <a:avLst/>
            <a:gdLst>
              <a:gd name="textAreaLeft" fmla="*/ 85320 w 133560"/>
              <a:gd name="textAreaRight" fmla="*/ 133920 w 133560"/>
              <a:gd name="textAreaTop" fmla="*/ 5040 h 196560"/>
              <a:gd name="textAreaBottom" fmla="*/ 191520 h 19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24280" y="4600440"/>
            <a:ext cx="46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Tieto bity       Posledný bit sa                                        Doplnenie nul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sa stratia        zapíše do  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81600" y="3705120"/>
            <a:ext cx="622440" cy="216000"/>
          </a:xfrm>
          <a:prstGeom prst="leftArrow">
            <a:avLst>
              <a:gd name="adj1" fmla="val 50000"/>
              <a:gd name="adj2" fmla="val 7204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06800" y="3692520"/>
            <a:ext cx="8301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6  m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076560" y="3664080"/>
            <a:ext cx="102888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017760" y="3664080"/>
            <a:ext cx="1094040" cy="30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3657600"/>
            <a:ext cx="1066680" cy="2133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Porovnávanie operand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8560" y="1641600"/>
            <a:ext cx="599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 inštrukciami je možné porovnávať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ve celé čísla  (  16 bitov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ve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longint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ísla  (  32  bitov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ve reálne čísla ( IEEE pevná čiarka,32 bito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3960" y="3581280"/>
            <a:ext cx="585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k je porovnanie: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n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dkom op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je 1( VKE = 1 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183440" y="6019920"/>
            <a:ext cx="1655280" cy="533160"/>
            <a:chOff x="7183440" y="6019920"/>
            <a:chExt cx="1655280" cy="533160"/>
          </a:xfrm>
        </p:grpSpPr>
        <p:sp>
          <p:nvSpPr>
            <p:cNvPr id="100" name="">
              <a:hlinkClick r:id="" action="ppaction://hlinkshowjump?jump=nextslide"/>
            </p:cNvPr>
            <p:cNvSpPr/>
            <p:nvPr/>
          </p:nvSpPr>
          <p:spPr>
            <a:xfrm>
              <a:off x="8366040" y="6019920"/>
              <a:ext cx="472680" cy="533160"/>
            </a:xfrm>
            <a:custGeom>
              <a:avLst/>
              <a:gdLst>
                <a:gd name="textAreaLeft" fmla="*/ 30600 w 472680"/>
                <a:gd name="textAreaRight" fmla="*/ 442080 w 472680"/>
                <a:gd name="textAreaTop" fmla="*/ 30600 h 533160"/>
                <a:gd name="textAreaBottom" fmla="*/ 502560 h 533160"/>
              </a:gdLst>
              <a:ahLst/>
              <a:rect l="textAreaLeft" t="textAreaTop" r="textAreaRight" b="textAreaBottom"/>
              <a:pathLst>
                <a:path w="21600" h="24362">
                  <a:moveTo>
                    <a:pt x="0" y="0"/>
                  </a:moveTo>
                  <a:lnTo>
                    <a:pt x="21600" y="0"/>
                  </a:lnTo>
                  <a:lnTo>
                    <a:pt x="21600" y="24362"/>
                  </a:lnTo>
                  <a:lnTo>
                    <a:pt x="0" y="24362"/>
                  </a:lnTo>
                  <a:close/>
                </a:path>
                <a:path fill="lightenLess" w="21600" h="243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362">
                  <a:moveTo>
                    <a:pt x="21600" y="0"/>
                  </a:moveTo>
                  <a:lnTo>
                    <a:pt x="21600" y="24362"/>
                  </a:lnTo>
                  <a:lnTo>
                    <a:pt x="20200" y="22962"/>
                  </a:lnTo>
                  <a:lnTo>
                    <a:pt x="20200" y="1400"/>
                  </a:lnTo>
                  <a:close/>
                </a:path>
                <a:path fill="darkenLess" w="21600" h="24362">
                  <a:moveTo>
                    <a:pt x="21600" y="24362"/>
                  </a:moveTo>
                  <a:lnTo>
                    <a:pt x="0" y="24362"/>
                  </a:lnTo>
                  <a:lnTo>
                    <a:pt x="1400" y="22962"/>
                  </a:lnTo>
                  <a:lnTo>
                    <a:pt x="20200" y="22962"/>
                  </a:lnTo>
                  <a:close/>
                </a:path>
                <a:path fill="lighten" w="21600" h="24362">
                  <a:moveTo>
                    <a:pt x="0" y="243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962"/>
                  </a:lnTo>
                  <a:close/>
                </a:path>
                <a:path fill="darken" w="21600" h="24362">
                  <a:moveTo>
                    <a:pt x="3794" y="5174"/>
                  </a:moveTo>
                  <a:lnTo>
                    <a:pt x="17806" y="12181"/>
                  </a:lnTo>
                  <a:lnTo>
                    <a:pt x="3794" y="19187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" action="ppaction://hlinkshowjump?jump=previousslide"/>
            </p:cNvPr>
            <p:cNvSpPr/>
            <p:nvPr/>
          </p:nvSpPr>
          <p:spPr>
            <a:xfrm>
              <a:off x="7183440" y="6019920"/>
              <a:ext cx="472680" cy="533160"/>
            </a:xfrm>
            <a:custGeom>
              <a:avLst/>
              <a:gdLst>
                <a:gd name="textAreaLeft" fmla="*/ 30600 w 472680"/>
                <a:gd name="textAreaRight" fmla="*/ 442080 w 472680"/>
                <a:gd name="textAreaTop" fmla="*/ 30600 h 533160"/>
                <a:gd name="textAreaBottom" fmla="*/ 502560 h 533160"/>
              </a:gdLst>
              <a:ahLst/>
              <a:rect l="textAreaLeft" t="textAreaTop" r="textAreaRight" b="textAreaBottom"/>
              <a:pathLst>
                <a:path w="21600" h="24362">
                  <a:moveTo>
                    <a:pt x="0" y="0"/>
                  </a:moveTo>
                  <a:lnTo>
                    <a:pt x="21600" y="0"/>
                  </a:lnTo>
                  <a:lnTo>
                    <a:pt x="21600" y="24362"/>
                  </a:lnTo>
                  <a:lnTo>
                    <a:pt x="0" y="24362"/>
                  </a:lnTo>
                  <a:close/>
                </a:path>
                <a:path fill="lightenLess" w="21600" h="243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362">
                  <a:moveTo>
                    <a:pt x="21600" y="0"/>
                  </a:moveTo>
                  <a:lnTo>
                    <a:pt x="21600" y="24362"/>
                  </a:lnTo>
                  <a:lnTo>
                    <a:pt x="20200" y="22962"/>
                  </a:lnTo>
                  <a:lnTo>
                    <a:pt x="20200" y="1400"/>
                  </a:lnTo>
                  <a:close/>
                </a:path>
                <a:path fill="darkenLess" w="21600" h="24362">
                  <a:moveTo>
                    <a:pt x="21600" y="24362"/>
                  </a:moveTo>
                  <a:lnTo>
                    <a:pt x="0" y="24362"/>
                  </a:lnTo>
                  <a:lnTo>
                    <a:pt x="1400" y="22962"/>
                  </a:lnTo>
                  <a:lnTo>
                    <a:pt x="20200" y="22962"/>
                  </a:lnTo>
                  <a:close/>
                </a:path>
                <a:path fill="lighten" w="21600" h="24362">
                  <a:moveTo>
                    <a:pt x="0" y="243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962"/>
                  </a:lnTo>
                  <a:close/>
                </a:path>
                <a:path fill="darken" w="21600" h="24362">
                  <a:moveTo>
                    <a:pt x="3794" y="12181"/>
                  </a:moveTo>
                  <a:lnTo>
                    <a:pt x="17806" y="5174"/>
                  </a:lnTo>
                  <a:lnTo>
                    <a:pt x="17806" y="19187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" action="ppaction://hlinkshowjump?jump=firstslide"/>
            </p:cNvPr>
            <p:cNvSpPr/>
            <p:nvPr/>
          </p:nvSpPr>
          <p:spPr>
            <a:xfrm>
              <a:off x="7774560" y="6019920"/>
              <a:ext cx="473040" cy="533160"/>
            </a:xfrm>
            <a:custGeom>
              <a:avLst/>
              <a:gdLst>
                <a:gd name="textAreaLeft" fmla="*/ 30600 w 473040"/>
                <a:gd name="textAreaRight" fmla="*/ 442440 w 473040"/>
                <a:gd name="textAreaTop" fmla="*/ 30600 h 533160"/>
                <a:gd name="textAreaBottom" fmla="*/ 502560 h 533160"/>
              </a:gdLst>
              <a:ahLst/>
              <a:rect l="textAreaLeft" t="textAreaTop" r="textAreaRight" b="textAreaBottom"/>
              <a:pathLst>
                <a:path w="21600" h="24343">
                  <a:moveTo>
                    <a:pt x="0" y="0"/>
                  </a:moveTo>
                  <a:lnTo>
                    <a:pt x="21600" y="0"/>
                  </a:lnTo>
                  <a:lnTo>
                    <a:pt x="21600" y="24343"/>
                  </a:lnTo>
                  <a:lnTo>
                    <a:pt x="0" y="24343"/>
                  </a:lnTo>
                  <a:close/>
                </a:path>
                <a:path fill="lightenLess" w="21600" h="2434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343">
                  <a:moveTo>
                    <a:pt x="21600" y="0"/>
                  </a:moveTo>
                  <a:lnTo>
                    <a:pt x="21600" y="24343"/>
                  </a:lnTo>
                  <a:lnTo>
                    <a:pt x="20200" y="22943"/>
                  </a:lnTo>
                  <a:lnTo>
                    <a:pt x="20200" y="1400"/>
                  </a:lnTo>
                  <a:close/>
                </a:path>
                <a:path fill="darkenLess" w="21600" h="24343">
                  <a:moveTo>
                    <a:pt x="21600" y="24343"/>
                  </a:moveTo>
                  <a:lnTo>
                    <a:pt x="0" y="24343"/>
                  </a:lnTo>
                  <a:lnTo>
                    <a:pt x="1400" y="22943"/>
                  </a:lnTo>
                  <a:lnTo>
                    <a:pt x="20200" y="22943"/>
                  </a:lnTo>
                  <a:close/>
                </a:path>
                <a:path fill="lighten" w="21600" h="24343">
                  <a:moveTo>
                    <a:pt x="0" y="2434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943"/>
                  </a:lnTo>
                  <a:close/>
                </a:path>
                <a:path fill="darken" w="21600" h="24343">
                  <a:moveTo>
                    <a:pt x="7301" y="12172"/>
                  </a:moveTo>
                  <a:lnTo>
                    <a:pt x="17806" y="5165"/>
                  </a:lnTo>
                  <a:lnTo>
                    <a:pt x="17806" y="19178"/>
                  </a:lnTo>
                  <a:close/>
                </a:path>
                <a:path fill="darken" w="21600" h="24343">
                  <a:moveTo>
                    <a:pt x="3794" y="5165"/>
                  </a:moveTo>
                  <a:lnTo>
                    <a:pt x="5456" y="5165"/>
                  </a:lnTo>
                  <a:lnTo>
                    <a:pt x="5456" y="19178"/>
                  </a:lnTo>
                  <a:lnTo>
                    <a:pt x="3794" y="1917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Matematické funkcie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057400" y="2014560"/>
            <a:ext cx="5110200" cy="3663720"/>
            <a:chOff x="2057400" y="2014560"/>
            <a:chExt cx="5110200" cy="3663720"/>
          </a:xfrm>
        </p:grpSpPr>
        <p:grpSp>
          <p:nvGrpSpPr>
            <p:cNvPr id="912" name=""/>
            <p:cNvGrpSpPr/>
            <p:nvPr/>
          </p:nvGrpSpPr>
          <p:grpSpPr>
            <a:xfrm>
              <a:off x="2062080" y="2019240"/>
              <a:ext cx="5100480" cy="3654360"/>
              <a:chOff x="2062080" y="2019240"/>
              <a:chExt cx="5100480" cy="365436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2062080" y="2019240"/>
                <a:ext cx="961920" cy="822240"/>
                <a:chOff x="2062080" y="2019240"/>
                <a:chExt cx="961920" cy="82224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062080" y="2019240"/>
                  <a:ext cx="96192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5" name=""/>
                <p:cNvGrpSpPr/>
                <p:nvPr/>
              </p:nvGrpSpPr>
              <p:grpSpPr>
                <a:xfrm>
                  <a:off x="2062080" y="2019240"/>
                  <a:ext cx="961920" cy="822240"/>
                  <a:chOff x="2062080" y="2019240"/>
                  <a:chExt cx="961920" cy="82224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2106360" y="2019240"/>
                    <a:ext cx="87336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 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062080" y="2019240"/>
                    <a:ext cx="96192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8" name=""/>
              <p:cNvGrpSpPr/>
              <p:nvPr/>
            </p:nvGrpSpPr>
            <p:grpSpPr>
              <a:xfrm>
                <a:off x="3024000" y="2019240"/>
                <a:ext cx="989280" cy="822240"/>
                <a:chOff x="3024000" y="2019240"/>
                <a:chExt cx="989280" cy="8222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068640" y="2019240"/>
                  <a:ext cx="90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024000" y="2019240"/>
                  <a:ext cx="98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4013280" y="2019240"/>
                <a:ext cx="3149280" cy="822240"/>
                <a:chOff x="4013280" y="2019240"/>
                <a:chExt cx="3149280" cy="8222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4057560" y="2019240"/>
                  <a:ext cx="3060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et nižších slov v AKKU1 a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013280" y="2019240"/>
                  <a:ext cx="314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062080" y="2841480"/>
                <a:ext cx="961920" cy="822240"/>
                <a:chOff x="2062080" y="2841480"/>
                <a:chExt cx="961920" cy="8222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062080" y="2841480"/>
                  <a:ext cx="96192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6" name=""/>
                <p:cNvGrpSpPr/>
                <p:nvPr/>
              </p:nvGrpSpPr>
              <p:grpSpPr>
                <a:xfrm>
                  <a:off x="2062080" y="2841480"/>
                  <a:ext cx="961920" cy="822240"/>
                  <a:chOff x="2062080" y="2841480"/>
                  <a:chExt cx="961920" cy="8222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2106360" y="2841480"/>
                    <a:ext cx="87336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 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062080" y="2841480"/>
                    <a:ext cx="96192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9" name=""/>
              <p:cNvGrpSpPr/>
              <p:nvPr/>
            </p:nvGrpSpPr>
            <p:grpSpPr>
              <a:xfrm>
                <a:off x="3024000" y="2841480"/>
                <a:ext cx="989280" cy="822240"/>
                <a:chOff x="3024000" y="2841480"/>
                <a:chExt cx="989280" cy="822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3068640" y="2841480"/>
                  <a:ext cx="90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024000" y="2841480"/>
                  <a:ext cx="98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4013280" y="2841480"/>
                <a:ext cx="3149280" cy="822240"/>
                <a:chOff x="4013280" y="2841480"/>
                <a:chExt cx="3149280" cy="82224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4057560" y="2841480"/>
                  <a:ext cx="3060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dčíta nižšie slovo v AKKU1od nižšieho slova v AKKU2 a výsledok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013280" y="2841480"/>
                  <a:ext cx="314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2062080" y="3663720"/>
                <a:ext cx="961920" cy="822600"/>
                <a:chOff x="2062080" y="3663720"/>
                <a:chExt cx="961920" cy="822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2062080" y="3663720"/>
                  <a:ext cx="961920" cy="822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2062080" y="3663720"/>
                  <a:ext cx="961920" cy="822600"/>
                  <a:chOff x="2062080" y="3663720"/>
                  <a:chExt cx="961920" cy="82260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2106360" y="3663720"/>
                    <a:ext cx="873360" cy="8226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* 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062080" y="3663720"/>
                    <a:ext cx="96192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0" name=""/>
              <p:cNvGrpSpPr/>
              <p:nvPr/>
            </p:nvGrpSpPr>
            <p:grpSpPr>
              <a:xfrm>
                <a:off x="3024000" y="3663720"/>
                <a:ext cx="989280" cy="822600"/>
                <a:chOff x="3024000" y="3663720"/>
                <a:chExt cx="989280" cy="8226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3068640" y="3663720"/>
                  <a:ext cx="9000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024000" y="3663720"/>
                  <a:ext cx="9892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4013280" y="3663720"/>
                <a:ext cx="3149280" cy="822600"/>
                <a:chOff x="4013280" y="3663720"/>
                <a:chExt cx="3149280" cy="8226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4057560" y="3663720"/>
                  <a:ext cx="30607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in nižších slov v AKKU1 z AKKU2, výsledok (32 bit)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013280" y="3663720"/>
                  <a:ext cx="31492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2062080" y="4486320"/>
                <a:ext cx="961920" cy="1187280"/>
                <a:chOff x="2062080" y="4486320"/>
                <a:chExt cx="961920" cy="118728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2062080" y="4486320"/>
                  <a:ext cx="961920" cy="118728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8" name=""/>
                <p:cNvGrpSpPr/>
                <p:nvPr/>
              </p:nvGrpSpPr>
              <p:grpSpPr>
                <a:xfrm>
                  <a:off x="2062080" y="4486320"/>
                  <a:ext cx="961920" cy="1187280"/>
                  <a:chOff x="2062080" y="4486320"/>
                  <a:chExt cx="961920" cy="11872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2106360" y="4486320"/>
                    <a:ext cx="873360" cy="11872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/ 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062080" y="4486320"/>
                    <a:ext cx="96192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1" name=""/>
              <p:cNvGrpSpPr/>
              <p:nvPr/>
            </p:nvGrpSpPr>
            <p:grpSpPr>
              <a:xfrm>
                <a:off x="3024000" y="4486320"/>
                <a:ext cx="989280" cy="1187280"/>
                <a:chOff x="3024000" y="4486320"/>
                <a:chExt cx="989280" cy="11872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068640" y="4486320"/>
                  <a:ext cx="900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024000" y="4486320"/>
                  <a:ext cx="989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013280" y="4486320"/>
                <a:ext cx="3149280" cy="1187280"/>
                <a:chOff x="4013280" y="4486320"/>
                <a:chExt cx="3149280" cy="118728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057560" y="4486320"/>
                  <a:ext cx="30607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žšie slovo v AKKU 1 je delené vyšším slovom v AKKU1, výsledok sa uloží do nižšieho slova v AKKU1. Zbytok po delení sa uloží do výššieho slova v AKKU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013280" y="4486320"/>
                  <a:ext cx="3149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7" name=""/>
            <p:cNvSpPr/>
            <p:nvPr/>
          </p:nvSpPr>
          <p:spPr>
            <a:xfrm>
              <a:off x="2057400" y="2014560"/>
              <a:ext cx="5110200" cy="3663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230560" y="1731960"/>
            <a:ext cx="5110200" cy="4870440"/>
            <a:chOff x="2230560" y="1731960"/>
            <a:chExt cx="5110200" cy="4870440"/>
          </a:xfrm>
        </p:grpSpPr>
        <p:grpSp>
          <p:nvGrpSpPr>
            <p:cNvPr id="963" name=""/>
            <p:cNvGrpSpPr/>
            <p:nvPr/>
          </p:nvGrpSpPr>
          <p:grpSpPr>
            <a:xfrm>
              <a:off x="2235240" y="1735560"/>
              <a:ext cx="5100480" cy="4862160"/>
              <a:chOff x="2235240" y="1735560"/>
              <a:chExt cx="5100480" cy="486216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235240" y="1735560"/>
                <a:ext cx="961920" cy="694440"/>
                <a:chOff x="2235240" y="1735560"/>
                <a:chExt cx="961920" cy="69444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235240" y="1735560"/>
                  <a:ext cx="961920" cy="694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6" name=""/>
                <p:cNvGrpSpPr/>
                <p:nvPr/>
              </p:nvGrpSpPr>
              <p:grpSpPr>
                <a:xfrm>
                  <a:off x="2235240" y="1735560"/>
                  <a:ext cx="961920" cy="694440"/>
                  <a:chOff x="2235240" y="1735560"/>
                  <a:chExt cx="961920" cy="6944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279520" y="1735560"/>
                    <a:ext cx="873360" cy="694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 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235240" y="1735560"/>
                    <a:ext cx="96192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9" name=""/>
              <p:cNvGrpSpPr/>
              <p:nvPr/>
            </p:nvGrpSpPr>
            <p:grpSpPr>
              <a:xfrm>
                <a:off x="3197160" y="1735560"/>
                <a:ext cx="989280" cy="694440"/>
                <a:chOff x="3197160" y="1735560"/>
                <a:chExt cx="989280" cy="69444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241800" y="1735560"/>
                  <a:ext cx="90000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197160" y="1735560"/>
                  <a:ext cx="98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186440" y="1735560"/>
                <a:ext cx="3149280" cy="694440"/>
                <a:chOff x="4186440" y="1735560"/>
                <a:chExt cx="3149280" cy="6944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4230720" y="1735560"/>
                  <a:ext cx="306072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et obsahu AKKU1 a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186440" y="1735560"/>
                  <a:ext cx="314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2235240" y="2430000"/>
                <a:ext cx="961920" cy="694440"/>
                <a:chOff x="2235240" y="2430000"/>
                <a:chExt cx="961920" cy="6944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2235240" y="2430000"/>
                  <a:ext cx="961920" cy="694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7" name=""/>
                <p:cNvGrpSpPr/>
                <p:nvPr/>
              </p:nvGrpSpPr>
              <p:grpSpPr>
                <a:xfrm>
                  <a:off x="2235240" y="2430000"/>
                  <a:ext cx="961920" cy="694440"/>
                  <a:chOff x="2235240" y="2430000"/>
                  <a:chExt cx="961920" cy="69444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2279520" y="2430000"/>
                    <a:ext cx="873360" cy="694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 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235240" y="2430000"/>
                    <a:ext cx="96192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0" name=""/>
              <p:cNvGrpSpPr/>
              <p:nvPr/>
            </p:nvGrpSpPr>
            <p:grpSpPr>
              <a:xfrm>
                <a:off x="3197160" y="2430000"/>
                <a:ext cx="989280" cy="694440"/>
                <a:chOff x="3197160" y="2430000"/>
                <a:chExt cx="989280" cy="69444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3241800" y="2430000"/>
                  <a:ext cx="90000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197160" y="2430000"/>
                  <a:ext cx="98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4186440" y="2430000"/>
                <a:ext cx="3149280" cy="694440"/>
                <a:chOff x="4186440" y="2430000"/>
                <a:chExt cx="3149280" cy="69444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4230720" y="2430000"/>
                  <a:ext cx="306072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dčíta obsah AKKU1 od obsahu AKKU2 a výsledok sa uloží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186440" y="2430000"/>
                  <a:ext cx="314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235240" y="3124440"/>
                <a:ext cx="961920" cy="694800"/>
                <a:chOff x="2235240" y="3124440"/>
                <a:chExt cx="961920" cy="6948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235240" y="3124440"/>
                  <a:ext cx="961920" cy="6948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8" name=""/>
                <p:cNvGrpSpPr/>
                <p:nvPr/>
              </p:nvGrpSpPr>
              <p:grpSpPr>
                <a:xfrm>
                  <a:off x="2235240" y="3124440"/>
                  <a:ext cx="961920" cy="694800"/>
                  <a:chOff x="2235240" y="3124440"/>
                  <a:chExt cx="961920" cy="69480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279520" y="3124440"/>
                    <a:ext cx="873360" cy="6948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* 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235240" y="3124440"/>
                    <a:ext cx="961920" cy="694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1" name=""/>
              <p:cNvGrpSpPr/>
              <p:nvPr/>
            </p:nvGrpSpPr>
            <p:grpSpPr>
              <a:xfrm>
                <a:off x="3197160" y="3124440"/>
                <a:ext cx="989280" cy="694800"/>
                <a:chOff x="3197160" y="3124440"/>
                <a:chExt cx="989280" cy="6948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241800" y="3124440"/>
                  <a:ext cx="90000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197160" y="3124440"/>
                  <a:ext cx="9892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4186440" y="3124440"/>
                <a:ext cx="3149280" cy="694800"/>
                <a:chOff x="4186440" y="3124440"/>
                <a:chExt cx="3149280" cy="6948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4230720" y="3124440"/>
                  <a:ext cx="306072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in obsahov AKKU1 a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186440" y="3124440"/>
                  <a:ext cx="31492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2235240" y="3819240"/>
                <a:ext cx="961920" cy="694440"/>
                <a:chOff x="2235240" y="3819240"/>
                <a:chExt cx="961920" cy="6944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2235240" y="3819240"/>
                  <a:ext cx="961920" cy="694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9" name=""/>
                <p:cNvGrpSpPr/>
                <p:nvPr/>
              </p:nvGrpSpPr>
              <p:grpSpPr>
                <a:xfrm>
                  <a:off x="2235240" y="3819240"/>
                  <a:ext cx="961920" cy="694440"/>
                  <a:chOff x="2235240" y="3819240"/>
                  <a:chExt cx="961920" cy="69444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2279520" y="3819240"/>
                    <a:ext cx="873360" cy="694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/ 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235240" y="3819240"/>
                    <a:ext cx="96192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3197160" y="3819240"/>
                <a:ext cx="989280" cy="694440"/>
                <a:chOff x="3197160" y="3819240"/>
                <a:chExt cx="989280" cy="69444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3241800" y="3819240"/>
                  <a:ext cx="90000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197160" y="3819240"/>
                  <a:ext cx="98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4186440" y="3819240"/>
                <a:ext cx="3149280" cy="694440"/>
                <a:chOff x="4186440" y="3819240"/>
                <a:chExt cx="3149280" cy="69444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4230720" y="3819240"/>
                  <a:ext cx="306072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ah AKKU2 sa delí obsahom AKKU1 a podiel sa uloží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186440" y="3819240"/>
                  <a:ext cx="314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2235240" y="4514040"/>
                <a:ext cx="961920" cy="694440"/>
                <a:chOff x="2235240" y="4514040"/>
                <a:chExt cx="961920" cy="69444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235240" y="4514040"/>
                  <a:ext cx="961920" cy="694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0" name=""/>
                <p:cNvGrpSpPr/>
                <p:nvPr/>
              </p:nvGrpSpPr>
              <p:grpSpPr>
                <a:xfrm>
                  <a:off x="2235240" y="4514040"/>
                  <a:ext cx="961920" cy="694440"/>
                  <a:chOff x="2235240" y="4514040"/>
                  <a:chExt cx="961920" cy="69444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2279520" y="4514040"/>
                    <a:ext cx="873360" cy="694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235240" y="4514040"/>
                    <a:ext cx="96192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3" name=""/>
              <p:cNvGrpSpPr/>
              <p:nvPr/>
            </p:nvGrpSpPr>
            <p:grpSpPr>
              <a:xfrm>
                <a:off x="3197160" y="4514040"/>
                <a:ext cx="989280" cy="694440"/>
                <a:chOff x="3197160" y="4514040"/>
                <a:chExt cx="989280" cy="69444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3241800" y="4514040"/>
                  <a:ext cx="90000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197160" y="4514040"/>
                  <a:ext cx="98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4186440" y="4514040"/>
                <a:ext cx="3149280" cy="694440"/>
                <a:chOff x="4186440" y="4514040"/>
                <a:chExt cx="3149280" cy="6944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4230720" y="4514040"/>
                  <a:ext cx="306072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ah AKKU2 sa delí obsahom AKKU1 a zvyšok po delení sa uloží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86440" y="4514040"/>
                  <a:ext cx="314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2235240" y="5208480"/>
                <a:ext cx="961920" cy="694440"/>
                <a:chOff x="2235240" y="5208480"/>
                <a:chExt cx="961920" cy="69444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2235240" y="5208480"/>
                  <a:ext cx="961920" cy="694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1" name=""/>
                <p:cNvGrpSpPr/>
                <p:nvPr/>
              </p:nvGrpSpPr>
              <p:grpSpPr>
                <a:xfrm>
                  <a:off x="2235240" y="5208480"/>
                  <a:ext cx="961920" cy="694440"/>
                  <a:chOff x="2235240" y="5208480"/>
                  <a:chExt cx="961920" cy="6944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2279520" y="5208480"/>
                    <a:ext cx="873360" cy="694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 čísl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235240" y="5208480"/>
                    <a:ext cx="96192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3197160" y="5208480"/>
                <a:ext cx="989280" cy="694440"/>
                <a:chOff x="3197160" y="5208480"/>
                <a:chExt cx="989280" cy="69444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241800" y="5208480"/>
                  <a:ext cx="90000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197160" y="5208480"/>
                  <a:ext cx="98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186440" y="5208480"/>
                <a:ext cx="3149280" cy="694440"/>
                <a:chOff x="4186440" y="5208480"/>
                <a:chExt cx="3149280" cy="6944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4230720" y="5208480"/>
                  <a:ext cx="306072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počítanie konštanty v inštrukcii k AKKU1 a výsledok sa uloží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186440" y="5208480"/>
                  <a:ext cx="31492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2235240" y="5902920"/>
                <a:ext cx="961920" cy="694800"/>
                <a:chOff x="2235240" y="5902920"/>
                <a:chExt cx="961920" cy="69480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2235240" y="5902920"/>
                  <a:ext cx="961920" cy="6948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2235240" y="5902920"/>
                  <a:ext cx="961920" cy="694800"/>
                  <a:chOff x="2235240" y="5902920"/>
                  <a:chExt cx="961920" cy="694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2279520" y="5902920"/>
                    <a:ext cx="873360" cy="6948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 L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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čísl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235240" y="5902920"/>
                    <a:ext cx="961920" cy="694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5" name=""/>
              <p:cNvGrpSpPr/>
              <p:nvPr/>
            </p:nvGrpSpPr>
            <p:grpSpPr>
              <a:xfrm>
                <a:off x="3197160" y="5902920"/>
                <a:ext cx="989280" cy="694800"/>
                <a:chOff x="3197160" y="5902920"/>
                <a:chExt cx="989280" cy="6948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241800" y="5902920"/>
                  <a:ext cx="90000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197160" y="5902920"/>
                  <a:ext cx="9892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4186440" y="5902920"/>
                <a:ext cx="3149280" cy="694800"/>
                <a:chOff x="4186440" y="5902920"/>
                <a:chExt cx="3149280" cy="6948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230720" y="5902920"/>
                  <a:ext cx="306072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počítanie konštanty v inštrukcii k AKKU1, výsledok sa uloží do AKKU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186440" y="5902920"/>
                  <a:ext cx="31492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1" name=""/>
            <p:cNvSpPr/>
            <p:nvPr/>
          </p:nvSpPr>
          <p:spPr>
            <a:xfrm>
              <a:off x="2230560" y="1731960"/>
              <a:ext cx="5110200" cy="487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2214720" y="1859040"/>
            <a:ext cx="4687560" cy="3298680"/>
            <a:chOff x="2214720" y="1859040"/>
            <a:chExt cx="4687560" cy="3298680"/>
          </a:xfrm>
        </p:grpSpPr>
        <p:grpSp>
          <p:nvGrpSpPr>
            <p:cNvPr id="1047" name=""/>
            <p:cNvGrpSpPr/>
            <p:nvPr/>
          </p:nvGrpSpPr>
          <p:grpSpPr>
            <a:xfrm>
              <a:off x="2219040" y="1863720"/>
              <a:ext cx="4677480" cy="3289320"/>
              <a:chOff x="2219040" y="1863720"/>
              <a:chExt cx="4677480" cy="328932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2219040" y="1863720"/>
                <a:ext cx="898200" cy="822240"/>
                <a:chOff x="2219040" y="1863720"/>
                <a:chExt cx="898200" cy="8222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2219040" y="1863720"/>
                  <a:ext cx="8982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0" name=""/>
                <p:cNvGrpSpPr/>
                <p:nvPr/>
              </p:nvGrpSpPr>
              <p:grpSpPr>
                <a:xfrm>
                  <a:off x="2219040" y="1863720"/>
                  <a:ext cx="898200" cy="822240"/>
                  <a:chOff x="2219040" y="1863720"/>
                  <a:chExt cx="898200" cy="8222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2262960" y="1863720"/>
                    <a:ext cx="8092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 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219040" y="1863720"/>
                    <a:ext cx="8982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3" name=""/>
              <p:cNvGrpSpPr/>
              <p:nvPr/>
            </p:nvGrpSpPr>
            <p:grpSpPr>
              <a:xfrm>
                <a:off x="3117240" y="1863720"/>
                <a:ext cx="3779280" cy="822240"/>
                <a:chOff x="3117240" y="1863720"/>
                <a:chExt cx="3779280" cy="82224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3161160" y="1863720"/>
                  <a:ext cx="3690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et obsahov AKKU1 a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117240" y="1863720"/>
                  <a:ext cx="377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2219040" y="2685960"/>
                <a:ext cx="898200" cy="822240"/>
                <a:chOff x="2219040" y="2685960"/>
                <a:chExt cx="898200" cy="82224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219040" y="2685960"/>
                  <a:ext cx="8982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2219040" y="2685960"/>
                  <a:ext cx="898200" cy="822240"/>
                  <a:chOff x="2219040" y="2685960"/>
                  <a:chExt cx="898200" cy="82224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2262960" y="2685960"/>
                    <a:ext cx="8092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 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219040" y="2685960"/>
                    <a:ext cx="8982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1" name=""/>
              <p:cNvGrpSpPr/>
              <p:nvPr/>
            </p:nvGrpSpPr>
            <p:grpSpPr>
              <a:xfrm>
                <a:off x="3117240" y="2685960"/>
                <a:ext cx="3779280" cy="822240"/>
                <a:chOff x="3117240" y="2685960"/>
                <a:chExt cx="3779280" cy="82224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161160" y="2685960"/>
                  <a:ext cx="3690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dčíta obsah AKKU1 od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117240" y="2685960"/>
                  <a:ext cx="377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2219040" y="3508200"/>
                <a:ext cx="898200" cy="822600"/>
                <a:chOff x="2219040" y="3508200"/>
                <a:chExt cx="898200" cy="8226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2219040" y="3508200"/>
                  <a:ext cx="898200" cy="822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6" name=""/>
                <p:cNvGrpSpPr/>
                <p:nvPr/>
              </p:nvGrpSpPr>
              <p:grpSpPr>
                <a:xfrm>
                  <a:off x="2219040" y="3508200"/>
                  <a:ext cx="898200" cy="822600"/>
                  <a:chOff x="2219040" y="3508200"/>
                  <a:chExt cx="898200" cy="8226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2262960" y="3508200"/>
                    <a:ext cx="809280" cy="8226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* 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219040" y="3508200"/>
                    <a:ext cx="8982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3117240" y="3508200"/>
                <a:ext cx="3779280" cy="822600"/>
                <a:chOff x="3117240" y="3508200"/>
                <a:chExt cx="3779280" cy="8226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3161160" y="3508200"/>
                  <a:ext cx="36907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účin obsahov AKKU1 a AKKU2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117240" y="3508200"/>
                  <a:ext cx="37792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2219040" y="4330800"/>
                <a:ext cx="898200" cy="822240"/>
                <a:chOff x="2219040" y="4330800"/>
                <a:chExt cx="898200" cy="82224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2219040" y="4330800"/>
                  <a:ext cx="898200" cy="822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4" name=""/>
                <p:cNvGrpSpPr/>
                <p:nvPr/>
              </p:nvGrpSpPr>
              <p:grpSpPr>
                <a:xfrm>
                  <a:off x="2219040" y="4330800"/>
                  <a:ext cx="898200" cy="822240"/>
                  <a:chOff x="2219040" y="4330800"/>
                  <a:chExt cx="898200" cy="82224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2262960" y="4330800"/>
                    <a:ext cx="809280" cy="8222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/ 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219040" y="4330800"/>
                    <a:ext cx="8982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7" name=""/>
              <p:cNvGrpSpPr/>
              <p:nvPr/>
            </p:nvGrpSpPr>
            <p:grpSpPr>
              <a:xfrm>
                <a:off x="3117240" y="4330800"/>
                <a:ext cx="3779280" cy="822240"/>
                <a:chOff x="3117240" y="4330800"/>
                <a:chExt cx="3779280" cy="8222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161160" y="4330800"/>
                  <a:ext cx="3690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ah AKKU2 sa delí obsahom AKKU1, výsledok sa uloží do AKKU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117240" y="4330800"/>
                  <a:ext cx="3779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0" name=""/>
            <p:cNvSpPr/>
            <p:nvPr/>
          </p:nvSpPr>
          <p:spPr>
            <a:xfrm>
              <a:off x="2214720" y="1859040"/>
              <a:ext cx="4687560" cy="329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528920" y="1649520"/>
            <a:ext cx="5109840" cy="4935600"/>
            <a:chOff x="1528920" y="1649520"/>
            <a:chExt cx="5109840" cy="4935600"/>
          </a:xfrm>
        </p:grpSpPr>
        <p:grpSp>
          <p:nvGrpSpPr>
            <p:cNvPr id="1086" name=""/>
            <p:cNvGrpSpPr/>
            <p:nvPr/>
          </p:nvGrpSpPr>
          <p:grpSpPr>
            <a:xfrm>
              <a:off x="1533240" y="1652400"/>
              <a:ext cx="5099760" cy="4929120"/>
              <a:chOff x="1533240" y="1652400"/>
              <a:chExt cx="5099760" cy="4929120"/>
            </a:xfrm>
          </p:grpSpPr>
          <p:grpSp>
            <p:nvGrpSpPr>
              <p:cNvPr id="1087" name=""/>
              <p:cNvGrpSpPr/>
              <p:nvPr/>
            </p:nvGrpSpPr>
            <p:grpSpPr>
              <a:xfrm>
                <a:off x="1533240" y="1652400"/>
                <a:ext cx="421920" cy="4523400"/>
                <a:chOff x="1533240" y="1652400"/>
                <a:chExt cx="421920" cy="45234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533240" y="1652400"/>
                  <a:ext cx="421920" cy="521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9" name=""/>
                <p:cNvGrpSpPr/>
                <p:nvPr/>
              </p:nvGrpSpPr>
              <p:grpSpPr>
                <a:xfrm>
                  <a:off x="1533240" y="1652400"/>
                  <a:ext cx="421920" cy="4523400"/>
                  <a:chOff x="1533240" y="1652400"/>
                  <a:chExt cx="421920" cy="45234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1577160" y="1652400"/>
                    <a:ext cx="333360" cy="4523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1533240" y="1652400"/>
                    <a:ext cx="421920" cy="4523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2" name=""/>
              <p:cNvGrpSpPr/>
              <p:nvPr/>
            </p:nvGrpSpPr>
            <p:grpSpPr>
              <a:xfrm>
                <a:off x="1955160" y="1652400"/>
                <a:ext cx="898200" cy="521640"/>
                <a:chOff x="1955160" y="1652400"/>
                <a:chExt cx="898200" cy="52164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1955160" y="1652400"/>
                  <a:ext cx="898200" cy="5216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1955160" y="1652400"/>
                  <a:ext cx="898200" cy="521640"/>
                  <a:chOff x="1955160" y="1652400"/>
                  <a:chExt cx="898200" cy="52164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1999080" y="1652400"/>
                    <a:ext cx="809280" cy="5216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QR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1955160" y="1652400"/>
                    <a:ext cx="898200" cy="52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7" name=""/>
              <p:cNvGrpSpPr/>
              <p:nvPr/>
            </p:nvGrpSpPr>
            <p:grpSpPr>
              <a:xfrm>
                <a:off x="2853720" y="1652400"/>
                <a:ext cx="3779280" cy="521640"/>
                <a:chOff x="2853720" y="1652400"/>
                <a:chExt cx="3779280" cy="52164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897640" y="1652400"/>
                  <a:ext cx="3690720" cy="52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druhú odmocninu z obsahu AKKU1 a uloží ju do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53720" y="1652400"/>
                  <a:ext cx="3779280" cy="52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1955160" y="2174040"/>
                <a:ext cx="898200" cy="521640"/>
                <a:chOff x="1955160" y="2174040"/>
                <a:chExt cx="898200" cy="52164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1955160" y="2174040"/>
                  <a:ext cx="898200" cy="5216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2" name=""/>
                <p:cNvGrpSpPr/>
                <p:nvPr/>
              </p:nvGrpSpPr>
              <p:grpSpPr>
                <a:xfrm>
                  <a:off x="1955160" y="2174040"/>
                  <a:ext cx="898200" cy="521640"/>
                  <a:chOff x="1955160" y="2174040"/>
                  <a:chExt cx="898200" cy="52164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1999080" y="2174040"/>
                    <a:ext cx="809280" cy="5216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Q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1955160" y="2174040"/>
                    <a:ext cx="898200" cy="52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2853720" y="2174040"/>
                <a:ext cx="3779280" cy="521640"/>
                <a:chOff x="2853720" y="2174040"/>
                <a:chExt cx="3779280" cy="52164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897640" y="2174040"/>
                  <a:ext cx="3690720" cy="52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druhú mocninu z obsahu AKKU1 a uloží ju do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853720" y="2174040"/>
                  <a:ext cx="3779280" cy="52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1955160" y="2695680"/>
                <a:ext cx="898200" cy="522000"/>
                <a:chOff x="1955160" y="2695680"/>
                <a:chExt cx="898200" cy="52200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1955160" y="2695680"/>
                  <a:ext cx="898200" cy="5220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0" name=""/>
                <p:cNvGrpSpPr/>
                <p:nvPr/>
              </p:nvGrpSpPr>
              <p:grpSpPr>
                <a:xfrm>
                  <a:off x="1955160" y="2695680"/>
                  <a:ext cx="898200" cy="522000"/>
                  <a:chOff x="1955160" y="2695680"/>
                  <a:chExt cx="898200" cy="52200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>
                    <a:off x="1999080" y="2695680"/>
                    <a:ext cx="809280" cy="5220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L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1955160" y="2695680"/>
                    <a:ext cx="898200" cy="52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2853720" y="2695680"/>
                <a:ext cx="3779280" cy="522000"/>
                <a:chOff x="2853720" y="2695680"/>
                <a:chExt cx="3779280" cy="5220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897640" y="2695680"/>
                  <a:ext cx="3690720" cy="5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prirodzený logaritmus obsahu AKKU1 a výsledok uloží do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853720" y="2695680"/>
                  <a:ext cx="3779280" cy="52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955160" y="3218040"/>
                <a:ext cx="898200" cy="521640"/>
                <a:chOff x="1955160" y="3218040"/>
                <a:chExt cx="898200" cy="52164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955160" y="3218040"/>
                  <a:ext cx="898200" cy="5216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1955160" y="3218040"/>
                  <a:ext cx="898200" cy="521640"/>
                  <a:chOff x="1955160" y="3218040"/>
                  <a:chExt cx="898200" cy="52164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999080" y="3218040"/>
                    <a:ext cx="809280" cy="5216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X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1955160" y="3218040"/>
                    <a:ext cx="898200" cy="52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2853720" y="3218040"/>
                <a:ext cx="3779280" cy="521640"/>
                <a:chOff x="2853720" y="3218040"/>
                <a:chExt cx="3779280" cy="5216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897640" y="3218040"/>
                  <a:ext cx="3690720" cy="52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e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x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kde x je hodnota v AKKU1, výsledok uloží do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853720" y="3218040"/>
                  <a:ext cx="3779280" cy="52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1955160" y="3739680"/>
                <a:ext cx="898200" cy="405720"/>
                <a:chOff x="1955160" y="3739680"/>
                <a:chExt cx="898200" cy="4057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1955160" y="373968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6" name=""/>
                <p:cNvGrpSpPr/>
                <p:nvPr/>
              </p:nvGrpSpPr>
              <p:grpSpPr>
                <a:xfrm>
                  <a:off x="1955160" y="3739680"/>
                  <a:ext cx="898200" cy="405720"/>
                  <a:chOff x="1955160" y="3739680"/>
                  <a:chExt cx="898200" cy="40572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1999080" y="373968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955160" y="373968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2853720" y="3739680"/>
                <a:ext cx="3779280" cy="1217880"/>
                <a:chOff x="2853720" y="3739680"/>
                <a:chExt cx="3779280" cy="12178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2897640" y="3739680"/>
                  <a:ext cx="3690720" cy="121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sin (cos, tang) z hodnoty v AKKU1 a výsledok uloží do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853720" y="3739680"/>
                  <a:ext cx="3779280" cy="121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1955160" y="4145760"/>
                <a:ext cx="898200" cy="405720"/>
                <a:chOff x="1955160" y="4145760"/>
                <a:chExt cx="898200" cy="4057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1955160" y="414576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4" name=""/>
                <p:cNvGrpSpPr/>
                <p:nvPr/>
              </p:nvGrpSpPr>
              <p:grpSpPr>
                <a:xfrm>
                  <a:off x="1955160" y="4145760"/>
                  <a:ext cx="898200" cy="405720"/>
                  <a:chOff x="1955160" y="4145760"/>
                  <a:chExt cx="898200" cy="40572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>
                    <a:off x="1999080" y="414576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955160" y="414576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7" name=""/>
              <p:cNvGrpSpPr/>
              <p:nvPr/>
            </p:nvGrpSpPr>
            <p:grpSpPr>
              <a:xfrm>
                <a:off x="1955160" y="4551840"/>
                <a:ext cx="898200" cy="405720"/>
                <a:chOff x="1955160" y="4551840"/>
                <a:chExt cx="898200" cy="405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955160" y="455184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955160" y="4551840"/>
                  <a:ext cx="898200" cy="405720"/>
                  <a:chOff x="1955160" y="4551840"/>
                  <a:chExt cx="898200" cy="40572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1999080" y="455184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A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955160" y="455184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955160" y="4957560"/>
                <a:ext cx="898200" cy="405720"/>
                <a:chOff x="1955160" y="4957560"/>
                <a:chExt cx="898200" cy="4057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955160" y="495756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955160" y="4957560"/>
                  <a:ext cx="898200" cy="405720"/>
                  <a:chOff x="1955160" y="4957560"/>
                  <a:chExt cx="898200" cy="40572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999080" y="495756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S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955160" y="495756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853720" y="4957560"/>
                <a:ext cx="3779280" cy="1217880"/>
                <a:chOff x="2853720" y="4957560"/>
                <a:chExt cx="3779280" cy="121788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897640" y="4957560"/>
                  <a:ext cx="3690720" cy="121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počíta arcsin (arccos, arctang) z hodnoty v AKKU1 a výsledok uloží do AKKU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853720" y="4957560"/>
                  <a:ext cx="3779280" cy="121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1955160" y="5363640"/>
                <a:ext cx="898200" cy="406080"/>
                <a:chOff x="1955160" y="5363640"/>
                <a:chExt cx="898200" cy="4060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1955160" y="5363640"/>
                  <a:ext cx="898200" cy="40608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2" name=""/>
                <p:cNvGrpSpPr/>
                <p:nvPr/>
              </p:nvGrpSpPr>
              <p:grpSpPr>
                <a:xfrm>
                  <a:off x="1955160" y="5363640"/>
                  <a:ext cx="898200" cy="406080"/>
                  <a:chOff x="1955160" y="5363640"/>
                  <a:chExt cx="898200" cy="40608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999080" y="5363640"/>
                    <a:ext cx="809280" cy="406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C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955160" y="5363640"/>
                    <a:ext cx="898200" cy="40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5" name=""/>
              <p:cNvGrpSpPr/>
              <p:nvPr/>
            </p:nvGrpSpPr>
            <p:grpSpPr>
              <a:xfrm>
                <a:off x="1955160" y="5769720"/>
                <a:ext cx="898200" cy="405720"/>
                <a:chOff x="1955160" y="5769720"/>
                <a:chExt cx="898200" cy="405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955160" y="576972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1955160" y="5769720"/>
                  <a:ext cx="898200" cy="405720"/>
                  <a:chOff x="1955160" y="5769720"/>
                  <a:chExt cx="898200" cy="40572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1999080" y="576972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TA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1955160" y="576972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0" name=""/>
              <p:cNvGrpSpPr/>
              <p:nvPr/>
            </p:nvGrpSpPr>
            <p:grpSpPr>
              <a:xfrm>
                <a:off x="1533240" y="6175800"/>
                <a:ext cx="421920" cy="405720"/>
                <a:chOff x="1533240" y="6175800"/>
                <a:chExt cx="421920" cy="40572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1533240" y="6175800"/>
                  <a:ext cx="421920" cy="405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2" name=""/>
                <p:cNvGrpSpPr/>
                <p:nvPr/>
              </p:nvGrpSpPr>
              <p:grpSpPr>
                <a:xfrm>
                  <a:off x="1533240" y="6175800"/>
                  <a:ext cx="421920" cy="405720"/>
                  <a:chOff x="1533240" y="6175800"/>
                  <a:chExt cx="421920" cy="4057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1577160" y="6175800"/>
                    <a:ext cx="333360" cy="405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r" pos="647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1533240" y="6175800"/>
                    <a:ext cx="42192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5" name=""/>
              <p:cNvGrpSpPr/>
              <p:nvPr/>
            </p:nvGrpSpPr>
            <p:grpSpPr>
              <a:xfrm>
                <a:off x="1955160" y="6175800"/>
                <a:ext cx="898200" cy="405720"/>
                <a:chOff x="1955160" y="6175800"/>
                <a:chExt cx="898200" cy="4057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1955160" y="6175800"/>
                  <a:ext cx="898200" cy="405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7" name=""/>
                <p:cNvGrpSpPr/>
                <p:nvPr/>
              </p:nvGrpSpPr>
              <p:grpSpPr>
                <a:xfrm>
                  <a:off x="1955160" y="6175800"/>
                  <a:ext cx="898200" cy="405720"/>
                  <a:chOff x="1955160" y="6175800"/>
                  <a:chExt cx="898200" cy="40572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1999080" y="6175800"/>
                    <a:ext cx="809280" cy="4057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B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1955160" y="6175800"/>
                    <a:ext cx="898200" cy="40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0" name=""/>
              <p:cNvGrpSpPr/>
              <p:nvPr/>
            </p:nvGrpSpPr>
            <p:grpSpPr>
              <a:xfrm>
                <a:off x="2853720" y="6175800"/>
                <a:ext cx="3779280" cy="405720"/>
                <a:chOff x="2853720" y="6175800"/>
                <a:chExt cx="3779280" cy="40572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2897640" y="6175800"/>
                  <a:ext cx="36907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solútna hodnota obsahu AKK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853720" y="6175800"/>
                  <a:ext cx="377928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3" name=""/>
            <p:cNvSpPr/>
            <p:nvPr/>
          </p:nvSpPr>
          <p:spPr>
            <a:xfrm>
              <a:off x="1528920" y="1649520"/>
              <a:ext cx="5109840" cy="493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240" y="699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09880" y="3487680"/>
            <a:ext cx="4768920" cy="2992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8720" y="404640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224240" y="404640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513560" y="404640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769080" y="404640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68720" y="457848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24240" y="457848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513560" y="457848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69080" y="457848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68720" y="511020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24240" y="511020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13560" y="511020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769080" y="511020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968720" y="580248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224240" y="580248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513560" y="5813280"/>
            <a:ext cx="74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II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746760" y="5813280"/>
            <a:ext cx="74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997600" y="5278320"/>
            <a:ext cx="485640" cy="487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5819760" y="5773320"/>
            <a:ext cx="2350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37320" y="5189400"/>
            <a:ext cx="2667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502320" y="5737320"/>
            <a:ext cx="14940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2040" y="4678200"/>
            <a:ext cx="7016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938920" y="4148280"/>
            <a:ext cx="75564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4221000" y="5814720"/>
            <a:ext cx="1497240" cy="275040"/>
            <a:chOff x="4221000" y="5814720"/>
            <a:chExt cx="1497240" cy="275040"/>
          </a:xfrm>
        </p:grpSpPr>
        <p:sp>
          <p:nvSpPr>
            <p:cNvPr id="1203" name=""/>
            <p:cNvSpPr/>
            <p:nvPr/>
          </p:nvSpPr>
          <p:spPr>
            <a:xfrm>
              <a:off x="4221000" y="5815080"/>
              <a:ext cx="149724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4981320" y="581472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6750000" y="5780160"/>
            <a:ext cx="1497240" cy="272880"/>
            <a:chOff x="6750000" y="5780160"/>
            <a:chExt cx="1497240" cy="272880"/>
          </a:xfrm>
        </p:grpSpPr>
        <p:sp>
          <p:nvSpPr>
            <p:cNvPr id="1206" name=""/>
            <p:cNvSpPr/>
            <p:nvPr/>
          </p:nvSpPr>
          <p:spPr>
            <a:xfrm>
              <a:off x="6750000" y="5780160"/>
              <a:ext cx="1497240" cy="27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7510320" y="5780160"/>
              <a:ext cx="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762600" y="5091120"/>
            <a:ext cx="1497240" cy="272880"/>
            <a:chOff x="6762600" y="5091120"/>
            <a:chExt cx="1497240" cy="272880"/>
          </a:xfrm>
        </p:grpSpPr>
        <p:sp>
          <p:nvSpPr>
            <p:cNvPr id="1209" name=""/>
            <p:cNvSpPr/>
            <p:nvPr/>
          </p:nvSpPr>
          <p:spPr>
            <a:xfrm>
              <a:off x="6762600" y="5091120"/>
              <a:ext cx="1497240" cy="27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522920" y="5091120"/>
              <a:ext cx="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6762600" y="4555800"/>
            <a:ext cx="1495440" cy="275040"/>
            <a:chOff x="6762600" y="4555800"/>
            <a:chExt cx="1495440" cy="275040"/>
          </a:xfrm>
        </p:grpSpPr>
        <p:sp>
          <p:nvSpPr>
            <p:cNvPr id="1212" name=""/>
            <p:cNvSpPr/>
            <p:nvPr/>
          </p:nvSpPr>
          <p:spPr>
            <a:xfrm>
              <a:off x="6762600" y="4556160"/>
              <a:ext cx="149544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2600" dir="162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7521840" y="45558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6750000" y="4009680"/>
            <a:ext cx="1497240" cy="275040"/>
            <a:chOff x="6750000" y="4009680"/>
            <a:chExt cx="1497240" cy="275040"/>
          </a:xfrm>
        </p:grpSpPr>
        <p:sp>
          <p:nvSpPr>
            <p:cNvPr id="1215" name=""/>
            <p:cNvSpPr/>
            <p:nvPr/>
          </p:nvSpPr>
          <p:spPr>
            <a:xfrm>
              <a:off x="6750000" y="4010040"/>
              <a:ext cx="149724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7510320" y="400968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4184640" y="4020840"/>
            <a:ext cx="1496880" cy="275040"/>
            <a:chOff x="4184640" y="4020840"/>
            <a:chExt cx="1496880" cy="275040"/>
          </a:xfrm>
        </p:grpSpPr>
        <p:sp>
          <p:nvSpPr>
            <p:cNvPr id="1218" name=""/>
            <p:cNvSpPr/>
            <p:nvPr/>
          </p:nvSpPr>
          <p:spPr>
            <a:xfrm>
              <a:off x="4184640" y="4021200"/>
              <a:ext cx="149688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944600" y="40208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4184640" y="4555800"/>
            <a:ext cx="1496880" cy="275040"/>
            <a:chOff x="4184640" y="4555800"/>
            <a:chExt cx="1496880" cy="275040"/>
          </a:xfrm>
        </p:grpSpPr>
        <p:sp>
          <p:nvSpPr>
            <p:cNvPr id="1221" name=""/>
            <p:cNvSpPr/>
            <p:nvPr/>
          </p:nvSpPr>
          <p:spPr>
            <a:xfrm>
              <a:off x="4184640" y="4556160"/>
              <a:ext cx="149688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944600" y="45558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4208400" y="5101920"/>
            <a:ext cx="1497240" cy="275040"/>
            <a:chOff x="4208400" y="5101920"/>
            <a:chExt cx="1497240" cy="275040"/>
          </a:xfrm>
        </p:grpSpPr>
        <p:sp>
          <p:nvSpPr>
            <p:cNvPr id="1224" name=""/>
            <p:cNvSpPr/>
            <p:nvPr/>
          </p:nvSpPr>
          <p:spPr>
            <a:xfrm>
              <a:off x="4208400" y="5102280"/>
              <a:ext cx="1497240" cy="274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968720" y="510192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4162320" y="3510000"/>
            <a:ext cx="148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red   inštrukcio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738840" y="3510000"/>
            <a:ext cx="148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  inštrukci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781440" y="3784680"/>
            <a:ext cx="747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394320" y="3772080"/>
            <a:ext cx="746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794040" y="4317840"/>
            <a:ext cx="74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465960" y="4317840"/>
            <a:ext cx="74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794040" y="4853160"/>
            <a:ext cx="746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37240" y="4853160"/>
            <a:ext cx="746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94040" y="5516640"/>
            <a:ext cx="746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494320"/>
            <a:ext cx="747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KK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002280" y="5318280"/>
            <a:ext cx="487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+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939960" y="1506600"/>
            <a:ext cx="7886520" cy="18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W 10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1. operand do AKK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BW 1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AKKU1do AKK2, 2. operand do AKK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súčet AKKU1 a AKKU2, výsledok v AKK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DBW 1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prenos AKKU1 na adr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2882880" y="59198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1359000" y="59198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" action="ppaction://hlinkshowjump?jump=firstslide"/>
          </p:cNvPr>
          <p:cNvSpPr/>
          <p:nvPr/>
        </p:nvSpPr>
        <p:spPr>
          <a:xfrm>
            <a:off x="2120760" y="591984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Funkcia MCR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2093760" y="2144880"/>
            <a:ext cx="4957560" cy="2568240"/>
            <a:chOff x="2093760" y="2144880"/>
            <a:chExt cx="4957560" cy="2568240"/>
          </a:xfrm>
        </p:grpSpPr>
        <p:grpSp>
          <p:nvGrpSpPr>
            <p:cNvPr id="1243" name=""/>
            <p:cNvGrpSpPr/>
            <p:nvPr/>
          </p:nvGrpSpPr>
          <p:grpSpPr>
            <a:xfrm>
              <a:off x="2098440" y="2149200"/>
              <a:ext cx="4948200" cy="2558160"/>
              <a:chOff x="2098440" y="2149200"/>
              <a:chExt cx="4948200" cy="255816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2098440" y="2149200"/>
                <a:ext cx="1349280" cy="639360"/>
                <a:chOff x="2098440" y="2149200"/>
                <a:chExt cx="1349280" cy="63936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098440" y="2149200"/>
                  <a:ext cx="1349280" cy="63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6" name=""/>
                <p:cNvGrpSpPr/>
                <p:nvPr/>
              </p:nvGrpSpPr>
              <p:grpSpPr>
                <a:xfrm>
                  <a:off x="2098440" y="2149200"/>
                  <a:ext cx="1349280" cy="639360"/>
                  <a:chOff x="2098440" y="2149200"/>
                  <a:chExt cx="1349280" cy="63936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2142720" y="2149200"/>
                    <a:ext cx="1260720" cy="63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CR 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2098440" y="2149200"/>
                    <a:ext cx="1349280" cy="63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9" name=""/>
              <p:cNvGrpSpPr/>
              <p:nvPr/>
            </p:nvGrpSpPr>
            <p:grpSpPr>
              <a:xfrm>
                <a:off x="3447720" y="2149200"/>
                <a:ext cx="3598920" cy="639360"/>
                <a:chOff x="3447720" y="2149200"/>
                <a:chExt cx="3598920" cy="63936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3492360" y="2149200"/>
                  <a:ext cx="35100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ktivácia MCR segmen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447720" y="2149200"/>
                  <a:ext cx="35989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2098440" y="2788560"/>
                <a:ext cx="1349280" cy="639360"/>
                <a:chOff x="2098440" y="2788560"/>
                <a:chExt cx="1349280" cy="63936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2098440" y="2788560"/>
                  <a:ext cx="1349280" cy="63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" name=""/>
                <p:cNvGrpSpPr/>
                <p:nvPr/>
              </p:nvGrpSpPr>
              <p:grpSpPr>
                <a:xfrm>
                  <a:off x="2098440" y="2788560"/>
                  <a:ext cx="1349280" cy="639360"/>
                  <a:chOff x="2098440" y="2788560"/>
                  <a:chExt cx="1349280" cy="63936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2142720" y="2788560"/>
                    <a:ext cx="1260720" cy="63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CR 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2098440" y="2788560"/>
                    <a:ext cx="1349280" cy="63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7" name=""/>
              <p:cNvGrpSpPr/>
              <p:nvPr/>
            </p:nvGrpSpPr>
            <p:grpSpPr>
              <a:xfrm>
                <a:off x="3447720" y="2788560"/>
                <a:ext cx="3598920" cy="639360"/>
                <a:chOff x="3447720" y="2788560"/>
                <a:chExt cx="3598920" cy="6393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3492360" y="2788560"/>
                  <a:ext cx="35100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aktivácia MCR segmen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447720" y="2788560"/>
                  <a:ext cx="35989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2098440" y="3428280"/>
                <a:ext cx="1349280" cy="639360"/>
                <a:chOff x="2098440" y="3428280"/>
                <a:chExt cx="1349280" cy="63936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2098440" y="3428280"/>
                  <a:ext cx="1349280" cy="63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2" name=""/>
                <p:cNvGrpSpPr/>
                <p:nvPr/>
              </p:nvGrpSpPr>
              <p:grpSpPr>
                <a:xfrm>
                  <a:off x="2098440" y="3428280"/>
                  <a:ext cx="1349280" cy="639360"/>
                  <a:chOff x="2098440" y="3428280"/>
                  <a:chExt cx="1349280" cy="63936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2142720" y="3428280"/>
                    <a:ext cx="1260720" cy="63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CR (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2098440" y="3428280"/>
                    <a:ext cx="1349280" cy="63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5" name=""/>
              <p:cNvGrpSpPr/>
              <p:nvPr/>
            </p:nvGrpSpPr>
            <p:grpSpPr>
              <a:xfrm>
                <a:off x="3447720" y="3428280"/>
                <a:ext cx="3598920" cy="639360"/>
                <a:chOff x="3447720" y="3428280"/>
                <a:chExt cx="3598920" cy="63936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492360" y="3428280"/>
                  <a:ext cx="35100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ápis VKE do MCR zásobník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447720" y="3428280"/>
                  <a:ext cx="35989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098440" y="4068000"/>
                <a:ext cx="1349280" cy="639360"/>
                <a:chOff x="2098440" y="4068000"/>
                <a:chExt cx="1349280" cy="63936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2098440" y="4068000"/>
                  <a:ext cx="1349280" cy="63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0" name=""/>
                <p:cNvGrpSpPr/>
                <p:nvPr/>
              </p:nvGrpSpPr>
              <p:grpSpPr>
                <a:xfrm>
                  <a:off x="2098440" y="4068000"/>
                  <a:ext cx="1349280" cy="639360"/>
                  <a:chOff x="2098440" y="4068000"/>
                  <a:chExt cx="1349280" cy="63936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2142720" y="4068000"/>
                    <a:ext cx="1260720" cy="63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) MC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2098440" y="4068000"/>
                    <a:ext cx="1349280" cy="63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3" name=""/>
              <p:cNvGrpSpPr/>
              <p:nvPr/>
            </p:nvGrpSpPr>
            <p:grpSpPr>
              <a:xfrm>
                <a:off x="3447720" y="4068000"/>
                <a:ext cx="3598920" cy="639360"/>
                <a:chOff x="3447720" y="4068000"/>
                <a:chExt cx="3598920" cy="63936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492360" y="4068000"/>
                  <a:ext cx="35100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oniec MCR segmen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447720" y="4068000"/>
                  <a:ext cx="35989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6" name=""/>
            <p:cNvSpPr/>
            <p:nvPr/>
          </p:nvSpPr>
          <p:spPr>
            <a:xfrm>
              <a:off x="2093760" y="2144880"/>
              <a:ext cx="4957560" cy="2568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165320" y="1905120"/>
            <a:ext cx="5557680" cy="35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47880" y="4002120"/>
            <a:ext cx="407880" cy="237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596960" y="2535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81440" y="2535120"/>
            <a:ext cx="34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85800" y="4813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38320" y="47847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1600" y="47703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33880" y="3987720"/>
            <a:ext cx="409320" cy="238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21360" y="3973680"/>
            <a:ext cx="407880" cy="237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050920" y="42400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438360" y="424008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13240" y="42260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2563920" y="2381040"/>
            <a:ext cx="29376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063880" y="342900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38360" y="342900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324400" y="375120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2063880" y="254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1960200" y="3122280"/>
            <a:ext cx="10332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438360" y="253512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5313240" y="2535120"/>
            <a:ext cx="0" cy="3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 flipV="1">
            <a:off x="3344760" y="3125520"/>
            <a:ext cx="936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 flipV="1">
            <a:off x="5195880" y="2811240"/>
            <a:ext cx="10152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938760" y="253512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914640" y="33735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438360" y="38131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5302080" y="313056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>
            <a:off x="5216040" y="3431880"/>
            <a:ext cx="10188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261040" y="4703760"/>
            <a:ext cx="10800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08080" y="2498760"/>
            <a:ext cx="10656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86120" y="4762440"/>
            <a:ext cx="10620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84720" y="4707000"/>
            <a:ext cx="106200" cy="129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5520" y="3755880"/>
            <a:ext cx="10656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84720" y="2484360"/>
            <a:ext cx="10620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2960" y="2484360"/>
            <a:ext cx="10800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70400" y="2498760"/>
            <a:ext cx="106560" cy="13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239840" y="3147840"/>
            <a:ext cx="635040" cy="228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168640" y="2058840"/>
            <a:ext cx="1263600" cy="268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CR konta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83000" y="2044800"/>
            <a:ext cx="1440000" cy="2682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CR 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7880" y="3122640"/>
            <a:ext cx="552600" cy="2458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40280" y="3133800"/>
            <a:ext cx="569880" cy="1857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440320" y="2800440"/>
            <a:ext cx="642960" cy="26352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475240" y="3303720"/>
            <a:ext cx="600120" cy="223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3720" y="3890880"/>
            <a:ext cx="649080" cy="203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743280" y="4027320"/>
            <a:ext cx="685800" cy="2019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11520" y="2465280"/>
            <a:ext cx="0" cy="163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255760" y="412920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97160" y="4286160"/>
            <a:ext cx="1033560" cy="257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CR rel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 flipV="1">
            <a:off x="1917720" y="3165120"/>
            <a:ext cx="10152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 flipV="1">
            <a:off x="3819600" y="3098520"/>
            <a:ext cx="10152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59440" y="1900080"/>
            <a:ext cx="182880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E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E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E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E 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 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M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592308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>
            <a:hlinkClick r:id="" action="ppaction://hlinkshowjump?jump=previousslide"/>
          </p:cNvPr>
          <p:cNvSpPr/>
          <p:nvPr/>
        </p:nvSpPr>
        <p:spPr>
          <a:xfrm>
            <a:off x="439884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firstslide"/>
          </p:cNvPr>
          <p:cNvSpPr/>
          <p:nvPr/>
        </p:nvSpPr>
        <p:spPr>
          <a:xfrm>
            <a:off x="516096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911240" y="1865160"/>
            <a:ext cx="4562640" cy="4057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073320" y="3463920"/>
            <a:ext cx="2657520" cy="1542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083040" y="2701800"/>
            <a:ext cx="2514600" cy="238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73360" y="5018040"/>
            <a:ext cx="743040" cy="343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)M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625840" y="3008160"/>
            <a:ext cx="742680" cy="343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C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435400" y="2597040"/>
            <a:ext cx="0" cy="27338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597040" y="5214960"/>
            <a:ext cx="1429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58880" y="3225960"/>
            <a:ext cx="1429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301840" y="2217600"/>
            <a:ext cx="914400" cy="343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C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25520" y="5398920"/>
            <a:ext cx="914400" cy="343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C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77960" y="3216240"/>
            <a:ext cx="0" cy="20192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06720" y="2703600"/>
            <a:ext cx="2695680" cy="41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Log.podmienka pre zapnutie MCR segmen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39920" y="3560760"/>
            <a:ext cx="26956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Seg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časť programu,ktorá sa má vykonať ak je splnená podmie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 záhlaví M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nextslide"/>
          </p:cNvPr>
          <p:cNvSpPr/>
          <p:nvPr/>
        </p:nvSpPr>
        <p:spPr>
          <a:xfrm>
            <a:off x="8031240" y="6019920"/>
            <a:ext cx="689040" cy="533160"/>
          </a:xfrm>
          <a:custGeom>
            <a:avLst/>
            <a:gdLst>
              <a:gd name="textAreaLeft" fmla="*/ 34560 w 689040"/>
              <a:gd name="textAreaRight" fmla="*/ 654480 w 689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911" h="21600">
                <a:moveTo>
                  <a:pt x="0" y="0"/>
                </a:moveTo>
                <a:lnTo>
                  <a:pt x="27911" y="0"/>
                </a:lnTo>
                <a:lnTo>
                  <a:pt x="27911" y="21600"/>
                </a:lnTo>
                <a:lnTo>
                  <a:pt x="0" y="21600"/>
                </a:lnTo>
                <a:close/>
              </a:path>
              <a:path fill="lightenLess" w="27911" h="21600">
                <a:moveTo>
                  <a:pt x="0" y="0"/>
                </a:moveTo>
                <a:lnTo>
                  <a:pt x="27911" y="0"/>
                </a:lnTo>
                <a:lnTo>
                  <a:pt x="26511" y="1400"/>
                </a:lnTo>
                <a:lnTo>
                  <a:pt x="1400" y="1400"/>
                </a:lnTo>
                <a:close/>
              </a:path>
              <a:path fill="darken" w="27911" h="21600">
                <a:moveTo>
                  <a:pt x="27911" y="0"/>
                </a:moveTo>
                <a:lnTo>
                  <a:pt x="27911" y="21600"/>
                </a:lnTo>
                <a:lnTo>
                  <a:pt x="26511" y="20200"/>
                </a:lnTo>
                <a:lnTo>
                  <a:pt x="26511" y="1400"/>
                </a:lnTo>
                <a:close/>
              </a:path>
              <a:path fill="darkenLess" w="27911" h="21600">
                <a:moveTo>
                  <a:pt x="27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11" y="20200"/>
                </a:lnTo>
                <a:close/>
              </a:path>
              <a:path fill="lighten" w="27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11" h="21600">
                <a:moveTo>
                  <a:pt x="6949" y="3794"/>
                </a:moveTo>
                <a:lnTo>
                  <a:pt x="20962" y="10800"/>
                </a:lnTo>
                <a:lnTo>
                  <a:pt x="694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>
            <a:hlinkClick r:id="" action="ppaction://hlinkshowjump?jump=previousslide"/>
          </p:cNvPr>
          <p:cNvSpPr/>
          <p:nvPr/>
        </p:nvSpPr>
        <p:spPr>
          <a:xfrm>
            <a:off x="6507000" y="6019920"/>
            <a:ext cx="689040" cy="533160"/>
          </a:xfrm>
          <a:custGeom>
            <a:avLst/>
            <a:gdLst>
              <a:gd name="textAreaLeft" fmla="*/ 34560 w 689040"/>
              <a:gd name="textAreaRight" fmla="*/ 654480 w 689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911" h="21600">
                <a:moveTo>
                  <a:pt x="0" y="0"/>
                </a:moveTo>
                <a:lnTo>
                  <a:pt x="27911" y="0"/>
                </a:lnTo>
                <a:lnTo>
                  <a:pt x="27911" y="21600"/>
                </a:lnTo>
                <a:lnTo>
                  <a:pt x="0" y="21600"/>
                </a:lnTo>
                <a:close/>
              </a:path>
              <a:path fill="lightenLess" w="27911" h="21600">
                <a:moveTo>
                  <a:pt x="0" y="0"/>
                </a:moveTo>
                <a:lnTo>
                  <a:pt x="27911" y="0"/>
                </a:lnTo>
                <a:lnTo>
                  <a:pt x="26511" y="1400"/>
                </a:lnTo>
                <a:lnTo>
                  <a:pt x="1400" y="1400"/>
                </a:lnTo>
                <a:close/>
              </a:path>
              <a:path fill="darken" w="27911" h="21600">
                <a:moveTo>
                  <a:pt x="27911" y="0"/>
                </a:moveTo>
                <a:lnTo>
                  <a:pt x="27911" y="21600"/>
                </a:lnTo>
                <a:lnTo>
                  <a:pt x="26511" y="20200"/>
                </a:lnTo>
                <a:lnTo>
                  <a:pt x="26511" y="1400"/>
                </a:lnTo>
                <a:close/>
              </a:path>
              <a:path fill="darkenLess" w="27911" h="21600">
                <a:moveTo>
                  <a:pt x="27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11" y="20200"/>
                </a:lnTo>
                <a:close/>
              </a:path>
              <a:path fill="lighten" w="27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11" h="21600">
                <a:moveTo>
                  <a:pt x="6949" y="10800"/>
                </a:moveTo>
                <a:lnTo>
                  <a:pt x="20962" y="3794"/>
                </a:lnTo>
                <a:lnTo>
                  <a:pt x="20962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>
            <a:hlinkClick r:id="" action="ppaction://hlinkshowjump?jump=firstslide"/>
          </p:cNvPr>
          <p:cNvSpPr/>
          <p:nvPr/>
        </p:nvSpPr>
        <p:spPr>
          <a:xfrm>
            <a:off x="7269120" y="6019920"/>
            <a:ext cx="689040" cy="533160"/>
          </a:xfrm>
          <a:custGeom>
            <a:avLst/>
            <a:gdLst>
              <a:gd name="textAreaLeft" fmla="*/ 34560 w 689040"/>
              <a:gd name="textAreaRight" fmla="*/ 654480 w 689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911" h="21600">
                <a:moveTo>
                  <a:pt x="0" y="0"/>
                </a:moveTo>
                <a:lnTo>
                  <a:pt x="27911" y="0"/>
                </a:lnTo>
                <a:lnTo>
                  <a:pt x="27911" y="21600"/>
                </a:lnTo>
                <a:lnTo>
                  <a:pt x="0" y="21600"/>
                </a:lnTo>
                <a:close/>
              </a:path>
              <a:path fill="lightenLess" w="27911" h="21600">
                <a:moveTo>
                  <a:pt x="0" y="0"/>
                </a:moveTo>
                <a:lnTo>
                  <a:pt x="27911" y="0"/>
                </a:lnTo>
                <a:lnTo>
                  <a:pt x="26511" y="1400"/>
                </a:lnTo>
                <a:lnTo>
                  <a:pt x="1400" y="1400"/>
                </a:lnTo>
                <a:close/>
              </a:path>
              <a:path fill="darken" w="27911" h="21600">
                <a:moveTo>
                  <a:pt x="27911" y="0"/>
                </a:moveTo>
                <a:lnTo>
                  <a:pt x="27911" y="21600"/>
                </a:lnTo>
                <a:lnTo>
                  <a:pt x="26511" y="20200"/>
                </a:lnTo>
                <a:lnTo>
                  <a:pt x="26511" y="1400"/>
                </a:lnTo>
                <a:close/>
              </a:path>
              <a:path fill="darkenLess" w="27911" h="21600">
                <a:moveTo>
                  <a:pt x="27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11" y="20200"/>
                </a:lnTo>
                <a:close/>
              </a:path>
              <a:path fill="lighten" w="27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11" h="21600">
                <a:moveTo>
                  <a:pt x="10457" y="10800"/>
                </a:moveTo>
                <a:lnTo>
                  <a:pt x="20962" y="3794"/>
                </a:lnTo>
                <a:lnTo>
                  <a:pt x="20962" y="17806"/>
                </a:lnTo>
                <a:close/>
              </a:path>
              <a:path fill="darken" w="27911" h="21600">
                <a:moveTo>
                  <a:pt x="6949" y="3794"/>
                </a:moveTo>
                <a:lnTo>
                  <a:pt x="8611" y="3794"/>
                </a:lnTo>
                <a:lnTo>
                  <a:pt x="8611" y="17806"/>
                </a:lnTo>
                <a:lnTo>
                  <a:pt x="694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Ot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zky k cvi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č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eni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19040" y="1787400"/>
            <a:ext cx="7299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é formáty zobrazenia čísel sú definované v STEP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ý je rozdiel medzi inštrukciou posun a rotá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o fungujú akumulátory SIMATIC pri následnom použití inštrukcií typu 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é typy skokových inštrukcií pozná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panak1" descr=""/>
          <p:cNvPicPr/>
          <p:nvPr/>
        </p:nvPicPr>
        <p:blipFill>
          <a:blip r:embed="rId1"/>
          <a:stretch/>
        </p:blipFill>
        <p:spPr>
          <a:xfrm>
            <a:off x="1380960" y="304920"/>
            <a:ext cx="10670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2093760"/>
            <a:ext cx="4483080" cy="2286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...p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76520" y="2365200"/>
            <a:ext cx="4104000" cy="1597320"/>
            <a:chOff x="1676520" y="2365200"/>
            <a:chExt cx="4104000" cy="1597320"/>
          </a:xfrm>
        </p:grpSpPr>
        <p:sp>
          <p:nvSpPr>
            <p:cNvPr id="106" name=""/>
            <p:cNvSpPr/>
            <p:nvPr/>
          </p:nvSpPr>
          <p:spPr>
            <a:xfrm>
              <a:off x="3429000" y="2438280"/>
              <a:ext cx="1143000" cy="1524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438280" y="2727360"/>
              <a:ext cx="228600" cy="228600"/>
              <a:chOff x="2438280" y="2727360"/>
              <a:chExt cx="22860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438280" y="2727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66880" y="2727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666880" y="2819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2819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64000" y="3365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4000" y="3763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11600" y="3159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83080" y="3067200"/>
              <a:ext cx="279360" cy="2221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3720" y="236520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M 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3440" y="27194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82360" y="301320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W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52120" y="342576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49520" y="31766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IN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49520" y="353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IN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64280" y="254160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CPM  I </a:t>
              </a:r>
              <a:r>
                <a:rPr b="1" lang="sk-SK" sz="1400" spc="-1" strike="noStrike">
                  <a:solidFill>
                    <a:srgbClr val="ff0000"/>
                  </a:solidFill>
                  <a:latin typeface="Times New Roman"/>
                </a:rPr>
                <a:t>=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181560" y="1960560"/>
            <a:ext cx="184032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W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= =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Vetvenie programu pomocou skok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95560" y="-2558880"/>
            <a:ext cx="885600" cy="11905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hľ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85840" y="1738440"/>
            <a:ext cx="5048280" cy="4822560"/>
            <a:chOff x="2085840" y="1738440"/>
            <a:chExt cx="5048280" cy="4822560"/>
          </a:xfrm>
        </p:grpSpPr>
        <p:grpSp>
          <p:nvGrpSpPr>
            <p:cNvPr id="130" name=""/>
            <p:cNvGrpSpPr/>
            <p:nvPr/>
          </p:nvGrpSpPr>
          <p:grpSpPr>
            <a:xfrm>
              <a:off x="2090520" y="1740240"/>
              <a:ext cx="5038560" cy="4818960"/>
              <a:chOff x="2090520" y="1740240"/>
              <a:chExt cx="5038560" cy="48189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090520" y="1740240"/>
                <a:ext cx="1440000" cy="253440"/>
                <a:chOff x="2090520" y="1740240"/>
                <a:chExt cx="1440000" cy="253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90520" y="174024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2090520" y="1740240"/>
                  <a:ext cx="1440000" cy="253440"/>
                  <a:chOff x="2090520" y="1740240"/>
                  <a:chExt cx="1440000" cy="253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2134800" y="174024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090520" y="174024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3530520" y="1740240"/>
                <a:ext cx="3598560" cy="253440"/>
                <a:chOff x="3530520" y="1740240"/>
                <a:chExt cx="3598560" cy="253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574800" y="174024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odmienený sko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30520" y="174024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090520" y="1993680"/>
                <a:ext cx="1440000" cy="253440"/>
                <a:chOff x="2090520" y="1993680"/>
                <a:chExt cx="1440000" cy="253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90520" y="199368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2090520" y="1993680"/>
                  <a:ext cx="1440000" cy="253440"/>
                  <a:chOff x="2090520" y="1993680"/>
                  <a:chExt cx="1440000" cy="2534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134800" y="199368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090520" y="199368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3530520" y="1993680"/>
                <a:ext cx="3598560" cy="253440"/>
                <a:chOff x="3530520" y="1993680"/>
                <a:chExt cx="3598560" cy="2534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74800" y="199368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ínač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30520" y="199368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090520" y="2247480"/>
                <a:ext cx="1440000" cy="507600"/>
                <a:chOff x="2090520" y="2247480"/>
                <a:chExt cx="1440000" cy="507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090520" y="2247480"/>
                  <a:ext cx="1440000" cy="5072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090520" y="2247480"/>
                  <a:ext cx="1440000" cy="507600"/>
                  <a:chOff x="2090520" y="2247480"/>
                  <a:chExt cx="1440000" cy="50760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2134800" y="2249280"/>
                    <a:ext cx="1351080" cy="505800"/>
                    <a:chOff x="2134800" y="2249280"/>
                    <a:chExt cx="1351080" cy="50580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134800" y="2754720"/>
                      <a:ext cx="1351080" cy="3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134800" y="2249280"/>
                      <a:ext cx="1351080" cy="42876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2090520" y="2247480"/>
                    <a:ext cx="1440000" cy="507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"/>
              <p:cNvGrpSpPr/>
              <p:nvPr/>
            </p:nvGrpSpPr>
            <p:grpSpPr>
              <a:xfrm>
                <a:off x="3530520" y="2247480"/>
                <a:ext cx="3598560" cy="507240"/>
                <a:chOff x="3530520" y="2247480"/>
                <a:chExt cx="3598560" cy="507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574800" y="2247480"/>
                  <a:ext cx="351000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pri VKE =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30520" y="2247480"/>
                  <a:ext cx="359856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090520" y="2754720"/>
                <a:ext cx="1440000" cy="253440"/>
                <a:chOff x="2090520" y="2754720"/>
                <a:chExt cx="1440000" cy="2534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90520" y="275472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2090520" y="2754720"/>
                  <a:ext cx="1440000" cy="253440"/>
                  <a:chOff x="2090520" y="2754720"/>
                  <a:chExt cx="1440000" cy="253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34800" y="275472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B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90520" y="275472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530520" y="2754720"/>
                <a:ext cx="3598560" cy="253440"/>
                <a:chOff x="3530520" y="2754720"/>
                <a:chExt cx="3598560" cy="253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574800" y="275472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pri VKE =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530520" y="275472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090520" y="3008160"/>
                <a:ext cx="1440000" cy="253440"/>
                <a:chOff x="2090520" y="3008160"/>
                <a:chExt cx="1440000" cy="253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090520" y="300816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2090520" y="3008160"/>
                  <a:ext cx="1440000" cy="253440"/>
                  <a:chOff x="2090520" y="3008160"/>
                  <a:chExt cx="1440000" cy="2534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2134800" y="300816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B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090520" y="300816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3530520" y="3008160"/>
                <a:ext cx="3598560" cy="253440"/>
                <a:chOff x="3530520" y="3008160"/>
                <a:chExt cx="3598560" cy="253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574800" y="300816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pri VKE = 1 a zápis VKE do BI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530520" y="300816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090520" y="3261960"/>
                <a:ext cx="1440000" cy="253440"/>
                <a:chOff x="2090520" y="3261960"/>
                <a:chExt cx="1440000" cy="253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090520" y="326196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2090520" y="3261960"/>
                  <a:ext cx="1440000" cy="253440"/>
                  <a:chOff x="2090520" y="3261960"/>
                  <a:chExt cx="1440000" cy="2534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2134800" y="326196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BN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090520" y="326196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530520" y="3261960"/>
                <a:ext cx="3598560" cy="253440"/>
                <a:chOff x="3530520" y="3261960"/>
                <a:chExt cx="3598560" cy="253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574800" y="326196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pri VKE = 0 a zápis VKE do BI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30520" y="326196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090520" y="3515760"/>
                <a:ext cx="1440000" cy="253440"/>
                <a:chOff x="2090520" y="3515760"/>
                <a:chExt cx="1440000" cy="253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090520" y="351576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2090520" y="3515760"/>
                  <a:ext cx="1440000" cy="253440"/>
                  <a:chOff x="2090520" y="3515760"/>
                  <a:chExt cx="1440000" cy="2534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134800" y="351576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B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90520" y="351576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3530520" y="3515760"/>
                <a:ext cx="3598560" cy="253440"/>
                <a:chOff x="3530520" y="3515760"/>
                <a:chExt cx="3598560" cy="2534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574800" y="351576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BIE =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30520" y="351576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090520" y="3769200"/>
                <a:ext cx="1440000" cy="253440"/>
                <a:chOff x="2090520" y="3769200"/>
                <a:chExt cx="1440000" cy="2534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090520" y="376920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2090520" y="3769200"/>
                  <a:ext cx="1440000" cy="253440"/>
                  <a:chOff x="2090520" y="3769200"/>
                  <a:chExt cx="1440000" cy="253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2134800" y="376920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B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90520" y="376920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3530520" y="3769200"/>
                <a:ext cx="3598560" cy="253440"/>
                <a:chOff x="3530520" y="3769200"/>
                <a:chExt cx="3598560" cy="253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574800" y="376920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BIE =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530520" y="376920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090520" y="4023000"/>
                <a:ext cx="1440000" cy="253440"/>
                <a:chOff x="2090520" y="4023000"/>
                <a:chExt cx="1440000" cy="253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90520" y="402300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090520" y="4023000"/>
                  <a:ext cx="1440000" cy="253440"/>
                  <a:chOff x="2090520" y="4023000"/>
                  <a:chExt cx="1440000" cy="253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134800" y="402300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90520" y="402300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530520" y="4023000"/>
                <a:ext cx="3598560" cy="253440"/>
                <a:chOff x="3530520" y="4023000"/>
                <a:chExt cx="3598560" cy="253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574800" y="402300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OV =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530520" y="402300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90520" y="4276440"/>
                <a:ext cx="1440000" cy="253440"/>
                <a:chOff x="2090520" y="4276440"/>
                <a:chExt cx="1440000" cy="253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090520" y="427644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2090520" y="4276440"/>
                  <a:ext cx="1440000" cy="253440"/>
                  <a:chOff x="2090520" y="4276440"/>
                  <a:chExt cx="1440000" cy="2534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2134800" y="427644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90520" y="427644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3530520" y="4276440"/>
                <a:ext cx="3598560" cy="253440"/>
                <a:chOff x="3530520" y="4276440"/>
                <a:chExt cx="3598560" cy="253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574800" y="427644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OS =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530520" y="427644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090520" y="4530240"/>
                <a:ext cx="1440000" cy="253440"/>
                <a:chOff x="2090520" y="4530240"/>
                <a:chExt cx="1440000" cy="253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090520" y="453024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2090520" y="4530240"/>
                  <a:ext cx="1440000" cy="253440"/>
                  <a:chOff x="2090520" y="4530240"/>
                  <a:chExt cx="1440000" cy="2534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2134800" y="453024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90520" y="453024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3530520" y="4530240"/>
                <a:ext cx="3598560" cy="253440"/>
                <a:chOff x="3530520" y="4530240"/>
                <a:chExt cx="3598560" cy="2534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574800" y="453024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=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530520" y="453024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090520" y="4783680"/>
                <a:ext cx="1440000" cy="253440"/>
                <a:chOff x="2090520" y="4783680"/>
                <a:chExt cx="1440000" cy="253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090520" y="478368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2090520" y="4783680"/>
                  <a:ext cx="1440000" cy="253440"/>
                  <a:chOff x="2090520" y="4783680"/>
                  <a:chExt cx="1440000" cy="2534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2134800" y="478368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90520" y="478368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3530520" y="4783680"/>
                <a:ext cx="3598560" cy="253440"/>
                <a:chOff x="3530520" y="4783680"/>
                <a:chExt cx="3598560" cy="253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574800" y="478368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&lt; &gt;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530520" y="478368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090520" y="5037480"/>
                <a:ext cx="1440000" cy="253440"/>
                <a:chOff x="2090520" y="5037480"/>
                <a:chExt cx="1440000" cy="253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090520" y="503748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2090520" y="5037480"/>
                  <a:ext cx="1440000" cy="253440"/>
                  <a:chOff x="2090520" y="5037480"/>
                  <a:chExt cx="1440000" cy="2534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134800" y="503748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90520" y="503748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530520" y="5037480"/>
                <a:ext cx="3598560" cy="253440"/>
                <a:chOff x="3530520" y="5037480"/>
                <a:chExt cx="3598560" cy="2534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74800" y="503748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&gt;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530520" y="503748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090520" y="5291280"/>
                <a:ext cx="1440000" cy="253440"/>
                <a:chOff x="2090520" y="5291280"/>
                <a:chExt cx="1440000" cy="2534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090520" y="529128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2090520" y="5291280"/>
                  <a:ext cx="1440000" cy="253440"/>
                  <a:chOff x="2090520" y="5291280"/>
                  <a:chExt cx="1440000" cy="2534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134800" y="529128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90520" y="529128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3530520" y="5291280"/>
                <a:ext cx="3598560" cy="253440"/>
                <a:chOff x="3530520" y="5291280"/>
                <a:chExt cx="3598560" cy="253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574800" y="529128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&lt;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30520" y="529128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090520" y="5544720"/>
                <a:ext cx="1440000" cy="253440"/>
                <a:chOff x="2090520" y="5544720"/>
                <a:chExt cx="1440000" cy="253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090520" y="554472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2090520" y="5544720"/>
                  <a:ext cx="1440000" cy="253440"/>
                  <a:chOff x="2090520" y="5544720"/>
                  <a:chExt cx="1440000" cy="2534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2134800" y="554472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M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90520" y="554472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3530520" y="5544720"/>
                <a:ext cx="3598560" cy="253440"/>
                <a:chOff x="3530520" y="5544720"/>
                <a:chExt cx="3598560" cy="2534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574800" y="554472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&lt;=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30520" y="554472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090520" y="5798520"/>
                <a:ext cx="1440000" cy="253440"/>
                <a:chOff x="2090520" y="5798520"/>
                <a:chExt cx="1440000" cy="2534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090520" y="579852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2090520" y="5798520"/>
                  <a:ext cx="1440000" cy="253440"/>
                  <a:chOff x="2090520" y="5798520"/>
                  <a:chExt cx="1440000" cy="2534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2134800" y="579852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P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90520" y="579852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" name=""/>
              <p:cNvGrpSpPr/>
              <p:nvPr/>
            </p:nvGrpSpPr>
            <p:grpSpPr>
              <a:xfrm>
                <a:off x="3530520" y="5798520"/>
                <a:ext cx="3598560" cy="253440"/>
                <a:chOff x="3530520" y="5798520"/>
                <a:chExt cx="3598560" cy="2534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574800" y="579852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výsledok &gt;=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30520" y="579852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090520" y="6051960"/>
                <a:ext cx="1440000" cy="253440"/>
                <a:chOff x="2090520" y="6051960"/>
                <a:chExt cx="1440000" cy="2534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90520" y="605196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2090520" y="6051960"/>
                  <a:ext cx="1440000" cy="253440"/>
                  <a:chOff x="2090520" y="6051960"/>
                  <a:chExt cx="1440000" cy="2534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134800" y="605196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90520" y="605196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3530520" y="6051960"/>
                <a:ext cx="3598560" cy="253440"/>
                <a:chOff x="3530520" y="6051960"/>
                <a:chExt cx="3598560" cy="2534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574800" y="605196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pri neplatnom výsledk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530520" y="605196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090520" y="6305760"/>
                <a:ext cx="1440000" cy="253440"/>
                <a:chOff x="2090520" y="6305760"/>
                <a:chExt cx="1440000" cy="2534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090520" y="6305760"/>
                  <a:ext cx="1440000" cy="25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2090520" y="6305760"/>
                  <a:ext cx="1440000" cy="253440"/>
                  <a:chOff x="2090520" y="6305760"/>
                  <a:chExt cx="1440000" cy="2534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134800" y="6305760"/>
                    <a:ext cx="1351080" cy="25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LOO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90520" y="6305760"/>
                    <a:ext cx="1440000" cy="25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3530520" y="6305760"/>
                <a:ext cx="3598560" cy="253440"/>
                <a:chOff x="3530520" y="6305760"/>
                <a:chExt cx="3598560" cy="253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574800" y="6305760"/>
                  <a:ext cx="3510000" cy="2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ok ak obsah AKKU1 &gt; 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30520" y="6305760"/>
                  <a:ext cx="3598560" cy="2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" name=""/>
            <p:cNvSpPr/>
            <p:nvPr/>
          </p:nvSpPr>
          <p:spPr>
            <a:xfrm>
              <a:off x="2085840" y="1738440"/>
              <a:ext cx="5048280" cy="4822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869000" y="1738440"/>
            <a:ext cx="3270240" cy="459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...pokračovanie...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8480" y="1733400"/>
            <a:ext cx="298152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PB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NA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NAV: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086440" y="1739880"/>
            <a:ext cx="2911320" cy="4119480"/>
            <a:chOff x="5086440" y="1739880"/>
            <a:chExt cx="2911320" cy="4119480"/>
          </a:xfrm>
        </p:grpSpPr>
        <p:sp>
          <p:nvSpPr>
            <p:cNvPr id="285" name=""/>
            <p:cNvSpPr/>
            <p:nvPr/>
          </p:nvSpPr>
          <p:spPr>
            <a:xfrm>
              <a:off x="5087880" y="1957320"/>
              <a:ext cx="0" cy="39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589720" y="2201760"/>
              <a:ext cx="257040" cy="257040"/>
              <a:chOff x="5589720" y="2201760"/>
              <a:chExt cx="257040" cy="25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5589720" y="220176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46760" y="220176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087880" y="234468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1160" y="233208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350040" y="2216160"/>
              <a:ext cx="257040" cy="257040"/>
              <a:chOff x="6350040" y="2216160"/>
              <a:chExt cx="257040" cy="257040"/>
            </a:xfrm>
          </p:grpSpPr>
          <p:sp>
            <p:nvSpPr>
              <p:cNvPr id="292" name=""/>
              <p:cNvSpPr/>
              <p:nvPr/>
            </p:nvSpPr>
            <p:spPr>
              <a:xfrm>
                <a:off x="6350040" y="221616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7080" y="221616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6620040" y="233208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21520" y="2239920"/>
              <a:ext cx="876240" cy="2304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00480" y="3156120"/>
              <a:ext cx="4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602320" y="3027240"/>
              <a:ext cx="257040" cy="257040"/>
              <a:chOff x="5602320" y="3027240"/>
              <a:chExt cx="257040" cy="257040"/>
            </a:xfrm>
          </p:grpSpPr>
          <p:sp>
            <p:nvSpPr>
              <p:cNvPr id="298" name=""/>
              <p:cNvSpPr/>
              <p:nvPr/>
            </p:nvSpPr>
            <p:spPr>
              <a:xfrm>
                <a:off x="5602320" y="302724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59360" y="302724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886360" y="3143160"/>
              <a:ext cx="12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48520" y="2986200"/>
              <a:ext cx="258840" cy="242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81880" y="378792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22960" y="3668760"/>
              <a:ext cx="258840" cy="243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581880" y="3141720"/>
              <a:ext cx="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0480" y="4599000"/>
              <a:ext cx="4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87920" y="4417920"/>
              <a:ext cx="863640" cy="37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67480" y="44038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89640" y="441792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680080" y="5357880"/>
              <a:ext cx="257040" cy="257040"/>
              <a:chOff x="5680080" y="5357880"/>
              <a:chExt cx="257040" cy="257040"/>
            </a:xfrm>
          </p:grpSpPr>
          <p:sp>
            <p:nvSpPr>
              <p:cNvPr id="310" name=""/>
              <p:cNvSpPr/>
              <p:nvPr/>
            </p:nvSpPr>
            <p:spPr>
              <a:xfrm>
                <a:off x="5680080" y="535788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37120" y="535788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5951520" y="54878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440400" y="5372280"/>
              <a:ext cx="257400" cy="257040"/>
              <a:chOff x="6440400" y="5372280"/>
              <a:chExt cx="257400" cy="2570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40400" y="537228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97800" y="5372280"/>
                <a:ext cx="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710400" y="54878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1880" y="5370480"/>
              <a:ext cx="309600" cy="255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86440" y="5513400"/>
              <a:ext cx="5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8280" y="18813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19360" y="18432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62640" y="219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SPB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63000" y="173988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ff0000"/>
                  </a:solidFill>
                  <a:latin typeface="Times New Roman"/>
                </a:rPr>
                <a:t>NA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3080" y="2666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67080" y="26416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67080" y="33368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81960" y="445788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ff0000"/>
                  </a:solidFill>
                  <a:latin typeface="Times New Roman"/>
                </a:rPr>
                <a:t>NA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1240" y="49849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M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84520" y="49989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3000" y="49467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18240" y="5383080"/>
              <a:ext cx="1540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489720" y="5421240"/>
              <a:ext cx="1540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159520" y="4861080"/>
            <a:ext cx="132372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20760" y="1689120"/>
            <a:ext cx="4781520" cy="4610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16360" y="4721400"/>
            <a:ext cx="0" cy="20952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21080" y="2263680"/>
            <a:ext cx="2476440" cy="3504960"/>
            <a:chOff x="2521080" y="2263680"/>
            <a:chExt cx="2476440" cy="3504960"/>
          </a:xfrm>
        </p:grpSpPr>
        <p:sp>
          <p:nvSpPr>
            <p:cNvPr id="340" name=""/>
            <p:cNvSpPr/>
            <p:nvPr/>
          </p:nvSpPr>
          <p:spPr>
            <a:xfrm>
              <a:off x="3330360" y="2263680"/>
              <a:ext cx="714240" cy="23796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8880" y="2844720"/>
              <a:ext cx="2352600" cy="5047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558880" y="3654360"/>
              <a:ext cx="428400" cy="733320"/>
              <a:chOff x="2558880" y="3654360"/>
              <a:chExt cx="428400" cy="733320"/>
            </a:xfrm>
          </p:grpSpPr>
          <p:sp>
            <p:nvSpPr>
              <p:cNvPr id="343" name=""/>
              <p:cNvSpPr/>
              <p:nvPr/>
            </p:nvSpPr>
            <p:spPr>
              <a:xfrm>
                <a:off x="2558880" y="3654360"/>
                <a:ext cx="428400" cy="733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58880" y="3663720"/>
                <a:ext cx="428400" cy="199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111480" y="3645000"/>
              <a:ext cx="438120" cy="733320"/>
              <a:chOff x="3111480" y="3645000"/>
              <a:chExt cx="438120" cy="733320"/>
            </a:xfrm>
          </p:grpSpPr>
          <p:sp>
            <p:nvSpPr>
              <p:cNvPr id="346" name=""/>
              <p:cNvSpPr/>
              <p:nvPr/>
            </p:nvSpPr>
            <p:spPr>
              <a:xfrm>
                <a:off x="3111480" y="3645000"/>
                <a:ext cx="438120" cy="733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11480" y="3654360"/>
                <a:ext cx="438120" cy="199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111560" y="3625920"/>
              <a:ext cx="409320" cy="733680"/>
              <a:chOff x="4111560" y="3625920"/>
              <a:chExt cx="409320" cy="733680"/>
            </a:xfrm>
          </p:grpSpPr>
          <p:sp>
            <p:nvSpPr>
              <p:cNvPr id="349" name=""/>
              <p:cNvSpPr/>
              <p:nvPr/>
            </p:nvSpPr>
            <p:spPr>
              <a:xfrm>
                <a:off x="4111560" y="3625920"/>
                <a:ext cx="409320" cy="733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11560" y="3635280"/>
                <a:ext cx="409320" cy="199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730680" y="4521600"/>
              <a:ext cx="180720" cy="190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11640" y="4969440"/>
              <a:ext cx="981000" cy="31428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4200" y="5530680"/>
              <a:ext cx="714240" cy="23796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83160" y="2501640"/>
              <a:ext cx="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35440" y="3349440"/>
              <a:ext cx="0" cy="1162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1720" y="3349440"/>
              <a:ext cx="0" cy="247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0080" y="3359160"/>
              <a:ext cx="0" cy="247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44720" y="3359160"/>
              <a:ext cx="0" cy="247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40480" y="3349440"/>
              <a:ext cx="0" cy="1267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30120" y="4617000"/>
              <a:ext cx="809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02000" y="4359600"/>
              <a:ext cx="0" cy="257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59040" y="4388040"/>
              <a:ext cx="0" cy="237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59040" y="4626360"/>
              <a:ext cx="961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30360" y="4378680"/>
              <a:ext cx="0" cy="257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21080" y="2844720"/>
              <a:ext cx="2476440" cy="504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AKKU 1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= 0          =  1         =  2         =  3       &gt;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5760" y="2273040"/>
              <a:ext cx="581040" cy="22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30440" y="3654360"/>
              <a:ext cx="581040" cy="22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P 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2400" y="3645000"/>
              <a:ext cx="580680" cy="22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P 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4320" y="3616200"/>
              <a:ext cx="58104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P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92560" y="5016960"/>
              <a:ext cx="1161720" cy="22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okračovan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5521320"/>
              <a:ext cx="571320" cy="22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Koni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16360" y="5283720"/>
              <a:ext cx="0" cy="209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168880" y="2120760"/>
            <a:ext cx="1419120" cy="344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      .L    MB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L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A PP0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A PP1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A POKRSPA P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LIST:SPA POK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PP0: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A POK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PP1: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PA POK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PP3: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POKR:</a:t>
            </a: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0040" y="2394000"/>
            <a:ext cx="11048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92640" y="3475080"/>
            <a:ext cx="1333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92640" y="4044960"/>
            <a:ext cx="1333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92640" y="4641840"/>
            <a:ext cx="1333440" cy="62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089080" y="2065320"/>
            <a:ext cx="6053040" cy="41162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okračovanie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2880" y="2325600"/>
            <a:ext cx="909720" cy="309600"/>
          </a:xfrm>
          <a:prstGeom prst="flowChartAlternateProcess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9760" y="2871720"/>
            <a:ext cx="1981440" cy="346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71840" y="4668840"/>
            <a:ext cx="1432080" cy="806400"/>
          </a:xfrm>
          <a:prstGeom prst="flowChartDecision">
            <a:avLst/>
          </a:prstGeom>
          <a:solidFill>
            <a:srgbClr val="ede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33760" y="3490920"/>
            <a:ext cx="1370160" cy="930240"/>
          </a:xfrm>
          <a:prstGeom prst="rect">
            <a:avLst/>
          </a:prstGeom>
          <a:solidFill>
            <a:srgbClr val="ede7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5748480"/>
            <a:ext cx="909720" cy="309600"/>
          </a:xfrm>
          <a:prstGeom prst="flowChartAlternateProcess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19560" y="2635200"/>
            <a:ext cx="0" cy="1857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43320" y="3230640"/>
            <a:ext cx="0" cy="1857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43320" y="4433760"/>
            <a:ext cx="0" cy="1857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81400" y="5487840"/>
            <a:ext cx="0" cy="1857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636640" y="5078520"/>
            <a:ext cx="80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649600" y="3305160"/>
            <a:ext cx="0" cy="1773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3305160"/>
            <a:ext cx="140796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33680" y="5338800"/>
            <a:ext cx="773280" cy="3222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95560" y="2338560"/>
            <a:ext cx="784440" cy="33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Š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84560" y="2882880"/>
            <a:ext cx="194472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Inicializácia počítad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70200" y="3776760"/>
            <a:ext cx="1084320" cy="33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Telo  cyk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4680" y="4768920"/>
            <a:ext cx="1506600" cy="792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Dekrementá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čítadla 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test na nu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32200" y="4916520"/>
            <a:ext cx="773280" cy="3222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&lt; &gt;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4880" y="4792680"/>
            <a:ext cx="771480" cy="3222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á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8440" y="5735520"/>
            <a:ext cx="771480" cy="32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5440" y="2251080"/>
            <a:ext cx="1992240" cy="3373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L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ZAC:TMB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LMB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LOOP Z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65880" y="3201840"/>
            <a:ext cx="1020600" cy="94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0440" y="3714840"/>
            <a:ext cx="909360" cy="495360"/>
          </a:xfrm>
          <a:prstGeom prst="leftArrow">
            <a:avLst>
              <a:gd name="adj1" fmla="val 50000"/>
              <a:gd name="adj2" fmla="val 458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Digitálne logické operácie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989000" y="1635120"/>
            <a:ext cx="5038560" cy="4944600"/>
            <a:chOff x="1989000" y="1635120"/>
            <a:chExt cx="5038560" cy="4944600"/>
          </a:xfrm>
        </p:grpSpPr>
        <p:grpSp>
          <p:nvGrpSpPr>
            <p:cNvPr id="411" name=""/>
            <p:cNvGrpSpPr/>
            <p:nvPr/>
          </p:nvGrpSpPr>
          <p:grpSpPr>
            <a:xfrm>
              <a:off x="1989000" y="1635120"/>
              <a:ext cx="1440000" cy="1622160"/>
              <a:chOff x="1989000" y="1635120"/>
              <a:chExt cx="1440000" cy="1622160"/>
            </a:xfrm>
          </p:grpSpPr>
          <p:sp>
            <p:nvSpPr>
              <p:cNvPr id="412" name=""/>
              <p:cNvSpPr/>
              <p:nvPr/>
            </p:nvSpPr>
            <p:spPr>
              <a:xfrm>
                <a:off x="1989000" y="1635120"/>
                <a:ext cx="1440000" cy="16221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1989000" y="1635120"/>
                <a:ext cx="1440000" cy="1622160"/>
                <a:chOff x="1989000" y="1635120"/>
                <a:chExt cx="1440000" cy="162216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033280" y="1635120"/>
                  <a:ext cx="1351080" cy="1544400"/>
                  <a:chOff x="2033280" y="1635120"/>
                  <a:chExt cx="1351080" cy="15444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2033280" y="1635120"/>
                    <a:ext cx="1351080" cy="3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33280" y="2750760"/>
                    <a:ext cx="1351080" cy="4287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</a:t>
                    </a: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W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989000" y="1635120"/>
                  <a:ext cx="1440000" cy="162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3429000" y="1635120"/>
              <a:ext cx="3598560" cy="1622520"/>
              <a:chOff x="3429000" y="1635120"/>
              <a:chExt cx="3598560" cy="1622520"/>
            </a:xfrm>
          </p:grpSpPr>
          <p:sp>
            <p:nvSpPr>
              <p:cNvPr id="419" name=""/>
              <p:cNvSpPr/>
              <p:nvPr/>
            </p:nvSpPr>
            <p:spPr>
              <a:xfrm>
                <a:off x="3473280" y="1635120"/>
                <a:ext cx="3510000" cy="16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ický súčin medzi bitmi nižších slov AKKU1 a AKKU2, výsledok sa ukladá do AKKU1. (16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429000" y="1635120"/>
                <a:ext cx="3598560" cy="1622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989000" y="3257640"/>
              <a:ext cx="1440000" cy="664560"/>
              <a:chOff x="1989000" y="3257640"/>
              <a:chExt cx="1440000" cy="664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989000" y="3257640"/>
                <a:ext cx="1440000" cy="664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1989000" y="3257640"/>
                <a:ext cx="1440000" cy="664560"/>
                <a:chOff x="1989000" y="3257640"/>
                <a:chExt cx="1440000" cy="6645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033280" y="3257640"/>
                  <a:ext cx="1351080" cy="6645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89000" y="3257640"/>
                  <a:ext cx="1440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3429000" y="3257640"/>
              <a:ext cx="3598560" cy="664560"/>
              <a:chOff x="3429000" y="3257640"/>
              <a:chExt cx="3598560" cy="664560"/>
            </a:xfrm>
          </p:grpSpPr>
          <p:sp>
            <p:nvSpPr>
              <p:cNvPr id="427" name=""/>
              <p:cNvSpPr/>
              <p:nvPr/>
            </p:nvSpPr>
            <p:spPr>
              <a:xfrm>
                <a:off x="3473280" y="3257640"/>
                <a:ext cx="3510000" cy="66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ický súčet medzi bitmi nižších slov AKKU1 a AKKU2, výsledok sa ukladá do AKKU1. (16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9000" y="3257640"/>
                <a:ext cx="3598560" cy="664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989000" y="3922200"/>
              <a:ext cx="1440000" cy="664200"/>
              <a:chOff x="1989000" y="3922200"/>
              <a:chExt cx="1440000" cy="66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1989000" y="3922200"/>
                <a:ext cx="1440000" cy="664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1989000" y="3922200"/>
                <a:ext cx="1440000" cy="664200"/>
                <a:chOff x="1989000" y="3922200"/>
                <a:chExt cx="1440000" cy="664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033280" y="3922200"/>
                  <a:ext cx="1351080" cy="6642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989000" y="3922200"/>
                  <a:ext cx="144000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3429000" y="3922200"/>
              <a:ext cx="3598560" cy="664200"/>
              <a:chOff x="3429000" y="3922200"/>
              <a:chExt cx="3598560" cy="664200"/>
            </a:xfrm>
          </p:grpSpPr>
          <p:sp>
            <p:nvSpPr>
              <p:cNvPr id="435" name=""/>
              <p:cNvSpPr/>
              <p:nvPr/>
            </p:nvSpPr>
            <p:spPr>
              <a:xfrm>
                <a:off x="3473280" y="3922200"/>
                <a:ext cx="351000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kluzívny súčet medzi bitmi nižších slov AKKU1 a AKKU2, výsledok sa ukladá do AKKU1. (16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29000" y="3922200"/>
                <a:ext cx="3598560" cy="664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989000" y="4586760"/>
              <a:ext cx="1440000" cy="664200"/>
              <a:chOff x="1989000" y="4586760"/>
              <a:chExt cx="1440000" cy="664200"/>
            </a:xfrm>
          </p:grpSpPr>
          <p:sp>
            <p:nvSpPr>
              <p:cNvPr id="438" name=""/>
              <p:cNvSpPr/>
              <p:nvPr/>
            </p:nvSpPr>
            <p:spPr>
              <a:xfrm>
                <a:off x="1989000" y="4586760"/>
                <a:ext cx="1440000" cy="664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989000" y="4586760"/>
                <a:ext cx="1440000" cy="664200"/>
                <a:chOff x="1989000" y="4586760"/>
                <a:chExt cx="1440000" cy="664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033280" y="4586760"/>
                  <a:ext cx="1351080" cy="6642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r" pos="495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r" pos="495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989000" y="4586760"/>
                  <a:ext cx="144000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3429000" y="4586760"/>
              <a:ext cx="3598560" cy="664200"/>
              <a:chOff x="3429000" y="4586760"/>
              <a:chExt cx="3598560" cy="66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3473280" y="4586760"/>
                <a:ext cx="351000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ický súčin medzi bitmi AKKU1 a AKKU2, výsledok sa ukladá do AKKU1. (32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29000" y="4586760"/>
                <a:ext cx="3598560" cy="664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989000" y="5250960"/>
              <a:ext cx="1440000" cy="664200"/>
              <a:chOff x="1989000" y="5250960"/>
              <a:chExt cx="1440000" cy="664200"/>
            </a:xfrm>
          </p:grpSpPr>
          <p:sp>
            <p:nvSpPr>
              <p:cNvPr id="446" name=""/>
              <p:cNvSpPr/>
              <p:nvPr/>
            </p:nvSpPr>
            <p:spPr>
              <a:xfrm>
                <a:off x="1989000" y="5250960"/>
                <a:ext cx="1440000" cy="664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1989000" y="5250960"/>
                <a:ext cx="1440000" cy="664200"/>
                <a:chOff x="1989000" y="5250960"/>
                <a:chExt cx="1440000" cy="664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033280" y="5250960"/>
                  <a:ext cx="1351080" cy="6642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989000" y="5250960"/>
                  <a:ext cx="144000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0" name=""/>
            <p:cNvGrpSpPr/>
            <p:nvPr/>
          </p:nvGrpSpPr>
          <p:grpSpPr>
            <a:xfrm>
              <a:off x="3429000" y="5250960"/>
              <a:ext cx="3598560" cy="664200"/>
              <a:chOff x="3429000" y="5250960"/>
              <a:chExt cx="3598560" cy="66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73280" y="5250960"/>
                <a:ext cx="351000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ický súčet medzi bitmi AKKU1 a AKKU2, výsledok sa ukladá do AKKU1 (32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5250960"/>
                <a:ext cx="3598560" cy="664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989000" y="5915520"/>
              <a:ext cx="1440000" cy="664200"/>
              <a:chOff x="1989000" y="5915520"/>
              <a:chExt cx="1440000" cy="66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1989000" y="5915520"/>
                <a:ext cx="1440000" cy="664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989000" y="5915520"/>
                <a:ext cx="1440000" cy="664200"/>
                <a:chOff x="1989000" y="5915520"/>
                <a:chExt cx="1440000" cy="6642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033280" y="5915520"/>
                  <a:ext cx="1351080" cy="6642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O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989000" y="5915520"/>
                  <a:ext cx="144000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3429000" y="5915520"/>
              <a:ext cx="3598560" cy="664200"/>
              <a:chOff x="3429000" y="5915520"/>
              <a:chExt cx="3598560" cy="664200"/>
            </a:xfrm>
          </p:grpSpPr>
          <p:sp>
            <p:nvSpPr>
              <p:cNvPr id="459" name=""/>
              <p:cNvSpPr/>
              <p:nvPr/>
            </p:nvSpPr>
            <p:spPr>
              <a:xfrm>
                <a:off x="3473280" y="5915520"/>
                <a:ext cx="351000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kluzívny súčet medzi bitmi AKKU1 a AKKU2, výsledok sa ukladá do AKKU1 (32 bi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29000" y="5915520"/>
                <a:ext cx="3598560" cy="664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1984320" y="1619280"/>
            <a:ext cx="5048280" cy="497664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478320" y="3579840"/>
            <a:ext cx="4819680" cy="2085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221304"/>
                </a:solidFill>
                <a:latin typeface="Times New Roman"/>
              </a:rPr>
              <a:t>pokračovanie...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20560" y="1874880"/>
            <a:ext cx="203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W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W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 MW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484520" y="3917880"/>
            <a:ext cx="3178440" cy="214200"/>
            <a:chOff x="4484520" y="3917880"/>
            <a:chExt cx="3178440" cy="214200"/>
          </a:xfrm>
        </p:grpSpPr>
        <p:sp>
          <p:nvSpPr>
            <p:cNvPr id="469" name=""/>
            <p:cNvSpPr/>
            <p:nvPr/>
          </p:nvSpPr>
          <p:spPr>
            <a:xfrm>
              <a:off x="4484520" y="3917880"/>
              <a:ext cx="3178440" cy="21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078600" y="391788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271120" y="3918600"/>
              <a:ext cx="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887160" y="391788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508640" y="4422600"/>
            <a:ext cx="3178080" cy="214200"/>
            <a:chOff x="4508640" y="4422600"/>
            <a:chExt cx="3178080" cy="214200"/>
          </a:xfrm>
        </p:grpSpPr>
        <p:sp>
          <p:nvSpPr>
            <p:cNvPr id="474" name=""/>
            <p:cNvSpPr/>
            <p:nvPr/>
          </p:nvSpPr>
          <p:spPr>
            <a:xfrm>
              <a:off x="4508640" y="4422600"/>
              <a:ext cx="3178080" cy="21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102720" y="442260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295240" y="4423320"/>
              <a:ext cx="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910920" y="442260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508640" y="5165640"/>
            <a:ext cx="3178080" cy="214200"/>
            <a:chOff x="4508640" y="5165640"/>
            <a:chExt cx="3178080" cy="214200"/>
          </a:xfrm>
        </p:grpSpPr>
        <p:sp>
          <p:nvSpPr>
            <p:cNvPr id="479" name=""/>
            <p:cNvSpPr/>
            <p:nvPr/>
          </p:nvSpPr>
          <p:spPr>
            <a:xfrm>
              <a:off x="4508640" y="5165640"/>
              <a:ext cx="3178080" cy="21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102720" y="51656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5295240" y="5166360"/>
              <a:ext cx="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910920" y="51656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541680" y="5126040"/>
            <a:ext cx="471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W 24           0   0   1   0     0   0   0   0     0   1   0   0    0   0   1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94160" y="3878280"/>
            <a:ext cx="4684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W 10            0   1   1   0     0   1   0   0    1   1   1   0    1   0   1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22600" y="4383000"/>
            <a:ext cx="4762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MW 20            1   0   1   0    1   0   1   0     0   1   0   1    0   1   1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8000" y="4764240"/>
            <a:ext cx="238320" cy="266400"/>
          </a:xfrm>
          <a:prstGeom prst="downArrow">
            <a:avLst>
              <a:gd name="adj1" fmla="val 50000"/>
              <a:gd name="adj2" fmla="val 2794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89520" y="4792680"/>
            <a:ext cx="90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0:35:29Z</dcterms:created>
  <dc:creator>Girman</dc:creator>
  <dc:description/>
  <dc:language>en-US</dc:language>
  <cp:lastModifiedBy>Girman</cp:lastModifiedBy>
  <dcterms:modified xsi:type="dcterms:W3CDTF">2002-01-24T09:07:03Z</dcterms:modified>
  <cp:revision>36</cp:revision>
  <dc:subject/>
  <dc:title>Matematická a logická podpora programovania</dc:title>
</cp:coreProperties>
</file>