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3489-E2DB-4609-8F0D-E292F8E5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F8CD-FB8C-4356-AFC8-202BABCE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B31A-5139-4CEF-A745-336CB7ED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E849-A8E9-4A0E-9D97-D360E064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E09E-D35C-4E8A-BF36-D8521DD8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5DEF-B916-474C-A316-D4A05690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B1B7-BFD4-497C-8507-ECD2A0DF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417F-5DF1-4783-AFEA-3AF21471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1587-1D0A-4612-87B8-7536E997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5CE9-442F-49BA-863F-EFCF9CA7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1723-508A-4CBD-9006-FFF28403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31D7-CB4A-4F26-AD4D-9F259E12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6C31-3EF8-43F6-ABDC-EEB1CE87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74A0-01E7-4E25-B312-75EE16CA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E2A2-1130-49AE-AD27-E6F8275B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B362-5A5A-4CB4-B987-E72CEEC9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FF46-A44D-4AA2-8D34-CC36755A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8CA-26DF-4A07-BFA0-09A3F43E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E68-D802-4BFA-B180-7282CEB7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C4F0-4724-4DC8-8D63-DA8DB0DC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38B2-0A72-4F27-B1FF-BFC3D22D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6AA3-6307-416A-9334-048398D5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C4A4-79ED-4A4C-84C5-C43CE444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E1D-3878-4D80-9A42-9911949B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1989-432D-4697-A479-01E338B15F2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2C84-B9D3-4159-8121-0904D9CAD73D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19320" y="2286000"/>
            <a:ext cx="7543800" cy="28195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21304"/>
                </a:solidFill>
                <a:latin typeface="Times New Roman"/>
              </a:rPr>
              <a:t>Systémové informácie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19960" y="1717560"/>
            <a:ext cx="64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Informácie o systéme je možné sprístupniť voľbo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29920" y="2403360"/>
            <a:ext cx="2276280" cy="45972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imatic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0" y="3505320"/>
            <a:ext cx="1521720" cy="45972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iel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419720"/>
            <a:ext cx="2603880" cy="45972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Baugruppenzu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2606400">
            <a:off x="3200400" y="297144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2606400">
            <a:off x="5257800" y="39621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9:22:27Z</dcterms:created>
  <dc:creator>Girman</dc:creator>
  <dc:description/>
  <dc:language>en-US</dc:language>
  <cp:lastModifiedBy>Girman</cp:lastModifiedBy>
  <dcterms:modified xsi:type="dcterms:W3CDTF">2002-01-29T09:27:48Z</dcterms:modified>
  <cp:revision>2</cp:revision>
  <dc:subject/>
  <dc:title>Systémové informácie</dc:title>
</cp:coreProperties>
</file>