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9070-82B0-416A-AC42-9905048E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EBAE-349D-4D1E-8C4B-95ECF22F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7E77-F652-4E82-88B7-E52AFEB9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0E8-3689-4291-9321-2A0688E0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2728-3941-4EF7-810D-C24BD324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A4E6-A3C3-405F-B856-935114DC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02DA-C96E-474C-AEC7-69DFFBDE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BEAC-B8D1-4C38-A64B-970BD759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CB5C-D314-44FB-A57E-98BD3CC1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0D9A-AC20-4211-956A-55930113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0DAC-9219-4010-930A-C9A60BB5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C09F-A2CB-4F39-8495-713E9384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3299-CF2F-4E3E-B878-A93A0397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8047-48A8-4528-9FF1-5DC2F249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8D96-47F4-493E-8A13-81367F69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3313-99E8-4352-8D90-9607CBB3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450C-A9A9-4400-8CCF-AD5C94CF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A47-2F11-473A-8C2B-7CC8A751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CE4-470F-4B0A-9AF6-C3539209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7A8C-71E6-49F8-BECB-7066D9E3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FFE7-BE8C-4C83-B257-56EB40F6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3AD9-CAD7-4072-B5B5-0B30AF98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981C-8C5F-4A6E-8CE7-4F8ACBFC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B953-4AB4-41C7-A023-D2D2664C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61FC-903D-47C8-BB73-FF0CFE0AD9B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8D29-028F-4D2C-A23F-C8E94B26A3A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ATP-osnova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Programov</a:t>
            </a:r>
            <a:r>
              <a:rPr b="1" lang="sk-SK" sz="3600" spc="-1" strike="noStrike">
                <a:solidFill>
                  <a:srgbClr val="221304"/>
                </a:solidFill>
                <a:latin typeface="Times New Roman"/>
              </a:rPr>
              <a:t>á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 obsluha po</a:t>
            </a:r>
            <a:r>
              <a:rPr b="1" lang="sk-SK" sz="3600" spc="-1" strike="noStrike">
                <a:solidFill>
                  <a:srgbClr val="221304"/>
                </a:solidFill>
                <a:latin typeface="Times New Roman"/>
              </a:rPr>
              <a:t>čítadiel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34600" y="1819440"/>
            <a:ext cx="379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čítanie smerom do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Počítanie smerom h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Opakovanie počít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"/>
          </p:cNvPr>
          <p:cNvSpPr/>
          <p:nvPr/>
        </p:nvSpPr>
        <p:spPr>
          <a:xfrm>
            <a:off x="8001000" y="53341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7493"/>
                </a:moveTo>
                <a:lnTo>
                  <a:pt x="10895" y="7493"/>
                </a:lnTo>
                <a:lnTo>
                  <a:pt x="10895" y="12828"/>
                </a:lnTo>
                <a:cubicBezTo>
                  <a:pt x="10895" y="13751"/>
                  <a:pt x="11696" y="14482"/>
                  <a:pt x="12732" y="14482"/>
                </a:cubicBezTo>
                <a:lnTo>
                  <a:pt x="14394" y="14482"/>
                </a:lnTo>
                <a:cubicBezTo>
                  <a:pt x="15430" y="14482"/>
                  <a:pt x="16231" y="13751"/>
                  <a:pt x="16231" y="12828"/>
                </a:cubicBezTo>
                <a:lnTo>
                  <a:pt x="16231" y="7493"/>
                </a:lnTo>
                <a:lnTo>
                  <a:pt x="14394" y="7493"/>
                </a:lnTo>
                <a:lnTo>
                  <a:pt x="17902" y="3985"/>
                </a:lnTo>
                <a:lnTo>
                  <a:pt x="21575" y="7493"/>
                </a:lnTo>
                <a:lnTo>
                  <a:pt x="19738" y="7493"/>
                </a:lnTo>
                <a:lnTo>
                  <a:pt x="19738" y="12828"/>
                </a:lnTo>
                <a:cubicBezTo>
                  <a:pt x="19738" y="15596"/>
                  <a:pt x="17162" y="18155"/>
                  <a:pt x="14394" y="18155"/>
                </a:cubicBezTo>
                <a:lnTo>
                  <a:pt x="12732" y="18155"/>
                </a:lnTo>
                <a:cubicBezTo>
                  <a:pt x="9964" y="18155"/>
                  <a:pt x="7388" y="15596"/>
                  <a:pt x="7388" y="1282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47712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7238880" y="59436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8845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7000" y="3794"/>
                </a:lnTo>
                <a:lnTo>
                  <a:pt x="7000" y="17806"/>
                </a:lnTo>
                <a:lnTo>
                  <a:pt x="5337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221304"/>
                </a:solidFill>
                <a:latin typeface="Times New Roman"/>
              </a:rPr>
              <a:t>Počítanie smerom dolu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03480" y="1638360"/>
            <a:ext cx="725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Navrhnite riadenie pre dopravník tehál.Dopravník sa má vždy vypnúť po napočítaní 10 tehá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657600"/>
            <a:ext cx="457200" cy="4572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3657600"/>
            <a:ext cx="457200" cy="4572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36576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114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3429000"/>
            <a:ext cx="304560" cy="1522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3429000"/>
            <a:ext cx="304920" cy="1522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3429000"/>
            <a:ext cx="304920" cy="1522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429000"/>
            <a:ext cx="304560" cy="1522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3429000"/>
            <a:ext cx="304920" cy="1522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3429000"/>
            <a:ext cx="304920" cy="1522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3733920"/>
            <a:ext cx="152280" cy="152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3886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4648320"/>
            <a:ext cx="609480" cy="6094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04760" y="3886200"/>
            <a:ext cx="15228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7524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58280" y="6081840"/>
            <a:ext cx="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ZAP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7320" y="556272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E 0.2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4343400"/>
            <a:ext cx="83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Teh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E 0.1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77760" y="2556000"/>
            <a:ext cx="2049120" cy="33858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E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ZR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Z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E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k-SK" sz="1600" spc="-1" strike="noStrike">
                <a:solidFill>
                  <a:srgbClr val="000000"/>
                </a:solidFill>
                <a:latin typeface="Times New Roman"/>
              </a:rPr>
              <a:t>počet kus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Z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Z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A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A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A 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7920" y="2819520"/>
            <a:ext cx="5410080" cy="35049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Rev</a:t>
            </a:r>
            <a:r>
              <a:rPr b="1" lang="sk-SK" sz="3600" spc="-1" strike="noStrike">
                <a:solidFill>
                  <a:srgbClr val="221304"/>
                </a:solidFill>
                <a:latin typeface="Times New Roman"/>
              </a:rPr>
              <a:t>e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rzn</a:t>
            </a:r>
            <a:r>
              <a:rPr b="1" lang="sk-SK" sz="3600" spc="-1" strike="noStrike">
                <a:solidFill>
                  <a:srgbClr val="221304"/>
                </a:solidFill>
                <a:latin typeface="Times New Roman"/>
              </a:rPr>
              <a:t>é počítadlo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27160" y="171756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ostavte   program , ktorý  bude  počítať  počet návštevníkov, ktorí vojdú a vyjdú cez dva turnik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3276720"/>
            <a:ext cx="533160" cy="1676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3276720"/>
            <a:ext cx="533520" cy="1676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276720"/>
            <a:ext cx="533520" cy="1676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5486400"/>
            <a:ext cx="533160" cy="533520"/>
          </a:xfrm>
          <a:prstGeom prst="upArrow">
            <a:avLst>
              <a:gd name="adj1" fmla="val 50000"/>
              <a:gd name="adj2" fmla="val 250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800600" y="5562000"/>
            <a:ext cx="533520" cy="5331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3505320"/>
            <a:ext cx="1143000" cy="1143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3505320"/>
            <a:ext cx="1143000" cy="1143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3505320"/>
            <a:ext cx="1143000" cy="1143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3505320"/>
            <a:ext cx="1143000" cy="10666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7" y="8700"/>
                </a:lnTo>
                <a:lnTo>
                  <a:pt x="4307" y="10590"/>
                </a:lnTo>
                <a:lnTo>
                  <a:pt x="10590" y="10590"/>
                </a:lnTo>
                <a:lnTo>
                  <a:pt x="10590" y="4307"/>
                </a:lnTo>
                <a:lnTo>
                  <a:pt x="8700" y="4307"/>
                </a:lnTo>
                <a:lnTo>
                  <a:pt x="10800" y="0"/>
                </a:lnTo>
                <a:lnTo>
                  <a:pt x="12900" y="4307"/>
                </a:lnTo>
                <a:lnTo>
                  <a:pt x="11010" y="4307"/>
                </a:lnTo>
                <a:lnTo>
                  <a:pt x="11010" y="10590"/>
                </a:lnTo>
                <a:lnTo>
                  <a:pt x="17293" y="10590"/>
                </a:lnTo>
                <a:lnTo>
                  <a:pt x="17293" y="8700"/>
                </a:lnTo>
                <a:lnTo>
                  <a:pt x="21600" y="10800"/>
                </a:lnTo>
                <a:lnTo>
                  <a:pt x="17293" y="12900"/>
                </a:lnTo>
                <a:lnTo>
                  <a:pt x="17293" y="11010"/>
                </a:lnTo>
                <a:lnTo>
                  <a:pt x="11010" y="11010"/>
                </a:lnTo>
                <a:lnTo>
                  <a:pt x="11010" y="17293"/>
                </a:lnTo>
                <a:lnTo>
                  <a:pt x="12900" y="17293"/>
                </a:lnTo>
                <a:lnTo>
                  <a:pt x="10800" y="21600"/>
                </a:lnTo>
                <a:lnTo>
                  <a:pt x="8700" y="17293"/>
                </a:lnTo>
                <a:lnTo>
                  <a:pt x="10590" y="17293"/>
                </a:lnTo>
                <a:lnTo>
                  <a:pt x="10590" y="11010"/>
                </a:lnTo>
                <a:lnTo>
                  <a:pt x="4307" y="11010"/>
                </a:lnTo>
                <a:lnTo>
                  <a:pt x="4307" y="129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3505320"/>
            <a:ext cx="1143000" cy="10666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7" y="8700"/>
                </a:lnTo>
                <a:lnTo>
                  <a:pt x="4307" y="10590"/>
                </a:lnTo>
                <a:lnTo>
                  <a:pt x="10590" y="10590"/>
                </a:lnTo>
                <a:lnTo>
                  <a:pt x="10590" y="4307"/>
                </a:lnTo>
                <a:lnTo>
                  <a:pt x="8700" y="4307"/>
                </a:lnTo>
                <a:lnTo>
                  <a:pt x="10800" y="0"/>
                </a:lnTo>
                <a:lnTo>
                  <a:pt x="12900" y="4307"/>
                </a:lnTo>
                <a:lnTo>
                  <a:pt x="11010" y="4307"/>
                </a:lnTo>
                <a:lnTo>
                  <a:pt x="11010" y="10590"/>
                </a:lnTo>
                <a:lnTo>
                  <a:pt x="17293" y="10590"/>
                </a:lnTo>
                <a:lnTo>
                  <a:pt x="17293" y="8700"/>
                </a:lnTo>
                <a:lnTo>
                  <a:pt x="21600" y="10800"/>
                </a:lnTo>
                <a:lnTo>
                  <a:pt x="17293" y="12900"/>
                </a:lnTo>
                <a:lnTo>
                  <a:pt x="17293" y="11010"/>
                </a:lnTo>
                <a:lnTo>
                  <a:pt x="11010" y="11010"/>
                </a:lnTo>
                <a:lnTo>
                  <a:pt x="11010" y="17293"/>
                </a:lnTo>
                <a:lnTo>
                  <a:pt x="12900" y="17293"/>
                </a:lnTo>
                <a:lnTo>
                  <a:pt x="10800" y="21600"/>
                </a:lnTo>
                <a:lnTo>
                  <a:pt x="8700" y="17293"/>
                </a:lnTo>
                <a:lnTo>
                  <a:pt x="10590" y="17293"/>
                </a:lnTo>
                <a:lnTo>
                  <a:pt x="10590" y="11010"/>
                </a:lnTo>
                <a:lnTo>
                  <a:pt x="4307" y="11010"/>
                </a:lnTo>
                <a:lnTo>
                  <a:pt x="4307" y="129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95280" y="1600200"/>
            <a:ext cx="5105520" cy="48769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221304"/>
                </a:solidFill>
                <a:latin typeface="Times New Roman"/>
              </a:rPr>
              <a:t>Opakované počítanie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28600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22860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228600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7432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2057400"/>
            <a:ext cx="304920" cy="152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2057400"/>
            <a:ext cx="304920" cy="152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2057400"/>
            <a:ext cx="304560" cy="152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598640" y="3857760"/>
            <a:ext cx="25272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3429000"/>
            <a:ext cx="1447920" cy="343080"/>
          </a:xfrm>
          <a:custGeom>
            <a:avLst/>
            <a:gdLst>
              <a:gd name="textAreaLeft" fmla="*/ 318240 w 1447920"/>
              <a:gd name="textAreaRight" fmla="*/ 1129680 w 1447920"/>
              <a:gd name="textAreaTop" fmla="*/ 75240 h 343080"/>
              <a:gd name="textAreaBottom" fmla="*/ 2678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2819520"/>
            <a:ext cx="144792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31800" y="3921480"/>
            <a:ext cx="299520" cy="235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4114800"/>
            <a:ext cx="15264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41911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743200" y="388548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4267080"/>
            <a:ext cx="53316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3886200"/>
            <a:ext cx="83844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114800" y="42670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428640" y="396252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4876920"/>
            <a:ext cx="129528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4876920"/>
            <a:ext cx="129564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571500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571500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52880" y="571500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571500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33920" y="1752480"/>
            <a:ext cx="228600" cy="2286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19051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3200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3124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040" y="2819520"/>
            <a:ext cx="718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vpra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vľa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160020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teh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1676520"/>
            <a:ext cx="2073240" cy="3751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Zostavte program pre automatické ovládanie klapky rozdeľovača,ktorý bude plniť vozíky vždy po 20 kuso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Ot</a:t>
            </a:r>
            <a:r>
              <a:rPr b="1" lang="sk-SK" sz="3600" spc="-1" strike="noStrike">
                <a:solidFill>
                  <a:srgbClr val="221304"/>
                </a:solidFill>
                <a:latin typeface="Times New Roman"/>
              </a:rPr>
              <a:t>á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zky k cvi</a:t>
            </a:r>
            <a:r>
              <a:rPr b="1" lang="sk-SK" sz="3600" spc="-1" strike="noStrike">
                <a:solidFill>
                  <a:srgbClr val="221304"/>
                </a:solidFill>
                <a:latin typeface="Times New Roman"/>
              </a:rPr>
              <a:t>č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eniu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1828800"/>
            <a:ext cx="7086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Akou programovou sekvenciou nastavíme predvoľbu počítadl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Aké výstupné hodnoty poskytuje čítač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Ktoré vstupy je potrebné ošetriť pri rôznych aplikáciách čítač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Akou inštrukciou načítame logický výstup čítač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anak1" descr=""/>
          <p:cNvPicPr/>
          <p:nvPr/>
        </p:nvPicPr>
        <p:blipFill>
          <a:blip r:embed="rId1"/>
          <a:stretch/>
        </p:blipFill>
        <p:spPr>
          <a:xfrm>
            <a:off x="5029200" y="48006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4T13:27:44Z</dcterms:created>
  <dc:creator>Girman</dc:creator>
  <dc:description/>
  <dc:language>en-US</dc:language>
  <cp:lastModifiedBy>Girman</cp:lastModifiedBy>
  <dcterms:modified xsi:type="dcterms:W3CDTF">2002-01-24T09:06:11Z</dcterms:modified>
  <cp:revision>13</cp:revision>
  <dc:subject/>
  <dc:title>Programová obsluha počítadiel</dc:title>
</cp:coreProperties>
</file>