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6AE-7DCC-44BB-942F-ED133F70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6D1-9BDE-4D4B-A705-699B5AA6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8BB-24BB-461D-9938-DE0A4088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FD1-E1C8-4714-A6F0-CF5D20E9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D65E-E7A6-4AAC-9D1B-70324057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0C6E-FD3A-46F5-A1F9-7A7E2A34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BB4B-4BB9-4963-A803-BC5537AF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AA5D-F003-4BC3-9885-8BBAED3F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CD34-C150-4BB4-AD9E-F3735C6C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0A63-15D5-4835-970E-4369100B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0E56-E0D8-4BEF-8233-C36BD391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70D0-6233-46D1-8EAD-9314C369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B024-0471-4FA0-A1CF-1D0ABBDB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C225-F1CC-44B3-A5E3-4F514330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E7D2-CA93-4E7E-96E5-F28023AC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6BF8-0A62-46C1-87BE-537B3CF6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A455-EDA1-4B37-9F42-6EBAD912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22B-E849-4E23-BEFB-F254B4FA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20E-CD97-46D7-8F2C-B91C5D75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F17-5C7E-46FB-A2DA-6E4699FA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BB3-56DD-4DEF-8036-03B8DF61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EC7-8D8E-4BDD-A498-35F24E21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6BA-2295-4EAD-A87C-D12381A7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4E2-64B9-44A4-80AE-D3336550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53D0-4D8F-47D5-80E9-D3CE4FFE91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B63D-6465-4377-A1E8-F7147E87D3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ATP-P1popis.ppt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42920" y="3716280"/>
            <a:ext cx="4753080" cy="2162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96000" y="3716280"/>
            <a:ext cx="2900160" cy="2160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11280" y="1125360"/>
            <a:ext cx="80391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Automatozácia technologický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proceso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32000" y="4437000"/>
            <a:ext cx="40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Prednášky 2002-0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.Girm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Laboratórium priemyselného inžinierst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sa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Popis systému SI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ovací jazyk AWL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ovací jazyk AWL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ovací jazyk AWL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ovací jazyk AWL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ovací jazyk AWL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2737080" cy="432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59280" y="1773360"/>
            <a:ext cx="3816360" cy="503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5661000"/>
            <a:ext cx="3816360" cy="503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8:28:10Z</dcterms:created>
  <dc:creator>girman</dc:creator>
  <dc:description/>
  <dc:language>en-US</dc:language>
  <cp:lastModifiedBy>girman</cp:lastModifiedBy>
  <dcterms:modified xsi:type="dcterms:W3CDTF">2003-02-01T18:51:08Z</dcterms:modified>
  <cp:revision>5</cp:revision>
  <dc:subject/>
  <dc:title>Automatizácia technologických procesov</dc:title>
</cp:coreProperties>
</file>