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F6A-CD66-4B4F-BB2C-327064E4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4B3-9BBD-437C-B871-130B1BF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1B2-AD63-4204-BAD9-12123398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61C-7957-4BD9-8FDE-623BD310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E2E1-5177-428E-9DEA-90E2D55A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9BD-32BF-493A-A9BF-BC9C2F50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6C1-B446-45DB-AFEC-BA67C1D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A5CC-A5E6-41F3-9B44-5C98E2D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27E-3FA3-44AA-AE28-3F4D3BBC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544F-7605-4861-933E-0E0BF9F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F22C-99FE-4EDB-9B67-5A10D7E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94A-7E06-4B68-A502-8696A92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6D81-46B4-4150-B38E-8A19DD1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63DC-5415-45EE-AE8D-6831C5B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8A2A-DF08-4705-95ED-8CDFB190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8599-AC1C-4B73-8272-49B00D13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5942-3958-4F54-92EC-94C7D8ED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8B0-F2A9-4D3B-AB70-2FE5000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05B-AA6E-4B65-9A3A-87D3D9E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9DB-CF83-43F1-A864-E341C0A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8D9-410E-4942-9813-97CC78A3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688-CA6C-408E-950D-08C0FE5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89B-D05E-4A9D-B12F-24763B9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AA4-13F7-4BD6-82F6-EEE2466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F47F-581A-4BB0-BBBA-6D79F996E2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E502-EB59-4904-85D3-9673C2285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1125360"/>
            <a:ext cx="7099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Programovací jazyk AW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40000" y="2492280"/>
            <a:ext cx="540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9. Spracovanie prerušen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 10-1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233440"/>
            <a:ext cx="7772400" cy="292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gramové bloky OB10-OB17 sú určené pre jednorázové, alebo cyklické spúšťanie s predvolenou dobou periódy.Pred používaním bloku je potrebné najprv prednastaviť čas a potom blok aktivovať. K tomuto slúžia príslušné SFC28 , SFC30 a ďalš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ec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acovanie prerušení j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udalosťami riaden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pracovanie progra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Pri vzniku udalosti preruší systémový program spracovávanie hlavného programu a volá programový blok, ktorý je danej udalosti priradený. Po ukončení tohto programu začne systémový program pokračovať v hlavnom programe od miesta prerušenia. Udalosťami , ktoré vyvolávajú prerušenie môžu byť rôzne deje, alebo chybové stavy. Každej udalosti je priradená určitá priorita spracova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1773360"/>
            <a:ext cx="7488360" cy="43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incíp preruše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2276640"/>
            <a:ext cx="1441440" cy="863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3213000"/>
            <a:ext cx="1441440" cy="1511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800" y="1989000"/>
            <a:ext cx="19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2997360"/>
            <a:ext cx="360360" cy="333360"/>
          </a:xfrm>
          <a:prstGeom prst="rightArrow">
            <a:avLst>
              <a:gd name="adj1" fmla="val 50000"/>
              <a:gd name="adj2" fmla="val 270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3141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141720"/>
            <a:ext cx="1439640" cy="8636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99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427280" y="3213000"/>
            <a:ext cx="158436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1080" y="2349360"/>
            <a:ext cx="23036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p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luhu preruš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5877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32360" y="458136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3800" y="587700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558972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068640"/>
            <a:ext cx="4556160" cy="2502000"/>
          </a:xfrm>
          <a:custGeom>
            <a:avLst/>
            <a:gdLst/>
            <a:ahLst/>
            <a:rect l="l" t="t" r="r" b="b"/>
            <a:pathLst>
              <a:path w="2824" h="1678">
                <a:moveTo>
                  <a:pt x="2824" y="1678"/>
                </a:moveTo>
                <a:cubicBezTo>
                  <a:pt x="2736" y="1648"/>
                  <a:pt x="2649" y="1616"/>
                  <a:pt x="2558" y="1598"/>
                </a:cubicBezTo>
                <a:cubicBezTo>
                  <a:pt x="2424" y="1532"/>
                  <a:pt x="2264" y="1498"/>
                  <a:pt x="2115" y="1483"/>
                </a:cubicBezTo>
                <a:cubicBezTo>
                  <a:pt x="2046" y="1465"/>
                  <a:pt x="1974" y="1464"/>
                  <a:pt x="1903" y="1457"/>
                </a:cubicBezTo>
                <a:cubicBezTo>
                  <a:pt x="1811" y="1426"/>
                  <a:pt x="1705" y="1428"/>
                  <a:pt x="1610" y="1412"/>
                </a:cubicBezTo>
                <a:cubicBezTo>
                  <a:pt x="1520" y="1345"/>
                  <a:pt x="1653" y="1436"/>
                  <a:pt x="1486" y="1368"/>
                </a:cubicBezTo>
                <a:cubicBezTo>
                  <a:pt x="1427" y="1344"/>
                  <a:pt x="1363" y="1328"/>
                  <a:pt x="1300" y="1315"/>
                </a:cubicBezTo>
                <a:cubicBezTo>
                  <a:pt x="1173" y="1250"/>
                  <a:pt x="1354" y="1339"/>
                  <a:pt x="1229" y="1288"/>
                </a:cubicBezTo>
                <a:cubicBezTo>
                  <a:pt x="1175" y="1266"/>
                  <a:pt x="1126" y="1231"/>
                  <a:pt x="1070" y="1217"/>
                </a:cubicBezTo>
                <a:cubicBezTo>
                  <a:pt x="1027" y="1192"/>
                  <a:pt x="963" y="1151"/>
                  <a:pt x="919" y="1138"/>
                </a:cubicBezTo>
                <a:cubicBezTo>
                  <a:pt x="814" y="1068"/>
                  <a:pt x="710" y="1001"/>
                  <a:pt x="609" y="925"/>
                </a:cubicBezTo>
                <a:cubicBezTo>
                  <a:pt x="598" y="917"/>
                  <a:pt x="584" y="914"/>
                  <a:pt x="573" y="907"/>
                </a:cubicBezTo>
                <a:cubicBezTo>
                  <a:pt x="505" y="862"/>
                  <a:pt x="438" y="812"/>
                  <a:pt x="370" y="765"/>
                </a:cubicBezTo>
                <a:cubicBezTo>
                  <a:pt x="326" y="735"/>
                  <a:pt x="283" y="687"/>
                  <a:pt x="246" y="650"/>
                </a:cubicBezTo>
                <a:cubicBezTo>
                  <a:pt x="174" y="578"/>
                  <a:pt x="103" y="511"/>
                  <a:pt x="42" y="429"/>
                </a:cubicBezTo>
                <a:cubicBezTo>
                  <a:pt x="12" y="309"/>
                  <a:pt x="0" y="112"/>
                  <a:pt x="148" y="74"/>
                </a:cubicBezTo>
                <a:cubicBezTo>
                  <a:pt x="157" y="65"/>
                  <a:pt x="164" y="54"/>
                  <a:pt x="175" y="48"/>
                </a:cubicBezTo>
                <a:cubicBezTo>
                  <a:pt x="191" y="39"/>
                  <a:pt x="228" y="30"/>
                  <a:pt x="228" y="30"/>
                </a:cubicBezTo>
                <a:cubicBezTo>
                  <a:pt x="272" y="32"/>
                  <a:pt x="483" y="0"/>
                  <a:pt x="529" y="9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661000"/>
            <a:ext cx="1152360" cy="216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5661000"/>
            <a:ext cx="863640" cy="216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5661000"/>
            <a:ext cx="649440" cy="216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99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144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530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744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01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41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1311480" cy="15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y preruše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MATIC S7 má nasledujúce typy preru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rušenie z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asom spúšťané preruš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rušenie od hodín reálneho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neskorené preruš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rušenie pri viacprocesorovom rež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uršenie vyvolané chybou v systé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330033"/>
                </a:solidFill>
                <a:latin typeface="Times New Roman"/>
              </a:rPr>
              <a:t>Prehľad OB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425680"/>
            <a:ext cx="838080" cy="388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9640" y="2433600"/>
            <a:ext cx="38149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38960" y="2440080"/>
            <a:ext cx="907920" cy="3682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31040" y="2441520"/>
            <a:ext cx="22003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4440" y="2905200"/>
            <a:ext cx="77259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klický spúšťaný bl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              voľný cyklus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1720" y="3289320"/>
            <a:ext cx="7687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10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asové alarmy min-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2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17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x,min,hod,deň,týždeň,mesiac,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9920" y="4227480"/>
            <a:ext cx="7687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skorený alarm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skorený alarm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skorený alarm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skorený alarm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330033"/>
                </a:solidFill>
                <a:latin typeface="Times New Roman"/>
              </a:rPr>
              <a:t>Prehľad OB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425680"/>
            <a:ext cx="838080" cy="388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09640" y="2433600"/>
            <a:ext cx="38149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38960" y="2440080"/>
            <a:ext cx="907920" cy="3682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31040" y="2441520"/>
            <a:ext cx="22003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8760" y="2905200"/>
            <a:ext cx="7751880" cy="256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0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5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7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2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1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3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500 m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200 m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5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100 m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6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50 m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7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20 m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3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časový alarm 10 m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330033"/>
                </a:solidFill>
                <a:latin typeface="Times New Roman"/>
              </a:rPr>
              <a:t>Prehľad OB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71560" y="2425680"/>
            <a:ext cx="838080" cy="388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09640" y="2433600"/>
            <a:ext cx="38149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38960" y="2440080"/>
            <a:ext cx="907920" cy="3682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31040" y="2441520"/>
            <a:ext cx="22003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8760" y="2905200"/>
            <a:ext cx="7751880" cy="256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 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cesný ala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1560" y="2425680"/>
            <a:ext cx="838080" cy="388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2433600"/>
            <a:ext cx="38149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38960" y="2440080"/>
            <a:ext cx="907920" cy="3682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31040" y="2441520"/>
            <a:ext cx="22003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8760" y="2905200"/>
            <a:ext cx="7751880" cy="256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0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časová chyb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strata napájan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diagnostik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3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indikácia vytiahnutia jednot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porucha  CP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5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chyba chodu program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6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chyba decentrálnej periféri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87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chyba komunikáci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6,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gramový blok </a:t>
            </a:r>
            <a:r>
              <a:rPr b="1" lang="sk-SK" sz="2800" spc="-1" strike="noStrike">
                <a:solidFill>
                  <a:srgbClr val="990033"/>
                </a:solidFill>
                <a:latin typeface="Arial"/>
              </a:rPr>
              <a:t>OB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je spúšťaný cyklicky, má najnižšiu prioritu. Všetky ostatné bloky s výnimkou </a:t>
            </a:r>
            <a:r>
              <a:rPr b="0" lang="sk-SK" sz="2800" spc="-1" strike="noStrike">
                <a:solidFill>
                  <a:srgbClr val="990033"/>
                </a:solidFill>
                <a:latin typeface="Arial"/>
              </a:rPr>
              <a:t>OB90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môžu prerušovať činnosť OB1. Pred štartom OB1 je aktualizovaný obraz procesu ( vstupy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dnastavený čas cyklu je </a:t>
            </a:r>
            <a:r>
              <a:rPr b="1" lang="sk-SK" sz="2800" spc="-1" strike="noStrike">
                <a:solidFill>
                  <a:srgbClr val="990033"/>
                </a:solidFill>
                <a:latin typeface="Arial"/>
              </a:rPr>
              <a:t>150 m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 tento čas je možné meniť pomocou </a:t>
            </a:r>
            <a:r>
              <a:rPr b="1" lang="sk-SK" sz="2800" spc="-1" strike="noStrike">
                <a:solidFill>
                  <a:srgbClr val="990033"/>
                </a:solidFill>
                <a:latin typeface="Arial"/>
              </a:rPr>
              <a:t>SFC 43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rekročenie času cyklu je indikované ako chyba, ak je použitý </a:t>
            </a:r>
            <a:r>
              <a:rPr b="0" lang="sk-SK" sz="2800" spc="-1" strike="noStrike">
                <a:solidFill>
                  <a:srgbClr val="990033"/>
                </a:solidFill>
                <a:latin typeface="Arial"/>
              </a:rPr>
              <a:t>OB80,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va sa táto programová obsluha, inak sa systém uvedie do stavu 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boratórium priemyselvého inžinierst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I TU Koši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9:01:54Z</dcterms:created>
  <dc:creator>girman</dc:creator>
  <dc:description/>
  <dc:language>en-US</dc:language>
  <cp:lastModifiedBy>girman</cp:lastModifiedBy>
  <dcterms:modified xsi:type="dcterms:W3CDTF">2003-02-04T22:24:27Z</dcterms:modified>
  <cp:revision>6</cp:revision>
  <dc:subject/>
  <dc:title>Snímka 1</dc:title>
</cp:coreProperties>
</file>