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2F6-A585-4100-9829-94464E10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1B9-5EB9-41B1-9D6C-5B43B737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75F-54ED-4B21-8CC7-B14C0669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79A-FECC-439D-87CD-59415DEB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DF77-E1EE-402D-BEFF-3B6BF038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010C-8859-4381-85E1-977BDC1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6A6D-DC29-44C5-981C-C424C402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70F3-D7DC-48A0-8CBA-99055334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10D0-DF15-4675-B5E1-6E387B2C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76CB-BEB6-4C6D-8B4E-3F296FD9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6C68-B293-4D33-B2E5-FAD44B5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75E-EEF2-48F8-A3E3-5FE5EC41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D318-816A-4B3A-9DF0-92EAAD93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AB00-B050-4AC1-81B8-6CCDC529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9173-794E-4396-89A3-A650DEE8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DF34-3EE9-4A09-856A-C8581188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D3F5-4A9F-43AD-A012-843F4B5A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AFA-7F34-40B1-A832-CD008A27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4B4-4CF3-486C-8081-0851D275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E54-2FD1-46B1-B49F-AEE33A40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93D-6086-436B-B9D2-EE5B1B7A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0DE-EB49-4226-9CE1-BBCF3A22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044-26E1-43AA-9788-34F23E78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296-B8F5-4985-9DDF-2DEDD9BB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D881-62C9-4875-A698-C0C86ADB81F6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3FA0-C01D-4E8D-B55B-AF3BF149B535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964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990033"/>
                </a:solidFill>
                <a:latin typeface="Arial Unicode MS"/>
              </a:rPr>
              <a:t>Základné informác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Jednou z možností ako zostavovať program pre PLC sú grafické programovacie jazyky (</a:t>
            </a:r>
            <a:r>
              <a:rPr b="0" lang="sk-SK" sz="2800" spc="-1" strike="noStrike">
                <a:solidFill>
                  <a:srgbClr val="0000cc"/>
                </a:solidFill>
                <a:latin typeface="Arial"/>
              </a:rPr>
              <a:t>S7-GRAPH a S7 Hi-GRAPH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).Sú určené hlavne na programovanie sekvenčných problémov. Sekvenčnými problémami sa rozumie postupné vykonávanie určitých činností, pričom prechod z jednej k druhej je podmienený splnením určitej podmien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990033"/>
                </a:solidFill>
                <a:latin typeface="Arial"/>
              </a:rPr>
              <a:t>Princí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73320" y="218772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2800" y="344808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84400" y="493092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0680" y="493236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35680" y="1455840"/>
            <a:ext cx="2854440" cy="2033640"/>
          </a:xfrm>
          <a:prstGeom prst="cloudCallout">
            <a:avLst>
              <a:gd name="adj1" fmla="val -103282"/>
              <a:gd name="adj2" fmla="val 8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70400" y="3133800"/>
            <a:ext cx="336600" cy="144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575080" y="4626000"/>
            <a:ext cx="336240" cy="144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81560" y="4645080"/>
            <a:ext cx="336600" cy="144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619080" y="2798640"/>
            <a:ext cx="1908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19080" y="3189240"/>
            <a:ext cx="1908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23760" y="4308480"/>
            <a:ext cx="1908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66960" y="4344840"/>
            <a:ext cx="1908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23760" y="4681440"/>
            <a:ext cx="1908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466960" y="4700520"/>
            <a:ext cx="1908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466960" y="5576760"/>
            <a:ext cx="1908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04680" y="5559480"/>
            <a:ext cx="1908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19080" y="4084560"/>
            <a:ext cx="1908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24120" y="4329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" y="2351160"/>
            <a:ext cx="1977840" cy="1774800"/>
          </a:xfrm>
          <a:prstGeom prst="cloudCallout">
            <a:avLst>
              <a:gd name="adj1" fmla="val 89245"/>
              <a:gd name="adj2" fmla="val -509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6880" y="228924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úbor činn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" y="29988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dmi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54240" y="345600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83040" y="494820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65320" y="496728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4760" y="286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0033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32560" y="43988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0033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50280" y="43610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0033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59000" y="18241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990033"/>
                </a:solidFill>
                <a:latin typeface="Tahoma"/>
              </a:rPr>
              <a:t>Elementy programového reťazc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0480" y="1306440"/>
            <a:ext cx="8210520" cy="4907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9880" y="2797200"/>
            <a:ext cx="895320" cy="8953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89604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2240" y="1603440"/>
            <a:ext cx="895320" cy="8953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89604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8000" y="1847880"/>
            <a:ext cx="503280" cy="615960"/>
            <a:chOff x="1008000" y="1847880"/>
            <a:chExt cx="503280" cy="615960"/>
          </a:xfrm>
        </p:grpSpPr>
        <p:sp>
          <p:nvSpPr>
            <p:cNvPr id="132" name=""/>
            <p:cNvSpPr/>
            <p:nvPr/>
          </p:nvSpPr>
          <p:spPr>
            <a:xfrm>
              <a:off x="1008000" y="1847880"/>
              <a:ext cx="50328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6480" y="2314440"/>
              <a:ext cx="16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1000" y="21463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51000" y="23144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12840" y="2852640"/>
            <a:ext cx="168120" cy="317520"/>
            <a:chOff x="1212840" y="2852640"/>
            <a:chExt cx="168120" cy="317520"/>
          </a:xfrm>
        </p:grpSpPr>
        <p:sp>
          <p:nvSpPr>
            <p:cNvPr id="137" name=""/>
            <p:cNvSpPr/>
            <p:nvPr/>
          </p:nvSpPr>
          <p:spPr>
            <a:xfrm>
              <a:off x="1212840" y="3021120"/>
              <a:ext cx="16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87360" y="28526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7360" y="30211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363680" y="322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96760" y="3954600"/>
            <a:ext cx="895680" cy="8953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89604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251000" y="4344840"/>
            <a:ext cx="168120" cy="317520"/>
            <a:chOff x="1251000" y="4344840"/>
            <a:chExt cx="168120" cy="317520"/>
          </a:xfrm>
        </p:grpSpPr>
        <p:sp>
          <p:nvSpPr>
            <p:cNvPr id="143" name=""/>
            <p:cNvSpPr/>
            <p:nvPr/>
          </p:nvSpPr>
          <p:spPr>
            <a:xfrm>
              <a:off x="1251000" y="4513320"/>
              <a:ext cx="16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25520" y="43448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5520" y="45133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 flipV="1">
            <a:off x="969840" y="4327200"/>
            <a:ext cx="35568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306440" y="4327200"/>
            <a:ext cx="355680" cy="1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7280" y="187164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ok a podmie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0360" y="300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k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74320" y="422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vetv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2520" y="3879720"/>
            <a:ext cx="895320" cy="8953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89604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52920" y="2703600"/>
            <a:ext cx="895320" cy="8953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89604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622520"/>
            <a:ext cx="895320" cy="8953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89604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5167440"/>
            <a:ext cx="895320" cy="8953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89604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25640" y="5656320"/>
            <a:ext cx="50328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30360" y="5203800"/>
            <a:ext cx="168120" cy="317520"/>
            <a:chOff x="1530360" y="5203800"/>
            <a:chExt cx="168120" cy="317520"/>
          </a:xfrm>
        </p:grpSpPr>
        <p:sp>
          <p:nvSpPr>
            <p:cNvPr id="157" name=""/>
            <p:cNvSpPr/>
            <p:nvPr/>
          </p:nvSpPr>
          <p:spPr>
            <a:xfrm>
              <a:off x="1530360" y="5372280"/>
              <a:ext cx="16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4880" y="520380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4880" y="53722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H="1">
            <a:off x="1267920" y="550548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251000" y="5299200"/>
            <a:ext cx="17280" cy="3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4151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57760" y="1979640"/>
            <a:ext cx="50328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0760" y="171756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65600" y="171756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65600" y="177336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59840" y="176040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aralelné vetvy-rozvetv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1080" y="289872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aralelné vetvy-spoj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1360" y="2838600"/>
            <a:ext cx="50328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76840" y="33037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76840" y="335916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94360" y="31338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702320" y="3281400"/>
            <a:ext cx="168120" cy="317520"/>
            <a:chOff x="4702320" y="3281400"/>
            <a:chExt cx="168120" cy="317520"/>
          </a:xfrm>
        </p:grpSpPr>
        <p:sp>
          <p:nvSpPr>
            <p:cNvPr id="174" name=""/>
            <p:cNvSpPr/>
            <p:nvPr/>
          </p:nvSpPr>
          <p:spPr>
            <a:xfrm>
              <a:off x="4702320" y="3449880"/>
              <a:ext cx="16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76840" y="328140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76840" y="3449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927680" y="4064040"/>
            <a:ext cx="168120" cy="317520"/>
            <a:chOff x="4927680" y="4064040"/>
            <a:chExt cx="168120" cy="317520"/>
          </a:xfrm>
        </p:grpSpPr>
        <p:sp>
          <p:nvSpPr>
            <p:cNvPr id="178" name=""/>
            <p:cNvSpPr/>
            <p:nvPr/>
          </p:nvSpPr>
          <p:spPr>
            <a:xfrm>
              <a:off x="4927680" y="4232520"/>
              <a:ext cx="16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02200" y="40640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02200" y="4232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908600" y="4402080"/>
            <a:ext cx="187200" cy="204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155600" y="3207600"/>
            <a:ext cx="243000" cy="16812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0120" y="403704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iec ve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3440" y="5111640"/>
            <a:ext cx="895320" cy="8953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89604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91080" y="5226120"/>
            <a:ext cx="802800" cy="691920"/>
            <a:chOff x="4591080" y="5226120"/>
            <a:chExt cx="802800" cy="691920"/>
          </a:xfrm>
        </p:grpSpPr>
        <p:grpSp>
          <p:nvGrpSpPr>
            <p:cNvPr id="186" name=""/>
            <p:cNvGrpSpPr/>
            <p:nvPr/>
          </p:nvGrpSpPr>
          <p:grpSpPr>
            <a:xfrm>
              <a:off x="4591080" y="5226120"/>
              <a:ext cx="359640" cy="345960"/>
              <a:chOff x="4591080" y="5226120"/>
              <a:chExt cx="359640" cy="3459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91080" y="5226120"/>
                <a:ext cx="359640" cy="1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11320" y="5488200"/>
                <a:ext cx="119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64600" y="5393520"/>
                <a:ext cx="0" cy="8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64600" y="5488200"/>
                <a:ext cx="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607640" y="5572080"/>
              <a:ext cx="359640" cy="345960"/>
              <a:chOff x="4607640" y="5572080"/>
              <a:chExt cx="359640" cy="345960"/>
            </a:xfrm>
          </p:grpSpPr>
          <p:sp>
            <p:nvSpPr>
              <p:cNvPr id="192" name=""/>
              <p:cNvSpPr/>
              <p:nvPr/>
            </p:nvSpPr>
            <p:spPr>
              <a:xfrm>
                <a:off x="4607640" y="5572080"/>
                <a:ext cx="359640" cy="1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27880" y="5834160"/>
                <a:ext cx="119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81160" y="5739480"/>
                <a:ext cx="0" cy="8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81160" y="5834160"/>
                <a:ext cx="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034240" y="5226120"/>
              <a:ext cx="359640" cy="345960"/>
              <a:chOff x="5034240" y="5226120"/>
              <a:chExt cx="359640" cy="345960"/>
            </a:xfrm>
          </p:grpSpPr>
          <p:sp>
            <p:nvSpPr>
              <p:cNvPr id="197" name=""/>
              <p:cNvSpPr/>
              <p:nvPr/>
            </p:nvSpPr>
            <p:spPr>
              <a:xfrm>
                <a:off x="5034240" y="5226120"/>
                <a:ext cx="359640" cy="1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54480" y="5488200"/>
                <a:ext cx="119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207760" y="5393520"/>
                <a:ext cx="0" cy="8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07760" y="5488200"/>
                <a:ext cx="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5676840" y="538020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ložiť vet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036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036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036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4:44:48Z</dcterms:created>
  <dc:creator>girman</dc:creator>
  <dc:description/>
  <dc:language>en-US</dc:language>
  <cp:lastModifiedBy>girman</cp:lastModifiedBy>
  <dcterms:modified xsi:type="dcterms:W3CDTF">2003-04-08T15:31:44Z</dcterms:modified>
  <cp:revision>3</cp:revision>
  <dc:subject/>
  <dc:title>Snímk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